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0.wmf" ContentType="image/x-wmf"/>
  <Override PartName="/ppt/media/image12.jpeg" ContentType="image/jpeg"/>
  <Override PartName="/ppt/media/image33.wmf" ContentType="image/x-wmf"/>
  <Override PartName="/ppt/media/image8.wmf" ContentType="image/x-wmf"/>
  <Override PartName="/ppt/media/image40.png" ContentType="image/png"/>
  <Override PartName="/ppt/media/image13.wmf" ContentType="image/x-wmf"/>
  <Override PartName="/ppt/media/image30.wmf" ContentType="image/x-wmf"/>
  <Override PartName="/ppt/media/image37.png" ContentType="image/png"/>
  <Override PartName="/ppt/media/image41.wmf" ContentType="image/x-wmf"/>
  <Override PartName="/ppt/media/image42.png" ContentType="image/png"/>
  <Override PartName="/ppt/media/image25.wmf" ContentType="image/x-wmf"/>
  <Override PartName="/ppt/media/image43.wmf" ContentType="image/x-wmf"/>
  <Override PartName="/ppt/media/image44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32.wmf" ContentType="image/x-wmf"/>
  <Override PartName="/ppt/media/image34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693-A909-4455-B4A7-40843D270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BD4-0148-4562-B799-A66D78A8F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1758-5305-4F24-8F37-A88CE30E8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72B-A7F8-4718-837D-23F29C2F8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3F6-CD09-4971-8B30-CCEE1CFAE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EF9-7AC7-40B4-817A-CE4224D23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29C0-D6FF-4EA1-9A5F-01E8DA279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1D9-F2DC-4D4F-8248-CC19091D4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3BC-D0D7-437B-97F2-C208791CC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DBE-D2B0-42D0-832F-0ACDC07DE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b 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7502-2B0F-4ABD-B770-5D82EC3CB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A88C-7B53-4042-839D-6B76F4926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7916-2FA4-4092-9141-0AF81DFC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26C-5526-4799-9430-03685E523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7BE9-65EF-49AE-B320-840E82124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0F5D-93A6-4113-9EC8-E93F85D09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451-766A-41AD-8AAE-D89807CD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36C-4572-44C3-9966-9A764B3AA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330-18BD-451A-8EFC-066215A5C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9A21-7B6A-43D5-82BC-3C02BCBE6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8BA8-6D1B-4C0E-AAC9-215E58A6F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FA53-F556-4459-978D-57B51B757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E0A9-0D8F-46E3-977F-843B35D4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6F62-B8EE-4263-B559-84EAF832F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9BE-FC98-41F8-AD48-179D8B7E1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58A9-1389-4333-A732-D8AE907F0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D2B-FB1B-44A8-942B-66199D0A8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4A3-FAD1-46C4-8673-338A1E7B6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8D9-0113-4F73-8B6B-33DFB0A44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EDF-DC8A-4B8D-8140-E6AE41C15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5B5-9CBB-4143-B3AF-C04238B03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448B-E62A-48E5-9A1F-B92E99E1A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FF2-8924-49AD-82DB-CA029321D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36E-16A3-42D2-9D34-34210F234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07A6-0C7D-4F61-AC78-1EC0EF68D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CD5-B6F3-4177-80FA-B76113CE4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968-7678-4F9C-896C-736A633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B35-3D89-4D04-AD3A-3E31DC75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816-366B-4424-9E36-D01088C9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4E5-774B-4EE8-9AC1-81A3B174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646-13D8-47EE-8F4A-3B619E4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745-7129-4C98-B253-F1A82F7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10B-4F91-413B-99F6-73DA0FC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D85-6062-4616-A797-57C2C26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722-BE6B-4B49-AF09-959B206F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9FE-81DF-4A4F-8E65-F7CFD76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821-9F17-4427-BBBD-3581706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F74-EF14-49AD-BD9F-A5F2103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E1A-BFC1-4920-A275-9AE371B5C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4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47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9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-22320" y="0"/>
            <a:ext cx="9090000" cy="382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562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101160" cy="673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598480" cy="263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9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220968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809880" cy="391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11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1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32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5 Math A Regents Exam</cp:keywords>
  <dc:language>en-US</dc:language>
  <cp:lastModifiedBy>Steve</cp:lastModifiedBy>
  <dcterms:modified xsi:type="dcterms:W3CDTF">2007-07-16T02:58:38Z</dcterms:modified>
  <cp:revision>4</cp:revision>
  <dc:subject/>
  <dc:title>JMAP 0805ExamB Slideshow</dc:title>
</cp:coreProperties>
</file>