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0.jpeg" ContentType="image/jpeg"/>
  <Override PartName="/ppt/media/image21.wmf" ContentType="image/x-wmf"/>
  <Override PartName="/ppt/media/image6.jpeg" ContentType="image/jpeg"/>
  <Override PartName="/ppt/media/image1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3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4.png" ContentType="image/png"/>
  <Override PartName="/ppt/media/image12.wmf" ContentType="image/x-wmf"/>
  <Override PartName="/ppt/media/image36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43.wmf" ContentType="image/x-wmf"/>
  <Override PartName="/ppt/media/image37.wmf" ContentType="image/x-wmf"/>
  <Override PartName="/ppt/media/image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38.wmf" ContentType="image/x-wmf"/>
  <Override PartName="/ppt/media/image4.jpeg" ContentType="image/jpeg"/>
  <Override PartName="/ppt/media/image8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15.jpeg" ContentType="image/jpeg"/>
  <Override PartName="/ppt/media/image25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1B72D-BADD-48D7-9D85-6F2A3CB5C3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452C1-1747-4E70-8ACA-438A353EC3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09a  OTHER POLYGONS: Interior and Exterior Angles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CD798-16A7-409D-9737-DDCBA67742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10a  GRAPHS AND STATISTICS: Average Known with Missing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80831-E9ED-48F8-BD58-D1957A7EDE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11a  PROBABILITY: Multiplication Counting Prin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67987-52F3-4912-A463-20BEBC0991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12a  NUMBERS OPERATIONS AND PROPERTIES: Properties of 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97182-BBDF-41B1-B1BC-7E939443C4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13a  NUMBERS OPERATIONS AND PROPERTIES: Properties of Integ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19FC7-1966-4607-B111-03CEFF473B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14a  RATE: Fraction Mad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6AD8D-1737-4915-8285-F045C4B855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15a  INEQUALITIES: Solving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79168-2F4D-4C23-881B-844B8B654C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16a  LOGIC: Converse and Biconditio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DE224-2B75-4910-8379-1C37D55F34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17a  GRAPHS AND STATISTICS: Venn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F0901-C092-4549-866B-CF2535A8EA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18a  QUADRATICS: Solving Quadratic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A904C-F6AA-4199-AB93-64F71DFB86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01a  SOLIDS AND SIMILARITY: Similar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56E26-92A1-4614-A9C0-8290B0E844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19a  POWERS: Zero and Negative P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77D18-AEA1-41E8-9E88-ED2A79080D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20a  LOGIC: Logical Reaso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57CDF-36E5-442B-B0CD-1B2DA6FD6B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21a  TRIANGLES: Interior and Exterior Angles of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BCD7F-1900-483E-8BA6-CBA7655C48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22a  TRIANGLES: Pythago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A3984-47B1-4861-AEDA-9155F3FCFB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23a  QUADRATICS: Operations with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DF1C3-91A8-4E1B-A29C-F154E7823F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24a  OTHER POLYGONS: Perimeter and Area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64E18-2FAC-4875-9918-A20B828127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25a  RADICALS: Simplifying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F670F-B65D-4EF7-BA15-A91FE0F40C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26a  PROBABILITY: Combin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E7698-996B-464F-AE23-C47768973A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27a  PROBABILITY: Probability of Multiple Ev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C88D9-1EC1-4D1E-BD2C-D0909862EE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28a  TRANSFORMATIONS: Di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9D568-89BD-43EC-A5BB-4ADE59ACC3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02a  NUMBERS OPERATIONS AND PROPERTIES: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4F41C-51C0-41A3-B546-338291235A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29a  NUMBERS OPERATIONS AND PROPERTIES: Properties of 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CEE8F-80AC-49EB-9E5B-572E036605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30a  LINEAR EQUATIONS: Parallel and Perpendicular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BEA35-7ACB-40C2-87F6-0E8FC4A2C7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31a  LOGIC: Lo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5956A-110E-4A37-8CE6-E967CEF141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32a  SYSTEMS: Writing Systems of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0DA15-FE80-4783-A813-AF7EF8658A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33a  TRIANGLES: Basic Trigonometric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48620-8077-4B7C-B5D8-16FBE07F5B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34a  GRAPHS AND STATISTICS: Graphical Representations of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ED4DA-76CA-41ED-BDDB-6B4262FF2F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35a  SYSTEMS: Solving Nonline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9C688-094D-4C1D-9755-97A9DADD26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03a  QUADRATICS: Factor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35418-307B-48BF-BFB7-B80EEECDEE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04a  LOGIC: Contraposi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76E04-6B67-47C9-A4DF-A775A3E8E2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05a  CONICS: Circumference a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CF794-384B-4763-BC96-B31A4A11C9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06a  TRANSFORMATIONS: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97026-82D1-44D9-AC56-AA9E626155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07a  PROBABILITY: Permu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18EEE-87D2-4241-8B70-8E5C55CDFC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08a  CONICS: Circumference a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FB73E-69EF-4790-A19D-8DD07D5780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4325-A330-4A29-8834-6B3F21374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F078-2A64-42D3-94E5-98AE01FB1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5AD6-7E93-414B-BF38-53D0E4F3D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CEC5-40F5-4A28-B590-DE73B9CA7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BFE4-ECDA-4839-A6D1-BE44C4311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C8B8-BB19-445A-9D55-2822623EF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2C77-84E5-4F81-8777-C1BF42FFD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0245-09CA-40BB-BFE4-317274AE9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E6FF-B863-4141-96EE-83C8BDB72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DE6F-FA62-4B9F-A71D-1317D31C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2F5C-5B61-41B3-BD11-003699647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61C4-B4FD-4D46-A3A8-59B421AC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D74FD-1CB8-43A3-8C08-BD69848E0E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hyperlink" Target="http://www.jmap.org/JMAP/JMAPSolutions/GRAPHS_AND_STATISTICS/JMAP_SOLUTIONS_AVERAGE_KNOWN_WITH_MISSING_DATA.doc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hyperlink" Target="http://www.jmap.org/JMAP/JMAPSolutions/PROBABILITY/JMAP_SOLUTIONS_MULTIPLICATION_COUNTING_PRINCIPLE.doc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hyperlink" Target="http://www.jmap.org/JMAP/JMAPSolutions/NUMBERS_OPERATIONS_AND_PROPERTIES/JMAP_SOLUTIONS_PROPERTIES_OF_REALS.doc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hyperlink" Target="http://www.jmap.org/JMAP/JMAPSolutions/NUMBERS_OPERATIONS_AND_PROPERTIES/JMAP_SOLUTIONS_PROPERTIES_OF_INTEGERS.doc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hyperlink" Target="http://www.jmap.org/JMAP/JMAPSolutions/RATE/JMAP_SOLUTIONS_FRACTION_MADNESS.doc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hyperlink" Target="http://www.jmap.org/JMAP/JMAPSolutions/INEQUALITIES/JMAP_SOLUTIONS_SOLVING_INEQUALITIES.doc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hyperlink" Target="http://www.jmap.org/JMAP/JMAPSolutions/GRAPHS_AND_STATISTICS/JMAP_SOLUTIONS_VENN_DIAGRAMS.doc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hyperlink" Target="http://www.jmap.org/JMAP/JMAPSolutions/QUADRATICS/JMAP_SOLUTIONS_SOLVING_QUADRATICS_BY_FACTORING.doc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hyperlink" Target="http://www.jmap.org/JMAP/JMAPSolutions/POWERS/JMAP_SOLUTIONS_ZERO_AND_NEGATIVE_POWERS.doc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hyperlink" Target="http://www.jmap.org/JMAP/JMAPSolutions/QUADRATICS/JMAP_SOLUTIONS_OPERATIONS_WITH_POLYNOMIALS.doc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hyperlink" Target="http://www.jmap.org/JMAP/JMAPSolutions/RADICALS/JMAP_SOLUTIONS_SIMPLIFYING_RADICALS.doc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hyperlink" Target="http://www.jmap.org/JMAP/JMAPSolutions/PROBABILITY/JMAP_SOLUTIONS_COMBINATIONS.doc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hyperlink" Target="http://www.jmap.org/JMAP/JMAPSolutions/PROBABILITY/JMAP_SOLUTIONS_PROBABILITY_OF_MULTIPLE_EVENTS.doc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hyperlink" Target="http://www.jmap.org/JMAP/JMAPSolutions/NUMBERS_OPERATIONS_AND_PROPERTIES/JMAP_SOLUTIONS_RATIONAL_NUMBERS.doc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hyperlink" Target="http://www.jmap.org/JMAP/JMAPSolutions/NUMBERS_OPERATIONS_AND_PROPERTIES/JMAP_SOLUTIONS_PROPERTIES_OF_REALS.doc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image" Target="../media/image42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http://www.jmap.org/JMAP/JMAPSolutions/QUADRATICS/JMAP_SOLUTIONS_FACTORING_POLYNOMIALS.doc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hyperlink" Target="http://www.jmap.org/JMAP/JMAPSolutions/PROBABILITY/JMAP_SOLUTIONS_PERMUTATIONS.doc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thematics 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ugust 200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2"/>
          <p:cNvGraphicFramePr/>
          <p:nvPr/>
        </p:nvGraphicFramePr>
        <p:xfrm>
          <a:off x="0" y="0"/>
          <a:ext cx="9144000" cy="335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5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42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9211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32840" cy="1628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886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133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56520" cy="3124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286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124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5146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1148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5146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3623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"/>
          <p:cNvPicPr/>
          <p:nvPr/>
        </p:nvPicPr>
        <p:blipFill>
          <a:blip r:embed="rId2"/>
          <a:stretch/>
        </p:blipFill>
        <p:spPr>
          <a:xfrm>
            <a:off x="2438280" y="2438280"/>
            <a:ext cx="4137120" cy="42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969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8980560" cy="4384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4038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2004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8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Object 2" descr=""/>
          <p:cNvPicPr/>
          <p:nvPr/>
        </p:nvPicPr>
        <p:blipFill>
          <a:blip r:embed="rId1"/>
          <a:stretch/>
        </p:blipFill>
        <p:spPr>
          <a:xfrm>
            <a:off x="0" y="152280"/>
            <a:ext cx="9078840" cy="24717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952880" y="3124080"/>
            <a:ext cx="3259080" cy="3276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"/>
          <p:cNvPicPr/>
          <p:nvPr/>
        </p:nvPicPr>
        <p:blipFill>
          <a:blip r:embed="rId3"/>
          <a:stretch/>
        </p:blipFill>
        <p:spPr>
          <a:xfrm>
            <a:off x="722160" y="3733920"/>
            <a:ext cx="3351240" cy="1325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C:\Users\HP_Administrator\Pictures\My Pictures\Thomas Jefferson.jpg"/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19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819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2819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7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4T11:18:27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cp:keywords>August 2001 Math A Regents Exam</cp:keywords>
  <dc:language>en-US</dc:language>
  <cp:lastModifiedBy>Steve</cp:lastModifiedBy>
  <dcterms:modified xsi:type="dcterms:W3CDTF">2007-07-16T02:49:15Z</dcterms:modified>
  <cp:revision>4</cp:revision>
  <dc:subject/>
  <dc:title>JMAP 0801ExamA Slideshow</dc:title>
</cp:coreProperties>
</file>