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18DD-2C7E-4674-9E78-2319DE7FA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AD11-A609-473A-985E-AB25133EE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9a 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D58-A9B6-4DEF-A590-A58E12E1D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0a 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9238-E75D-43F0-852F-8127AF7E7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1a 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14DD-5BCF-49E7-87BD-6F7A0B31B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2a  IDENTIFYING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76C2-F43C-4E4D-A549-878171611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3a 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6AAB-4B42-495E-9624-48897D4A9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4a 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D666-B934-499B-AAD2-5D78A294A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5a 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7376-AA1F-40D7-AF28-D7BE178DB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6a   COMPARING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7185-81DB-413F-BD98-15AD7612C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7a 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7631-EA41-41CC-A1AF-35E842799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8a 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41D0-01CA-4DA9-8AA3-E64A26A7C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1a 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B591-F195-4D58-9869-C64DFF0B2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9a 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F13C-3F8A-4098-847E-2B5D58C86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0a 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FC64-8E7E-4C51-AD15-C3B686BE9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1a 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7A46-7FEA-46C8-8E7D-AA33D6271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2a 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7BDE-3E2B-4D56-9005-15B5DA1A0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3a 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2FC-DCB9-4EE3-A093-93A0D6788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4a 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698-6D04-4CDE-A2C8-1BA2CD246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5a 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E81C-3EFF-4C09-8405-3093E3893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6a 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3E81-DEA1-4CA4-9DD7-D09DF7BBF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7a 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2574-860E-4F6B-A01C-9D793AF37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8a  LINEAR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B6C-2D2F-4E30-B2AC-4FACF4407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2a 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CB9C-E927-4448-843E-2AC2F48BD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9a 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1F8F-A00A-4B3D-B214-A4715D858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0a 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C8B2-704E-4A8D-A00D-9B2CC9787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1a 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103-08C4-4039-848B-C70507594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2a 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C2FE-98DA-427D-8E36-5C38AD8BD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3a 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5E79-F147-402F-A1C2-63A44AB70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4a 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957E-DE78-485F-ADB3-7FB25644B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5a 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87CB-9E2F-4991-B03B-F27738995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6a 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9E83-8DB5-42CF-B4A0-3E1F831C9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7a 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3A8F-13A3-4CB3-8D5D-38210F212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8a 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ABBE-5CBD-4F0C-82F2-F8E0A1358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3a 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A339-A3A1-41BC-AD8C-EB0890E4B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9a 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4B6F-A470-4698-A907-23E0EF5DA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4a 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5B49-6AFD-4D70-BDCF-81A5E0DA9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5a 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BA4F-D3CC-4150-92DA-756198688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6a 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22B1-9CF2-4AB2-A750-C84A5AB03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7a 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F2CD-794F-497E-B3D8-9F234AC83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8a  SOLVING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185A-7AFE-49B1-88B3-5CF4B3B49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D24-4E7F-45A3-AFD1-BF3A336C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1C1-1E26-41AC-98F5-3E75C346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284-804F-494E-B080-4996ED95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970-7ED9-4C17-A644-902FC76E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C87-41D8-429A-A2E4-D412E80C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C54-277C-4C43-AC7F-788CB2C4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678-9B7E-4336-9378-F9FB79CD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C6B-247F-453F-A7D3-586A311E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DCF-9849-4E39-8EFA-4A7ED6C0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D8F-0F6A-49B6-BC70-A40F4F92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605-02C4-464C-B27F-F5D45B5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AB2-0C6B-48DE-8A05-2B948E8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0EB9-7684-4319-B8A9-2847E45B4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Archives/EXAMSOLUTIONS/MATHA/0108mathasol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835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89312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3886200" cy="1039680"/>
          </a:xfrm>
          <a:prstGeom prst="rect">
            <a:avLst/>
          </a:prstGeom>
          <a:ln w="0">
            <a:noFill/>
          </a:ln>
        </p:spPr>
      </p:pic>
      <p:pic>
        <p:nvPicPr>
          <p:cNvPr id="67" name="Object 3" descr=""/>
          <p:cNvPicPr/>
          <p:nvPr/>
        </p:nvPicPr>
        <p:blipFill>
          <a:blip r:embed="rId3"/>
          <a:stretch/>
        </p:blipFill>
        <p:spPr>
          <a:xfrm>
            <a:off x="0" y="2514600"/>
            <a:ext cx="9128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71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048120" y="990720"/>
            <a:ext cx="3071520" cy="31510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4" descr=""/>
          <p:cNvPicPr/>
          <p:nvPr/>
        </p:nvPicPr>
        <p:blipFill>
          <a:blip r:embed="rId3"/>
          <a:stretch/>
        </p:blipFill>
        <p:spPr>
          <a:xfrm>
            <a:off x="0" y="4495680"/>
            <a:ext cx="91440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9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935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3526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187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3276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965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2886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7196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54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38005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7800" cy="66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886200" cy="2451240"/>
          </a:xfrm>
          <a:prstGeom prst="rect">
            <a:avLst/>
          </a:prstGeom>
          <a:ln w="0">
            <a:noFill/>
          </a:ln>
        </p:spPr>
      </p:pic>
      <p:pic>
        <p:nvPicPr>
          <p:cNvPr id="56" name="Object 4" descr=""/>
          <p:cNvPicPr/>
          <p:nvPr/>
        </p:nvPicPr>
        <p:blipFill>
          <a:blip r:embed="rId3"/>
          <a:stretch/>
        </p:blipFill>
        <p:spPr>
          <a:xfrm>
            <a:off x="0" y="3946680"/>
            <a:ext cx="912816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4:20:09Z</dcterms:created>
  <dc:creator>Steve Watson</dc:creator>
  <dc:description/>
  <dc:language>en-US</dc:language>
  <cp:lastModifiedBy>Steve</cp:lastModifiedBy>
  <dcterms:modified xsi:type="dcterms:W3CDTF">2008-04-12T21:26:49Z</dcterms:modified>
  <cp:revision>38</cp:revision>
  <dc:subject/>
  <dc:title>Slide 1</dc:title>
</cp:coreProperties>
</file>