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6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41.wmf" ContentType="image/x-wmf"/>
  <Override PartName="/ppt/media/image8.jpeg" ContentType="image/jpeg"/>
  <Override PartName="/ppt/media/image13.jpeg" ContentType="image/jpeg"/>
  <Override PartName="/ppt/media/image10.wmf" ContentType="image/x-wmf"/>
  <Override PartName="/ppt/media/image31.wmf" ContentType="image/x-wmf"/>
  <Override PartName="/ppt/media/image29.wmf" ContentType="image/x-wmf"/>
  <Override PartName="/ppt/media/image33.wmf" ContentType="image/x-wmf"/>
  <Override PartName="/ppt/media/image34.png" ContentType="image/png"/>
  <Override PartName="/ppt/media/image35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39.png" ContentType="image/png"/>
  <Override PartName="/ppt/media/image42.wmf" ContentType="image/x-wmf"/>
  <Override PartName="/ppt/media/image12.wmf" ContentType="image/x-wmf"/>
  <Override PartName="/ppt/media/image11.jpeg" ContentType="image/jpeg"/>
  <Override PartName="/ppt/media/image23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2121-51AE-4A02-A1DC-A8225FA150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47E9-A36F-4CD6-A009-199C62DEB6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09b  ANGLES: Radian Mea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D134-6569-42DF-95D1-5F3422CE21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10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A141-F6AD-4205-8ABF-60E7218F46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11b  TRIANGLES: Using Trigonometry to Solve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42DB-7764-4FAB-9C1C-84B9902857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12b  RATIONALS: Ration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6ECB-2FFB-4743-8445-44BF194140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13b  FUNCTIONS: Compositions of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AB16-366C-4416-947C-309BC074FC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14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4302-4657-4622-BC71-D96741D6C9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15b  ANGLES: Trigonometric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58C8-4A36-49F9-B134-833D06638B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16b  ANGLES: Double Angle and Angle Sum and Difference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9CB9-C62D-49BD-BE39-6958D2B207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17b  GRAPHS AND STATISTICS: Normal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9E6A-91D0-4581-BF56-06DD0B3630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18b  CONICS: Equations of 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2AB5-74DE-4F55-9A7B-25DF61A595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01b  FUNCTIONS: Defin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6EB3-C679-4BC2-A970-EA0FF9BBE8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19b  FUNCTIONS: Inverse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8433-F98B-484F-8889-F4DB929E05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20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B581-4124-49C7-AEFA-AB7FF09FF8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21b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28EA-1EBF-4FD4-8A71-6C9441D17D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22b  RADICALS: Exponents as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B2AD-9EE8-4CD1-BAC7-5C3B47CB7B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23b  RATIONALS: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D7F9-88BA-4043-B574-97F1A0DA4A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24b  TRIANGLES: Using Trigonometry to Fi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94BC-D0C0-42C7-BD7E-4A1DFF7C81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25b  RADICALS: Exponents as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00C7-FDB4-45D7-8D3B-AC1C137851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26b  NUMBERS OPERATIONS AND PROPERTIES: Properties of 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E70C-415F-460D-90CD-C48F8F5998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27b  TRANSFORMATIONS: Compositions of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A7C2-545F-4132-B822-5D17FDEB6B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28b  QUADRATICS: Quadratic Form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E6F3-8438-473F-B5E9-BF949223D3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02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7E6C-0B5A-4D38-AEF2-4BF4DE62BA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29b  TRIANGLES: Law of Co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C867-213C-4E70-9882-4BB6178D32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30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C738-D714-4263-86C9-AC0D748481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31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FA97-74A9-4B41-9229-74E8B17DFB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32b  FUNCTIONS: Operations with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04EF-44DC-41F4-AF99-90C604792A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33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FA56-32D2-4F52-88C4-7AB06A4A45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34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F369-7187-470D-98F3-1AB7B5E3F7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03b  INEQUALITIES: Absolute Valu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C017-FC67-4508-A100-5D028F5614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04b  POWERS: Exponent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F4BE-5B22-4F38-8706-9F173560EA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05b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7E14-5119-4670-B700-C9A35C24AE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06b  GRAPHS AND STATISTICS: Correlation Coeffic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8A8A-1D4B-4CE5-BC4F-491564696E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07b  RADICALS: Rationalizing Denomin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6F62-BB3F-436E-A752-3F29453428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08b  TRANSFORMATIONS: Isome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01E4-1E8E-44FF-82C8-71B6FD2282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09EE-6439-42F3-9303-935AA4DA6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694C-79B3-4932-BD87-B31CF721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B4FD-FBD7-459A-A64E-55BA6F17B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00EE-3858-4ACB-A714-BC5CA3A7B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C3CC-068F-4BE4-8A6A-BE66993F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791C-75CE-48AE-BCDA-B037BFC8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EF59-D682-4CF0-B53A-47B7F4DB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E30B-A964-43FA-AE5B-38349F38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AEAB-CECD-4F02-B00B-D5841C6C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723C-073D-463A-9FA9-2143434B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A3DB-2096-4D5F-839E-DF528604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EA60-89E5-484F-99B2-B22B9DED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0273-ECCD-46F4-BC8C-B3D7C07EC1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http://www.jmap.org/JMAP/JMAPSolutions/ANGLES/JMAP_SOLUTIONS_RADIAN_MEASURE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RATIONALS/JMAP_SOLUTIONS_RATIONAL_FUNCTIONS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FUNCTIONS/JMAP_SOLUTIONS_COMPOSITIONS_OF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ANGLES/JMAP_SOLUTIONS_TRIGONOMETRIC_IDENT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ANGLES/JMAP_SOLUTIONS_DOUBLE_ANGLE_AND_ANGLE_SUM_AND_DIFFERENCE_IDENT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http://www.jmap.org/JMAP/JMAPSolutions/GRAPHS_AND_STATISTICS/JMAP_SOLUTIONS_NORMAL_DISTRIBUTIONS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FUNCTIONS/JMAP_SOLUTIONS_DEFINING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FUNCTIONS/JMAP_SOLUTIONS_INVERSE_OF_FUNCTONS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hyperlink" Target="http://www.jmap.org/JMAP/JMAPSolutions/QUADRATICS/JMAP_SOLUTIONS_USING_THE_DISCRIMINANT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QUADRATICS/JMAP_SOLUTIONS_MINIMUM_AND_MAXIMUM_OF_QUADRATIC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hyperlink" Target="http://www.jmap.org/JMAP/JMAPSolutions/RADICALS/JMAP_SOLUTIONS_EXPONENTS_AS_RADIC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RATIONALS/JMAP_SOLUTIONS_COMPLEX_FRACTIONS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RADICALS/JMAP_SOLUTIONS_EXPONENTS_AS_RADIC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http://www.jmap.org/JMAP/JMAPSolutions/NUMBERS_OPERATIONS_AND_PROPERTIES/JMAP_SOLUTIONS_PROPERTIES_OF_INTEG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hyperlink" Target="http://www.jmap.org/JMAP/JMAPSolutions/QUADRATICS/JMAP_SOLUTIONS_QUADRATIC_FORMULA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INEQUALITIES/JMAP_SOLUTIONS_ABSOLUTE_VALUE_INEQUALITIE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POWERS/JMAP_SOLUTIONS_EXPONENTIAL_FUNCTION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RATIONALS/JMAP_SOLUTIONS_RATIONAL_EXPRESS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GRAPHS_AND_STATISTICS/JMAP_SOLUTIONS_CORRELATION_COEFFICIENT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RADICALS/JMAP_SOLUTIONS_RATIONALIZING_DENOMINATORS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gust 20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888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6644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584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546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241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809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527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21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31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711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191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95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28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876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11160" y="0"/>
            <a:ext cx="9132840" cy="1887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276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2971800" y="3352680"/>
            <a:ext cx="33526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905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41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33040" cy="5410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5029200" y="380880"/>
            <a:ext cx="3511440" cy="3505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3224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200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451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943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2895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614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330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8:17:12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August 2003 Math A Regents Exam</cp:keywords>
  <dc:language>en-US</dc:language>
  <cp:lastModifiedBy>Steve</cp:lastModifiedBy>
  <dcterms:modified xsi:type="dcterms:W3CDTF">2007-07-16T02:57:56Z</dcterms:modified>
  <cp:revision>4</cp:revision>
  <dc:subject/>
  <dc:title>JMAP 0803ExamB Slideshow</dc:title>
</cp:coreProperties>
</file>