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41.wmf" ContentType="image/x-wmf"/>
  <Override PartName="/ppt/media/image10.jpeg" ContentType="image/jpeg"/>
  <Override PartName="/ppt/media/image33.wmf" ContentType="image/x-wmf"/>
  <Override PartName="/ppt/media/image12.jpeg" ContentType="image/jpeg"/>
  <Override PartName="/ppt/media/image37.png" ContentType="image/png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45.png" ContentType="image/png"/>
  <Override PartName="/ppt/media/image13.wmf" ContentType="image/x-wmf"/>
  <Override PartName="/ppt/media/image27.jpeg" ContentType="image/jpeg"/>
  <Override PartName="/ppt/media/image42.wmf" ContentType="image/x-wmf"/>
  <Override PartName="/ppt/media/image43.wmf" ContentType="image/x-wmf"/>
  <Override PartName="/ppt/media/image44.png" ContentType="image/png"/>
  <Override PartName="/ppt/media/image46.wmf" ContentType="image/x-wmf"/>
  <Override PartName="/ppt/media/image11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4E2-32F0-49A0-9A38-4E5B118A2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8E3-7C96-4B64-8771-99491FAB4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D8D3-9811-4E4A-84B3-14B1801B1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9822-79DE-49D0-8630-4949412A5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A247-D7D1-494B-A962-3F3858E2F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3B32-B25F-4DAD-B6C8-8AC11DBFF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9B9A-EBAF-4183-A618-BC6EF4D80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FB38-F915-4F09-837B-12EF32847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BB81-2104-45FF-8550-FFFB05C9F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564B-27AD-4D86-BBF8-60543B303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E3C-5405-4AA2-B6C4-A214E6715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335-2BCE-4EE6-93F0-58F8E4AF0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52C5-46BB-4C5E-83D6-6B23CBBA8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129-1D73-47C0-84A4-0F0870A0D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010320a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D677-FD2C-448C-84B8-07D0AA1A7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8A1-5AF6-4F5E-A007-8B2406FA4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41BE-64D7-4689-BCBE-522F06A6F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E9BE-0CFB-4B4F-A145-1BEFDFEA3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0AA-D553-4843-A579-482F66CB1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49C3-9228-49FB-A7C2-8013B83A6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753-D72B-47C5-A7BC-9DCECB7D2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B0AF-C775-4550-B68C-028A2408B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93E4-2703-403F-8525-A2A426F6F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D73-F4F1-4DFA-9785-F4706F331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5E6E-C9BE-4AB8-998B-594B85C02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2A4E-98F8-4085-9606-21057C110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EB7-EAAA-4545-853E-9A84AC49E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F8C9-4D08-4461-9E59-B5D932B97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080-1655-425A-AB83-1ED03FAD7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30C4-3F07-43B2-B2C2-C449C960F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5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0FC-D69B-4492-9C84-D579C83BB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72A-16AE-4284-9E1E-E9D85DEE9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176-6BD4-4B59-B52C-D891B4BA8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4AB-3D8E-4AD7-9F22-A8C18698A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2DC7-0795-4F75-A6CD-56AA4E2C6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4CDF-FD10-4222-B54E-9D8F7746D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0289-BFC0-4932-A366-7664CF940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45E-44E5-40DC-AB8A-5217D78D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980-42FE-449B-A2BC-6929DCE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004-D0E2-4BD1-BF33-AE814F52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285-EC42-45E5-B340-9D2AB3E9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9EA-7BA2-4143-9677-DC9B4302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A6C-613A-4049-B6F8-6DBBFE5E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D76-C7A0-47C7-8F3E-07408AD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9E1-D77F-487A-8BC4-10F3E657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430-DAF8-469D-9658-DE382E6E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93F-B476-42E8-AC7C-A9D9464A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AA9-3FE3-4794-A32C-5C8BB69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A58-E4D9-468C-9D57-FDADA72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6111-825C-4972-B37F-36BAB5437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SAMPLE_SPAC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7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388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131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0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44000" cy="20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4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2" descr=""/>
          <p:cNvPicPr/>
          <p:nvPr/>
        </p:nvPicPr>
        <p:blipFill>
          <a:blip r:embed="rId1"/>
          <a:stretch/>
        </p:blipFill>
        <p:spPr>
          <a:xfrm>
            <a:off x="0" y="0"/>
            <a:ext cx="8983800" cy="515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48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3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2743200" y="2286000"/>
            <a:ext cx="3772080" cy="377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-34920"/>
            <a:ext cx="8908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066680" y="2057400"/>
            <a:ext cx="2590920" cy="1419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3657600" cy="185076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8" descr=""/>
          <p:cNvPicPr/>
          <p:nvPr/>
        </p:nvPicPr>
        <p:blipFill>
          <a:blip r:embed="rId5"/>
          <a:stretch/>
        </p:blipFill>
        <p:spPr>
          <a:xfrm>
            <a:off x="0" y="4191120"/>
            <a:ext cx="9144000" cy="293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HP_Administrator\Pictures\My Pictures\Thomas Jefferson.jpg"/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85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07:0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3 Math A Regents Exam</cp:keywords>
  <dc:language>en-US</dc:language>
  <cp:lastModifiedBy>Steve</cp:lastModifiedBy>
  <dcterms:modified xsi:type="dcterms:W3CDTF">2007-07-16T02:42:41Z</dcterms:modified>
  <cp:revision>6</cp:revision>
  <dc:subject/>
  <dc:title>JMAP 0103ExamA Slideshow</dc:title>
</cp:coreProperties>
</file>