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jpeg" ContentType="image/jpeg"/>
  <Override PartName="/ppt/media/image23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41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31.wmf" ContentType="image/x-wmf"/>
  <Override PartName="/ppt/media/image33.wmf" ContentType="image/x-wmf"/>
  <Override PartName="/ppt/media/image3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E56C-E33E-47F8-808F-A1941D70F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9EF0-345F-4238-B0E7-4969B630B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9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E4BD-3664-4B3F-9E60-2BD1E10F9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0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7475-824B-422B-B75F-750496C91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E460-F227-46C7-A0E3-C31C1C342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2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9EB-70EF-4D15-A4B8-D40B6FF34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C84E-3A0F-41F0-BEB9-EEB7A1D50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4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8DE-AFC2-4367-BBB8-EE46DB42B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5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A581-B355-4C1E-B64C-61C9E03C5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0FB-9E42-4EEE-8CE2-F460E8C8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7E2F-154A-4A7F-85E0-9941B0122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1010-584D-43E4-B07E-EF96080B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470-77C4-4A0D-A6E3-369F98279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801-C568-4C6A-8CF9-D729A6B21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B21-19FF-48AA-A9A6-C64635262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1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EA2-C126-47EA-9AA9-BC13E6F84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554-0D0A-4E19-8E6F-0D0FB9409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8E8-EE06-4B53-8E91-6BFE30877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791-4324-4F8D-9CE7-B699A2DB4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BA05-E69E-4821-A236-FB9574DE7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A52F-3767-493C-9E29-08ACEFEDC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790-DC0C-49A9-B1AC-7AE6DCE62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8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3BA2-70F7-4711-8BC4-4948CF4E2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2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C2E3-1F21-4B51-B940-F0463C221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4CF-69AA-4F04-9008-4CEB66346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0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94B-FC1E-4F7D-B533-81590C25F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FFD-011B-4434-87BD-63C859673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C7F-C7CA-4875-8501-C408E84D6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3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A6CD-19CF-440A-B3BF-96BC13272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7761-F1EA-4600-AE72-C33B19555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3CB4-E019-4A34-A70E-F7B9A723E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314D-885B-4696-9386-2C2B8924C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D990-1214-4BD8-920A-231D0206D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768-8005-4BEA-98E2-D8BD3BB47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60CF-A3BA-4B27-BC3D-AB67A2D3F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7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C54E-1E78-4DE5-A938-55DFA5FDF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E4A3-F6DE-4B5C-99CF-C522678DA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628-29EE-4A30-A64A-AB69F78A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92D-DC3F-429E-8BB1-2F66D862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68A-F380-434C-B390-2D53BFE4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F71-E7B9-44D5-84A4-B64C477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770-8B18-452C-B215-95139EA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998-A97D-460B-B4DA-3B1738B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3C3-D627-428A-938F-81E5000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657-F408-4918-956A-F8530757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D1D-2342-476C-8F68-7F6A4A20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D36-A350-43F7-A84B-4391FB2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84A-515C-46D6-8B42-26C6E3C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198-FF14-479D-A567-63079E7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6E9-41DD-4ADA-9BFF-0543F0948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79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82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68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7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5343480" cy="480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5257800" y="838080"/>
            <a:ext cx="346068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4:18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0 Math A Regents Exam</cp:keywords>
  <dc:language>en-US</dc:language>
  <cp:lastModifiedBy>Steve</cp:lastModifiedBy>
  <dcterms:modified xsi:type="dcterms:W3CDTF">2007-07-16T02:44:35Z</dcterms:modified>
  <cp:revision>5</cp:revision>
  <dc:subject/>
  <dc:title>JMAP 0600ExamA Slideshow</dc:title>
</cp:coreProperties>
</file>