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15.wmf" ContentType="image/x-wmf"/>
  <Override PartName="/ppt/media/image11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30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42.png" ContentType="image/png"/>
  <Override PartName="/ppt/media/image23.jpeg" ContentType="image/jpeg"/>
  <Override PartName="/ppt/media/image2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28.wmf" ContentType="image/x-wmf"/>
  <Override PartName="/ppt/media/image3.jpeg" ContentType="image/jpeg"/>
  <Override PartName="/ppt/media/image2.wmf" ContentType="image/x-wmf"/>
  <Override PartName="/ppt/media/image3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8CF-24C3-40E4-ABB0-4F39B2D6D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1D78-AA91-4398-94C9-7FDBB4DD3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75C-26E8-4E8D-A1A8-DE2D339CD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A59-62AF-4F58-BB12-2A95FE08F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949-EE69-4804-9C44-4FBABEEE5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2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AB64-B831-4F6E-971C-D9BAE9F30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D044-21DC-448E-B057-0A83AD41D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4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0EF8-50E2-4E97-A80E-831F9278D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2B63-F6E7-457D-B805-9763C9459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C476-D1DB-45C2-B9E2-42EBD5D90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F36-9B1A-4F86-8041-B3A0E1461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18F-DA09-4138-ADD1-D7B87CF5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AC1-B7F3-428E-A058-23C95F40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487-4D7E-4115-9B80-0E1E642B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0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EDC-B9AD-4397-B01F-2091AFE7E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6E79-E6F3-40D8-A24C-9BA611CCA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448-185E-4ECE-8699-66969FD01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5E87-7B30-43F8-B20C-ACA769BDC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4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59BD-9C00-4D81-820B-2BECF440F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3FC1-BD13-4065-B67D-C06EE2194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0F2F-09E7-43A1-A23B-06C05C708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C5C-5487-4953-B639-A38E7E654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81A-E312-4369-93A2-257395A8E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B679-9C2B-4DB2-A188-D2426F21D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9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B608-481E-4156-B5CF-F61606A4C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D6D-C8E0-4360-8E99-366FA8E85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1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1C0-53BE-4DE9-B3C1-A06B56CFB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062-AF96-47BC-B066-B0409B3AD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895E-5B29-4683-86B8-9AD44ED8F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472-44A0-47A5-AFD1-FCFE17DA8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362-D7DE-4A7B-939F-CD97D35B2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3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F9CC-AFE7-4222-AA83-797C6130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670-6054-482C-8260-354825076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976-0D0C-454E-BCE8-667DB8517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145-3D6B-4802-A68A-D54BE344D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019-8BFD-4B6B-9B2F-47CF02A55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8B5E-1E8E-4FCF-B4CC-66EAE3F9E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26F-BDA1-4E72-AFCF-AB01DAD1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604-7D5A-4A05-B29F-A047F4C3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FEC-EE45-4074-BB25-24BAA7D2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200-EAFA-4493-88CF-3EDE3599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E0D-67F5-444E-ADB1-DBE6835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F19-0FA8-4228-BD83-38E2CB7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477-2107-447B-9C7E-B82BBCC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28E-F921-424E-B44C-2E5973E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275-247F-4D31-B6C8-A83C8620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187-ACF8-457E-A917-C9DFA65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293-DEAA-4FD5-A5AF-336B4EF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00E-6A4A-4FAF-A160-FCE8DE0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DE16-2F4F-478B-817D-57BB867FC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TRANSFORMING_FORMULA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1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9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4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8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3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27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2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6:08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1999 Math A Regents Exam</cp:keywords>
  <dc:language>en-US</dc:language>
  <cp:lastModifiedBy>Steve</cp:lastModifiedBy>
  <dcterms:modified xsi:type="dcterms:W3CDTF">2007-07-16T02:48:22Z</dcterms:modified>
  <cp:revision>4</cp:revision>
  <dc:subject/>
  <dc:title>JMAP 0699ExamA Slideshow</dc:title>
</cp:coreProperties>
</file>