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2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13.jpeg" ContentType="image/jpeg"/>
  <Override PartName="/ppt/media/image44.wmf" ContentType="image/x-wmf"/>
  <Override PartName="/ppt/media/image45.wmf" ContentType="image/x-wmf"/>
  <Override PartName="/ppt/media/image47.wmf" ContentType="image/x-wmf"/>
  <Override PartName="/ppt/media/image10.wmf" ContentType="image/x-wmf"/>
  <Override PartName="/ppt/media/image46.wmf" ContentType="image/x-wmf"/>
  <Override PartName="/ppt/media/image11.jpeg" ContentType="image/jpeg"/>
  <Override PartName="/ppt/media/image23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39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8.jpeg" ContentType="image/jpeg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408C-C59A-42F1-8748-B570DCA2B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5780-589E-4DDF-9281-861018D8F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9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C1B6-6258-4A04-A2D0-3A6709629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0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87DF-1962-45BC-96A0-A447CF33E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1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49CF-7F5C-45E0-AEC1-619A3E862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2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64F8-8C6F-4364-94D2-43890412A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3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F45F-195E-45C6-B9E0-C16D513FD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4740-0D39-45B1-8803-946BD1E72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5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248C-D604-44DE-9DEE-8CC7654B2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6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5F59-C013-4BB0-AA8B-DB0894B47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7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514E-5ED8-45FA-A215-1FFDC3132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8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3991-6FE2-48ED-B9AC-3E1313092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1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564B-A348-43ED-A11E-C9A4D5B40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9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FC91-4330-4F32-A52C-D27B735A0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0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B77D-03E2-4D35-B213-E49D4F68F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1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1204-57DC-4302-B859-832167714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2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9F33-DE3B-4C51-848A-3950564A2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84FF-9BDA-483D-B63A-DA95E16F9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4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A178-0672-45F2-A5C2-517700057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5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488B-F047-4D98-8CA0-76D192EE1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6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4CAE-C6F3-41CA-9448-68C00DC96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7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AED5-34BD-4B3E-95FF-F06369508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8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CF96-8AE8-4BD2-AD20-D489BFD46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2a  EQUATIONS: 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8C35-CB3B-424B-9168-33CC122A4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9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F049-D4C0-4403-B4BF-4C1F88BF4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0a  LOGIC: Converse and Biconditional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2092-7675-400D-B295-F15FB7131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1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638C-435A-4446-A39D-14B93AD63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2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116C-8E6D-46D0-8904-5EDF89D74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3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1636-FE5C-4917-BC0B-B9E3BB0AD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4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E1CD-DF06-4236-8DB2-CD76CA90F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5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4285-1033-4C87-A40B-3CC70D782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4AD0-FBA6-4669-9C4A-2309F02B8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CDF1-0A9B-4D7B-B843-702C1503D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8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EDC6-333B-4505-8579-8B2867FDC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3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6280-162E-4C60-9F33-C5E5A0415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9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EA25-D60E-4276-BBE4-D184C820C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2A3C-AB50-4C22-9C3A-D790E1471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5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436A-066A-4935-B214-60782CDD7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6a  RADICALS: Square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D020-D7E8-4C2D-8D80-E7B8D6A37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7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EEDB-EBAC-43BA-B240-107C0010B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8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2C96-582E-4955-91CA-9D569023C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20B-909F-4F4E-9CA6-AC3E493B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EA3-911F-4848-BAF2-CFBE1B2A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EBF-BB88-403F-BA4C-405F8A14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CA13-9862-4327-ADE8-0ACA45C1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1F7-A0D1-445E-8ED7-AAB5237A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941-C135-4CA1-857E-71D59361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359-DDA2-4647-9ABE-26AB6A7D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F89-B625-4F1C-A966-ECA5B95D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491-E3B5-48A9-A279-EF174984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833-FCF9-4795-89D3-687093E3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A11-25E8-4C8D-9FDC-0284A738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7B16-D105-4B67-AD1D-DA6E73BB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5A6D-37F1-417A-86D1-E194CD124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SYSTEMS/JMAP_SOLUTIONS_SOLVING_LINEAR_SYSTEM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GRAPHS_AND_STATISTICS/JMAP_SOLUTIONS_AVERAGE_KNOWN_WITH_MISSING_DATA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DICALS/JMAP_SOLUTIONS_SQUARE_ROOT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05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809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312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7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191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-1752480" y="0"/>
            <a:ext cx="9078840" cy="472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5257800" y="304920"/>
            <a:ext cx="34290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41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352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9:19:4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7 Math A Regents Exam</cp:keywords>
  <dc:language>en-US</dc:language>
  <cp:lastModifiedBy>Steve</cp:lastModifiedBy>
  <dcterms:modified xsi:type="dcterms:W3CDTF">2007-07-16T20:18:40Z</dcterms:modified>
  <cp:revision>27</cp:revision>
  <dc:subject/>
  <dc:title>JMAP 0607ExamA Slieshow</dc:title>
</cp:coreProperties>
</file>