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10.png" ContentType="image/png"/>
  <Override PartName="/ppt/media/image27.wmf" ContentType="image/x-wmf"/>
  <Override PartName="/ppt/media/image4.wmf" ContentType="image/x-wmf"/>
  <Override PartName="/ppt/media/image28.wmf" ContentType="image/x-wmf"/>
  <Override PartName="/ppt/media/image23.jpeg" ContentType="image/jpeg"/>
  <Override PartName="/ppt/media/image12.png" ContentType="image/png"/>
  <Override PartName="/ppt/media/image2.wmf" ContentType="image/x-wmf"/>
  <Override PartName="/ppt/media/image32.wmf" ContentType="image/x-wmf"/>
  <Override PartName="/ppt/media/image38.wmf" ContentType="image/x-wmf"/>
  <Override PartName="/ppt/media/image30.wmf" ContentType="image/x-wmf"/>
  <Override PartName="/ppt/media/image39.png" ContentType="image/png"/>
  <Override PartName="/ppt/media/image42.wmf" ContentType="image/x-wmf"/>
  <Override PartName="/ppt/media/image31.wmf" ContentType="image/x-wmf"/>
  <Override PartName="/ppt/media/image46.png" ContentType="image/png"/>
  <Override PartName="/ppt/media/image29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0.jpeg" ContentType="image/jpeg"/>
  <Override PartName="/ppt/media/image45.wmf" ContentType="image/x-wmf"/>
  <Override PartName="/ppt/media/image35.wmf" ContentType="image/x-wmf"/>
  <Override PartName="/ppt/media/image47.wmf" ContentType="image/x-wmf"/>
  <Override PartName="/ppt/media/image13.wmf" ContentType="image/x-wmf"/>
  <Override PartName="/ppt/media/image8.jpeg" ContentType="image/jpeg"/>
  <Override PartName="/ppt/media/image41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26A4-338F-43BE-AAB7-0767363FC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0CD3-589D-46BF-A548-A9D959E49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9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9F55-F6A8-4C94-B5E5-539B5BA5B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0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04C1-C006-49C8-9270-A4827AF65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1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BCC1-D8BE-4AF4-A4A9-336147240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2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CFDA-54FD-4D59-9B14-816BB06D6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3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968E-BC9F-4487-9EAC-57C3D9BED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4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CF1A-B2A0-41F9-A9FB-46C958357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5b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2C71-7828-4F42-8264-B190BA851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6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85B2-D5F9-424B-9207-0BFD78219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7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22D7-D156-4390-9D78-0EB65DD4A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8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B9BA-DC4F-4483-816C-50C9B15E5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1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A107-81FC-4292-8CC1-4AA92A595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9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16B0-9736-4F6E-843C-9B878A4E0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0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DC82-17A1-46D0-BAA3-007DD5FCA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1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1483-D140-45C6-8356-0E3F1E3E9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335F-34E5-4B3B-B740-69088F969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3b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FC38-F15B-4706-929B-1235C68D9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4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FB8E-8294-48B2-A0DF-528D7F0BF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5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6438-6F4C-48CB-B660-1AC9EA313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6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2522-063C-4D8D-AA15-A1B5C5573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0E43-5BDD-412A-A9FA-466AC34AF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8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5AA9-9368-400E-BF4C-EE29B9A02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2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9E12-7B31-46C2-9C3A-7CF59EB58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9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FA45-3920-4B67-B365-39AD91288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0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E91A-C9F5-42B9-ABA8-36ACDB81F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1b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481A-E8B3-41FA-B155-F71849B2A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2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71FB-4BE3-431D-851B-BA7D6A3C5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3b  INEQUALITIES: Trigonometr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FF07-FC9D-4053-95B0-E600E50B3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F324-DB52-45F9-97AB-4AE271388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3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65DC-6CEA-4304-8D70-5D4236797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4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BF48-87ED-4CB5-AE59-0BAD012C2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5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356A-6B55-4005-8884-374A3B7E5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6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D67B-E096-4E50-AF93-152FF0081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7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B38C-21D0-4F95-9B4E-CA20E2ABC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8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631F-68B0-401F-967F-D7E2F03B0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518-532E-489D-87BC-269C0136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0BC-932D-4E23-9388-330F583A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00D-D4C6-44A1-A366-07920C75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1F0-493A-46DE-A9C0-20657042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0B6-355D-45CF-9940-5C1174F9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42D-A711-4CD6-A93E-4994E1E2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7A0-5097-4044-9C24-03E181A7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DD5-5094-42E4-B582-38C53869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B28-E6AC-4C87-B941-5BC129CF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C3C-3C45-4324-810C-1697D883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406-5444-4D82-BA87-64467280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362-9D95-4CE1-A189-84D17981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7C79-8765-49B6-8F7F-CE209D324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POWERS/JMAP_SOLUTIONS_BINOMIAL_EXPANS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hyperlink" Target="http://www.jmap.org/JMAP/JMAPSolutions/INEQUALITIES/JMAP_SOLUTIONS_QUADRATIC_INEQUALITIES.doc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hyperlink" Target="http://www.jmap.org/JMAP/JMAPSolutions/POWERS/JMAP_SOLUTIONS_EXPONENTIAL_EQUATIONS.doc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91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243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56800" cy="2028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59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590920" y="2895480"/>
            <a:ext cx="3504960" cy="349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-1905120" y="0"/>
            <a:ext cx="9014040" cy="8958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81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4213080" cy="419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8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9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881520" y="380880"/>
            <a:ext cx="162864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Object 5" descr=""/>
          <p:cNvPicPr/>
          <p:nvPr/>
        </p:nvPicPr>
        <p:blipFill>
          <a:blip r:embed="rId3"/>
          <a:stretch/>
        </p:blipFill>
        <p:spPr>
          <a:xfrm>
            <a:off x="0" y="2362320"/>
            <a:ext cx="9144000" cy="290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4"/>
          <a:stretch/>
        </p:blipFill>
        <p:spPr>
          <a:xfrm>
            <a:off x="2895480" y="2895480"/>
            <a:ext cx="33624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1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8:25:0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4 Math A Regents Exam</cp:keywords>
  <dc:language>en-US</dc:language>
  <cp:lastModifiedBy>Steve</cp:lastModifiedBy>
  <dcterms:modified xsi:type="dcterms:W3CDTF">2007-07-16T02:58:15Z</dcterms:modified>
  <cp:revision>4</cp:revision>
  <dc:subject/>
  <dc:title>JMAP 0804ExamB Slideshow</dc:title>
</cp:coreProperties>
</file>