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1.wmf" ContentType="image/x-wmf"/>
  <Override PartName="/ppt/media/image8.jpeg" ContentType="image/jpeg"/>
  <Override PartName="/ppt/media/image13.wmf" ContentType="image/x-wmf"/>
  <Override PartName="/ppt/media/image30.wmf" ContentType="image/x-wmf"/>
  <Override PartName="/ppt/media/image31.wmf" ContentType="image/x-wmf"/>
  <Override PartName="/ppt/media/image33.wmf" ContentType="image/x-wmf"/>
  <Override PartName="/ppt/media/image12.wmf" ContentType="image/x-wmf"/>
  <Override PartName="/ppt/media/image36.wmf" ContentType="image/x-wmf"/>
  <Override PartName="/ppt/media/image37.png" ContentType="image/png"/>
  <Override PartName="/ppt/media/image40.wmf" ContentType="image/x-wmf"/>
  <Override PartName="/ppt/media/image38.wmf" ContentType="image/x-wmf"/>
  <Override PartName="/ppt/media/image39.wmf" ContentType="image/x-wmf"/>
  <Override PartName="/ppt/media/image9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10.wmf" ContentType="image/x-wmf"/>
  <Override PartName="/ppt/media/image25.jpeg" ContentType="image/jpeg"/>
  <Override PartName="/ppt/media/image32.wmf" ContentType="image/x-wmf"/>
  <Override PartName="/ppt/media/image2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B81A-A985-4518-98B5-33728CD14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D77C-FF12-4F62-B260-F0C25199F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9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3F3B-BFD3-49E1-BAEB-9DFDBB064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0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4C18-5F9A-4BC7-B7CD-F576CB219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1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AB4F-33BD-443C-BA6A-FA65E4F3B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2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4589-04AA-4CBC-92D4-D50B601BE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3a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9BBD-C8B6-48DE-A6CD-F89366299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4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D45A-7D1B-4214-8D8D-0EA984A82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5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44D5-C0DC-4593-A6FD-CE4139992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6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B74F-4149-4F34-AAAF-A6D58A73C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7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BDC2-506C-4F77-9125-8BE1DF79A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8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E4F4-9829-408A-ACF4-BAB0DCE6E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1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B6E8-9CEA-4153-8E48-B66947529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9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D1F2-1130-4BEF-A2A6-7507C303B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0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1291-BC83-4ED4-9055-06BB3B64F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1a  GRAPHS AND STATISTICS: Relating Graphs to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9A6D-1C38-4B15-A1CD-9613935F6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2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9E8E-B6A3-4D55-90A3-BD2F4B543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3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59D4-11EE-41E2-8CBA-FFC7E9CC5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4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7539-0D1A-48ED-AF9F-D4096583C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5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2ED0-ACCE-469C-A53B-E5846363A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6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559E-A2E0-4C67-BA4D-A03556583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7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8122-912A-429D-A41E-5B715EC5B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8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B980-122D-4E1C-AD1A-2829D31D3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2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9F03-6E99-40F2-9B3E-CF607CBDF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9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94EC-97E5-440B-B080-7CF485AF0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0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F994-9945-44DA-8BB2-98992D96C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1a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4092-4552-4436-A9A4-FA08CFBCA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2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0BC4-56B7-4E6A-8967-0ABFF6B60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3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E984-D450-49B8-92F0-757F792E4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4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A3E0-5ED6-4F08-B0E0-824D2DC08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5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388F-0705-41FD-B597-AF417489F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3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11D0-4A32-4DA0-83EF-482B114A4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4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E16E-5CEB-4167-BA20-1687F698A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5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5643-CDE5-41BC-8A85-40D6AB9D9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6a  PROBABILITY: Geometric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2048-39D0-47A8-B7FA-012D21E02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7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CCD0-C6AD-4B3B-9ACC-0493DFB69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8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840C-F985-4AB8-A2F5-DE9AF316C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7684-CFAC-4E45-AED5-9030B8F9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33F6-1E51-4CD8-92D6-8FEE26B4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7EF-D0E6-42B0-9269-E35ECCE8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C4D1-9CEA-48D5-8890-40AB2D01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B5DF-3662-40B1-A78C-6BF57AFA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103F-5E4E-4D38-9468-452C5CCC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C8CD-F829-4972-9FD6-6FFB8B1A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16FA-BCD8-457E-ABE2-F70EBE07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321-2574-4CDF-8B00-E82FC91A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138-7610-420B-BB80-CF9A903E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ED43-F12F-4873-838A-6E66AEAE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BA6-F6A4-4EF1-A651-E8B11928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20B5-BEA4-432E-881A-8203A3473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FUNCTIONS/JMAP_SOLUTIONS_THREE_VIEWS_OF_A_FUNCTION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INEQUALITIES/JMAP_SOLUTIONS_INTERPRETING_SOL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GRAPHS_AND_STATISTICS/JMAP_SOLUTIONS_RELATING_GRAPHS_TO_EV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QUADRATICS/JMAP_SOLUTIONS_FACTORING_POLYNOMIAL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PROBABILITY/JMAP_SOLUTIONS_GEOMETRIC_PROBABILITY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16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367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76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943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44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0" y="0"/>
          <a:ext cx="9144000" cy="29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71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4160" cy="377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703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1320" cy="3224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0" y="0"/>
            <a:ext cx="4419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science quiz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students received the following scor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 95, 95, 90, 85, 85, 85, 80, 80, 80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, 75, 75, 75, 70, 70, 65, 65, 60, 55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 statistical graph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as a histogra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a stem-and-leaf plot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isplay this dat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sure to title the grap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label all axes or parts used.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495680" y="8380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r type of plot requires a grid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your work he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3809880" cy="38368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 flipV="1" rot="10800000">
            <a:off x="228240" y="41295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 grid is necessary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your work he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6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47520"/>
            <a:ext cx="910908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05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62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477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94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2:45:3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1 Math A Regents Exam</cp:keywords>
  <dc:language>en-US</dc:language>
  <cp:lastModifiedBy>Steve</cp:lastModifiedBy>
  <dcterms:modified xsi:type="dcterms:W3CDTF">2007-07-16T02:41:53Z</dcterms:modified>
  <cp:revision>6</cp:revision>
  <dc:subject/>
  <dc:title>JMAP 0101ExamA Slideshow</dc:title>
</cp:coreProperties>
</file>