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6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31.wmf" ContentType="image/x-wmf"/>
  <Override PartName="/ppt/media/image29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10.wmf" ContentType="image/x-wmf"/>
  <Override PartName="/ppt/media/image8.jpeg" ContentType="image/jpeg"/>
  <Override PartName="/ppt/media/image13.wmf" ContentType="image/x-wmf"/>
  <Override PartName="/ppt/media/image7.wmf" ContentType="image/x-wmf"/>
  <Override PartName="/ppt/media/image37.wmf" ContentType="image/x-wmf"/>
  <Override PartName="/ppt/media/image30.wmf" ContentType="image/x-wmf"/>
  <Override PartName="/ppt/media/image33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9.wmf" ContentType="image/x-wmf"/>
  <Override PartName="/ppt/media/image11.wmf" ContentType="image/x-wmf"/>
  <Override PartName="/ppt/media/image5.jpeg" ContentType="image/jpeg"/>
  <Override PartName="/ppt/media/image24.jpeg" ContentType="image/jpeg"/>
  <Override PartName="/ppt/media/image16.jpeg" ContentType="image/jpeg"/>
  <Override PartName="/ppt/media/image35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2E83-7827-456C-B159-9B953FC85B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EBCE-3D68-40B7-ACA3-3962C04568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9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6B9E-DC5B-4DFD-8836-C47170FCEF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0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7765-41A3-44CF-B62E-DBB3130A1F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1b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EA09-BC51-4734-A725-07D8F21D82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2b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442B-98EB-4CC5-9A1B-2FDCBC9523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3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18B6-7FD5-4D3D-8605-3C3E87FD1F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4b  SYSTEMS: Break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7B8F-7947-4626-8571-5B39A5215B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5b  TRANSFORMATIONS: Compositions of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E99D-358C-47A1-A6D1-9F6B5E67EF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6b  ANGLES: Radian Mea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CC0D-E093-4A17-AF2E-BEC8106C07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7b  RATIONALS: Multiplication and Divis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3AA8-A5CF-4A53-9CBC-38EC81326C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8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6DAB-98A8-4ECD-8AAA-4E22BCFD4F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1b  FUNCTIONS: Defin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2AA6-B02E-4FA7-8C36-0210DAFF83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9b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E768-2B9D-443F-9F32-6E395BB26C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0b  TRIANGLES: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04A0-B8EC-4556-991A-FEBB43322F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1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DFA0-E047-42E2-8F2C-33AB875857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2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9839-C603-4D22-BE3C-818EA122B8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3b  RATIONALS: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F744-4B58-4CD6-8F43-2BB1792F00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4b  TRIANGLES: Pythag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AB12-D6D3-4627-B68B-6CA2FD920A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5b  RATIONALS: Solving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395D-1510-47D3-90E5-046BBF530F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6b  ANGLES: Double Angle and Angle Sum and Difference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2BE8-B5AD-4026-B71A-9E41B087A2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7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6D0B-4E27-4FCF-9047-661992A4D4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8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DD5A-9703-4B14-95F7-539A8CC79D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2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3C66-E500-4CBD-BF4D-285D0B789A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9b  GRAPHS AND STATISTICS: Normal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85AA-BD81-4CF7-B3D8-387F935CBF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30b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3D8A-BB42-4C50-ACD5-BD0F3481EF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31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DCC3-2A1D-4C09-B217-7F0D69F5A6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32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A2FB-FAA9-4D8E-A9B3-290D715E49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33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D231-B939-4121-900E-2494CE6D83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34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4017-0281-4AFA-B16A-F85CA71CB3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3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FF4C-B312-49B7-8AAF-3A75F5C4E6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4b  RADICALS: Solv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275D-896E-40CC-9D79-DAFE31C96C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5b  TRANSFORMATIONS: Isome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D670-AD2A-4BB8-BA92-4C80F047A9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6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D02E-DDB0-4DA9-A363-49DFAE97A8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7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50AC-D637-4720-B7FA-094E4E8009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8b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E369-7635-4985-A4F6-26FD44228F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5D8D-ED98-48B3-8913-4DCF97599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9FC1-2CD1-40C1-87B9-66ABEC6C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0748-CCBE-428B-9F63-581B133BD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9153-6917-4004-A035-9F7873301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722F-0535-41E7-85DD-195ED469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D849-744D-458F-AEC4-8B857AB8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D0BA-07CE-40C7-A4EB-8F3747DB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07E9-0095-4CF8-B2E2-00761A81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9AEF-0AD4-4FB0-A283-42B1F0B8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438F-86C4-4AEF-8810-FF198EBA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CC11-8A18-41CD-B4C5-94572570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8F6E-737F-4301-9E8F-A5133B1C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8F8E-A027-47B2-B2DC-68D6C73477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POWERS/JMAP_SOLUTIONS_PROPERTIES_OF_LOGARITHM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jmap.org/JMAP/JMAPSolutions/RATE/JMAP_SOLUTIONS_SPEED.doc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SYSTEMS/JMAP_SOLUTIONS_BREAK_EVE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ANGLES/JMAP_SOLUTIONS_RADIAN_MEASURE.doc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RATIONALS/JMAP_SOLUTIONS_MULTIPLICATION_AND_DIVISION_OF_RATIONALS.doc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POWERS/JMAP_SOLUTIONS_EXPONENTIAL_EQUATIONS.doc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FUNCTIONS/JMAP_SOLUTIONS_DEFINING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RATE/JMAP_SOLUTIONS_SPEED.doc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RATIONALS/JMAP_SOLUTIONS_INVERSE_VARI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RATIONALS/JMAP_SOLUTIONS_SOLVING_RATION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ANGLES/JMAP_SOLUTIONS_DOUBLE_ANGLE_AND_ANGLE_SUM_AND_DIFFERENCE_IDENT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INEQUALITIES/JMAP_SOLUTIONS_ABSOLUTE_VALUE_INEQUALITIE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RADICALS/JMAP_SOLUTIONS_SOLVING_RADICAL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QUADRATICS/JMAP_SOLUTIONS_USING_THE_DISCRIMINANT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gust 20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819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48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6" descr=""/>
          <p:cNvPicPr/>
          <p:nvPr/>
        </p:nvPicPr>
        <p:blipFill>
          <a:blip r:embed="rId1"/>
          <a:stretch/>
        </p:blipFill>
        <p:spPr>
          <a:xfrm>
            <a:off x="0" y="0"/>
            <a:ext cx="8980560" cy="1782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767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666880" y="0"/>
            <a:ext cx="42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779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886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3124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476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124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353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666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05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241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024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549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743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809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2656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114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705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04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77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666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928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6:59:59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August 2001 Math A Regents Exam</cp:keywords>
  <dc:language>en-US</dc:language>
  <cp:lastModifiedBy>Steve</cp:lastModifiedBy>
  <dcterms:modified xsi:type="dcterms:W3CDTF">2007-07-16T02:57:11Z</dcterms:modified>
  <cp:revision>5</cp:revision>
  <dc:subject/>
  <dc:title>JMAP 0801ExamB Slideshow</dc:title>
</cp:coreProperties>
</file>