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0.wmf" ContentType="image/x-wmf"/>
  <Override PartName="/ppt/media/image18.wmf" ContentType="image/x-wmf"/>
  <Override PartName="/ppt/media/image12.wmf" ContentType="image/x-wmf"/>
  <Override PartName="/ppt/media/image35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25.jpeg" ContentType="image/jpeg"/>
  <Override PartName="/ppt/media/image46.wmf" ContentType="image/x-wmf"/>
  <Override PartName="/ppt/media/image41.wmf" ContentType="image/x-wmf"/>
  <Override PartName="/ppt/media/image8.jpeg" ContentType="image/jpeg"/>
  <Override PartName="/ppt/media/image28.png" ContentType="image/png"/>
  <Override PartName="/ppt/media/image31.wmf" ContentType="image/x-wmf"/>
  <Override PartName="/ppt/media/image29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48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676-3806-4D37-93FD-93A8A2597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6888-6161-4B79-BFD7-41EA065D3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9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B65-FDA2-429F-B60D-2B1890772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D92-63A3-4536-9B36-D5311F8D4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B01-F68C-4EDA-9676-31197DE23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8DC-9FC2-44E7-9D14-470C4634D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DA8-55EC-4A9F-8679-9D4CE481B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4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F12F-C167-4DD4-A8B2-61A565AFB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5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840-735C-4C70-8F00-4AC5703E7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9194-7924-443C-AD81-CC7CC8079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7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A24-B18C-4666-A728-A53182E9F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0F1-9261-4F0D-BD4F-51B2697EF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1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789-33FC-4A9A-B905-CE726B4A0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D137-CF1A-46AF-ABB9-3BB19342B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0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7A0-E9E1-41CE-BE65-08A34A649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1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F45-CBCD-41DC-944A-DF1479A9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A0B-468D-4DA1-847B-8D3F3D0E8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3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D25-DD88-48F4-9006-20A560A2C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4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AA6-72E1-4CEF-9943-A75D0DDB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2E0-FBEC-4384-A54F-493782F80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6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671-67E8-4FFC-AEB8-E0CE7F154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7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9B13-FD12-41E3-8FD5-AEA2F3AD4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01EC-041E-4816-B206-9683DB620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2a   NUMBERS_OPERATIONS_AND_PROPERTIES_Comparing_Re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659-317B-4144-B831-28FA5C01E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DE04-54A3-4CEA-8161-6C24B99F1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B45-B4C1-46C5-881D-248B2C983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1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889E-65D6-48FD-907A-958D56CAB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EEF-B654-4BDB-A292-513882A39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403-9F94-45DC-B94D-3E0EF009E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C5D-1E65-4C2A-9667-CA171E7F7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0091-E8F6-4805-B29D-EB9EF0314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3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71AF-397C-495D-BCD2-1BD984469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A13-4D98-4291-9D13-443961816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0E4-BF2B-43DC-97DD-11AFEE716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AB5-2566-42C9-AE4C-F2DDA33CF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5B7-DDCD-473B-8F71-6F187A5F8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C3A-4A1D-482C-B418-752A3451B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A0E-5D0A-4F0F-8819-2C5B75A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266-3740-4857-B638-820EFDE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30F-0C20-4004-8BF6-AB9F7EF1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D1B-D99A-40F2-A21A-A0DDE53D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FA4-B54B-493F-BD01-3DC0226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00A-9291-4049-850E-067A730F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C17-7017-4EF5-9E23-A6BCF9E2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78F-314A-45AE-A7DC-737E05A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794-C701-4E9D-B557-E20A958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6FE-A397-4214-9467-172D79F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31C-B623-4617-8F6B-7DD5502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154-50FD-42B3-8BD1-C95E2A0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61FB-0B62-49CB-B85D-551E3548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hyperlink" Target="http://www.jmap.org/JMAP/JMAPSolutions/LINEAR_EQUATIONS/JMAP_SOLUTIONS_MIDPOINT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9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1050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0"/>
          <a:ext cx="9144000" cy="18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36687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5" descr=""/>
          <p:cNvPicPr/>
          <p:nvPr/>
        </p:nvPicPr>
        <p:blipFill>
          <a:blip r:embed="rId3"/>
          <a:stretch/>
        </p:blipFill>
        <p:spPr>
          <a:xfrm>
            <a:off x="0" y="5486400"/>
            <a:ext cx="9090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1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3" descr=""/>
          <p:cNvPicPr/>
          <p:nvPr/>
        </p:nvPicPr>
        <p:blipFill>
          <a:blip r:embed="rId3"/>
          <a:stretch/>
        </p:blipFill>
        <p:spPr>
          <a:xfrm>
            <a:off x="2133720" y="1066680"/>
            <a:ext cx="9055080" cy="8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03984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5" descr=""/>
          <p:cNvPicPr/>
          <p:nvPr/>
        </p:nvPicPr>
        <p:blipFill>
          <a:blip r:embed="rId5"/>
          <a:stretch/>
        </p:blipFill>
        <p:spPr>
          <a:xfrm>
            <a:off x="-914400" y="3962520"/>
            <a:ext cx="9132840" cy="8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55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59:0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0 Math A Regents Exam</cp:keywords>
  <dc:language>en-US</dc:language>
  <cp:lastModifiedBy>Steve</cp:lastModifiedBy>
  <dcterms:modified xsi:type="dcterms:W3CDTF">2007-07-16T02:41:20Z</dcterms:modified>
  <cp:revision>9</cp:revision>
  <dc:subject/>
  <dc:title>JMAP 0100ExamA Slideshow</dc:title>
</cp:coreProperties>
</file>