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14.wmf" ContentType="image/x-wmf"/>
  <Override PartName="/ppt/media/image1.jpeg" ContentType="image/jpeg"/>
  <Override PartName="/ppt/media/image27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10.wmf" ContentType="image/x-wmf"/>
  <Override PartName="/ppt/media/image33.wmf" ContentType="image/x-wmf"/>
  <Override PartName="/ppt/media/image35.wmf" ContentType="image/x-wmf"/>
  <Override PartName="/ppt/media/image24.jpeg" ContentType="image/jpeg"/>
  <Override PartName="/ppt/media/image36.png" ContentType="image/png"/>
  <Override PartName="/ppt/media/image39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43.wmf" ContentType="image/x-wmf"/>
  <Override PartName="/ppt/media/image13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2.wmf" ContentType="image/x-wmf"/>
  <Override PartName="/ppt/media/image2.wmf" ContentType="image/x-wmf"/>
  <Override PartName="/ppt/media/image4.wmf" ContentType="image/x-wmf"/>
  <Override PartName="/ppt/media/image3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F7F1-34F2-4D07-8E4C-D6DAC471E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FCDA-100E-4546-A9AB-235E4BD73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9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992A-AEB5-48FB-9059-9C97EFE6D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0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081F-82E0-4130-B1CF-58FB19914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1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99C7-0A72-474B-AE42-ECD3E5DD9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2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F505-C077-436A-89E6-141A1940B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3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40A5-4D09-4592-9276-8A711A370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4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3CDF-BE26-4277-8264-C81C5186E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5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118B-13CC-4EB0-A627-C6F7FC456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6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1550-744F-40CD-8C01-97DAEA9C7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7a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14D0-7191-4C50-8D0C-4516843B1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8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CF4E-F0D5-4723-9FD7-73F7DA279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1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73EC-A5B1-4EC0-B619-9FE304E81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9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71EF-D777-40F4-845B-B3386DE56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0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16BA-CE5F-4431-A60F-21D1CF9A8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1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F056-F36A-4B12-9418-E38700DE6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2a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0D76-6923-4A32-849C-28AC4F956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3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62D2-3CAC-488A-ACEA-E0785AC2D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86BA-214C-4157-A604-0EED8B674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5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59D7-EAD5-4824-84CF-25BC993B0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6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98FC-DA7B-4E20-875D-48F0D8AA2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7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8B5E-E88D-4FDA-B4DC-32D18B7CC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8a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F8C5-33DD-4E6C-81F4-070EE696F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2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55F2-310E-4A18-8927-307620900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9a  RATE: Fraction Ma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24C2-FB7F-4314-B18A-162B2A41B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0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27DE-9E85-490A-AEE6-FF05FC7B3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1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0B87-5AB3-4CBB-8561-7886757B8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2a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7EF8-F96B-45D2-BE7C-01A7C22D1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3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72EA-ED18-458F-AB17-F9365E322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4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8384-D91D-480B-AAA0-E431CCDB2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5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1283-571E-4012-A15F-EB3A772D4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3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7D07-A186-41E8-A5F0-969EADF2F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4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6D4C-13F9-4282-A277-F4C913D3F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5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3860-D21F-45A4-8D8A-F4A321BC4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6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EE1D-E594-4FAA-8F14-19B0B4624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0778-C9C4-4CF3-9D35-0C20899F6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8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3BB0-DB85-4711-B341-C9825343F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E30-D0BB-42BE-A627-1B8EF955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984-6E4D-4000-8952-7C360EDE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6DA-A700-4576-BD49-235A7B11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F4EB-9E09-46B1-9B35-FFF520A2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29F5-31EE-40A6-99F5-17704FCF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BAB2-EC6F-43F3-80BD-F6095793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870-A19D-41DA-8A35-96BD40AD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DB2-1C3E-4E66-B63E-66A40B32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1A5D-FEA8-47AF-BE0E-D207CBFE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A0F7-7530-4872-9F8B-6A50732F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8DC-B4A3-4E16-A3AE-F2817CFC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CC0-1F4B-4B34-95CC-7EC80E89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11AF-8B90-4EF7-A35A-B0E779BBB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SYSTEMS/JMAP_SOLUTIONS_SOLVING_LINEAR_SYSTEM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QUADRATICS/JMAP_SOLUTIONS_QUADRATIC_FUNCTIONS.doc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741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8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038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81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78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09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02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2971800" y="3276720"/>
            <a:ext cx="304812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1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5257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33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85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4560" cy="5464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1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44000" cy="30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1:07:5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0 Math A Regents Exam</cp:keywords>
  <dc:language>en-US</dc:language>
  <cp:lastModifiedBy>Steve</cp:lastModifiedBy>
  <dcterms:modified xsi:type="dcterms:W3CDTF">2007-07-16T02:48:48Z</dcterms:modified>
  <cp:revision>5</cp:revision>
  <dc:subject/>
  <dc:title>JMAP 0800ExamA Slideshow</dc:title>
</cp:coreProperties>
</file>