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1.wmf" ContentType="image/x-wmf"/>
  <Override PartName="/ppt/media/image41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31.wmf" ContentType="image/x-wmf"/>
  <Override PartName="/ppt/media/image33.wmf" ContentType="image/x-wmf"/>
  <Override PartName="/ppt/media/image12.jpeg" ContentType="image/jpeg"/>
  <Override PartName="/ppt/media/image36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28.wmf" ContentType="image/x-wmf"/>
  <Override PartName="/ppt/media/image3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C0A-4BDC-44BE-A322-B8CBFC81C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8714-CBED-439E-8392-1090EA93C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E8B-1474-4818-B2B3-AF2D43234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C35D-A816-4DC1-81B1-350164397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C3BD-E499-4C55-AB06-FC04313F5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8FD7-796A-40AA-A843-46DA818B7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FEF5-A867-4447-92C1-EB99C408C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054C-3B30-4A1E-B461-F756A2076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C78-8086-4A33-9502-AAB0716D4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E54F-A15D-4E03-A87A-6629EE1DD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D421-186A-449F-AAA0-FB2175774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E752-6A19-4537-88E6-A92F44287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ED9-D1FF-42FC-B62A-B014ED6DC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000-AFF2-4CCA-9035-2BB72677C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2181-0841-4EC7-B409-3D21917E4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BE5-98BF-468C-9649-8904AB8D7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9693-2F9F-4528-8C68-EE14274E9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502-4858-4F1B-ACBC-EA048D152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DD89-C296-4845-9DBE-3A20CD90A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A18-D0A9-4652-924D-93B64A6AA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54D0-DCE9-48E9-A9DF-D9F5D5E4C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F64-3A1C-4D05-8650-CB789B8D1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CD04-B8C7-4050-B1EE-96F08EE12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30E-A343-4286-BE05-DE4E4E178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F29C-2F9D-46F2-B353-A04300CAA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0C65-4FCF-42AD-845F-AA6559C29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EEF6-3F94-4316-B2D8-B52694B14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310F-386C-4932-A6F7-73EF04659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809-37FC-45F7-882C-D95A2FE60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B5D-634C-489F-A964-6D2F0E976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5F9A-BC2D-4CB9-9D25-FAADEB410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802-941D-4827-898A-011C6AA54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65B-7716-402E-9DBF-987FCAA0F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0D2-C406-4EEA-8463-93FFDF039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43E2-A425-4DBB-9477-E3D96A68E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95F1-04C0-4AE9-94AF-5AFC73CE9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3E9-55E3-4147-932F-6F9F35CE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F47-33F1-4EB4-A276-68773DB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BB1-4A4D-437B-B631-43393D79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DB8-6175-48BE-AA26-42C920E8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F84-88AE-4447-9785-00F4465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F55-9DBA-4DFF-832C-DCC5506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18B-E6B1-4BA2-998A-B7745755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0AC-8415-4108-AE2A-BEF6360F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204-B001-4F75-9EE0-CB893D57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F6F-E486-4498-B201-36B5890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C68-96EA-4BB1-A242-AA9361D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CE6-890B-4616-8C3B-1A87AFA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DEC-3CE0-4AB9-8380-6272A4C64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62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4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14" descr=""/>
          <p:cNvPicPr/>
          <p:nvPr/>
        </p:nvPicPr>
        <p:blipFill>
          <a:blip r:embed="rId1"/>
          <a:stretch/>
        </p:blipFill>
        <p:spPr>
          <a:xfrm>
            <a:off x="0" y="163440"/>
            <a:ext cx="9109080" cy="650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66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119160"/>
            <a:ext cx="9013680" cy="670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40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6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1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47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7 Math A Regents Exam</cp:keywords>
  <dc:language>en-US</dc:language>
  <cp:lastModifiedBy>Steve</cp:lastModifiedBy>
  <dcterms:modified xsi:type="dcterms:W3CDTF">2007-07-16T02:54:31Z</dcterms:modified>
  <cp:revision>4</cp:revision>
  <dc:subject/>
  <dc:title>JMAP 0107ExamB Slideshow</dc:title>
</cp:coreProperties>
</file>