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wmf" ContentType="image/x-wmf"/>
  <Override PartName="/ppt/media/image3.jpeg" ContentType="image/jpeg"/>
  <Override PartName="/ppt/media/image26.wmf" ContentType="image/x-wmf"/>
  <Override PartName="/ppt/media/image24.wmf" ContentType="image/x-wmf"/>
  <Override PartName="/ppt/media/image22.wmf" ContentType="image/x-wmf"/>
  <Override PartName="/ppt/media/image21.png" ContentType="image/png"/>
  <Override PartName="/ppt/media/image17.wmf" ContentType="image/x-wmf"/>
  <Override PartName="/ppt/media/image16.wmf" ContentType="image/x-wmf"/>
  <Override PartName="/ppt/media/image14.jpeg" ContentType="image/jpeg"/>
  <Override PartName="/ppt/media/image15.wmf" ContentType="image/x-wmf"/>
  <Override PartName="/ppt/media/image1.jpeg" ContentType="image/jpeg"/>
  <Override PartName="/ppt/media/image27.wmf" ContentType="image/x-wmf"/>
  <Override PartName="/ppt/media/image4.wmf" ContentType="image/x-wmf"/>
  <Override PartName="/ppt/media/image34.wmf" ContentType="image/x-wmf"/>
  <Override PartName="/ppt/media/image10.wmf" ContentType="image/x-wmf"/>
  <Override PartName="/ppt/media/image33.wmf" ContentType="image/x-wmf"/>
  <Override PartName="/ppt/media/image23.wmf" ContentType="image/x-wmf"/>
  <Override PartName="/ppt/media/image9.jpeg" ContentType="image/jpeg"/>
  <Override PartName="/ppt/media/image35.wmf" ContentType="image/x-wmf"/>
  <Override PartName="/ppt/media/image37.png" ContentType="image/png"/>
  <Override PartName="/ppt/media/image40.wmf" ContentType="image/x-wmf"/>
  <Override PartName="/ppt/media/image8.wmf" ContentType="image/x-wmf"/>
  <Override PartName="/ppt/media/image38.wmf" ContentType="image/x-wmf"/>
  <Override PartName="/ppt/media/image39.wmf" ContentType="image/x-wmf"/>
  <Override PartName="/ppt/media/image41.wmf" ContentType="image/x-wmf"/>
  <Override PartName="/ppt/media/image30.wmf" ContentType="image/x-wmf"/>
  <Override PartName="/ppt/media/image42.wmf" ContentType="image/x-wmf"/>
  <Override PartName="/ppt/media/image31.wmf" ContentType="image/x-wmf"/>
  <Override PartName="/ppt/media/image19.jpeg" ContentType="image/jpeg"/>
  <Override PartName="/ppt/media/image29.wmf" ContentType="image/x-wmf"/>
  <Override PartName="/ppt/media/image43.wmf" ContentType="image/x-wmf"/>
  <Override PartName="/ppt/media/image13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36.wmf" ContentType="image/x-wmf"/>
  <Override PartName="/ppt/media/image11.wmf" ContentType="image/x-wmf"/>
  <Override PartName="/ppt/media/image5.jpeg" ContentType="image/jpeg"/>
  <Override PartName="/ppt/media/image18.wmf" ContentType="image/x-wmf"/>
  <Override PartName="/ppt/media/image20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B7B76-0513-441C-86EA-0AE41B1909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98750-C549-4A53-9AB8-5CC46A36CA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109b  GRAPHS AND STATISTICS: Correlation Coeffici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C0489-582F-42C6-BF9C-1C96B8F6A7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110b  CONICS: Equations of Cir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5C141-1F47-4F87-997D-B140805FD8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111b  NUMBERS OPERATIONS AND PROPERTIES: Complex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6A09E-D219-467C-9AE6-50F800A35B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112b  RATIONALS: Complex Fra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32E86-7FB5-4418-986F-DC484408A1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113b  FUNCTIONS: Modeling Relationshi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B184E-5043-4A14-B790-45AEC08D01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114b  GRAPHS AND STATISTICS: Relating Graphs to Ev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C30D2-A0A8-4C9F-A074-4A5BBBA945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115b  FUNCTIONS: Inverse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CF168-CB69-4A03-B9D9-F79D31E481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116b  RATE: Spe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1E6B7-2917-4CC2-9E27-664C976381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117b  NUMBERS OPERATIONS AND PROPERTIES: Summ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9C21A-0AE8-45FE-ABD0-4F0146B160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118b  ANGLES:  Unit_Cir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60701-6774-49DB-9AF6-ED893935EE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101b  QUADRATICS: Minimum and Maximum of Quadrat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1537D-9958-455D-ABFE-6471E540E9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119b  TRIANGLES: Using Trigonometry to Solve Triangle Inequal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AB1A2-6A07-4CEC-805B-BED460A069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120b  ANGLES: Radian Meas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B92C7-152A-411C-89FD-C6067A7A9B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121b  TRIANGLES: Using Trigonometry to Find 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CF19C-FDFB-4CF5-B2A9-3E28A2A45D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122b  PROBABILITY: Binomial Probabil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11786-D049-4DF9-BC9C-85F739DC97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123b  SYSTEMS: Writing Systems of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EACC4-C1A8-4D36-A839-B4AE4BB412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124b  RATIONALS: Multiplication and Division of Ration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22956-CDC5-4747-BEE2-88DD1F97B2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125b  POWERS: Logarithmic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34006-2BEA-4D9D-86D3-5D32F13593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126b  GRAPHS AND STATISTICS: Normal Distrib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414AF-9620-4032-A5E7-D9367E4549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127b  TRIANGLES: Law of Cos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238A7-FF22-47A5-8D89-10CE40DADD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128b  OTHER POLYGONS: Perimeter and Area of Other Polyg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DA725-128B-4360-9CDD-9E80213290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102b  POWERS: Logarithmic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81F8C-C40C-49AD-88BB-D8DDAFA93A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129b  TRANSFORMATIONS: Transl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FE83D-F5BF-4E07-8A26-EC9646D5F8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130b  FUNCTIONS: Inverse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1D6A7-A809-4E47-BCF1-7248F3FC33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131b  ANGLES: Solving Trigonometric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A5951-8959-4674-A8FD-7C711162D5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132b  CONICS: Chords, Secants and Tang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23DC3-61DB-47A5-A098-58519B8E65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133b  LOGIC: Proof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D9209-9C02-4945-8764-FF632596EF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134b  GRAPHS AND STATISTICS: Regre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5D3B2-2392-4849-B498-5ED17AED3E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103b  QUADRATICS: Using the Discrimin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E85BF-1EBF-4C06-A0C6-727100C56F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104b  RATIONALS: Inverse Var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4E12A-A1C6-4933-9181-EEF60968CF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105b  ANGLES: Trigonometric Grap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75304-7CCA-4E9E-94EB-C642B890FA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106b  CONICS: Circumference and 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056B5-137D-4FE8-86C9-AA12FDA3C1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107b  INEQUALITIES: Absolute Value Inequal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9CA32-5224-4E71-A9AA-3C73BBA234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108b  NUMBERS OPERATIONS AND PROPERTIES: Complex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E15E9-F7E9-4126-AD51-612EA6E34F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78F1-4519-421F-BF5F-B23869409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F624-7801-4EA7-AB22-BB3AD439D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2B8F-19D0-47C2-B1F7-E8C131A68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171A-FB10-42A8-A712-9485AB84E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BC50-BD63-463E-9EFB-F8C52AE47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F29A-2727-420F-A732-BCEFD274A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2C54-EDE8-47BC-9092-0F365895B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EBC1-E6A3-4690-B269-CBBA40309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0F3C-5761-4FFF-B2F4-27DA90D27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4AE2-F798-4254-87B9-1EE69247E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B117-3BEA-498B-9832-9D093006F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4716-A90E-4439-8D82-9C2BA135C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4C7C5-6CBC-453A-A500-F9BF16120D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hyperlink" Target="http://www.jmap.org/JMAP/JMAPSolutions/GRAPHS_AND_STATISTICS/JMAP_SOLUTIONS_CORRELATION_COEFFICIENT.doc" TargetMode="External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hyperlink" Target="http://www.jmap.org/JMAP/JMAPSolutions/NUMBERS_OPERATIONS_AND_PROPERTIES/JMAP_SOLUTIONS_COMPLEX_NUMBERS.doc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hyperlink" Target="http://www.jmap.org/JMAP/JMAPSolutions/RATIONALS/JMAP_SOLUTIONS_COMPLEX_FRACTIONS.doc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hyperlink" Target="http://www.jmap.org/JMAP/JMAPSolutions/FUNCTIONS/JMAP_SOLUTIONS_MODELING_RELATIONSHIPS.doc" TargetMode="External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png"/><Relationship Id="rId3" Type="http://schemas.openxmlformats.org/officeDocument/2006/relationships/hyperlink" Target="http://www.jmap.org/JMAP/JMAPSolutions/GRAPHS_AND_STATISTICS/JMAP_SOLUTIONS_RELATING_GRAPHS_TO_EVENT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hyperlink" Target="http://www.jmap.org/JMAP/JMAPSolutions/FUNCTIONS/JMAP_SOLUTIONS_INVERSE_OF_FUNCTONS.doc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hyperlink" Target="http://www.jmap.org/JMAP/JMAPSolutions/RATE/JMAP_SOLUTIONS_SPEED.doc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hyperlink" Target="http://www.jmap.org/JMAP/JMAPSolutions/NUMBERS_OPERATIONS_AND_PROPERTIES/JMAP_SOLUTIONS_SUMMATIONS.doc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hyperlink" Target="http://www.jmap.org/JMAP/JMAPSolutions/ANGLES/JMAP_SOLUTIONS_UNIT_CIRCLE.doc" TargetMode="External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http://www.jmap.org/JMAP/JMAPSolutions/QUADRATICS/JMAP_SOLUTIONS_MINIMUM_AND_MAXIMUM_OF_QUADRATIC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hyperlink" Target="http://www.jmap.org/JMAP/JMAPSolutions/ANGLES/JMAP_SOLUTIONS_RADIAN_MEASURE.doc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hyperlink" Target="http://www.jmap.org/JMAP/JMAPSolutions/PROBABILITY/JMAP_SOLUTIONS_BINOMIAL_PROBABIILITY.doc" TargetMode="External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hyperlink" Target="http://www.jmap.org/JMAP/JMAPSolutions/SYSTEMS/JMAP_SOLUTIONS_WRITING_LINEAR_SYSTEMS.doc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hyperlink" Target="http://www.jmap.org/JMAP/JMAPSolutions/RATIONALS/JMAP_SOLUTIONS_MULTIPLICATION_AND_DIVISION_OF_RATIONALS.doc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hyperlink" Target="http://www.jmap.org/JMAP/JMAPSolutions/POWERS/JMAP_SOLUTIONS_LOGARITHMIC_EQUATIONS.doc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hyperlink" Target="http://www.jmap.org/JMAP/JMAPSolutions/POWERS/JMAP_SOLUTIONS_LOGARITHMIC_EQUATIONS.doc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hyperlink" Target="http://www.jmap.org/JMAP/JMAPSolutions/QUADRATICS/JMAP_SOLUTIONS_USING_THE_DISCRIMINANT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hyperlink" Target="http://www.jmap.org/JMAP/JMAPSolutions/RATIONALS/JMAP_SOLUTIONS_INVERSE_VARIATION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hyperlink" Target="http://www.jmap.org/JMAP/JMAPSolutions/ANGLES/JMAP_SOLUTIONS_TRIGONOMETRIC_GRAPHS.doc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hyperlink" Target="http://www.jmap.org/JMAP/JMAPSolutions/INEQUALITIES/JMAP_SOLUTIONS_ABSOLUTE_VALUE_INEQUALITIES.doc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hyperlink" Target="http://www.jmap.org/JMAP/JMAPSolutions/NUMBERS_OPERATIONS_AND_PROPERTIES/JMAP_SOLUTIONS_COMPLEX_NUMBERS.doc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/>
          <p:cNvPicPr/>
          <p:nvPr/>
        </p:nvPicPr>
        <p:blipFill>
          <a:blip r:embed="rId1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thematics B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June 200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43974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31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9987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4572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43848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97720" y="5791320"/>
            <a:ext cx="7462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Object 2" descr=""/>
          <p:cNvPicPr/>
          <p:nvPr/>
        </p:nvPicPr>
        <p:blipFill>
          <a:blip r:embed="rId1"/>
          <a:stretch/>
        </p:blipFill>
        <p:spPr>
          <a:xfrm>
            <a:off x="-2133720" y="0"/>
            <a:ext cx="8991720" cy="51166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"/>
          <p:cNvPicPr/>
          <p:nvPr/>
        </p:nvPicPr>
        <p:blipFill>
          <a:blip r:embed="rId2"/>
          <a:stretch/>
        </p:blipFill>
        <p:spPr>
          <a:xfrm>
            <a:off x="4800600" y="533520"/>
            <a:ext cx="2930400" cy="27432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3335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42670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39240" cy="16178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1049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276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36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8288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2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13680" cy="25909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133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9625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7339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3511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6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8915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41371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13680" cy="55627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" descr=""/>
          <p:cNvPicPr/>
          <p:nvPr/>
        </p:nvPicPr>
        <p:blipFill>
          <a:blip r:embed="rId2"/>
          <a:stretch/>
        </p:blipFill>
        <p:spPr>
          <a:xfrm>
            <a:off x="4876920" y="1828800"/>
            <a:ext cx="40622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Object 2" descr=""/>
          <p:cNvPicPr/>
          <p:nvPr/>
        </p:nvPicPr>
        <p:blipFill>
          <a:blip r:embed="rId1"/>
          <a:stretch/>
        </p:blipFill>
        <p:spPr>
          <a:xfrm>
            <a:off x="914400" y="25560"/>
            <a:ext cx="7315200" cy="68054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9907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4191120"/>
          </a:xfrm>
          <a:prstGeom prst="rect">
            <a:avLst/>
          </a:prstGeom>
          <a:ln w="0">
            <a:noFill/>
          </a:ln>
        </p:spPr>
      </p:pic>
      <p:pic>
        <p:nvPicPr>
          <p:cNvPr id="110" name="Object 3" descr=""/>
          <p:cNvPicPr/>
          <p:nvPr/>
        </p:nvPicPr>
        <p:blipFill>
          <a:blip r:embed="rId2"/>
          <a:stretch/>
        </p:blipFill>
        <p:spPr>
          <a:xfrm>
            <a:off x="0" y="4419720"/>
            <a:ext cx="9144000" cy="29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52689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1892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5053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39240" cy="30700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6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2096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Object 2" descr=""/>
          <p:cNvPicPr/>
          <p:nvPr/>
        </p:nvPicPr>
        <p:blipFill>
          <a:blip r:embed="rId1"/>
          <a:stretch/>
        </p:blipFill>
        <p:spPr>
          <a:xfrm>
            <a:off x="0" y="-33480"/>
            <a:ext cx="9013680" cy="68691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4T15:55:24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cp:keywords>June 2001 Math B Regents Exam</cp:keywords>
  <dc:language>en-US</dc:language>
  <cp:lastModifiedBy>Steve</cp:lastModifiedBy>
  <dcterms:modified xsi:type="dcterms:W3CDTF">2007-07-16T02:54:50Z</dcterms:modified>
  <cp:revision>4</cp:revision>
  <dc:subject/>
  <dc:title>JMAP 0601ExamB Slideshow</dc:title>
</cp:coreProperties>
</file>