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2.wmf" ContentType="image/x-wmf"/>
  <Override PartName="/ppt/media/image40.wmf" ContentType="image/x-wmf"/>
  <Override PartName="/ppt/media/image10.jpeg" ContentType="image/jpeg"/>
  <Override PartName="/ppt/media/image13.wmf" ContentType="image/x-wmf"/>
  <Override PartName="/ppt/media/image30.wmf" ContentType="image/x-wmf"/>
  <Override PartName="/ppt/media/image31.wmf" ContentType="image/x-wmf"/>
  <Override PartName="/ppt/media/image29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5.wmf" ContentType="image/x-wmf"/>
  <Override PartName="/ppt/media/image27.wmf" ContentType="image/x-wmf"/>
  <Override PartName="/ppt/media/image39.jpeg" ContentType="image/jpeg"/>
  <Override PartName="/ppt/media/image41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2D99-595E-4410-9BBC-0AB64AC6D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3793-1E3B-44D9-9112-CEAA616BE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9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AE04-53BE-4CD0-8BF1-A66AF52DE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0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C758-BC83-4FDE-8E6C-0DBB2C29A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1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1D7A-42A8-4E7B-BA4E-AB72A07A7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2b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BA87-3E69-44D7-9580-7B590227D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3b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4716-8BBA-4EAB-AB6F-3F73EF8FD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4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C54D-E2D3-4EEE-B28C-278858062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5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598F-8242-4754-99BF-84614EC05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6b  EQUATIONS: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C28B-3488-4B62-A106-2B2F7832E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7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B028-6D8A-40FC-9A43-F83604657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8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86BE-3F53-46B6-986D-6D5B0CD4F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1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76B0-7823-4CB6-86B2-68EDC2B0B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9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A1C7-DAA3-40B9-9B6F-358AE37DA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0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CFBC-0CC0-42F1-ADDC-9A998C2C6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1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89AC-F4B1-4360-9D8D-BB38DB009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2b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E351-3E2B-4D25-81FF-8547C82E1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3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86EB-4CBB-4AF8-805F-BAD6D1735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4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20B0-F99C-4E15-8340-62D039934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5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98E0-B7DD-4524-8606-73E1C6921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6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4F82-DDEF-4393-845B-60A0DE097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7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1579-E10B-409D-BB15-861EE87E6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8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B4B0-36CD-4FD3-B0A5-1D423AF8C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2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1FF5-9D6B-46A8-B9D3-D43FC739E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9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6739-242E-4E7F-82E7-F39DE6FAB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0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DDF4-1BF9-4D26-94DA-83FC7BF2D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1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678F-04A7-43A3-B679-1A08549F8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7B81-918D-4B72-AC9C-50EE14997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FE38-EB37-44A0-AAE7-6F82BEF92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4b  QUADRATICS: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F4B4-9D9E-4565-8E0B-429EBA730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3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F751-3B0F-4B39-AA2A-B8DCB40C7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4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8CFA-E17B-4824-AB40-6BC04CFD5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5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ACE3-36A9-44B5-B77E-DFD390044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6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7284-A51B-4062-80AA-8224523EE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7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7A24-B096-4CE6-90C8-5AC79BBE1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8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044A-B412-4576-B946-9EE99D302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7B5-67D5-46D3-8240-56398DEB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217-18A6-49F0-BE48-EE05925B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592-6D5E-456B-95A1-2CC0F752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B2B-2470-4024-8ED1-3168D0F6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1C4-6957-45ED-A7F0-3AB8CF47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D0D-6D52-4FC6-896E-EE94A377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6B5-6C32-4FF7-8DE3-9D761102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B88B-5218-4872-BC88-527CDA55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091-0E1E-4837-B530-B47A4761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0C4-10A2-4DDB-991F-B1B3C9E1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1EF-CFB6-4D51-873A-841A693B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990-5C03-4004-A2C4-4535BE7F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D9FA-72CC-43CE-BB0F-5128679C8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EQUATIONS/JMAP_SOLUTIONS_ABSOLUTE_VALUE_EQU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OWERS/JMAP_SOLUTIONS_LOGARITHMIC_EQUATIONS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DICALS/JMAP_SOLUTIONS_SOLVING_RADICAL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QUADRATICS/JMAP_SOLUTIONS_MINIMUM_AND_MAXIMUM_OF_QUADRATIC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4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26640" cy="558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2298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57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87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53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960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76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05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144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7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74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7205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944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73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91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01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8:39:3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6 Math A Regents Exam</cp:keywords>
  <dc:language>en-US</dc:language>
  <cp:lastModifiedBy>Steve</cp:lastModifiedBy>
  <dcterms:modified xsi:type="dcterms:W3CDTF">2007-07-16T02:58:57Z</dcterms:modified>
  <cp:revision>4</cp:revision>
  <dc:subject/>
  <dc:title>JMAP 0806ExamB Slideshow</dc:title>
</cp:coreProperties>
</file>