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3.jpeg" ContentType="image/jpeg"/>
  <Override PartName="/ppt/media/image13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28.jpeg" ContentType="image/jpeg"/>
  <Override PartName="/ppt/media/image9.jpeg" ContentType="image/jpeg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2.jpeg" ContentType="image/jpeg"/>
  <Override PartName="/ppt/media/image45.wmf" ContentType="image/x-wmf"/>
  <Override PartName="/ppt/media/image46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0.wmf" ContentType="image/x-wmf"/>
  <Override PartName="/ppt/media/image47.wmf" ContentType="image/x-wmf"/>
  <Override PartName="/ppt/media/image5.wmf" ContentType="image/x-wmf"/>
  <Override PartName="/ppt/media/image35.wmf" ContentType="image/x-wmf"/>
  <Override PartName="/ppt/media/image3.jpeg" ContentType="image/jpeg"/>
  <Override PartName="/ppt/media/image2.wmf" ContentType="image/x-wmf"/>
  <Override PartName="/ppt/media/image3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EB9-CB8A-4991-9F35-0BEB17BE9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4F2D-BC2A-4CDC-9EA8-CE8F0E020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181F-3D1A-4B97-B528-7BFBF8125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8F49-FC0E-4BA6-8057-44F9B2A17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068B-0F44-414A-967C-3A7643AC9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8677-DF7A-49AD-AEAC-E045D29BE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766-1FFB-490D-9533-A86626CD6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C91A-40CB-45EC-A932-A25F049B2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C9F-D326-4E38-9418-CEE59451F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D881-1E96-42FE-AF2D-326AE3967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a 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73C-8607-4BB7-817C-B2B7B51E0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446-128C-424F-8045-8B401844E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6B1-9A29-4FE9-A81A-BA0F94B6C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1F0B-A07E-412E-99D5-7DFBA6FED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0E4E-077F-4C9A-830B-C8879F4F8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225-3916-43B6-90D0-DF6490038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31C-45D0-490B-9906-02B699C3A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FF5F-D4A6-41A3-929D-E11F83C43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8FFE-453F-48B8-AC06-1AE025F27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269F-E58E-4AB1-954A-D14D6FF8B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554-11D4-4AF3-B0FB-62EA734BF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08EC-45EA-483A-BEBD-F3D624874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DAB-4B00-4492-BF76-28BF1F442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C456-6593-4A12-895E-024D59C27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F36-7540-4089-AD85-F428DF76F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521-1CBA-4857-846B-CFFCB5964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7B0B-0433-4145-A435-E57457F26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6935-AB65-4207-B8BE-3EF0C368F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617D-24C4-435E-A6AA-47FA4B7C0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8B9-0506-40CC-A037-1E4D48649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5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A8CB-AEE6-4142-8ED0-7CB1B933C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F14B-8018-42A1-B6FA-38D4FDA48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7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D7C6-2F1B-46B9-8468-701E0A376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0266-8107-43F1-BD52-526A26AA3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BF3-1FDC-4521-BE35-A4B2FF1A6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ECA4-BD8D-4E09-BDD4-23F5F55D6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6A1C-A9F7-4E0F-9347-A5C88294D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761E-2F4F-48C0-B7B3-34FAB13A4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4CF3-20EC-4ABC-8978-667F0851E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8F2-5E2C-40AF-97CA-0E57D6C79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9100-90CC-4B93-B69F-8CE1E540F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E7F-073C-43F9-A83D-DFF9AA39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53A-E339-469E-9941-CF1951E3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ED4-C303-4D1E-9570-6916135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F84-6F4F-4D8E-A175-4B50399F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194-A933-4607-8B3D-96217776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28A-F49B-45F2-A774-0143616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439-60BE-448A-B44B-4737E6E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E00-D2FA-4DB6-9B1A-9922F35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0E5-8A9C-44D5-B670-B6B54A4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4BD-422D-4F28-918C-844CF70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C2D-655E-4215-8E01-7FD1C52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705-D326-491F-AEBD-34097C23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0334-2DA8-4F69-B5D9-C49F42A08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9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6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8815320" cy="30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5105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5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246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81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116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79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7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0" y="0"/>
          <a:ext cx="914400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58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6 Math A Regents Exam</cp:keywords>
  <dc:language>en-US</dc:language>
  <cp:lastModifiedBy>Steve</cp:lastModifiedBy>
  <dcterms:modified xsi:type="dcterms:W3CDTF">2007-07-16T02:47:37Z</dcterms:modified>
  <cp:revision>4</cp:revision>
  <dc:subject/>
  <dc:title>JMAP 0606ExamA Slideshow</dc:title>
</cp:coreProperties>
</file>