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30.wmf" ContentType="image/x-wmf"/>
  <Override PartName="/ppt/media/image32.jpeg" ContentType="image/jpeg"/>
  <Override PartName="/ppt/media/image18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7.png" ContentType="image/png"/>
  <Override PartName="/ppt/media/image40.wmf" ContentType="image/x-wmf"/>
  <Override PartName="/ppt/media/image41.wmf" ContentType="image/x-wmf"/>
  <Override PartName="/ppt/media/image42.png" ContentType="image/png"/>
  <Override PartName="/ppt/media/image2.wmf" ContentType="image/x-wmf"/>
  <Override PartName="/ppt/media/image25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46.wmf" ContentType="image/x-wmf"/>
  <Override PartName="/ppt/media/image5.jpeg" ContentType="image/jpeg"/>
  <Override PartName="/ppt/media/image11.wmf" ContentType="image/x-wmf"/>
  <Override PartName="/ppt/media/image7.jpeg" ContentType="image/jpeg"/>
  <Override PartName="/ppt/media/image31.wmf" ContentType="image/x-wmf"/>
  <Override PartName="/ppt/media/image29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EC1F-5583-4B6C-847A-E43E02E7B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622-3CFB-4406-858F-4F54D3A35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8EE4-2F40-47C0-9580-8E0F4C1FE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F7A5-70A8-44B3-957F-FB5142B56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0077-CFD6-4AC4-9456-9E08C1669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9E79-72D7-434C-8B8C-BD44F6C8F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1036-4FDE-41F6-9490-151F2080C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DAEC-F942-45E0-A8CD-4FF64F026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44CE-984B-4682-B262-3E1B93FCF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E084-9582-48EB-8A43-ECCD68FFA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826-6B97-4516-9C2A-6109560A0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4AC3-9F66-40E4-93F4-0BC13957E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EE75-F803-431E-8147-6D90F516A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DAFE-A050-4940-BF09-ADBF086C1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D77F-F143-430C-9780-39ABFE5A8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CC4F-E90B-4231-B598-0E6A331CA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01D-5193-4A6F-BF55-3BD141E34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DDF2-C842-4094-B071-A71DCB1E0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8549-2553-4925-AE9A-5D0C94EF2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C3C-9430-40A4-B033-4C8AEA48B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9783-6A07-4187-91F7-BFE77280D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C02-FB87-4F3B-A7C7-F1AA9A0D5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2A6E-774B-4EF6-AFDE-AA486FD4C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AD4A-5E8C-472C-94BF-E065A5C87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F3A1-9007-4967-8E68-1CD5050D5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C10F-1DE3-423C-9BA8-AEBE3534A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E3DD-EAF6-459A-BB7B-9B4E5625B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AEF-CE93-4643-B976-C02301127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ECF4-BB35-48B3-A32A-3D0C415CB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2AB-68D3-418D-A73E-8785A3381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CDF8-9852-4ED0-A8C9-EC09BD4C5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D2B1-625D-4378-964C-70969CFE9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533E-6643-4C0D-B2E7-CF4095587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b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644B-73C1-470A-984D-6CF23B273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2D8-8000-43C4-9C5A-C16AABE35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C873-5B1F-49E7-98EA-6471325A2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D56-4A18-4806-8395-BF21A698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762-4EF9-48DE-9120-CA2FCDDC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529-1C56-4421-B7DF-CD18372B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4B4-B161-4EC0-9510-98DAA6F6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514-56F3-4153-92AC-56ED677F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15D-CF36-4492-A3AB-FF6F87DE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916-0459-4073-B07F-E9F593C4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946-1576-49E9-B28C-31DE8562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663-F2C6-472F-BF4F-CE1EE7E2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54F-D5F4-4C48-A6F1-8C91C97E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0E1-95A8-45F5-BD03-F60FB07F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B5E-994A-4DE2-8C68-0E7BEA3E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05C-8E6E-47DC-9AF1-D799514C7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40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3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47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8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20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468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83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962520" y="457200"/>
            <a:ext cx="4419360" cy="44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266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9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581640" cy="359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03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393920" cy="14317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4" descr=""/>
          <p:cNvPicPr/>
          <p:nvPr/>
        </p:nvPicPr>
        <p:blipFill>
          <a:blip r:embed="rId3"/>
          <a:stretch/>
        </p:blipFill>
        <p:spPr>
          <a:xfrm>
            <a:off x="0" y="297180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3124080" y="3429000"/>
            <a:ext cx="2590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33:5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4 Math A Regents Exam</cp:keywords>
  <dc:language>en-US</dc:language>
  <cp:lastModifiedBy>Steve</cp:lastModifiedBy>
  <dcterms:modified xsi:type="dcterms:W3CDTF">2007-07-16T02:55:56Z</dcterms:modified>
  <cp:revision>4</cp:revision>
  <dc:subject/>
  <dc:title>JMAP 0604ExamB Slideshow</dc:title>
</cp:coreProperties>
</file>