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26.png" ContentType="image/png"/>
  <Override PartName="/ppt/media/image11.wmf" ContentType="image/x-wmf"/>
  <Override PartName="/ppt/media/image30.wmf" ContentType="image/x-wmf"/>
  <Override PartName="/ppt/media/image33.wmf" ContentType="image/x-wmf"/>
  <Override PartName="/ppt/media/image36.wmf" ContentType="image/x-wmf"/>
  <Override PartName="/ppt/media/image37.png" ContentType="image/png"/>
  <Override PartName="/ppt/media/image10.jpeg" ContentType="image/jpeg"/>
  <Override PartName="/ppt/media/image38.wmf" ContentType="image/x-wmf"/>
  <Override PartName="/ppt/media/image40.png" ContentType="image/png"/>
  <Override PartName="/ppt/media/image42.png" ContentType="image/png"/>
  <Override PartName="/ppt/media/image25.wmf" ContentType="image/x-wmf"/>
  <Override PartName="/ppt/media/image31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8.jpeg" ContentType="image/jpeg"/>
  <Override PartName="/ppt/media/image4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82D-3EF8-430D-BAB5-2238260A0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824A-A8D0-4E72-9531-D878DFB9B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EC0-78D9-4A34-B10D-F809FB5FA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48A-48C2-406D-9E5A-5B2BE9376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5CA-DD98-480D-974E-9DD708573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271-2C78-4519-98C3-2D9EDFCB9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6913-95A7-4FB0-950F-A1A656479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2E2-234B-446D-86A2-4E4B753AF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DC3E-6124-41D3-800E-E9A011E77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2BC9-1948-4595-9760-40904F7FD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600D-D792-4191-874C-F07C93873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7F0-80B1-49C9-92F8-F7EAB000D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B9B6-5672-424B-B2A1-7916A3BA1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D07-B9A3-487B-A902-50D359BD1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573-2FB5-482A-8B66-1920F6E6B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67A-8989-41A1-8BCA-87511F854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B31-41D5-4647-9029-A76B493D4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127-19F2-44BF-9E12-DE5E29C39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AE6-641C-42AC-8E3D-6D4B44820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2E6-601F-477C-AD4A-11AEE9B1B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BB49-7C5E-4F5A-B5E9-1E6A7C73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7E85-6CFB-4CC4-8F32-BE59B7E19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1649-99C7-4271-A3CC-DBCCA3375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326-D665-42CC-955B-6BFA7A9B1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67A3-A97C-4816-A4BB-851C39629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1DFC-68E5-40C6-B258-FF3317410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0E2E-D45E-4970-8D47-69CEF6769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6BB3-DD06-492C-9888-1B14454DE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B31-6DC7-41F3-8C15-81BEB62B3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812-3D6C-49F0-B39D-F0BF159C6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F209-D095-4179-8D7A-6D251364D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0174-4E03-482E-BC63-CDA12E988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236-A0AB-4FDD-84AE-B1E6DE90C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A31-614E-447D-BC9C-267AECE03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E735-1C1C-417F-B7A4-C7A41F87C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95F-657E-4350-A1B6-1466ABA29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97B-645F-492C-A672-9CDDF7C6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AAD-5E05-4B28-9191-FC34923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89E-9AE9-4438-9D90-2A0A383F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D58-BDAB-43F6-BEE0-1CF4BC2A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778-8C3C-479C-AF3F-51B1D2B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54F-F899-49D9-BC98-6C799F8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E0F-185E-46E2-AB61-F62918F5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937-0F5D-41CE-B52B-25B8381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7CC-9666-4796-B481-108FABD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8E6-B56C-4594-9F6C-CF628DC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5B8-225D-479D-ADE9-3C3FFFA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79B-6D4D-4EC9-B9DF-E480497D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609-C569-48CD-AF4E-6ACFF0FBB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hyperlink" Target="http://www.jmap.org/JMAP/JMAPSolutions/POWERS/JMAP_SOLUTIONS_LOGARITHMIC_EQUATIONS.doc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4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3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514600" y="79200"/>
            <a:ext cx="443556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3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2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7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4578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1066680" y="0"/>
            <a:ext cx="8966160" cy="4973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2946240" cy="296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5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09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2 Math A Regents Exam</cp:keywords>
  <dc:language>en-US</dc:language>
  <cp:lastModifiedBy>Steve</cp:lastModifiedBy>
  <dcterms:modified xsi:type="dcterms:W3CDTF">2007-07-16T02:57:38Z</dcterms:modified>
  <cp:revision>5</cp:revision>
  <dc:subject/>
  <dc:title>JMAP 0802ExamB Slideshow</dc:title>
</cp:coreProperties>
</file>