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6.jpeg" ContentType="image/jpeg"/>
  <Override PartName="/ppt/media/image42.png" ContentType="image/png"/>
  <Override PartName="/ppt/media/image20.wmf" ContentType="image/x-wmf"/>
  <Override PartName="/ppt/media/image18.wmf" ContentType="image/x-wmf"/>
  <Override PartName="/ppt/media/image36.jpeg" ContentType="image/jpeg"/>
  <Override PartName="/ppt/media/image17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13.wmf" ContentType="image/x-wmf"/>
  <Override PartName="/ppt/media/image10.jpeg" ContentType="image/jpeg"/>
  <Override PartName="/ppt/media/image41.wmf" ContentType="image/x-wmf"/>
  <Override PartName="/ppt/media/image8.jpeg" ContentType="image/jpeg"/>
  <Override PartName="/ppt/media/image31.wmf" ContentType="image/x-wmf"/>
  <Override PartName="/ppt/media/image6.wmf" ContentType="image/x-wmf"/>
  <Override PartName="/ppt/media/image29.wmf" ContentType="image/x-wmf"/>
  <Override PartName="/ppt/media/image33.wmf" ContentType="image/x-wmf"/>
  <Override PartName="/ppt/media/image9.wmf" ContentType="image/x-wmf"/>
  <Override PartName="/ppt/media/image38.wmf" ContentType="image/x-wmf"/>
  <Override PartName="/ppt/media/image40.wmf" ContentType="image/x-wmf"/>
  <Override PartName="/ppt/media/image39.png" ContentType="image/png"/>
  <Override PartName="/ppt/media/image30.wmf" ContentType="image/x-wmf"/>
  <Override PartName="/ppt/media/image43.png" ContentType="image/png"/>
  <Override PartName="/ppt/media/image44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E1D1-09D4-48F2-8DC7-83FB186C37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7599-F343-4ACB-B1CC-2B4AFDEAAF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9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2D89-23E0-4CD1-B51C-148EC3A611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0b  CONICS: Equation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BC69-857B-4E68-B39B-5CA763E646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1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AE74-9D43-4CF2-8882-E33462DF18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2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0211-1607-4E25-A91E-724F7EEB87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3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8A2D-8C8A-4467-BE54-1CD5745BF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4b  FUNCTIONS: Graph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F386-96A3-49C0-AA3B-965ABA439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5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7E9D-8E25-441B-B44E-1DEFD2CF19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6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6A35-95AC-4B51-8B98-3332F05961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7b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7D4E-F295-4DD3-AC25-467761570F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8b  ANGLES: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6B49-08E7-4907-94CF-87255B1ADF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1b  ANGLES: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2596-6B30-46B4-8672-13FF84E493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9b  RADICALS: Properties of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F3EA-A926-4F4D-8B33-66F1197524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0b  POWERS: Graphing Logarithm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3352-7132-4A71-A04D-4988DC850E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1b  ANGLES: Radian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2F7A-3582-4246-BBFF-C8C9F6E522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2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F436-5097-4337-942C-11D795A1B4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3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F976-8EFD-4BD2-9724-C918C90414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4b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7EDB-A70B-4019-B5D9-8556557A13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5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4635-F6FD-4F94-A46D-D2292DC1CE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6b  TRIANGLES: Using Trigonometry to Solve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4B14-115D-49BC-BCF7-B324A49001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7b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08FB-19F2-4F1E-A760-50C9BC9D16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8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5D2A-0981-418D-96D8-C215B2CDB3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2b  ANGLES: Trigonometric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428E-657B-46F2-88F3-51FFD035BD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9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E3A9-D28C-4091-BFD6-A169268737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0b  TRIANGLES: V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F331-8984-4468-B771-8204A076C7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1b  QUADRATICS: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8497-1367-47D6-881B-F57F70AC04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2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C2F1-F7F0-4475-81B8-3CF9A52EA6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3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7D5B-A5CA-4D7A-80FB-B2D7525D5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4b  RATIONALS: Multiplication and Divis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392F-736E-4D72-B078-969EEE1F28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3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8432-50FC-4F3A-BF5F-DEC730724B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4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8B2D-7299-4A61-B45B-DDB1F7DBD3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5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490A-A8A9-419F-B40E-C9B2B1DDBA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6b  GRAPHS AND STATISTICS: Standar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60FD-029A-4A9E-86D9-EB917E233B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7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09EA-5B4D-47CF-9886-F11E751393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8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45BA-2786-427D-8363-66EB52CF06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A281-616A-457C-8EE7-163CF6BF9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D041-DEBB-4258-BE27-D4108C39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021D-6518-47E2-BD0A-3FCB3CA4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3D01-3CC4-4311-BE55-2277DFCB6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0B7E-71E4-4C0B-BEEF-90C86F8F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506E-79DF-4A4B-9CEF-49382B80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AFC2-7BEC-48CC-868D-91AFC6BF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258F-C90F-41EF-83DD-093E5700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7A82-3D51-4E40-8B90-431AFD53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5A20-F3D1-4AB5-AE5C-AE935F5A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9725-F3CA-4A02-9C77-6FAE347C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F652-2D47-477F-B45F-BF1ABC6A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585D-826C-4478-94B5-79FF2F2BA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POWERS/JMAP_SOLUTIONS_PROPERTIES_OF_LOGARITHM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GRAPHS_AND_STATISTICS/JMAP_SOLUTIONS_NORMAL_DISTRIBUTION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POWERS/JMAP_SOLUTIONS_PROPERTIES_OF_LOGARITHM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RADICALS/JMAP_SOLUTIONS_EXPONENTS_AS_RADIC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FUNCTIONS/JMAP_SOLUTIONS_GRAPHING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QUADRATICS/JMAP_SOLUTIONS_USING_THE_DISCRIMINANT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RADICALS/JMAP_SOLUTIONS_PROPERTIES_OF_RADICAL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POWERS/JMAP_SOLUTIONS_GRAPHING_LOGARITHMIC_FUNCTIONS.doc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ANGLES/JMAP_SOLUTIONS_RADIAN_MEASURE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RATIONALS/JMAP_SOLUTIONS_INVERSE_VARI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QUADRATICS/JMAP_SOLUTIONS_MINIMUM_AND_MAXIMUM_OF_QUADRATIC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jmap.org/JMAP/JMAPSolutions/RADICALS/JMAP_SOLUTIONS_SOLVING_RADICAL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www.jmap.org/JMAP/JMAPSolutions/PROBABILITY/JMAP_SOLUTIONS_BINOMIAL_PROBABIILITY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ANGLES/JMAP_SOLUTIONS_TRIGONOMETRIC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ANGLES/JMAP_SOLUTIONS_SOLVING_TRIGONOMETRIC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RADICALS/JMAP_SOLUTIONS_RATIONALIZING_DENOMINATOR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GRAPHS_AND_STATISTICS/JMAP_SOLUTIONS_STANDARD_DEVIATION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FUNCTIONS/JMAP_SOLUTIONS_COMPOSITIONS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anuary 20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419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611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362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733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92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71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267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1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814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160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743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726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717040" y="6248520"/>
            <a:ext cx="4269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060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4384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048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124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512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5181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724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9606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2743200" y="3124080"/>
            <a:ext cx="3551400" cy="3551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960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62120" y="3276720"/>
            <a:ext cx="3446280" cy="3429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>
            <a:off x="4800600" y="3276720"/>
            <a:ext cx="3398760" cy="3398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06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59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952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387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5:19:14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anuary 2004 Math A Regents Exam</cp:keywords>
  <dc:language>en-US</dc:language>
  <cp:lastModifiedBy>Steve</cp:lastModifiedBy>
  <dcterms:modified xsi:type="dcterms:W3CDTF">2007-07-16T02:53:13Z</dcterms:modified>
  <cp:revision>4</cp:revision>
  <dc:subject/>
  <dc:title>JMAP 0104ExamB Slideshow</dc:title>
</cp:coreProperties>
</file>