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jpeg" ContentType="image/jpeg"/>
  <Override PartName="/ppt/media/image35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7.wmf" ContentType="image/x-wmf"/>
  <Override PartName="/ppt/media/image10.wmf" ContentType="image/x-wmf"/>
  <Override PartName="/ppt/media/image46.wmf" ContentType="image/x-wmf"/>
  <Override PartName="/ppt/media/image9.jpeg" ContentType="image/jpeg"/>
  <Override PartName="/ppt/media/image23.wmf" ContentType="image/x-wmf"/>
  <Override PartName="/ppt/media/image13.wmf" ContentType="image/x-wmf"/>
  <Override PartName="/ppt/media/image29.jpeg" ContentType="image/jpeg"/>
  <Override PartName="/ppt/media/image33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49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07CD-1DCB-46D8-9FEB-4C8EF7F95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3139-8AE7-4131-A89D-53C4BAEF2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B183-CC50-4FCE-867D-3416A2F6B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0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228C-FEDB-4849-A9C7-96F8C58F4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1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3465-7547-49CF-867B-D031D5797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2a  NUMBERS OPERATIONS AND PROPERTIES:  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CB28-ABB5-45AB-817E-2ED43F51F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3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ABE8-EC41-4252-A869-6E49FF948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4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A685-CD48-494F-8B49-A8D3B46A5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5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A132-2FBC-496C-934C-2F91BF308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6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09A4-B19B-4741-B142-F45B8D04B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7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DE67-BA62-4F1A-887D-1CEFCBDF7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8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A478-A88D-4723-926C-0BA3A6570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1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BFFD-1F6E-4DCF-8B0C-DC7D546C3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9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D07D-DA55-4DC4-AC5F-F63449F08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0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F9D9-D0C0-4D03-8515-511175845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1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10A4-F073-4E7E-B7DB-5C17FFC99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2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14C0-4735-4C5A-957B-3774FDA71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6305-EFBF-44F6-A324-4066F4389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4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2F6A-26E0-4B90-BF5C-EDF20F18E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35A4-E159-4917-A62D-745D199FE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8187-06ED-47EA-862D-D9D24183F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7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2062-13DE-47D5-ACFC-7B77EB512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8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5632-A11B-41F1-AA31-D7923037D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2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3FAE-B2D0-422D-984F-8A18B8BC2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9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F032-DEF8-4416-95F3-241DD3E8D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0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0AD0-6205-41C5-B4BD-F1B675ABE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1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2852-37B7-42EB-847F-2E946B36A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2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F4AE-C42D-4EF3-A37F-1DAA71556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3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90F9-66D3-4034-B5F7-E4F9B21AB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4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36B6-8D45-4F78-A99B-41E790E16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5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6F38-DE8B-4C82-94F8-D2DE3C1A6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6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3EB9-25B0-4F53-8AC4-3CD31AB0D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7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D027-DD2B-4041-8815-5F2DA13AE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8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47E1-989B-4124-90F8-E92FF16DB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3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3949-87DD-430A-B1F4-55E09DCA9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9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B730-A213-4522-8871-0ED6ED243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4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DD56-C346-4F26-9C05-0EFADED00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B739-7B2A-4554-B59D-72EF1E007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D6F4-8985-4F68-8AFD-A46652C96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7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05AB-6593-4907-A943-4922424C3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EC97-3FD7-4B14-B51A-7BA81B76D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523-5843-4AF3-9B47-816F3688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78F-41EB-4956-ADD3-37E2EB48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54E-77A0-4680-825E-E83375CB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2EC-BAC7-470E-BF77-A2877985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336-1D19-4FD8-8A21-8E3670B6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E26-0BB6-4DB7-9030-A4268DE1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DA4-3DD0-4D7A-9775-103F259F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64F-3FA1-4AE3-9FA3-5AD12F94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B30-49BC-4598-8916-BC83373B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9ED-A89A-46AE-AE99-736BA6F0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E71-E7BC-4525-89E5-4B005AE1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FDC-8B48-49AD-BDD5-3FA3EDF4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1B27-1F41-4059-8A82-AA23D3039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NUMBERS_OPERATIONS_AND_PROPERTIES/JMAP_SOLUTIONS_ORDER_OF_OPER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INEQUALITIES/JMAP_SOLUTIONS_LINEAR_INEQUALITIES_AND_SYSTEM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2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11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4886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08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17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5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8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5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8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9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08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851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895480" y="3276720"/>
            <a:ext cx="32767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ject 3" descr=""/>
          <p:cNvPicPr/>
          <p:nvPr/>
        </p:nvPicPr>
        <p:blipFill>
          <a:blip r:embed="rId1"/>
          <a:stretch/>
        </p:blipFill>
        <p:spPr>
          <a:xfrm>
            <a:off x="-2438280" y="0"/>
            <a:ext cx="9090000" cy="296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83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028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58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8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54:1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6 Math A Regents Exam</cp:keywords>
  <dc:language>en-US</dc:language>
  <cp:lastModifiedBy>Steve</cp:lastModifiedBy>
  <dcterms:modified xsi:type="dcterms:W3CDTF">2007-07-16T02:50:31Z</dcterms:modified>
  <cp:revision>5</cp:revision>
  <dc:subject/>
  <dc:title>JMAP 0806ExamA Slideshow</dc:title>
</cp:coreProperties>
</file>