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9.jpeg" ContentType="image/jpeg"/>
  <Override PartName="/ppt/media/image38.wmf" ContentType="image/x-wmf"/>
  <Override PartName="/ppt/media/image40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0.wmf" ContentType="image/x-wmf"/>
  <Override PartName="/ppt/media/image31.wmf" ContentType="image/x-wmf"/>
  <Override PartName="/ppt/media/image29.wmf" ContentType="image/x-wmf"/>
  <Override PartName="/ppt/media/image35.wmf" ContentType="image/x-wmf"/>
  <Override PartName="/ppt/media/image3.jpeg" ContentType="image/jpeg"/>
  <Override PartName="/ppt/media/image39.wmf" ContentType="image/x-wmf"/>
  <Override PartName="/ppt/media/image41.wmf" ContentType="image/x-wmf"/>
  <Override PartName="/ppt/media/image42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252D-7CA8-4991-B3F2-B7D9F08A5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B0A-B861-4ADC-8411-EE817C37B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ECC9-3C90-41AF-B3F5-2AFEC3E6F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8FAD-C9DB-4C3A-A81D-75ABC57C0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4DA0-4A02-491B-9381-93E998448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686-466B-4258-B1C3-491650F25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3AB-B731-4047-8BE2-4A9AB2971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FE8-78B9-40F7-9A11-F323A2FC1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F2FC-FAD9-453C-BA1C-0F09D000A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543B-635A-4F4C-A522-93808BD6A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00F6-D326-4CD3-B30E-74FFE9E2B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E749-C087-49C0-AE42-FE8FC2B8A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46A-473F-4D8B-8713-3E99D79C9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48B-C5F8-4EBB-A98A-85DBB7C1A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DC27-A5A0-4A7F-99AD-07E866CA1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97B5-1E9C-4811-A66F-C52A63A57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7FB-C7DD-4D67-B24B-B8ADCFB53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6FE-101B-47C5-9A97-8A5230008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D558-2568-45A5-A3EC-A15BD9B0F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1CA-6760-43D8-BC48-49C5F1DCF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0131-30E9-4B85-8812-0A31AD522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3808-032E-45D4-85F2-C6300BCA9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02F3-A5D0-4034-983F-A1A58EB09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67D-320B-4EA7-A1A1-D8503C670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260-2E91-4E6C-A4D6-7502CA07F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9F6-4E3A-42C6-B3B0-D56837C35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1FA0-A249-4E92-8FA1-6D51BD550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D813-460B-4D6C-BEFD-1FDDC27C9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762C-6E9E-41FC-93BB-DFA591B2A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D67-10DA-4B82-8D05-D58883169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330F-4CC6-4896-A582-1F1B47994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D94-B0C1-46F8-86E6-B1A9359B3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6F92-F48A-45B8-844B-0CF4CD950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0233-4418-41F6-940B-09D8DFD87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49F5-08DE-4B45-9F73-4E4E61401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DF1-8269-44D1-8FE5-737A7370F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CC7-44B6-4B8A-B905-1C9F66FE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443-2D05-4AD6-85F1-3859924E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DE8-7818-4B2F-B874-F2763F4F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47E-BC12-4908-8347-B0324B92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48F-F2A4-44F8-BC43-2C00AC28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17E-07E9-446B-8FE0-E9E9151E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9E8-F1DA-49A8-9AC1-4A27B8B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935-52E4-4E37-AF89-AC87F0B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BE1-F166-48D3-8F01-F939118C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B1E-F39E-46A5-A98D-6E4A6812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DB9-3892-4BF7-BDED-9B4F00A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E19-AE9A-4EC8-BAC4-F2F3467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935-D2AF-437B-8100-B9032DA19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RATIONALS/JMAP_SOLUTIONS_INVERSE_VARIAT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8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09080" cy="641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1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5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565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6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111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1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26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0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366408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03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8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46:0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5 Math A Regents Exam</cp:keywords>
  <dc:language>en-US</dc:language>
  <cp:lastModifiedBy>Steve</cp:lastModifiedBy>
  <dcterms:modified xsi:type="dcterms:W3CDTF">2007-07-16T02:56:18Z</dcterms:modified>
  <cp:revision>4</cp:revision>
  <dc:subject/>
  <dc:title>JMAP 0605ExamB Slideshow</dc:title>
</cp:coreProperties>
</file>