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34.jpeg" ContentType="image/jpeg"/>
  <Override PartName="/ppt/media/image40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9.wmf" ContentType="image/x-wmf"/>
  <Override PartName="/ppt/media/image11.wmf" ContentType="image/x-wmf"/>
  <Override PartName="/ppt/media/image48.wmf" ContentType="image/x-wmf"/>
  <Override PartName="/ppt/media/image13.wmf" ContentType="image/x-wmf"/>
  <Override PartName="/ppt/media/image9.jpeg" ContentType="image/jpeg"/>
  <Override PartName="/ppt/media/image23.wmf" ContentType="image/x-wmf"/>
  <Override PartName="/ppt/media/image12.jpeg" ContentType="image/jpeg"/>
  <Override PartName="/ppt/media/image38.wmf" ContentType="image/x-wmf"/>
  <Override PartName="/ppt/media/image4.jpeg" ContentType="image/jpeg"/>
  <Override PartName="/ppt/media/image8.wmf" ContentType="image/x-wmf"/>
  <Override PartName="/ppt/media/image37.wmf" ContentType="image/x-wmf"/>
  <Override PartName="/ppt/media/image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3CCF-406A-4EC8-ABCA-8FCDDA622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F6E1-46B9-4A41-B547-918D96253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9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BDCA-05EB-4387-886B-EFED6B803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0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E438-1410-4CE2-814B-7E8BDA5CB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1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1D8E-077A-4D3E-8EB4-327E26966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2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14C1-B135-452A-81E5-0F868F2F8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2A6E-3E93-4D92-A8C5-5DA86F07D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4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3660-EBFC-4684-AC20-E5572599D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5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EB50-D981-4622-8B10-F6AE8223C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6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C58A-189D-428D-8FCF-D595DECAD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7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F5C3-32F3-42AF-8DE8-282B6A155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8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B656-33E6-4557-9D0E-ADE085333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1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C5F4-D1E0-4EC3-9AC2-96B03B482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9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0A33-90FB-4A0B-BF8E-F0C2F19D2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0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0289-C2CD-4C0F-9E71-B73D7BD3B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1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537E-3B9A-4775-BCB7-6A5838E9E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2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6D35-1AC2-4A8E-BA54-60B7B1503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3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F378-E48E-4548-BFC7-F1023CF05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4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3E63-EF35-4021-B42F-531F451E5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5a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7024-7981-4DB6-826D-BC3B9A65A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6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2AE6-E088-4CBF-9656-3E9FF18D8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7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2565-E58B-438A-8D10-0B3845796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8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D74D-7B68-49F3-BAE3-FFD2BC1F4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2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ABAD-B036-4CC7-A04D-270F20E92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9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5E6D-D4EF-46C9-A76B-8A0D4145D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0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1B4F-5D3C-4B91-B560-41E744B4E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1a  PROBABILITY: Sample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E6C1-FA48-4B75-B772-E32354071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2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4616-C9B3-43E5-9397-42F6F6145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3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CA3B-E3DD-4981-954B-77D8FF29E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4a  FUNCTIONS: Fahrenheit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2B26-F00F-45A0-8E4E-79CE5CA6C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5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7AA2-0B77-4170-825D-A747C0F8D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6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6068-6C3B-4C09-8604-745E2E4FD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7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2605-AB82-4112-8202-412E5A10F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8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DC75-9F9F-489A-A82C-DAD0E2D18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3a  RADICALS: Square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560D-3C56-45CF-975A-690D8275D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9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DEF3-E53D-4099-8440-E003F9C27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4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F632-6269-4ADA-AF1D-A0A0E9979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5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A11D-0CB5-4C3D-AD30-459F36C15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6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54D6-D670-45C2-BD49-BB522D26B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7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EF95-0ADF-4617-8AB8-93242A3CC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8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C5C1-6A9E-4ECF-94A1-9A67C0C4F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42C-F614-4B1B-8142-73C8EE4A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B1C-C08F-4DF7-9D78-20AFD719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D15-42D7-4472-A73E-00CF49C3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8A7-C75D-4BC4-9820-B74868CB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672-1531-49B7-BC57-FAFB52ED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974-3ABD-42F7-BF28-372A2369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B150-4ED7-4D4A-A258-FBC6658B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EAAC-8401-4228-BEAB-068DCB9E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4EF6-60AA-4B32-B6A8-D2065F03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94F-7FE3-4781-948E-5192CE8A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4F3-12BF-42E6-AF26-88250930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749-6870-4A4F-941E-929E28E2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324C-8B95-4409-8CA2-3DA67FA22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NUMBERS_OPERATIONS_AND_PROPERTIES/JMAP_SOLUTIONS_PROPERTIES_OF_INTEGER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LINEAR_EQUATIONS/JMAP_SOLUTIONS_MIDPOINT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POWERS/JMAP_SOLUTIONS_ZERO_AND_NEGATIVE_POWER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EQUATIONS/JMAP_SOLUTIONS_USING_THE_DISTRIBUTIVE_PROPERTY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hyperlink" Target="http://www.jmap.org/JMAP/JMAPSolutions/PROBABILITY/JMAP_SOLUTIONS_SAMPLE_SPACE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hyperlink" Target="http://www.jmap.org/JMAP/JMAPSolutions/EQUATIONS/JMAP_SOLUTIONS_SOLVING_TWO_STEP_EQUATION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RADICALS/JMAP_SOLUTIONS_SQUARE_ROOT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3951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565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2414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76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666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54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11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557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86760" cy="4829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23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08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638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5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719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2514600" y="2819520"/>
            <a:ext cx="3740040" cy="3787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471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878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2765520" cy="213336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4" descr=""/>
          <p:cNvPicPr/>
          <p:nvPr/>
        </p:nvPicPr>
        <p:blipFill>
          <a:blip r:embed="rId3"/>
          <a:stretch/>
        </p:blipFill>
        <p:spPr>
          <a:xfrm>
            <a:off x="1447920" y="1600200"/>
            <a:ext cx="9129600" cy="1193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4"/>
          <a:stretch/>
        </p:blipFill>
        <p:spPr>
          <a:xfrm>
            <a:off x="4419720" y="32004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Users\HP_Administrator\Pictures\My Pictures\Thomas Jefferson.jpg"/>
          <p:cNvPicPr/>
          <p:nvPr/>
        </p:nvPicPr>
        <p:blipFill>
          <a:blip r:embed="rId5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52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04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3:46:4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7 Math A Regents Exam</cp:keywords>
  <dc:language>en-US</dc:language>
  <cp:lastModifiedBy>Steve</cp:lastModifiedBy>
  <dcterms:modified xsi:type="dcterms:W3CDTF">2007-07-16T02:44:19Z</dcterms:modified>
  <cp:revision>6</cp:revision>
  <dc:subject/>
  <dc:title>JMAP 0107ExamA Slideshow</dc:title>
</cp:coreProperties>
</file>