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jpeg" ContentType="image/jpeg"/>
  <Override PartName="/ppt/media/image4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0.wmf" ContentType="image/x-wmf"/>
  <Override PartName="/ppt/media/image13.wmf" ContentType="image/x-wmf"/>
  <Override PartName="/ppt/media/image40.wmf" ContentType="image/x-wmf"/>
  <Override PartName="/ppt/media/image34.jpeg" ContentType="image/jpeg"/>
  <Override PartName="/ppt/media/image38.wmf" ContentType="image/x-wmf"/>
  <Override PartName="/ppt/media/image35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6.png" ContentType="image/png"/>
  <Override PartName="/ppt/media/image29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41.png" ContentType="image/png"/>
  <Override PartName="/ppt/media/image39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98E0-E880-4A80-A15E-04A9A0164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4C28-C368-41F3-8F55-77695D60E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9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B4AA-2B64-44CF-AA82-157856133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0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2BB6-DFA4-40ED-B7EC-D4A3A636D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1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8A16-F4CF-4BA7-8818-502189BDE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2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85B2-AD39-4E1F-9904-06D483D37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3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1CC1-9B79-4248-9971-2E794E7E8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511D-DD3F-4466-9281-653A6E979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5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DCCE-0161-4B76-A362-B598DCE7C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6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F0B0-F6CD-440B-9999-223EF1695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7a  NUMBERS OPERATIONS AND PROPERTIES:  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517F-53A0-4A5E-BCAD-E910FD240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8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C53F-E5D2-4376-8BE7-DD39A839F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1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3234-C6F4-4F86-89E4-AFCD3842A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9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4295-EE60-4801-9C0C-AC63F666E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0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AE50-E4CC-488A-9D34-C91C9F571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1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9F0F-384E-49E5-BE1C-A7EAE7487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2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F02D-916B-456D-AAA0-C59B92850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3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9762-6176-473D-8F68-F638626BC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49BC-EFFE-4034-AFD9-D856014F7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5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658F-ADEB-4EB6-BE3E-79DDD43B6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6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C4FF-F59C-4197-9405-7917D7624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7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EF46-7498-40F2-9A2E-B864CD218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8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75E8-67F1-446E-AE8D-0376A11EF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2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EBBA-A454-4C2D-9F52-22E081249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9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2012-91C8-467E-AB95-E19DCD224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0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F689-D2BC-404B-8683-36B93D82F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1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95DA-AB7A-4A3E-807B-DB0A51081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2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4ECF-BFDE-4E51-8577-8C018B0F4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3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EE71-DEB8-41F0-AD8E-E249E2564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5F31-8D03-46F5-85E2-2D8BEB299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5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3554-665B-4272-9E98-C314A5310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3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E4C7-FAE8-4D0B-876A-55DFDAE51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4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5E60-56E8-44CD-94FA-566390403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5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56C4-1454-4624-9C03-F4D001047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6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C131-D224-4D54-ACD9-85B6BB892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7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97D6-D380-4B2C-AB88-ECA4C18F3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8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BC77-0EA5-4D2D-98FA-4F311B67F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686-0243-453C-9F4B-7549D762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11E-53C7-44D0-97AA-A2399389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325-BAE7-4846-BCD5-1D6D0FCA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8F1-4FA4-4D60-BDE5-A9EB4986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802-1A58-446D-8952-FE134BBF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B43-01AB-424B-B12D-1032868C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F33-EC92-4873-848B-2559389F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8B5-33BF-4372-88E4-433CC2B0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DF6-A007-45DF-9635-FD15C60F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E7A0-8EE1-4191-8991-2985DBF9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4AAB-8BAD-4DDB-AECF-889C6E79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04B-4E8C-414A-87A5-34A4625C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CA6E-6783-48DC-8EC2-A189AE859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NUMBERS_OPERATIONS_AND_PROPERTIES/JMAP_SOLUTIONS_ORDER_OF_OPER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GRAPHS_AND_STATISTICS/JMAP_SOLUTIONS_GRAPHICAL_REPRESENTATIONS_OF_DAT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LINEAR_EQUATIONS/JMAP_SOLUTIONS_GRAPHING_AND_WRITING_LINEAR_EQU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hyperlink" Target="http://www.jmap.org/JMAP/JMAPSolutions/GRAPHS_AND_STATISTICS/JMAP_SOLUTIONS_VENN_DIAGRAMS.doc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3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24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38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2427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49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289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681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856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341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066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5410080" y="304920"/>
            <a:ext cx="3272040" cy="566892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5" descr=""/>
          <p:cNvPicPr/>
          <p:nvPr/>
        </p:nvPicPr>
        <p:blipFill>
          <a:blip r:embed="rId3"/>
          <a:stretch/>
        </p:blipFill>
        <p:spPr>
          <a:xfrm>
            <a:off x="0" y="2994120"/>
            <a:ext cx="9090000" cy="3765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7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2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2743200" y="3330720"/>
            <a:ext cx="3375000" cy="352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-2209680" y="1066680"/>
            <a:ext cx="9055080" cy="4326120"/>
          </a:xfrm>
          <a:prstGeom prst="rect">
            <a:avLst/>
          </a:prstGeom>
          <a:ln w="0">
            <a:noFill/>
          </a:ln>
        </p:spPr>
      </p:pic>
      <p:pic>
        <p:nvPicPr>
          <p:cNvPr id="56" name="Object 3" descr=""/>
          <p:cNvPicPr/>
          <p:nvPr/>
        </p:nvPicPr>
        <p:blipFill>
          <a:blip r:embed="rId2"/>
          <a:stretch/>
        </p:blipFill>
        <p:spPr>
          <a:xfrm>
            <a:off x="0" y="3733920"/>
            <a:ext cx="9121680" cy="233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4648320" y="0"/>
            <a:ext cx="3646440" cy="333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25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5:07:5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2 Math A Regents Exam</cp:keywords>
  <dc:language>en-US</dc:language>
  <cp:lastModifiedBy>Steve</cp:lastModifiedBy>
  <dcterms:modified xsi:type="dcterms:W3CDTF">2007-07-16T02:45:39Z</dcterms:modified>
  <cp:revision>5</cp:revision>
  <dc:subject/>
  <dc:title>JMAP 0602ExamA Slideshow</dc:title>
</cp:coreProperties>
</file>