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1.jpeg" ContentType="image/jpeg"/>
  <Override PartName="/ppt/media/image12.wmf" ContentType="image/x-wmf"/>
  <Override PartName="/ppt/media/image33.wmf" ContentType="image/x-wmf"/>
  <Override PartName="/ppt/media/image13.wmf" ContentType="image/x-wmf"/>
  <Override PartName="/ppt/media/image37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23.wmf" ContentType="image/x-wmf"/>
  <Override PartName="/ppt/media/image28.jpeg" ContentType="image/jpeg"/>
  <Override PartName="/ppt/media/image30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3CED-9C07-454C-902F-B2E81A837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123-CFF4-4B2C-9140-945F06D6D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1566-49E7-42DA-ACAB-3154AE8DD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0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9C00-4229-404D-B49A-623284799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1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FC4F-7997-4C21-946E-2AACED355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2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C2E6-98B0-4973-82D4-1246192A2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E91-CC3E-4E33-BB22-74B062EE5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4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0C50-2279-4AB0-9B15-C87F307A5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5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D8C3-4B45-4ACA-93EA-14CC6C4DE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6B09-5F14-46DB-89D5-AE51AC82A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7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2967-F5C0-4231-B0F6-A9A48C729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8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D3D8-4AED-421B-9C48-8E16F7BF5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1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96A0-9994-4ECF-AEC8-2FE7B0444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3E0B-5457-4163-9EF3-5BA710056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0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3B74-3895-4A6B-8BE8-C80D9EF4C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1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016F-3100-4B0F-98BB-D77BE18CC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2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84BB-8926-49BC-88C5-CB6BAE87F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3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191A-C389-4D8B-9B07-E6DB00032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4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C7F0-38A4-4E5B-92E7-E518CA98D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5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B72C-B55D-43B8-A4C5-20DE2675B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BC44-3063-4D86-8862-53538D681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7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055B-95B9-467E-8A0A-A069AA6BD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8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6619-0E1E-4EBB-A746-EE08AC313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2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CB04-BC64-4603-A255-AB0A0D23E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9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692C-B9CF-4036-99F1-3907C107E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0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8EE5-13B8-46EF-9F4C-108679E7D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9AE9-8510-4AD6-9B79-E8441095D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67FB-23F3-40B8-83D8-EE535420D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00A9-B11C-44C7-B913-E40DFC008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4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1A9F-58C1-40D8-ABFB-D73C85F70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5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C8E1-6EE5-4A79-89FF-15DCABE37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0732-5836-4CDC-B504-DD6B322C7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6616-9849-47C0-B502-2E36DD7C0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5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767B-7EEF-4089-90F1-A24428413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7A73-A4C7-4923-829A-5F9DFB9BC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7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0944-6970-45E5-87E9-1CE41F736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8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5469-817A-4377-B237-499EBA237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2DD-0E4D-416F-B570-5BFCA58D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2F6-805F-490B-BCC1-DC7FC24A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13D-0E18-478E-BFC1-69F8B636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1AB-571C-4554-8CA4-F9EF96F2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662-95CF-4C71-8B32-1FCD7265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5CE-BA3A-4A48-AFC4-8823105C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4DF-FFDC-44DC-B4EF-5649208E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348-9B8C-4ED1-A972-4B78C15A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7B0-DA6F-48DC-8690-15987C1A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F44-3846-4C20-A8E8-78BDCFAC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3A9-CCB0-4FAA-B46C-84E53882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A8F-C7BE-4D62-B1A3-59F5169D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83C9-19E9-4F98-B801-03C5D5DE3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4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-2362320" y="0"/>
            <a:ext cx="9090000" cy="632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4487760"/>
          </a:xfrm>
          <a:prstGeom prst="rect">
            <a:avLst/>
          </a:prstGeom>
          <a:ln w="0">
            <a:noFill/>
          </a:ln>
        </p:spPr>
      </p:pic>
      <p:pic>
        <p:nvPicPr>
          <p:cNvPr id="69" name="Object 4" descr=""/>
          <p:cNvPicPr/>
          <p:nvPr/>
        </p:nvPicPr>
        <p:blipFill>
          <a:blip r:embed="rId3"/>
          <a:stretch/>
        </p:blipFill>
        <p:spPr>
          <a:xfrm>
            <a:off x="0" y="3429000"/>
            <a:ext cx="90662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17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7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0"/>
          <a:ext cx="9144000" cy="316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73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358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1786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77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9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8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28:5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2 Math A Regents Exam</cp:keywords>
  <dc:language>en-US</dc:language>
  <cp:lastModifiedBy>Steve</cp:lastModifiedBy>
  <dcterms:modified xsi:type="dcterms:W3CDTF">2007-07-16T02:49:33Z</dcterms:modified>
  <cp:revision>4</cp:revision>
  <dc:subject/>
  <dc:title>JMAP 0802ExamA Slideshow</dc:title>
</cp:coreProperties>
</file>