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5A4-A094-474C-A8E8-2549E29B1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296-DE84-4354-B556-91B4D1D16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76B4-EE9F-4C1E-91B3-935055AC4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FCF-D63A-4C79-9C1A-C3924E05F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3BA-10A4-4B54-AB99-B7CF1DD0D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DA28-D053-4DAD-A357-A9EF7F4F6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BD1-E118-4655-B17D-711C7FDA6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E581-8E66-48B4-B440-45B80FAE3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8037-54CA-466B-A4EA-11137DFD1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01C-59D3-40BA-9C6B-761F345BF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74E0-844F-49FE-A431-B3F9179DC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D7D-71CB-48D9-A144-737F1EEEA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636-AE31-43BB-B9FC-BC4D49A7A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70C-5EEC-47E2-8200-5EFA369CB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2458-00FD-4B76-BE3A-AF9717014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5308-4CEA-4D41-8039-339F7B11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34E-0564-415E-ABBE-87B3AD6BF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CD77-B624-4BD8-8AA7-2906AFC49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0C4-EC86-4328-A904-017094C6B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28EE-8E0A-4B32-8A9F-8D1D4BD15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6E1-39DD-4B66-B164-08A6D0347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8B4-A2ED-42B5-9330-330FC4A4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530-3926-411B-A735-CC272F08A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890-29BF-4893-98C4-242C15191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F9F-E226-4248-98BC-D47C590B2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D796-420F-475C-AF18-CBB80C17B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83BA-E3B1-4A89-BE12-A9F82F1D3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DBD-C42B-4ACB-A9DA-B8C72EB68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09E-B2BB-4FDC-B809-F49A93D47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337-9A95-4327-8162-6F86DE38A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5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A44-FA8E-4BE9-B716-A276E32E8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2AD1-2603-49B1-A8F8-2804B47D6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A4FB-F33B-4CE6-9EA6-FA504CD9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596-D1C1-4C64-B7CE-DF779A5C1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A1F-D4F4-482F-8A0F-DD88CC159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3F3-5D0A-4F51-A56B-4CCAE633E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B46A-D30D-4EC0-8C36-5E55AB95B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04C-48D9-4684-8055-241BB000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292-1519-4BF5-90E2-66E5990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BBC-8F18-4C84-A862-B93AC58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BF4-62F9-4A83-B954-E13834F3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BC8-6F10-4A2D-8D8D-254C561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428-150D-4E50-8A32-E4AA961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96D-180B-453D-A8DD-8321A25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5A2-2F8C-4BD9-AAB5-51B100C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5E2-8786-4D1C-9D7C-7FFC4A7F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2AD-B715-4902-BB1C-BD15773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CEC-543B-4A66-B36D-9AEAA12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F39-49C7-4B46-9684-206AC64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B2A4-3F7A-4CA3-BE33-31086B21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389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8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370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19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2514600" y="0"/>
            <a:ext cx="9013680" cy="670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8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3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3135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4:59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1 Math A Regents Exam</cp:keywords>
  <dc:language>en-US</dc:language>
  <cp:lastModifiedBy>Steve</cp:lastModifiedBy>
  <dcterms:modified xsi:type="dcterms:W3CDTF">2007-07-16T02:44:55Z</dcterms:modified>
  <cp:revision>5</cp:revision>
  <dc:subject/>
  <dc:title>JMAP 0601ExamA Slideshow</dc:title>
</cp:coreProperties>
</file>