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34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3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16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3618-FD72-45F3-9935-637BAFFB2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3646-A211-4133-8562-6D4D5CBFF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9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C8B5-A47E-483A-8E67-65A0E1F79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0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8E9-C43C-4136-9005-6D9F41089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1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1005-7171-4645-A17C-8A2F04E34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2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CE60-FF4D-42B8-A4F1-11C3E2587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3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EBA9-4378-491D-9854-A575C138C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4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574C-D69E-4472-AEC3-F35A3768A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5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9018-161A-4F36-BD93-54B478D9D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6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59FE-5F68-4BF5-871B-318CC26CB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7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553-30A4-4298-BBF0-8E45B7F92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8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BD49-2CFF-416F-8672-A4BB76DE9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1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C42A-B067-48B8-ABC6-1489B2D01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9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88C4-9725-4040-BEC2-D30C9CE6E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0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5B2F-917A-48F3-92B4-883020229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1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5FCC-61FB-48DD-B586-62AC61AD6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2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8B07-D631-4C46-ADEC-C34E47CAD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3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109A-3B18-4EE2-95DB-D1AA3AFCD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4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A80F-CACB-42CC-BDE2-CB6EB512C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5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F4F3-72FD-444B-B827-10ABD9914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6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D267-F93B-4BF6-9C3A-254D6DFA8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7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A574-E896-46AA-B253-04B9C594D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8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1AA6-F552-4AC0-8D5F-1A8DACF66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2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1B93-C2D6-4F7B-94FB-0A3EE7C4C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9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E3A6-F0E2-4748-A989-19DADB610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0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AAE-A7A9-4855-A164-7000CFB1D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1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128A-0EF2-4B0A-8B77-55B9B4595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2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CADA-F9F9-481F-8A9C-DEB068FAE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3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27AB-7AB4-4C56-87A2-E187C81B7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4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2171-69AF-425F-8733-2B689F2A3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5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19FB-4C98-4DC4-A36A-FB0020412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6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1885-2329-47C9-BAA5-8AA342A5B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7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362E-6E2A-4E09-BDE9-21CFA04DC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8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4779-3B41-4A2A-94D6-DB713C925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3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413B-06FF-484E-8E77-5984C5037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9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C84A-32FE-40FE-94D4-E53B13D9A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4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896E-92BE-4933-97D3-5606012EA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5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957D-5DB5-41E8-A629-BF69AF5CD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6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AA1A-423F-4043-92CC-72E1EAA47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7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43EA-729A-4A9C-ABD5-2E164393F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8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1BAE-5EAA-4BF4-BABA-B7278127A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6B9-2FA8-4A38-A9B7-8D47A271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F8B-A13D-497F-979C-6B9B8904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74E-C78A-4154-9E2F-ED63D770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846-652A-4D88-BB64-FCB3B30C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880-87AC-4F55-BD85-2DBA7E22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CF9-0A11-4698-BEF3-E2ED6308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00A-7543-46F1-9FE6-A40D5EC0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F6C-3702-4409-B2CE-BED0F6E3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C5F-0574-446F-8997-8024C195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0F7-AC8C-4B75-AE02-CCADCE5E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436-906A-405C-892A-B6898940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579-DA6E-4149-B385-975DA599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879-9915-4B99-86B7-6BB43D1E4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st Sampler - Fall 200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1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3786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1"/>
          <p:cNvGraphicFramePr/>
          <p:nvPr/>
        </p:nvGraphicFramePr>
        <p:xfrm>
          <a:off x="0" y="0"/>
          <a:ext cx="911376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3352680" cy="33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4"/>
          <p:cNvGraphicFramePr/>
          <p:nvPr/>
        </p:nvGraphicFramePr>
        <p:xfrm>
          <a:off x="0" y="4876920"/>
          <a:ext cx="9144000" cy="192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876920"/>
                    <a:ext cx="9144000" cy="19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"/>
          <p:cNvGraphicFramePr/>
          <p:nvPr/>
        </p:nvGraphicFramePr>
        <p:xfrm>
          <a:off x="0" y="0"/>
          <a:ext cx="911376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213228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3"/>
          <p:cNvGraphicFramePr/>
          <p:nvPr/>
        </p:nvGraphicFramePr>
        <p:xfrm>
          <a:off x="0" y="4038480"/>
          <a:ext cx="9144000" cy="173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038480"/>
                    <a:ext cx="914400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1"/>
          <p:cNvGraphicFramePr/>
          <p:nvPr/>
        </p:nvGraphicFramePr>
        <p:xfrm>
          <a:off x="0" y="0"/>
          <a:ext cx="912816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1"/>
          <p:cNvGraphicFramePr/>
          <p:nvPr/>
        </p:nvGraphicFramePr>
        <p:xfrm>
          <a:off x="0" y="0"/>
          <a:ext cx="90216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1"/>
          <p:cNvGraphicFramePr/>
          <p:nvPr/>
        </p:nvGraphicFramePr>
        <p:xfrm>
          <a:off x="0" y="0"/>
          <a:ext cx="91137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1"/>
          <p:cNvGraphicFramePr/>
          <p:nvPr/>
        </p:nvGraphicFramePr>
        <p:xfrm>
          <a:off x="0" y="0"/>
          <a:ext cx="903780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3048120" y="609480"/>
            <a:ext cx="378756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3"/>
          <p:cNvGraphicFramePr/>
          <p:nvPr/>
        </p:nvGraphicFramePr>
        <p:xfrm>
          <a:off x="0" y="4800600"/>
          <a:ext cx="912816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800600"/>
                    <a:ext cx="91281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1"/>
          <p:cNvGraphicFramePr/>
          <p:nvPr/>
        </p:nvGraphicFramePr>
        <p:xfrm>
          <a:off x="0" y="0"/>
          <a:ext cx="912816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894564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387036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6"/>
          <p:cNvGraphicFramePr/>
          <p:nvPr/>
        </p:nvGraphicFramePr>
        <p:xfrm>
          <a:off x="15840" y="3809880"/>
          <a:ext cx="9128160" cy="10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40" y="3809880"/>
                    <a:ext cx="91281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1"/>
          <p:cNvGraphicFramePr/>
          <p:nvPr/>
        </p:nvGraphicFramePr>
        <p:xfrm>
          <a:off x="0" y="0"/>
          <a:ext cx="91281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2971800" y="457200"/>
            <a:ext cx="426708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3"/>
          <p:cNvGraphicFramePr/>
          <p:nvPr/>
        </p:nvGraphicFramePr>
        <p:xfrm>
          <a:off x="0" y="4800600"/>
          <a:ext cx="912816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800600"/>
                    <a:ext cx="9128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0" y="0"/>
          <a:ext cx="91281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1"/>
          <p:cNvGraphicFramePr/>
          <p:nvPr/>
        </p:nvGraphicFramePr>
        <p:xfrm>
          <a:off x="0" y="0"/>
          <a:ext cx="911376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2220840" cy="221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3809880" y="228600"/>
            <a:ext cx="4981680" cy="55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8"/>
          <p:cNvGraphicFramePr/>
          <p:nvPr/>
        </p:nvGraphicFramePr>
        <p:xfrm>
          <a:off x="0" y="4038480"/>
          <a:ext cx="9128160" cy="105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038480"/>
                    <a:ext cx="91281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1"/>
          <p:cNvGraphicFramePr/>
          <p:nvPr/>
        </p:nvGraphicFramePr>
        <p:xfrm>
          <a:off x="0" y="0"/>
          <a:ext cx="91281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"/>
          <p:cNvGraphicFramePr/>
          <p:nvPr/>
        </p:nvGraphicFramePr>
        <p:xfrm>
          <a:off x="0" y="0"/>
          <a:ext cx="91281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1"/>
          <p:cNvGraphicFramePr/>
          <p:nvPr/>
        </p:nvGraphicFramePr>
        <p:xfrm>
          <a:off x="0" y="0"/>
          <a:ext cx="90378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1"/>
          <p:cNvGraphicFramePr/>
          <p:nvPr/>
        </p:nvGraphicFramePr>
        <p:xfrm>
          <a:off x="0" y="0"/>
          <a:ext cx="91281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1"/>
          <p:cNvGraphicFramePr/>
          <p:nvPr/>
        </p:nvGraphicFramePr>
        <p:xfrm>
          <a:off x="0" y="0"/>
          <a:ext cx="91137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1"/>
          <p:cNvGraphicFramePr/>
          <p:nvPr/>
        </p:nvGraphicFramePr>
        <p:xfrm>
          <a:off x="0" y="0"/>
          <a:ext cx="91281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9"/>
          <p:cNvGraphicFramePr/>
          <p:nvPr/>
        </p:nvGraphicFramePr>
        <p:xfrm>
          <a:off x="0" y="0"/>
          <a:ext cx="91281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"/>
          <p:cNvGraphicFramePr/>
          <p:nvPr/>
        </p:nvGraphicFramePr>
        <p:xfrm>
          <a:off x="0" y="0"/>
          <a:ext cx="91281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057400" y="609480"/>
            <a:ext cx="472428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1"/>
          <p:cNvGraphicFramePr/>
          <p:nvPr/>
        </p:nvGraphicFramePr>
        <p:xfrm>
          <a:off x="0" y="0"/>
          <a:ext cx="9037800" cy="17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1"/>
          <p:cNvGraphicFramePr/>
          <p:nvPr/>
        </p:nvGraphicFramePr>
        <p:xfrm>
          <a:off x="0" y="0"/>
          <a:ext cx="91281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3276720" y="2514600"/>
            <a:ext cx="2133360" cy="319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3"/>
          <p:cNvGraphicFramePr/>
          <p:nvPr/>
        </p:nvGraphicFramePr>
        <p:xfrm>
          <a:off x="0" y="5943600"/>
          <a:ext cx="9144000" cy="70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943600"/>
                    <a:ext cx="91440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1"/>
          <p:cNvGraphicFramePr/>
          <p:nvPr/>
        </p:nvGraphicFramePr>
        <p:xfrm>
          <a:off x="0" y="0"/>
          <a:ext cx="91281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1"/>
          <p:cNvGraphicFramePr/>
          <p:nvPr/>
        </p:nvGraphicFramePr>
        <p:xfrm>
          <a:off x="0" y="0"/>
          <a:ext cx="91137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"/>
          <p:cNvGraphicFramePr/>
          <p:nvPr/>
        </p:nvGraphicFramePr>
        <p:xfrm>
          <a:off x="0" y="0"/>
          <a:ext cx="912816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3200400" y="990720"/>
            <a:ext cx="2666880" cy="23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3"/>
          <p:cNvGraphicFramePr/>
          <p:nvPr/>
        </p:nvGraphicFramePr>
        <p:xfrm>
          <a:off x="0" y="3657600"/>
          <a:ext cx="9128160" cy="28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657600"/>
                    <a:ext cx="91281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"/>
          <p:cNvGraphicFramePr/>
          <p:nvPr/>
        </p:nvGraphicFramePr>
        <p:xfrm>
          <a:off x="0" y="0"/>
          <a:ext cx="91281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2286000" y="2362320"/>
            <a:ext cx="4473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11"/>
          <p:cNvGraphicFramePr/>
          <p:nvPr/>
        </p:nvGraphicFramePr>
        <p:xfrm>
          <a:off x="0" y="0"/>
          <a:ext cx="911376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1"/>
          <p:cNvGraphicFramePr/>
          <p:nvPr/>
        </p:nvGraphicFramePr>
        <p:xfrm>
          <a:off x="0" y="0"/>
          <a:ext cx="91281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1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1"/>
          <p:cNvGraphicFramePr/>
          <p:nvPr/>
        </p:nvGraphicFramePr>
        <p:xfrm>
          <a:off x="0" y="0"/>
          <a:ext cx="91281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1"/>
          <p:cNvGraphicFramePr/>
          <p:nvPr/>
        </p:nvGraphicFramePr>
        <p:xfrm>
          <a:off x="0" y="0"/>
          <a:ext cx="912816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07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0 Math A Regents Exam</cp:keywords>
  <dc:language>en-US</dc:language>
  <cp:lastModifiedBy>Steve</cp:lastModifiedBy>
  <dcterms:modified xsi:type="dcterms:W3CDTF">2007-11-16T10:21:59Z</dcterms:modified>
  <cp:revision>21</cp:revision>
  <dc:subject/>
  <dc:title>JMAP 0800ExamA Slideshow</dc:title>
</cp:coreProperties>
</file>