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30.wmf" ContentType="image/x-wmf"/>
  <Override PartName="/ppt/media/image42.wmf" ContentType="image/x-wmf"/>
  <Override PartName="/ppt/media/image54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790E-E082-4A11-BB71-498F2CE419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A209-8C11-4B92-9ABB-8E6A06A387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09b 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8FEA-213B-4924-A227-D45CB62E55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10b 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6A15-96AA-46A0-B511-BBE0D07C3B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11b 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0B07-52FF-4640-BB4A-332A70F907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12b 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16D6-6D40-43F4-B85B-7886A5FD13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13b 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D32D-82E9-4B5B-8413-FD053F41B5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14b 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D634-3951-4D82-A2D8-DCD12B765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15b  ANALYSI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85E8-C764-4BF7-8971-2887E513E2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16b   CORRELATION COE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51E8-A56A-44BB-BE8C-443C5FA9EE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17b 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6B00-830C-4BB6-844C-5490733283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18b  UNIT 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5635-C7E3-4EAD-8B1E-62D5B99742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01b  QUADRA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00D4-6118-4A2B-9E72-FA8FC7BE40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19b  LOGARITHM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1F23-BD4A-4093-B022-E172A125C4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20b  BINOMIAL EXPA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6DE3-B8AF-4953-A70D-DEF659FBD1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21b  CHORDS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3237-FEFB-42EF-AEF6-BCF277D822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22b  ABSOLUTE VALUE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B1F2-6E75-49A9-8C93-75D22B4CAD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23b 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10A5-A560-4CEE-802B-0C1C9FA576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24b  ZERO AND NEGATIVE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2EDF-FED4-41F1-B2DF-5FBE5FF1B5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25b 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D7C9-12E7-457A-9CE6-1DBF92CC42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26b 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87D1-C354-4722-9477-6F52DD4EDC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27b  V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A5A6-7F2B-4937-AC4C-F3B28538E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28b 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8533-BE04-44DD-BF3F-2A582CCC5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02b 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6C84-B072-4498-A8BF-903C3B7E80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29b 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CE73-ED97-4BAC-94BE-7D59318301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30b  WRITING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47B0-AA85-4C59-B56D-86A1FAA730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31b 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C137-95F6-4133-923A-71E3F09EC8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32b 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9194-B640-46D1-AB5A-88344AC259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33b 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5DA6-9043-402C-80F6-6D2EBE95A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34b 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B76F-F42C-4750-9E15-C2B8A44CDA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03b  DI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F636-7B5D-4D26-8147-00A86A882C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04b 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00EE-0318-42D3-94E0-06B79EE2D7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05b 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9D36-6AFA-4CBC-9787-15E70F81B4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06b  RADIAN MEA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6061-6832-4E03-BE4B-871A9DAB71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07b  FREQUENCY HISTOGRAMS BAR GRAPHS AND T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2900-CFD6-437A-A226-4DFDA6243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08b  V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ACCE-17EE-42AE-BF63-0BF281F88B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A613-90DC-4AE1-908A-3143EB55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BBBE-BBF4-435E-B453-9C9A735A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CE7A-9D48-4B3D-8D91-42196EC28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2EFA-ACCA-4D05-BCD7-D5D514041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05B5-3965-4AFE-A9E4-421DD185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5312-0796-4AD4-8250-C05D6C07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39E0-665D-44AC-8178-1370FE2A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A533-0EAC-46A4-93AB-8E9FC9B6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8FF3-23E7-40E1-A9D5-523EB8F8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671E-7CEC-41F7-AD56-ECF26349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3E1A-1769-4678-9550-EBB8CE96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C17E-3120-4679-AE11-FC2B4F16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7CE1-D310-47E7-8576-CDD89528A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Archives/EXAMSOLUTIONS/MATHB/0108mathbsol.pd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anuary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1"/>
          <p:cNvGraphicFramePr/>
          <p:nvPr/>
        </p:nvGraphicFramePr>
        <p:xfrm>
          <a:off x="0" y="0"/>
          <a:ext cx="912816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1"/>
          <p:cNvGraphicFramePr/>
          <p:nvPr/>
        </p:nvGraphicFramePr>
        <p:xfrm>
          <a:off x="0" y="0"/>
          <a:ext cx="9128160" cy="27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1"/>
          <p:cNvGraphicFramePr/>
          <p:nvPr/>
        </p:nvGraphicFramePr>
        <p:xfrm>
          <a:off x="0" y="0"/>
          <a:ext cx="9037800" cy="361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1"/>
          <p:cNvGraphicFramePr/>
          <p:nvPr/>
        </p:nvGraphicFramePr>
        <p:xfrm>
          <a:off x="0" y="0"/>
          <a:ext cx="9128160" cy="33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Picture 2" descr=""/>
          <p:cNvPicPr/>
          <p:nvPr/>
        </p:nvPicPr>
        <p:blipFill>
          <a:blip r:embed="rId3"/>
          <a:stretch/>
        </p:blipFill>
        <p:spPr>
          <a:xfrm>
            <a:off x="1600200" y="685800"/>
            <a:ext cx="5867280" cy="82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Object 3"/>
          <p:cNvGraphicFramePr/>
          <p:nvPr/>
        </p:nvGraphicFramePr>
        <p:xfrm>
          <a:off x="0" y="1828800"/>
          <a:ext cx="9128160" cy="1355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0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1828800"/>
                    <a:ext cx="912816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Object 1"/>
          <p:cNvGraphicFramePr/>
          <p:nvPr/>
        </p:nvGraphicFramePr>
        <p:xfrm>
          <a:off x="0" y="0"/>
          <a:ext cx="9128160" cy="33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Object 1"/>
          <p:cNvGraphicFramePr/>
          <p:nvPr/>
        </p:nvGraphicFramePr>
        <p:xfrm>
          <a:off x="0" y="0"/>
          <a:ext cx="9128160" cy="13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3124080" y="1447920"/>
            <a:ext cx="2819520" cy="25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Object 3"/>
          <p:cNvGraphicFramePr/>
          <p:nvPr/>
        </p:nvGraphicFramePr>
        <p:xfrm>
          <a:off x="0" y="4191120"/>
          <a:ext cx="9128160" cy="2712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191120"/>
                    <a:ext cx="912816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1"/>
          <p:cNvGraphicFramePr/>
          <p:nvPr/>
        </p:nvGraphicFramePr>
        <p:xfrm>
          <a:off x="0" y="0"/>
          <a:ext cx="9128160" cy="50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50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Object 1"/>
          <p:cNvGraphicFramePr/>
          <p:nvPr/>
        </p:nvGraphicFramePr>
        <p:xfrm>
          <a:off x="0" y="0"/>
          <a:ext cx="9128160" cy="23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3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Picture 2" descr=""/>
          <p:cNvPicPr/>
          <p:nvPr/>
        </p:nvPicPr>
        <p:blipFill>
          <a:blip r:embed="rId3"/>
          <a:stretch/>
        </p:blipFill>
        <p:spPr>
          <a:xfrm>
            <a:off x="2743200" y="2590920"/>
            <a:ext cx="358128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Object 1"/>
          <p:cNvGraphicFramePr/>
          <p:nvPr/>
        </p:nvGraphicFramePr>
        <p:xfrm>
          <a:off x="0" y="0"/>
          <a:ext cx="9128160" cy="23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3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1"/>
          <p:cNvGraphicFramePr/>
          <p:nvPr/>
        </p:nvGraphicFramePr>
        <p:xfrm>
          <a:off x="0" y="0"/>
          <a:ext cx="9037800" cy="20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1"/>
          <p:cNvGraphicFramePr/>
          <p:nvPr/>
        </p:nvGraphicFramePr>
        <p:xfrm>
          <a:off x="0" y="0"/>
          <a:ext cx="9128160" cy="33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"/>
          <p:cNvPicPr/>
          <p:nvPr/>
        </p:nvPicPr>
        <p:blipFill>
          <a:blip r:embed="rId3"/>
          <a:stretch/>
        </p:blipFill>
        <p:spPr>
          <a:xfrm>
            <a:off x="2666880" y="609480"/>
            <a:ext cx="3962520" cy="34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Object 3"/>
          <p:cNvGraphicFramePr/>
          <p:nvPr/>
        </p:nvGraphicFramePr>
        <p:xfrm>
          <a:off x="0" y="4495680"/>
          <a:ext cx="9128160" cy="762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495680"/>
                    <a:ext cx="91281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1"/>
          <p:cNvGraphicFramePr/>
          <p:nvPr/>
        </p:nvGraphicFramePr>
        <p:xfrm>
          <a:off x="0" y="0"/>
          <a:ext cx="9128160" cy="20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Object 1"/>
          <p:cNvGraphicFramePr/>
          <p:nvPr/>
        </p:nvGraphicFramePr>
        <p:xfrm>
          <a:off x="0" y="0"/>
          <a:ext cx="90378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Object 1"/>
          <p:cNvGraphicFramePr/>
          <p:nvPr/>
        </p:nvGraphicFramePr>
        <p:xfrm>
          <a:off x="0" y="0"/>
          <a:ext cx="912816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1905120" y="2362320"/>
            <a:ext cx="4952880" cy="20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1"/>
          <p:cNvGraphicFramePr/>
          <p:nvPr/>
        </p:nvGraphicFramePr>
        <p:xfrm>
          <a:off x="0" y="0"/>
          <a:ext cx="9128160" cy="105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1"/>
          <p:cNvGraphicFramePr/>
          <p:nvPr/>
        </p:nvGraphicFramePr>
        <p:xfrm>
          <a:off x="0" y="0"/>
          <a:ext cx="9128160" cy="50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50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Object 1"/>
          <p:cNvGraphicFramePr/>
          <p:nvPr/>
        </p:nvGraphicFramePr>
        <p:xfrm>
          <a:off x="0" y="0"/>
          <a:ext cx="912816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Object 1"/>
          <p:cNvGraphicFramePr/>
          <p:nvPr/>
        </p:nvGraphicFramePr>
        <p:xfrm>
          <a:off x="30240" y="0"/>
          <a:ext cx="9113760" cy="27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40" y="0"/>
                    <a:ext cx="911376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Object 1"/>
          <p:cNvGraphicFramePr/>
          <p:nvPr/>
        </p:nvGraphicFramePr>
        <p:xfrm>
          <a:off x="0" y="0"/>
          <a:ext cx="9128160" cy="19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9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Object 1"/>
          <p:cNvGraphicFramePr/>
          <p:nvPr/>
        </p:nvGraphicFramePr>
        <p:xfrm>
          <a:off x="0" y="0"/>
          <a:ext cx="9128160" cy="27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Object 1"/>
          <p:cNvGraphicFramePr/>
          <p:nvPr/>
        </p:nvGraphicFramePr>
        <p:xfrm>
          <a:off x="0" y="0"/>
          <a:ext cx="9128160" cy="51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51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1"/>
          <p:cNvGraphicFramePr/>
          <p:nvPr/>
        </p:nvGraphicFramePr>
        <p:xfrm>
          <a:off x="0" y="0"/>
          <a:ext cx="9037800" cy="23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3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Object 1"/>
          <p:cNvGraphicFramePr/>
          <p:nvPr/>
        </p:nvGraphicFramePr>
        <p:xfrm>
          <a:off x="0" y="0"/>
          <a:ext cx="9128160" cy="27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Object 1"/>
          <p:cNvGraphicFramePr/>
          <p:nvPr/>
        </p:nvGraphicFramePr>
        <p:xfrm>
          <a:off x="0" y="0"/>
          <a:ext cx="9128160" cy="16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6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Object 1"/>
          <p:cNvGraphicFramePr/>
          <p:nvPr/>
        </p:nvGraphicFramePr>
        <p:xfrm>
          <a:off x="0" y="0"/>
          <a:ext cx="9128160" cy="16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6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Picture 2" descr=""/>
          <p:cNvPicPr/>
          <p:nvPr/>
        </p:nvPicPr>
        <p:blipFill>
          <a:blip r:embed="rId3"/>
          <a:stretch/>
        </p:blipFill>
        <p:spPr>
          <a:xfrm>
            <a:off x="2819520" y="1905120"/>
            <a:ext cx="3581280" cy="26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3"/>
          <p:cNvGraphicFramePr/>
          <p:nvPr/>
        </p:nvGraphicFramePr>
        <p:xfrm>
          <a:off x="0" y="4740120"/>
          <a:ext cx="9128160" cy="2025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6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740120"/>
                    <a:ext cx="912816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Object 1"/>
          <p:cNvGraphicFramePr/>
          <p:nvPr/>
        </p:nvGraphicFramePr>
        <p:xfrm>
          <a:off x="0" y="0"/>
          <a:ext cx="9128160" cy="61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Object 1"/>
          <p:cNvGraphicFramePr/>
          <p:nvPr/>
        </p:nvGraphicFramePr>
        <p:xfrm>
          <a:off x="0" y="0"/>
          <a:ext cx="91281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2590920" y="2743200"/>
            <a:ext cx="396216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1"/>
          <p:cNvGraphicFramePr/>
          <p:nvPr/>
        </p:nvGraphicFramePr>
        <p:xfrm>
          <a:off x="0" y="0"/>
          <a:ext cx="8945640" cy="40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40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3048120" y="4114800"/>
            <a:ext cx="259056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1"/>
          <p:cNvGraphicFramePr/>
          <p:nvPr/>
        </p:nvGraphicFramePr>
        <p:xfrm>
          <a:off x="0" y="0"/>
          <a:ext cx="912816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1"/>
          <p:cNvGraphicFramePr/>
          <p:nvPr/>
        </p:nvGraphicFramePr>
        <p:xfrm>
          <a:off x="0" y="0"/>
          <a:ext cx="9128160" cy="10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"/>
          <p:cNvPicPr/>
          <p:nvPr/>
        </p:nvPicPr>
        <p:blipFill>
          <a:blip r:embed="rId3"/>
          <a:stretch/>
        </p:blipFill>
        <p:spPr>
          <a:xfrm>
            <a:off x="3200400" y="1219320"/>
            <a:ext cx="2895480" cy="29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Object 3"/>
          <p:cNvGraphicFramePr/>
          <p:nvPr/>
        </p:nvGraphicFramePr>
        <p:xfrm>
          <a:off x="0" y="4343400"/>
          <a:ext cx="9128160" cy="2378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343400"/>
                    <a:ext cx="9128160" cy="23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1"/>
          <p:cNvGraphicFramePr/>
          <p:nvPr/>
        </p:nvGraphicFramePr>
        <p:xfrm>
          <a:off x="0" y="0"/>
          <a:ext cx="9128160" cy="31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1"/>
          <p:cNvGraphicFramePr/>
          <p:nvPr/>
        </p:nvGraphicFramePr>
        <p:xfrm>
          <a:off x="0" y="0"/>
          <a:ext cx="9128160" cy="43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1"/>
          <p:cNvGraphicFramePr/>
          <p:nvPr/>
        </p:nvGraphicFramePr>
        <p:xfrm>
          <a:off x="0" y="0"/>
          <a:ext cx="9128160" cy="10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"/>
          <p:cNvPicPr/>
          <p:nvPr/>
        </p:nvPicPr>
        <p:blipFill>
          <a:blip r:embed="rId3"/>
          <a:stretch/>
        </p:blipFill>
        <p:spPr>
          <a:xfrm>
            <a:off x="2895480" y="1295280"/>
            <a:ext cx="2971800" cy="175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Object 3"/>
          <p:cNvGraphicFramePr/>
          <p:nvPr/>
        </p:nvGraphicFramePr>
        <p:xfrm>
          <a:off x="15840" y="3276720"/>
          <a:ext cx="9128160" cy="13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840" y="3276720"/>
                    <a:ext cx="912816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1"/>
          <p:cNvGraphicFramePr/>
          <p:nvPr/>
        </p:nvGraphicFramePr>
        <p:xfrm>
          <a:off x="0" y="0"/>
          <a:ext cx="9128160" cy="33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3733920" y="609480"/>
            <a:ext cx="1600200" cy="136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Object 3"/>
          <p:cNvGraphicFramePr/>
          <p:nvPr/>
        </p:nvGraphicFramePr>
        <p:xfrm>
          <a:off x="0" y="2286000"/>
          <a:ext cx="9128160" cy="1006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8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286000"/>
                    <a:ext cx="912816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Picture 4" descr=""/>
          <p:cNvPicPr/>
          <p:nvPr/>
        </p:nvPicPr>
        <p:blipFill>
          <a:blip r:embed="rId6"/>
          <a:stretch/>
        </p:blipFill>
        <p:spPr>
          <a:xfrm>
            <a:off x="2057400" y="3505320"/>
            <a:ext cx="5035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8T04:20:09Z</dcterms:created>
  <dc:creator>Steve Watson</dc:creator>
  <dc:description/>
  <dc:language>en-US</dc:language>
  <cp:lastModifiedBy>Steve</cp:lastModifiedBy>
  <dcterms:modified xsi:type="dcterms:W3CDTF">2008-04-12T21:43:00Z</dcterms:modified>
  <cp:revision>39</cp:revision>
  <dc:subject/>
  <dc:title>Slide 1</dc:title>
</cp:coreProperties>
</file>