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0.jpeg" ContentType="image/jpeg"/>
  <Override PartName="/ppt/media/image8.jpeg" ContentType="image/jpeg"/>
  <Override PartName="/ppt/media/image41.wmf" ContentType="image/x-wmf"/>
  <Override PartName="/ppt/media/image11.wmf" ContentType="image/x-wmf"/>
  <Override PartName="/ppt/media/image31.wmf" ContentType="image/x-wmf"/>
  <Override PartName="/ppt/media/image33.wmf" ContentType="image/x-wmf"/>
  <Override PartName="/ppt/media/image35.png" ContentType="image/png"/>
  <Override PartName="/ppt/media/image36.wmf" ContentType="image/x-wmf"/>
  <Override PartName="/ppt/media/image37.png" ContentType="image/png"/>
  <Override PartName="/ppt/media/image40.wmf" ContentType="image/x-wmf"/>
  <Override PartName="/ppt/media/image38.wmf" ContentType="image/x-wmf"/>
  <Override PartName="/ppt/media/image30.wmf" ContentType="image/x-wmf"/>
  <Override PartName="/ppt/media/image5.wmf" ContentType="image/x-wmf"/>
  <Override PartName="/ppt/media/image42.wmf" ContentType="image/x-wmf"/>
  <Override PartName="/ppt/media/image39.wmf" ContentType="image/x-wmf"/>
  <Override PartName="/ppt/media/image9.wmf" ContentType="image/x-wmf"/>
  <Override PartName="/ppt/media/image13.jpeg" ContentType="image/jpeg"/>
  <Override PartName="/ppt/media/image12.wmf" ContentType="image/x-wmf"/>
  <Override PartName="/ppt/media/image7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9DB5-98B4-4B1D-A1B3-B32382F40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96A6-BC1E-454E-BF99-B9B863CF2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9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57B9-E067-4208-8301-364F0F3D9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0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0ED0-0ACE-41D7-9088-17AF3987E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1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2047-312F-49CC-A629-86D75AFFD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2b  ANGLES: Double Angle and Angle Sum and Difference Ident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57A7-972A-4C64-AA9A-0112235B4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3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6EA4-0E7C-4F7C-A088-DF3EC05A6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4b  FUNCTIONS: Graph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9F3B-BFAE-432F-A473-C6A79BFE0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9428-36BC-418B-9854-27FECED3A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6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D253-6C87-4C2B-AC6E-606C71703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7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247F-76EC-4BFD-9A68-0D322DD63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8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84C4-13E6-44C7-9922-365416957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1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AE5F-2703-4E4C-8A72-96BB07AE8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9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2459-B513-4C50-BA51-E91222379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3089-8F35-4D75-972A-5632C5795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4299-0AFC-4AB4-BD4E-3623EB88F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2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2F22-F801-47B4-9C46-2C2B6325A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308-EB34-4E88-93D2-A24A0DFE1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4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F55-F1BA-40FA-BB41-6AD5F2269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5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0E6-18D7-4897-AF67-72CD5DD9E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6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6788-7DF5-4E74-9550-6B135DB36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7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E235-DB96-4796-A596-DAB303240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F500-EC74-42DE-8F9B-E7923C0DC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0CA2-47DE-499D-8056-DDDE401BD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9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A3E8-872A-489F-9263-C6152248F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0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6AF4-3632-48B3-80A5-BE9D4B7C2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3ED8-A142-4133-87B6-377C87A9C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F19B-C2AC-4576-A589-0C1169D55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3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AFDC-1CE4-4630-AC65-311441B5A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89D9-B5FF-4238-B12D-71C2B75CD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3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0B9F-AE23-4BDC-8B5C-91C99ED2C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C1CD-0622-499E-8821-65B826FC8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5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1C67-6D63-439F-8754-BE3E331D4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6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5C7B-84AC-4B17-AAFE-A57793B69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7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C1AF-B21B-41F9-8875-3D8AB5A34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8b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3078-D392-4891-9B58-26CAB5990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BE7-72FB-4765-9FF2-23A45E43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A11-AE40-4BCE-A5F5-8AFB1821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3EE-E660-4C66-BF77-20FE2D23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F3D-F622-4FDE-AE50-878212B1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D09-F1BB-4DD2-B3C9-BB5BD78B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E8C-1C9B-4CFF-9FDE-31E7DEB1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775-956A-400D-9966-EBB32C24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25B-73B7-437A-9B05-730A63B5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28C-98DE-41C9-B11F-76BF6F76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C8D-3D10-4E03-ACC4-4DC0F95E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8BB-474D-4792-A5AE-83810309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146-5933-4173-87CD-B9CE5100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EF9D-B0C2-4E75-A209-E8E15DF28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FUNCTIONS/JMAP_SOLUTIONS_GRAPHING_FUNCT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4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59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5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9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4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813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58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971800" y="3643200"/>
            <a:ext cx="2895480" cy="290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35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2895480" y="3430440"/>
            <a:ext cx="3276720" cy="328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91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48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4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27:0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3 Math A Regents Exam</cp:keywords>
  <dc:language>en-US</dc:language>
  <cp:lastModifiedBy>Steve</cp:lastModifiedBy>
  <dcterms:modified xsi:type="dcterms:W3CDTF">2007-07-16T02:55:24Z</dcterms:modified>
  <cp:revision>4</cp:revision>
  <dc:subject/>
  <dc:title>JMAP 0603ExamB Slideshow</dc:title>
</cp:coreProperties>
</file>