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3.jpeg" ContentType="image/jpeg"/>
  <Override PartName="/ppt/media/image33.jpeg" ContentType="image/jpeg"/>
  <Override PartName="/ppt/media/image30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39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38.wmf" ContentType="image/x-wmf"/>
  <Override PartName="/ppt/media/image40.wmf" ContentType="image/x-wmf"/>
  <Override PartName="/ppt/media/image42.wmf" ContentType="image/x-wmf"/>
  <Override PartName="/ppt/media/image43.png" ContentType="image/png"/>
  <Override PartName="/ppt/media/image44.jpeg" ContentType="image/jpeg"/>
  <Override PartName="/ppt/media/image45.wmf" ContentType="image/x-wmf"/>
  <Override PartName="/ppt/media/image10.wmf" ContentType="image/x-wmf"/>
  <Override PartName="/ppt/media/image25.jpeg" ContentType="image/jpeg"/>
  <Override PartName="/ppt/media/image41.wmf" ContentType="image/x-wmf"/>
  <Override PartName="/ppt/media/image8.jpeg" ContentType="image/jpeg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28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D093-6CB2-4B98-AB5A-6B6F5DE7D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B7AE-5749-4844-83A7-BC65A31D6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9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881E-D2FE-4A2C-8E57-564C009E0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0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80F4-C251-4244-B547-9F6FC4A4E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1a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D0F4-8153-4A3D-8768-522FED5EE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2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3F0C-31C1-49E4-BE7D-37A3EB829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3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D5C0-02D1-4523-938E-532238D76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4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B31B-25BB-43A3-BB43-D37985843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5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573D-F8E6-4E80-A9AE-1F3C33FCC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6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A4BB-0140-4474-A40C-FE6D5F79E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7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FFFE-E0DF-459A-8B8D-90AABBE07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8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BC9B-F439-4A34-AEA2-C9784D5BD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1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D846-4401-4B58-8EDE-8DE72547E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9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A433-825A-4808-A20B-B421C3631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0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BD2F-24A9-45BC-824D-448EFC94B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1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14CB-153A-42EB-88CD-CB1E9EDB4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2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45B2-09F6-4CD8-8525-8889D703A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3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620A-0172-4938-B092-EA26E209F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C395-5AC3-46A9-A70C-E33054159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5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A5B6-6491-443E-BF37-94F1FEEA9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6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CC48-1E46-45FF-A08E-659F1B127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5136-BBA2-4E3A-B631-95A072B84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8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BAB0-2DF8-46AA-B65F-693AC9B9A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2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E433-C4B2-4E1A-8AED-75E9EA325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9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D28C-96E4-4D07-9644-20E17A12B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0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CA94-FA94-4E99-92C3-BC5976043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1a  PROBABILITY: Geometric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A992-9797-4035-A953-86C15A931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BD8A-D114-4A2B-9BB2-6209605A4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3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B4E0-3B13-4975-8572-EBB9150E3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4a  INEQUALITIES: Linear Progra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D662-30B5-4EEE-A424-1179078B8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5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6C75-CFEA-4191-8DA6-BB03A75A5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3a  LINEAR EQUATIONS: Slope Intercept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17EB-2F76-4F68-B771-9222D0A93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3AC1-7ACA-4B65-B682-9F529CB0A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5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B404-60FA-4B52-81D3-FCE92FD96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6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16A9-1C09-4E28-9C7F-6540039AE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7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4516-A914-422D-85B3-D66389A9F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8a  CONICS: Graphing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80B3-391B-43D7-91E7-25F32B199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67F-AC00-48DD-BCF6-D2B8697D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BE8-7780-4FDD-A6E4-8FD477B6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173-6A19-4EF7-9A6D-1535C5BB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4D8-C971-4753-A376-02A39AD7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1B5-2332-4282-BCCB-EADB252B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E2F-9EA3-4A4E-B8D1-227B3514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604-1318-4B1B-97CF-7227BD6E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9A5-0721-4221-8E3E-2E0E3E07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2D86-FF34-41F2-ACCF-ACD26889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8C2-FE96-4B8B-A6F4-A3E0C8A0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64F-664E-44BE-8F4B-D41FAA99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5A8-51AE-4E1D-81A5-46DA5F6E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0207-5A64-49FC-8382-E22B7F5ED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FUNCTIONS/JMAP_SOLUTIONS_THREE_VIEWS_OF_A_FUNCTION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ANGLES/JMAP_SOLUTIONS_CONSTRUCTIONS.doc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LINEAR_EQUATIONS/JMAP_SOLUTIONS_SLOPE_INTERCEPT_FORM_OF_A_LIN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1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7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8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3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50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18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34920" y="152280"/>
            <a:ext cx="9109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14400" y="0"/>
            <a:ext cx="9129600" cy="362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293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18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2971800" y="3352680"/>
            <a:ext cx="3314880" cy="3314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9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5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23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82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2:58:0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2 Math A Regents Exam</cp:keywords>
  <dc:language>en-US</dc:language>
  <cp:lastModifiedBy>Steve</cp:lastModifiedBy>
  <dcterms:modified xsi:type="dcterms:W3CDTF">2007-07-16T02:42:15Z</dcterms:modified>
  <cp:revision>7</cp:revision>
  <dc:subject/>
  <dc:title>JMAP 0102ExamA Slideshow</dc:title>
</cp:coreProperties>
</file>