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F15B-2E66-4CEC-A82A-4A82E3BB3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D152-B798-4C83-8105-CDCC73976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27B-4E8F-45D1-96A4-69A64B02B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480-5C20-47D4-8F25-1CE0197F3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3DC7-B981-44E6-85B5-FF5772DA1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C6B2-D24C-4570-9716-963333D02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3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7680-0F3B-4944-9B6E-C91A95693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4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8BB1-8662-4D15-8EF5-77E289EE0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5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A62F-02C8-4CDA-8B13-7B3CD7A68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8C92-0694-4E1A-9903-1AF4A793B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7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2509-BA2E-4CCB-B259-33FC4DE3E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8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7C1B-BEC0-407C-9B7C-D1B48823E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F913-CFA6-4D6F-AEB9-01678E531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9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8339-25F3-4ED0-B735-701C3F9E6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0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0C84-F266-4991-814C-4351D4DC6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1a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EE28-AE24-4CC2-9CDD-3ACE4F557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2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9633-B0EE-4439-94DF-CAE7320F8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3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0ACC-2E2A-4F90-A02F-43D0A2D55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6B52-52DD-4982-AC01-A16754FDA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5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7B12-08E6-401E-B635-1C57D6EEE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6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7553-5625-4EF7-A879-0F73A01E1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9027-E23A-4B7B-8269-F482BBF3F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8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1282-677D-4003-80FF-4D3434F71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2a  CONICS: Circle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51BC-8511-4E87-9CC9-E385BC89B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9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D14-3EB3-4371-AE02-044D21532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0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05E-51E4-4165-8E41-E6AC5E3C4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B102-C4D7-476A-A38A-AC8B6DF7B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8B7C-EDB1-4FBD-93B0-182D3351B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3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EEF6-6C23-4E95-8BE0-1C79EC587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4a  TRIANGLES: 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1B43-6400-4BAF-A144-2D9D87BC3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5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08A7-6C7A-4DE4-ABEE-58903293C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6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8CB2-D335-460E-B17D-0CF72E208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B71-0EDD-4BEA-91E8-0F7032A04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8507-8FC6-4F65-A6EC-D05C9B011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D854-EF3C-4D96-B929-18F782ECE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9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64B9-CC07-41FF-9D69-5F483B8FB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7636-F0C3-4D7F-9681-0939803E2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5a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FD68-216B-477B-A19C-7415B6F65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6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63FA-D9E9-4138-9C56-834A1D9F7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0B18-2940-4AF3-9E11-82F4135B9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8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F5A-46B0-49C1-BF58-0F847ABFC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D2D-01A2-4D07-9ED8-9CD78E62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59E-329E-4AFA-9D28-61550545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FBA-7B9F-4B75-BA29-BA342BF3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119-5626-44AE-A999-1EEA7F0C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0F4-6967-4AED-988D-0906D091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268-7D72-4F3A-A5C4-97DD88BB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C8C-F888-4EAF-92A4-BDF606B2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42B-DF28-4A29-94A3-DDF25484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914-7A67-44BB-BBBE-BD571DA5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375-4A4A-4D88-AADD-D8B9839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817-B02D-4D4D-8697-D279750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4C8-6DF5-4349-87BA-6D40ECBC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88A4-6148-4A8E-971C-206ED9AC9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Archives/EXAMSOLUTIONS/MATHA/0807mathasol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13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51055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90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136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90000" cy="37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900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090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3"/>
          <p:cNvGraphicFramePr/>
          <p:nvPr/>
        </p:nvGraphicFramePr>
        <p:xfrm>
          <a:off x="0" y="3200400"/>
          <a:ext cx="90900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0400"/>
                    <a:ext cx="90900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5" descr=""/>
          <p:cNvPicPr/>
          <p:nvPr/>
        </p:nvPicPr>
        <p:blipFill>
          <a:blip r:embed="rId5"/>
          <a:stretch/>
        </p:blipFill>
        <p:spPr>
          <a:xfrm>
            <a:off x="2209680" y="838080"/>
            <a:ext cx="4870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900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013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0" y="0"/>
          <a:ext cx="90136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013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144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"/>
          <p:cNvGraphicFramePr/>
          <p:nvPr/>
        </p:nvGraphicFramePr>
        <p:xfrm>
          <a:off x="0" y="4648320"/>
          <a:ext cx="9013680" cy="13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901368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5" descr=""/>
          <p:cNvPicPr/>
          <p:nvPr/>
        </p:nvPicPr>
        <p:blipFill>
          <a:blip r:embed="rId5"/>
          <a:stretch/>
        </p:blipFill>
        <p:spPr>
          <a:xfrm>
            <a:off x="2971800" y="2133720"/>
            <a:ext cx="3300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0" y="0"/>
          <a:ext cx="9090000" cy="34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136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4"/>
          <p:cNvGraphicFramePr/>
          <p:nvPr/>
        </p:nvGraphicFramePr>
        <p:xfrm>
          <a:off x="0" y="2590920"/>
          <a:ext cx="901368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90136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2362320" y="3657600"/>
            <a:ext cx="3876480" cy="293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4343400" y="838080"/>
            <a:ext cx="371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0" y="0"/>
          <a:ext cx="909000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42840" y="42840"/>
          <a:ext cx="9090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0" y="0"/>
          <a:ext cx="90900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"/>
          <p:cNvGraphicFramePr/>
          <p:nvPr/>
        </p:nvGraphicFramePr>
        <p:xfrm>
          <a:off x="42840" y="3166920"/>
          <a:ext cx="9090000" cy="23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0" y="3166920"/>
                    <a:ext cx="90900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2438280" y="1295280"/>
            <a:ext cx="4111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0136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42840" y="42840"/>
          <a:ext cx="9090000" cy="30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42840" y="42840"/>
          <a:ext cx="909000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0"/>
          <a:ext cx="9090000" cy="33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136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4"/>
          <p:cNvGraphicFramePr/>
          <p:nvPr/>
        </p:nvGraphicFramePr>
        <p:xfrm>
          <a:off x="0" y="4724280"/>
          <a:ext cx="909000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90900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" descr=""/>
          <p:cNvPicPr/>
          <p:nvPr/>
        </p:nvPicPr>
        <p:blipFill>
          <a:blip r:embed="rId5"/>
          <a:stretch/>
        </p:blipFill>
        <p:spPr>
          <a:xfrm>
            <a:off x="2286000" y="914400"/>
            <a:ext cx="388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0" y="0"/>
          <a:ext cx="9090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2"/>
          <p:cNvGraphicFramePr/>
          <p:nvPr/>
        </p:nvGraphicFramePr>
        <p:xfrm>
          <a:off x="0" y="0"/>
          <a:ext cx="9013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0900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0" y="0"/>
          <a:ext cx="911052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052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0" y="0"/>
          <a:ext cx="90900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0900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0" y="0"/>
          <a:ext cx="892656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2656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0"/>
          <a:ext cx="901368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2057400" y="4114800"/>
            <a:ext cx="48988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42670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2133720" y="2666880"/>
            <a:ext cx="43434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0" y="0"/>
          <a:ext cx="9013680" cy="839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839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09000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0" y="4800600"/>
          <a:ext cx="90900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800600"/>
                    <a:ext cx="9090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2590920" y="838080"/>
            <a:ext cx="35812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90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900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4:20:09Z</dcterms:created>
  <dc:creator>Steve Watson</dc:creator>
  <dc:description/>
  <dc:language>en-US</dc:language>
  <cp:lastModifiedBy>Steve</cp:lastModifiedBy>
  <dcterms:modified xsi:type="dcterms:W3CDTF">2007-09-16T18:25:20Z</dcterms:modified>
  <cp:revision>19</cp:revision>
  <dc:subject/>
  <dc:title>Slide 1</dc:title>
</cp:coreProperties>
</file>