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1.jpeg" ContentType="image/jpeg"/>
  <Override PartName="/ppt/media/image23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33.wmf" ContentType="image/x-wmf"/>
  <Override PartName="/ppt/media/image10.wmf" ContentType="image/x-wmf"/>
  <Override PartName="/ppt/media/image35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24.jpeg" ContentType="image/jpe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E6A-29C3-4BEA-88B0-7A16DCC19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E54-4DA7-494A-9274-9303BC635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23B-0F30-442E-8C4A-50699CC3D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018-A741-4E23-B8AB-2B3003DB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D7F-937A-407C-A7BD-4E992CA7D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8E91-C694-4C9F-B35E-AEAF7787C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AC7D-60D7-49AE-99E7-AF319592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D48F-1381-4075-9911-2BDBFACA3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72F-F63B-4BC8-938E-29EA4307E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43B-3A53-448F-A15B-1C9E710EA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4BA-FEC4-4141-8599-537CC320E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B46-0FF3-4660-8787-443199E06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FFD-2D60-47D8-BA81-770302392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6FE-6AD0-40F6-AEA2-2091C751C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3D9-810F-4302-A7E0-821AEDFA6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FBBA-A614-44FB-A074-CCF147C29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76A-4241-455F-A42E-4118554A2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10D-8675-4FF7-B7F4-418B836A2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693D-3414-48F7-8AB7-898AD146B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1DC-DC91-4C58-AF26-8BEE1455E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C288-1274-4055-AF64-ED393E571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8E4-E5A8-4E0F-86A4-FA161E021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B30C-85FD-4618-BFC6-192BB41EB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2504-44A1-4ECA-B98B-CA94EFA43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3874-6C74-4AFE-ABCC-F8B2AAF8A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8DD-516F-4D42-83FC-F8F6F7E3A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A83A-3CC7-4B4A-B0E1-9A1701A16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b  RADICALS: Solving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C0F-1DBA-428B-84F7-42353CD30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6E7-65A4-49D1-92DB-6CABE792E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8FB2-0FC0-4E94-8AFA-5152ABA81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9E82-1A01-4166-9886-D9BB3807B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E40F-74CF-4E3B-A757-4239D2CA5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EA36-C36A-473C-9140-F3E34898A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02D4-EB18-4190-9B09-9876EEF55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76D-78D5-4D03-A6F9-12A506A83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6D8-83F8-437C-BAC0-59F3F2832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569-8016-4492-9FBD-70F2BF20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836-3592-4FEC-9248-C22A3C8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B26-7C3A-4C42-BF2A-4105DD1F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DA7-C861-44C9-BF29-47B7CEFF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E08-74F0-4C38-8ABE-98A7692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56A-611A-46B3-BFEA-18C63A8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F59-9820-4638-B951-ABED56A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A31-B131-4857-9431-96779FE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FDD-25B7-4538-ADFB-0B032E37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BE0-FEAA-4BC9-8575-8D63C5D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923-A79D-4D97-9C9D-A56D26B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705-2D16-4387-9A24-55FDAFB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975-8E74-4DA2-B7D7-387B47061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QUADRATIC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6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14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22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5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0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4300560" cy="432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32880" cy="385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7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93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-1828800" y="0"/>
            <a:ext cx="9067680" cy="426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4750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31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5 Math A Regents Exam</cp:keywords>
  <dc:language>en-US</dc:language>
  <cp:lastModifiedBy>Steve</cp:lastModifiedBy>
  <dcterms:modified xsi:type="dcterms:W3CDTF">2007-07-16T02:53:58Z</dcterms:modified>
  <cp:revision>6</cp:revision>
  <dc:subject/>
  <dc:title>JMAP 0105ExamB Slideshow</dc:title>
</cp:coreProperties>
</file>