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3.jpeg" ContentType="image/jpeg"/>
  <Override PartName="/ppt/media/image26.jpeg" ContentType="image/jpeg"/>
  <Override PartName="/ppt/media/image20.wmf" ContentType="image/x-wmf"/>
  <Override PartName="/ppt/media/image12.wmf" ContentType="image/x-wmf"/>
  <Override PartName="/ppt/media/image35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19.jpeg" ContentType="image/jpeg"/>
  <Override PartName="/ppt/media/image29.wmf" ContentType="image/x-wmf"/>
  <Override PartName="/ppt/media/image43.wmf" ContentType="image/x-wmf"/>
  <Override PartName="/ppt/media/image44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45.wmf" ContentType="image/x-wmf"/>
  <Override PartName="/ppt/media/image47.wmf" ContentType="image/x-wmf"/>
  <Override PartName="/ppt/media/image10.wmf" ContentType="image/x-wmf"/>
  <Override PartName="/ppt/media/image46.wmf" ContentType="image/x-wmf"/>
  <Override PartName="/ppt/media/image48.png" ContentType="image/png"/>
  <Override PartName="/ppt/media/image9.jpeg" ContentType="image/jpeg"/>
  <Override PartName="/ppt/media/image11.jpeg" ContentType="image/jpeg"/>
  <Override PartName="/ppt/media/image13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5.jpeg" ContentType="image/jpeg"/>
  <Override PartName="/ppt/media/image18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D92E-724A-4065-89AA-6332691606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0F5C-1AF3-41B1-8344-4F5A1D994A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9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9237-D6D1-4031-8F1D-1370112D15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0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E7AB-1D1D-4A7E-BD1E-E53546662B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1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90FF-FED0-4271-891A-F86668EE9D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2a  GRAPHS AND STATISTICS: Relating Graphs to Ev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E3DB-DF9B-4B7F-A7AD-B696E5398E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3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27E7-CAFE-47B9-8934-B6C70C3322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4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A1D4-2DDF-4E00-A13A-B60A6B4D5D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5a  LOGIC: Converse and Bicondi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8BB0-BC29-4BC9-B0A8-6590C407FF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6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4156-02F9-4F88-9265-4D4DCB0C28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7a  SOLIDS AND SIMILARITY: Classifying So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2380-FF2A-491A-BD7D-1F94496F55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8a  TRANSFORMATIONS: Ro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023D-1F5C-44AA-9EFC-499445D02D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1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1A19-ACE5-42F6-B91A-DCA5792CFF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9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2FA0-18D5-431A-A14A-EEE0F7F6A7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0a  ANGLES: Constru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A617-816C-46EB-9EF4-769A557DB3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1a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DD7F-5632-4EBE-A089-61442DD1EC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2a  RADICALS: Simplify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1E17-8B9C-418F-9669-ABC380E167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3a  RATIONALS: Addition and Subtract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745C-BEFD-4A14-A2CC-D5F762EE75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4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F296-89B5-4647-BB91-BF879295A4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5a  INEQUALITIES: Solving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B5A5-D206-4C78-A603-93DB8C648E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6a  CONICS: Graphing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9FD0-4BEE-4457-A03F-C9B823086A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7a  RATE: Modeling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AD49-573A-4FB7-8606-271B636DB2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8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8738-AC96-42C5-8838-0F93A8413C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2a  ANGLES: Angles Involving Paralle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65B1-BCA5-47E0-86AF-C059462779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9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85C9-A9A3-4A61-BCE4-92BF988793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0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7673-ED17-40A6-B3B3-C1CD59E9D5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1a  RATE: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29E7-2D3E-45D5-8CC5-D0560D6604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2a  GRAPHS AND STATISTICS: Average Known with Missing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3A82-D158-4D8C-9463-666E37E53B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3a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93F6-83B3-4395-B787-3CE776EE1C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4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59B6-6455-4DB6-8540-1FAA585DD4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5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EAC1-DE5E-4457-B2F3-536D9CDD90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6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2BA1-0D19-4761-86F2-39A10C64CA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7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318A-8A28-4FBD-A176-222C664EAE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8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B6A7-2EA9-4DF7-8261-3614BBE336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3a  NUMBERS OPERATIONS AND PROPERTIES: 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3C14-6DFC-4AA4-9C0C-A8B0F4FF00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9a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E38F-4E10-4707-9CB1-B327231701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4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C403-1934-420A-AAF6-1F04E9C93E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5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679E-26B5-4E51-A264-0C835F54AF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6a  NUMBERS OPERATIONS AND PROPERTIES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ng Variable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CB16-AA58-4E8E-91CB-151C149BEE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7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2988-61E5-49FB-8DD6-E373AB3BF0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8a  LINEAR EQUATIONS: Slope Intercept Form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0DA7-1B34-4634-9911-E73F20B9BC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CFD4-2F4C-434D-B4C9-DB5A63D2F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25E2-0DFD-4894-AE0D-AF0A1A46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EC11-A84C-4375-8EAB-22284C86E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3F1C-DC5E-4EDF-B059-3D2F4716F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B4DA-5E56-4A81-A7BF-3E0102C9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3FA3-82C8-42FC-8318-2812E669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C84E-C3B3-4892-9A55-CE890CB7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16A0-3114-405A-BD9D-AC6015C5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7386-3A13-4972-86BA-DD8059D7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F237-876F-4F55-B687-B5DEBBC8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87A1-D175-4F1E-880F-4218FC19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4B5C-3635-4CDD-B6E0-FC808F39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272B-C2A1-479D-86E3-9A80BCE18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GRAPHS_AND_STATISTICS/JMAP_SOLUTIONS_RELATING_GRAPHS_TO_EVENTS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POWERS/JMAP_SOLUTIONS_OPERATIONS_WITH_POWERS.doc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QUADRATICS/JMAP_SOLUTIONS_FACTORING_POLYNOMI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NUMBERS_OPERATIONS_AND_PROPERTIES/JMAP_SOLUTIONS_RATIONAL_NUMBERS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QUADRATICS/JMAP_SOLUTIONS_SOLVING_QUADRATICS_BY_FACTORING.doc" TargetMode="Externa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ANGLES/JMAP_SOLUTIONS_CONSTRUCTIONS.doc" TargetMode="Externa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EQUATIONS/JMAP_SOLUTIONS_TRANSFORMING_FORMULAS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RADICALS/JMAP_SOLUTIONS_SIMPLIFYING_RADIC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RATIONALS/JMAP_SOLUTIONS_ADDITION_AND_SUBTRACTION_OF_RATIONALS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PROBABILITY/JMAP_SOLUTIONS_COMBINATIONS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hyperlink" Target="http://www.jmap.org/JMAP/JMAPSolutions/INEQUALITIES/JMAP_SOLUTIONS_SOLVING_INEQUALITIES.doc" TargetMode="Externa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hyperlink" Target="http://www.jmap.org/JMAP/JMAPSolutions/RATE/JMAP_SOLUTIONS_MODELING_RAT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ANGLES/JMAP_SOLUTIONS_ANGLES_INVOLVING_PARALLEL_LINE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hyperlink" Target="http://www.jmap.org/JMAP/JMAPSolutions/QUADRATICS/JMAP_SOLUTIONS_OPERATIONS_WITH_POLYNOMIALS.doc" TargetMode="Externa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hyperlink" Target="http://www.jmap.org/JMAP/JMAPSolutions/QUADRATICS/JMAP_SOLUTIONS_OPERATIONS_WITH_POLYNOMIALS.doc" TargetMode="Externa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hyperlink" Target="http://www.jmap.org/JMAP/JMAPSolutions/RATE/JMAP_SOLUTIONS_RATIO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hyperlink" Target="http://www.jmap.org/JMAP/JMAPSolutions/GRAPHS_AND_STATISTICS/JMAP_SOLUTIONS_AVERAGE_KNOWN_WITH_MISSING_DATA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NUMBERS_OPERATIONS_AND_PROPERTIES/JMAP_SOLUTIONS_INTEG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PROBABILITY/JMAP_SOLUTIONS_MULTIPLICATION_COUNTING_PRINCIPLE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NUMBERS_OPERATIONS_AND_PROPERTIES/JMAP_SOLUTIONS_EVALUATING_VARIABLE_EXPRESSIONS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LINEAR_EQUATIONS/JMAP_SOLUTIONS_SLOPE_INTERCEPT_FORM_OF_A_LIN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anuary 200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22320"/>
            <a:ext cx="9110520" cy="61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595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19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00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35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81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765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13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5486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085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76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797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447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352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81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482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12" descr=""/>
          <p:cNvPicPr/>
          <p:nvPr/>
        </p:nvPicPr>
        <p:blipFill>
          <a:blip r:embed="rId1"/>
          <a:stretch/>
        </p:blipFill>
        <p:spPr>
          <a:xfrm>
            <a:off x="0" y="0"/>
            <a:ext cx="8886960" cy="5129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809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048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133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2"/>
          <p:cNvGraphicFramePr/>
          <p:nvPr/>
        </p:nvGraphicFramePr>
        <p:xfrm>
          <a:off x="0" y="0"/>
          <a:ext cx="9144000" cy="250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5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952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025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3809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133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Object 2" descr=""/>
          <p:cNvPicPr/>
          <p:nvPr/>
        </p:nvPicPr>
        <p:blipFill>
          <a:blip r:embed="rId1"/>
          <a:stretch/>
        </p:blipFill>
        <p:spPr>
          <a:xfrm>
            <a:off x="0" y="228600"/>
            <a:ext cx="91090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76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4724280" y="871560"/>
            <a:ext cx="3413160" cy="5197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429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666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981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03:16:20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anuary 2004 Math A Regents Exam</cp:keywords>
  <dc:language>en-US</dc:language>
  <cp:lastModifiedBy>Steve</cp:lastModifiedBy>
  <dcterms:modified xsi:type="dcterms:W3CDTF">2007-07-16T02:43:12Z</dcterms:modified>
  <cp:revision>5</cp:revision>
  <dc:subject/>
  <dc:title>JMAP 0104ExamA Slideshow</dc:title>
</cp:coreProperties>
</file>