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12.jpeg" ContentType="image/jpeg"/>
  <Override PartName="/ppt/media/image33.wmf" ContentType="image/x-wmf"/>
  <Override PartName="/ppt/media/image41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30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F1B-3DA2-42E4-B51F-1454D137B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E86-7F62-42F9-9DA2-4BBA74696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F66A-90B5-4962-A8BD-62BE302D9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75D-3B99-4E1C-9A6E-1D9A531C6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AE7-220F-4954-A7F3-AADD0463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E9D-9818-4EDC-B5BF-CC0297019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46EE-1C18-462E-906D-EDFD2BF52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E9A-6306-4098-84CA-5C8061507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C96-C877-406D-BD56-7D2AC9F7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E91A-01C5-4E8C-BA5E-80E2D0B09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F87-76D2-4FC5-A4D4-B0C843FA9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8BA7-7A75-4B3D-A5BC-7BA0BD418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535-21EC-4555-8C4B-2617B48E3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6F69-9DAB-463E-89B7-1F9820F20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5679-E188-491B-B8BA-9A0DE0B5D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98F2-76CF-4DBE-8476-5CDC635E5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631-4F3C-4724-835F-206DB9219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B1CD-6FF5-4896-9FC2-FF6D3E885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6B5-429E-4FF7-8F25-CC444CA2A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A49-E0C4-4922-9776-EFEE45C7F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CED-6F88-4675-B3CE-144BB2050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1BEF-EBC2-41F7-A694-0729D5042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BDE-4E70-41A0-8A87-2C64C81E9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474-764E-4381-B546-823604DB9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BD5-CA7E-4656-B60B-32D9DD94C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0007-87EC-4907-80F7-3635AFE5F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b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BA96-C57B-4FC9-ABF0-0A913941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FD9-52A1-46E7-9FED-CC542455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346-C798-466A-85DE-53DA6E03F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CF3F-5A86-485C-97FC-E43DC3E92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72B-80BD-40D3-AF6B-06E90DCAC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A75-841D-44DB-9030-D036DF371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9279-FEA2-46AF-8DF7-D26D4B9C8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DE16-9088-46B5-9725-7B67EEDB0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D7FA-6E96-4629-87CC-77BCD8D26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593-56C5-4967-AE2C-48B14F0CF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DB5-2E3F-42B1-8915-F041CE7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1ED-BAE1-4797-85BE-A7F8EE65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323-AB08-4ABE-BAB5-F2E322B7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7E3-6A06-4D92-9E2B-BBAF8A09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3E1-BE15-427B-BC9F-6D633A03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62C-22A0-4C8C-82DF-6F0AAB0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659-C8F6-44F3-AD83-C9F9F90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205-3765-4AD7-952C-655CEB6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500-1A6E-44CB-90CE-C62246B2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47F-584B-4735-871D-853B41C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1CC-867B-4CFD-8F35-65FBD8E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01D-EB36-4CA5-9FC8-E328014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726-B93B-433B-BC22-508D70561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RATIONALS/JMAP_SOLUTIONS_INVERSE_VAR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3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3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8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79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667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6064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547800" cy="37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1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297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2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53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6 Math A Regents Exam</cp:keywords>
  <dc:language>en-US</dc:language>
  <cp:lastModifiedBy>Steve</cp:lastModifiedBy>
  <dcterms:modified xsi:type="dcterms:W3CDTF">2007-07-16T02:56:36Z</dcterms:modified>
  <cp:revision>4</cp:revision>
  <dc:subject/>
  <dc:title>JMAP 0606ExamB Slideshow</dc:title>
</cp:coreProperties>
</file>