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7.wmf" ContentType="image/x-wmf"/>
  <Override PartName="/ppt/media/image4.wmf" ContentType="image/x-wmf"/>
  <Override PartName="/ppt/media/image34.wmf" ContentType="image/x-wmf"/>
  <Override PartName="/ppt/media/image41.wmf" ContentType="image/x-wmf"/>
  <Override PartName="/ppt/media/image10.jpeg" ContentType="image/jpeg"/>
  <Override PartName="/ppt/media/image13.wmf" ContentType="image/x-wmf"/>
  <Override PartName="/ppt/media/image37.wmf" ContentType="image/x-wmf"/>
  <Override PartName="/ppt/media/image40.wmf" ContentType="image/x-wmf"/>
  <Override PartName="/ppt/media/image30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33.wmf" ContentType="image/x-wmf"/>
  <Override PartName="/ppt/media/image38.wmf" ContentType="image/x-wmf"/>
  <Override PartName="/ppt/media/image8.wmf" ContentType="image/x-wmf"/>
  <Override PartName="/ppt/media/image12.jpeg" ContentType="image/jpeg"/>
  <Override PartName="/ppt/media/image45.wmf" ContentType="image/x-wmf"/>
  <Override PartName="/ppt/media/image46.wmf" ContentType="image/x-wmf"/>
  <Override PartName="/ppt/media/image11.wmf" ContentType="image/x-wmf"/>
  <Override PartName="/ppt/media/image39.wmf" ContentType="image/x-wmf"/>
  <Override PartName="/ppt/media/image9.wmf" ContentType="image/x-wmf"/>
  <Override PartName="/ppt/media/image36.wmf" ContentType="image/x-wmf"/>
  <Override PartName="/ppt/media/image6.wmf" ContentType="image/x-wmf"/>
  <Override PartName="/ppt/media/image19.jpeg" ContentType="image/jpeg"/>
  <Override PartName="/ppt/media/image29.wmf" ContentType="image/x-wmf"/>
  <Override PartName="/ppt/media/image7.jpeg" ContentType="image/jpeg"/>
  <Override PartName="/ppt/media/image31.wmf" ContentType="image/x-wmf"/>
  <Override PartName="/ppt/media/image28.wmf" ContentType="image/x-wmf"/>
  <Override PartName="/ppt/media/image3.jpeg" ContentType="image/jpeg"/>
  <Override PartName="/ppt/media/image32.wmf" ContentType="image/x-wmf"/>
  <Override PartName="/ppt/media/image2.wmf" ContentType="image/x-wmf"/>
  <Override PartName="/ppt/media/image25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F9656-8CC1-4095-99C1-966DAFDEB9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01F55-0FB3-49BA-9590-B85A86F3B1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09a  POWERS: Scientific No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8C75E-5B24-4CF8-9AF3-4DA91C4F90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10a  INEQUALITIES: Solving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2401A-114E-47F0-A013-9CE0DE17ED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11a  CONICS: Circle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CF6F2-4E2B-48B1-872F-4B43B542E2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12a  PROBABILITY: Multiplication Counting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DE3D6-24F4-4D02-BB18-D73EC296C9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13a  TRIANGLES: Special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4D6EF-C48A-4550-84CE-56A5E63F25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14a  TRANSFORMATIONS: Trans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FAF7E-FA06-4132-A6DE-0762576DA4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15a  TRIANGLES: Pythago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5DE97-5D86-4D11-8305-46CFE9B2DF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16a  LOGIC:  In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02418-AC65-474C-91DB-1FD43B347A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17a  CONICS: Circumference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49475-02EB-4D96-91ED-F02E928081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18a  GRAPHS AND STATISTICS: Central Tend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AAA51-0450-4BF8-9B43-F50E7CA071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01a  EQUATIONS: Combin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4B1DA-3EB1-481B-8CAF-143F77B6D6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19a  QUADRATICS: Operations with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DC9B7-797E-44CF-AC46-1965C1CD8E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20a  EQUATIONS: Transforming Formu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80365-0B27-48DC-8323-D2AA9FDD8F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21a  GRAPHS AND STATISTICS: Venn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BE567-8D1C-460D-BCE1-414277617F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22a  RADICALS: Operations with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77FEE-1603-4B54-AF5B-BF775F21F0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23a  LOGIC: L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211C8-31C4-4A53-B0DD-B5FE1E33E9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24a   ANGLES: Complementary Supplementary and Vertical 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5053C-146A-42E3-ACEF-117045ED5E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25a  CONICS: Equations of Cir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6C6F5-B65A-4F56-9CF7-3B6FEE629D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26a  RATE: Per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6A772-CD73-435C-B3FB-87E0BC08AF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27a  LOGIC: Converse and Bicondit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D5EFB-A12B-4602-8674-36CA517DE8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28a  PROBABILITY: Comb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A58AB-BEB6-44DE-BF7C-EFF82FD648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02a  TRANSFORMATIONS: Refl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7A98-D398-4B03-8AEA-D7711916CD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29a  INEQUALITIES: Linear Inequalities and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12FEE-BD62-4AA4-ADB1-E9A8539329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30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0E5D0-BCCA-4260-B346-BC4A6BD19C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31a  RATIONALS: Rational Expre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8DFF8-9C84-4C93-AF2A-271CD174EA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32a  NUMBERS OPERATIONS AND PROPERTIES: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6A3D6-5BD7-4C37-995B-F97059309B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33a  CONICS: Graphing Cir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A72E7-64E8-46AB-8EA6-3E3A688B01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34a  PROBABILITY: Geometric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DF5C0-71D3-4063-89E6-9A721D5C5D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35a  EQUATIONS: Using the Distributive Prope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653CE-30DF-4FF1-AD48-F0009C0A6F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36a  EQUATIONS: Solving Two Step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97403-A2BD-4E96-8A6A-7E6826A297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37a  QUADRATICS: Solving Quadratic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5D483-2720-4181-B679-A90F3BF0DE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38a  TRIANGLES: Basic Trigonometric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C7DFF-BB71-4302-82BF-495934EBD4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03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3619-71BF-43A2-9405-5EFFF4F9BD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39a  ANGLES: Angles Involving Parallel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4A80E-5D68-4860-81CF-2C35A68962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04a  FUNCTIONS: Modeling Relationshi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AAF63-CDB0-48D0-BE66-328D6103DA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05a  LINEAR EQUATIONS: Slope Intercept Form of a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EDC30-9B1B-4211-A2E4-5ED8C50B5A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06a  QUADRATICS: Quadratic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0F677-025A-40A5-B199-2DC63C283F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07a  RATIONALS: Rational Expre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11C83-972F-4A59-9FCF-04B43943C6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08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71FBF-1675-409E-B288-725AD36729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6C74-F820-4330-8F02-FABB77B75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52AD-C55A-434F-B7C8-C4DF7E865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C580-AA0F-47DF-B48C-5C7FF928A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4189-5A4C-4A31-BB3E-30138352B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7555-CADB-4405-A547-56C2613CC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3CF1-524C-489E-AAD4-A8F8892F8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26DE-5E52-4783-B341-029A75BC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0790-CC6B-429A-B701-27962A134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B812-805C-4D80-B33D-ECF0A24FB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EC04-5990-40E2-8792-87E747B7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4195-145C-475B-952C-6C0418DC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AC56-E4C9-420F-A4C5-DE1A98C0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31BA1-A33D-47B7-B15C-A2AAB0C6D8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hyperlink" Target="http://www.jmap.org/JMAP/JMAPSolutions/POWERS/JMAP_SOLUTIONS_SCIENTIFIC_NOTATION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hyperlink" Target="http://www.jmap.org/JMAP/JMAPSolutions/INEQUALITIES/JMAP_SOLUTIONS_SOLVING_INEQUALITIES.doc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www.jmap.org/JMAP/JMAPSolutions/PROBABILITY/JMAP_SOLUTIONS_MULTIPLICATION_COUNTING_PRINCIPLE.doc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hyperlink" Target="http://www.jmap.org/JMAP/JMAPSolutions/GRAPHS_AND_STATISTICS/JMAP_SOLUTIONS_CENTRAL_TENDENCY.doc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EQUATIONS/JMAP_SOLUTIONS_COMBINING_LIKE_TER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hyperlink" Target="http://www.jmap.org/JMAP/JMAPSolutions/QUADRATICS/JMAP_SOLUTIONS_OPERATIONS_WITH_POLYNOMIALS.doc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hyperlink" Target="http://www.jmap.org/JMAP/JMAPSolutions/EQUATIONS/JMAP_SOLUTIONS_TRANSFORMING_FORMULAS.doc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hyperlink" Target="http://www.jmap.org/JMAP/JMAPSolutions/GRAPHS_AND_STATISTICS/JMAP_SOLUTIONS_VENN_DIAGRAMS.doc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hyperlink" Target="http://www.jmap.org/JMAP/JMAPSolutions/RADICALS/JMAP_SOLUTIONS_OPERATIONS_WITH_RADICALS.doc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hyperlink" Target="http://www.jmap.org/JMAP/JMAPSolutions/ANGLES/JMAP_SOLUTIONS_COMPLEMENTARY_SUPPLEMENTARY_AND_VERTICAL_ANGL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hyperlink" Target="http://www.jmap.org/JMAP/JMAPSolutions/RATE/JMAP_SOLUTIONS_PERCENT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hyperlink" Target="http://www.jmap.org/JMAP/JMAPSolutions/PROBABILITY/JMAP_SOLUTIONS_COMBINATIONS.doc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hyperlink" Target="http://www.jmap.org/JMAP/JMAPSolutions/INEQUALITIES/JMAP_SOLUTIONS_LINEAR_INEQUALITIES_AND_SYSTEMS.doc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hyperlink" Target="http://www.jmap.org/JMAP/JMAPSolutions/NUMBERS_OPERATIONS_AND_PROPERTIES/JMAP_SOLUTIONS_PROPERTIES_OF_RE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hyperlink" Target="http://www.jmap.org/JMAP/JMAPSolutions/RATIONALS/JMAP_SOLUTIONS_RATIONAL_EXPRESSIONS.doc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hyperlink" Target="http://www.jmap.org/JMAP/JMAPSolutions/NUMBERS_OPERATIONS_AND_PROPERTIES/JMAP_SOLUTIONS_RATIONAL_NUMBERS.doc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hyperlink" Target="http://www.jmap.org/JMAP/JMAPSolutions/PROBABILITY/JMAP_SOLUTIONS_GEOMETRIC_PROBABILITY.doc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FUNCTIONS/JMAP_SOLUTIONS_MODELING_RELATIONSHIPS.doc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http://www.jmap.org/JMAP/JMAPSolutions/LINEAR_EQUATIONS/JMAP_SOLUTIONS_SLOPE_INTERCEPT_FORM_OF_A_LINE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jmap.org/JMAP/JMAPSolutions/QUADRATICS/JMAP_SOLUTIONS_QUADRATIC_FUNCTIONS.doc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hyperlink" Target="http://www.jmap.org/JMAP/JMAPSolutions/RATIONALS/JMAP_SOLUTIONS_RATIONAL_EXPRESSIONS.doc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hematics 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anuary 200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405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6324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852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ject 2" descr=""/>
          <p:cNvPicPr/>
          <p:nvPr/>
        </p:nvPicPr>
        <p:blipFill>
          <a:blip r:embed="rId1"/>
          <a:stretch/>
        </p:blipFill>
        <p:spPr>
          <a:xfrm>
            <a:off x="34920" y="0"/>
            <a:ext cx="910908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2"/>
          <p:cNvGraphicFramePr/>
          <p:nvPr/>
        </p:nvGraphicFramePr>
        <p:xfrm>
          <a:off x="0" y="0"/>
          <a:ext cx="9144000" cy="214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21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8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928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66320" cy="3962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579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4724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276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917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29600" cy="1157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2666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070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495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735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676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87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733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5562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80560" cy="2109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089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143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Object 2" descr=""/>
          <p:cNvPicPr/>
          <p:nvPr/>
        </p:nvPicPr>
        <p:blipFill>
          <a:blip r:embed="rId1"/>
          <a:stretch/>
        </p:blipFill>
        <p:spPr>
          <a:xfrm>
            <a:off x="34920" y="228600"/>
            <a:ext cx="9109080" cy="62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Object 11" descr=""/>
          <p:cNvPicPr/>
          <p:nvPr/>
        </p:nvPicPr>
        <p:blipFill>
          <a:blip r:embed="rId1"/>
          <a:stretch/>
        </p:blipFill>
        <p:spPr>
          <a:xfrm>
            <a:off x="0" y="0"/>
            <a:ext cx="9043920" cy="5272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700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97720" y="5791320"/>
            <a:ext cx="746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429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5737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743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03:37:51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cp:keywords>January 2006 Math A Regents Exam</cp:keywords>
  <dc:language>en-US</dc:language>
  <cp:lastModifiedBy>Steve</cp:lastModifiedBy>
  <dcterms:modified xsi:type="dcterms:W3CDTF">2007-07-16T02:44:01Z</dcterms:modified>
  <cp:revision>5</cp:revision>
  <dc:subject/>
  <dc:title>JMAP 0106ExamA Slideshow</dc:title>
</cp:coreProperties>
</file>