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3.jpeg" ContentType="image/jpeg"/>
  <Override PartName="/ppt/media/image2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33.wmf" ContentType="image/x-wmf"/>
  <Override PartName="/ppt/media/image48.png" ContentType="image/png"/>
  <Override PartName="/ppt/media/image45.wmf" ContentType="image/x-wmf"/>
  <Override PartName="/ppt/media/image46.wmf" ContentType="image/x-wmf"/>
  <Override PartName="/ppt/media/image10.wmf" ContentType="image/x-wmf"/>
  <Override PartName="/ppt/media/image47.wmf" ContentType="image/x-wmf"/>
  <Override PartName="/ppt/media/image41.wmf" ContentType="image/x-wmf"/>
  <Override PartName="/ppt/media/image8.jpeg" ContentType="image/jpeg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E62-57A2-4BD1-9228-CA586E9B8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D085-2F8E-46D5-817B-2A845FE37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A82-A014-4D56-8ED2-C08E0D4FA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05E2-67B9-4A3A-B780-BC235B9AB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E14-248B-4A6D-B37A-8A3CB58FE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16A-4523-475C-AFAD-C2F271B92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382-CFB8-43D6-8150-25DDB9B0C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A8C-0EC7-496D-864F-9CAA40E1E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588-B99B-4125-B93A-00A816B14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24A-B573-4E05-BAEA-6CA264BA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058-ED57-41B6-B570-686FBD21E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ED6F-FC1D-4FF6-AC40-8C95CFF02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F44-211E-422E-8801-F04A6AF02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75A-FAFE-454A-AC71-586B4A2DA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471C-AC42-414A-AE95-D660FE9E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5D3B-67E0-417A-8352-FA6ED6960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B4E-AC36-44D5-8748-A7935E760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A91-B905-4F46-BCEA-C7B51E4BC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2CD9-044B-406E-8616-FD143CC75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65EE-86B2-43BA-A7C8-CDFDDBCD1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A23-9457-4E7F-8AA5-7A68676DC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987-9805-4328-9545-3027E41F8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0F8-1C28-4CD4-ADB9-569A51681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DD5-E418-473D-B9A2-3BD7B0C8E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3E7-697C-476F-9CDB-3E7CA59B0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75B-4FE1-4B9E-86C7-40D697A5A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06E-CA84-45D6-9656-A230D9D6A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5C1-7195-472E-B757-CFAC88C99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B3D6-E352-446F-B199-F039086F3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B9BB-623A-4DC0-9974-E4D6E3162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70F-62EC-4D7F-8E95-8684909B2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B88D-7B06-49EE-B2E5-0D5F31067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243-C3DE-40AD-862B-B53A83307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A8D1-E968-49F1-A05A-7353876F9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2C5-2FC0-4336-B319-647D046EA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7BAD-F5F1-415E-ABCE-8A110831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2503-9C72-4E8D-B011-7D9768515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8D6C-9BFE-4156-B1A0-2F51AB1E3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B35B-54B2-48A5-BD8F-4F9FC17DE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E213-0131-4364-8240-8CDE1018E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B01B-8CA6-4E35-AD58-6193FDD8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770-6F57-4042-A457-AE7377A9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898-BA50-49B1-AC5A-AF5C7D56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A7A-7CF9-4BBE-A1C1-2E205C9B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9BE-BCB6-4E25-8848-8BA92EE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FD7-0AF8-41CE-B1F0-E1518400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625-66ED-48C0-AC05-8975106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F2F-2919-48CB-8E45-2D6294D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FC2-5D7D-4742-A842-A15157F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774-8645-4679-9981-602CD0CE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8A2-C91E-4827-BDBC-702EA51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861-1A9B-4E6E-9683-E8A53A9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8D0-1705-4A95-8034-3B714D8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BE0A-21AD-4A85-92BC-6AF1C77E2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9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4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0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58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74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0" y="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657600" cy="3679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7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45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5 Math A Regents Exam</cp:keywords>
  <dc:language>en-US</dc:language>
  <cp:lastModifiedBy>Steve</cp:lastModifiedBy>
  <dcterms:modified xsi:type="dcterms:W3CDTF">2007-07-16T02:50:12Z</dcterms:modified>
  <cp:revision>4</cp:revision>
  <dc:subject/>
  <dc:title>JMAP 0805ExamA Slideshow</dc:title>
</cp:coreProperties>
</file>