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1.jpeg" ContentType="image/jpeg"/>
  <Override PartName="/ppt/media/image23.wmf" ContentType="image/x-wmf"/>
  <Override PartName="/ppt/media/image12.wmf" ContentType="image/x-wmf"/>
  <Override PartName="/ppt/media/image35.wmf" ContentType="image/x-wmf"/>
  <Override PartName="/ppt/media/image24.jpeg" ContentType="image/jpeg"/>
  <Override PartName="/ppt/media/image37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13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3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3A5B-1E76-4512-A2F5-3D0E87268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4D1F-CB59-46FE-BFF5-37B1F8C91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F57-1E13-47E7-B057-C0C6FF05D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6C2-3B54-4043-BC3E-37FF4A94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6E5A-A3B2-42BB-A565-8E69651D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6E25-51F2-4CD3-BC59-F8EE56E0B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6F1-9EE1-4BE0-BF45-8FC0C9611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AA7-0E51-4F4B-93D1-33093DCC3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91C-96A7-4832-9AF1-87BA03CB8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F59-77CA-4404-B347-473314508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FCB1-7195-4635-85F1-C62489688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664-F559-4813-840A-326886C7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DAEC-5D06-4A9A-B1D5-E03CAA509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1D0-CA0D-4029-B0AC-60D18EB7F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4FE-AE0E-4E47-8413-3B3648D0B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0181-BD07-443C-9152-F30035E56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ED2-5BC5-4E87-8A88-FE1351CA3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7F29-EB20-4E68-9E61-F580CA19E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3B7-32C2-4C07-87D6-60C020A0E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1C6-1870-44AB-85AC-EEE516151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324-79C8-40BA-A372-A7E0DE412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D3A-D465-4C12-87BF-13A5D38EB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C3A-CAF7-467C-ADE8-BC5699776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B5D0-87E1-4C78-98C2-2A67DFA83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306A-B84F-494F-8F6F-2D85AB4C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2B3-E7FB-4E36-97AC-6AC687FED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B0F-F794-40F4-9232-BF9A14397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130-D58F-4732-B167-187E82091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156-26BA-4ACD-A4E1-D798A09E5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F61-BB60-4B93-851E-F59E653D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4FD-0AE7-418E-BB79-EA3D4B05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5CA-D923-4F7D-BAD1-55408A415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F32-F826-42B6-A9EB-A485A5215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8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061-C3D0-433B-BB8F-E8D89570E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183E-3BCE-43AD-953F-5FEA34305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64B8-6F1E-4F32-B4A6-F1CAFD43D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DA4-4C2B-430B-A896-DB73D251E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19F-939E-411D-8915-9007B862B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FD7-96AE-4D87-944D-A63E7A3CA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7217-E7AC-4FAA-A5DD-08915DF41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4982-63E9-4F45-98F0-218BA6780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DED-B30B-41CF-A7FD-0C8A47DE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460-352C-4A9B-9B32-24849D2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3A0-5AA8-4FD5-A67F-46304C2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E27-B638-4AB2-9F94-C31F40A1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578-001E-4239-A826-985DE796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391-9825-43EA-97A8-08AF025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2C5-2B6A-407E-9C39-19E291FC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2FE-8873-4E8D-BE9F-D3E6709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678-A01B-4F4D-A0EE-DED3997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F41-4929-4734-957B-5D1234D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9FC-537E-42D7-B913-F3F4C03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A6A-9022-4606-9D8B-648DD48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214-6AF4-4F42-8E64-968A1CAF1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_RESOURCES_BY_TOPIC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36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1560" cy="194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9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97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32:5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5 Math A Regents Exam</cp:keywords>
  <dc:language>en-US</dc:language>
  <cp:lastModifiedBy>Steve</cp:lastModifiedBy>
  <dcterms:modified xsi:type="dcterms:W3CDTF">2007-07-16T02:47:20Z</dcterms:modified>
  <cp:revision>5</cp:revision>
  <dc:subject/>
  <dc:title>JMAP 0605ExamA Slideshow</dc:title>
</cp:coreProperties>
</file>