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2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13.wmf" ContentType="image/x-wmf"/>
  <Override PartName="/ppt/media/image41.wmf" ContentType="image/x-wmf"/>
  <Override PartName="/ppt/media/image8.jpeg" ContentType="image/jpeg"/>
  <Override PartName="/ppt/media/image30.wmf" ContentType="image/x-wmf"/>
  <Override PartName="/ppt/media/image28.wmf" ContentType="image/x-wmf"/>
  <Override PartName="/ppt/media/image31.wmf" ContentType="image/x-wmf"/>
  <Override PartName="/ppt/media/image33.png" ContentType="image/png"/>
  <Override PartName="/ppt/media/image11.wmf" ContentType="image/x-wmf"/>
  <Override PartName="/ppt/media/image36.png" ContentType="image/png"/>
  <Override PartName="/ppt/media/image40.wmf" ContentType="image/x-wmf"/>
  <Override PartName="/ppt/media/image37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38.wmf" ContentType="image/x-wmf"/>
  <Override PartName="/ppt/media/image4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1.jpeg" ContentType="image/jpeg"/>
  <Override PartName="/ppt/media/image1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F380-66AC-454A-A6D3-2BC6B0EB0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26A0-2F92-4DA0-9267-50B7150E9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9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C0D9-6D63-4B3E-9BF5-2916E0D29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0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656F-E305-4FD2-A98C-D332A441D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1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CB74-E08C-4808-9617-E0708BA7C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2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6683-3122-46BF-AAC7-CC2333C1E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5964-1D20-453B-8FEC-2779F693D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4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8DA2-26E5-4987-A0D8-4578F161C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5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7D46-80AA-45D8-9953-84ED39689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6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8022-1F33-4826-B3E1-9B6ADCA94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7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6650-362B-48AF-ACA7-05E9194F5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8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2AFC-FC12-4C48-8371-0690B40DE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1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3D16-1E78-4870-AE2A-ED414B6B6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9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56A1-DAEB-4520-9AB7-34BCB3C91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18B2-5EAB-47D0-B77D-C7C8C2DFF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1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6042-2EE0-4F23-BD4F-05C3B7A6C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2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7E08-AAFE-44CB-B5FE-57CBFE1BF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3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07F5-7AD9-46E9-8C77-2E4E5C979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4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8F54-4E06-402E-8B81-DEE2E7DA7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5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6811-E9EC-4534-B02F-72888B4B0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6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899E-D42C-40D3-8F37-2528FD354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7b  PROBABILITY: Norm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6E73-62D9-4619-A760-3B1D7E29B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8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56B4-1B16-420D-9518-24FD0EF23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ED0F-94B4-47E4-996F-AA46CA1DC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9b  INEQUALITIES: Trigonometr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C16A-DA06-4BEC-941C-03EB8772A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0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F97A-8D92-4519-9DD5-EB1C3CB51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1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5538-2D6A-4FF0-809A-A1FE33E97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2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CA86-EF9A-4C66-A5BF-5470149E0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86D3-E004-4298-8D6E-7BD68E5B9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4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33E9-F7FF-428B-8E88-EF5A9DBE6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3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29CB-8E76-400C-BA40-9257F6F1A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4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8A4B-54D3-4E4B-8C7B-EA76CF11D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5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2F73-9638-4C0E-800D-8D1DCF747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6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9888-D25E-4E97-B575-C3548663E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7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14F3-C2F5-40FD-BCBF-1F0CF8B71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8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01B4-81B9-46F2-A2EB-155CDDBAE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73D-C7B8-4833-8D8C-2F4A24F0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46B-08B3-4AB6-ABB0-CEDDF238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383-78D2-4615-A2A1-AB64F630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14C-EAB8-41A0-8AFC-BD04E2C8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ABB-D570-47F8-9CE6-980F3F26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8BE-3684-4E24-9915-FE2CE1F2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441-033F-4AAF-8CE1-F4D6E8E9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C1A-653C-4FB3-94B2-7B2F4052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B61-3878-456F-97FB-6AAE55DE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736-5C4E-498C-9D0E-4FA36CBD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447-B088-4A2D-A5F2-0755FCC6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7BC-6B34-4C8C-BFE5-E92128A2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45EC-3B10-4C35-9A40-8C9B66BC3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INEQUALITIES/JMAP_SOLUTIONS_QUADRATIC_INEQUALITIE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ROBABILITY/JMAP_SOLUTIONS_NORMAL_PROBABIILITY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7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57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25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7640" cy="22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9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238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48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178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6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2868480" cy="373392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3" descr=""/>
          <p:cNvPicPr/>
          <p:nvPr/>
        </p:nvPicPr>
        <p:blipFill>
          <a:blip r:embed="rId2"/>
          <a:stretch/>
        </p:blipFill>
        <p:spPr>
          <a:xfrm>
            <a:off x="-1751040" y="0"/>
            <a:ext cx="8966160" cy="6032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3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-2057400" y="0"/>
            <a:ext cx="9078840" cy="443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3962520" cy="5295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270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82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6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714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1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09:1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3 Math B Regents Exam</cp:keywords>
  <dc:language>en-US</dc:language>
  <cp:lastModifiedBy>Steve</cp:lastModifiedBy>
  <dcterms:modified xsi:type="dcterms:W3CDTF">2007-07-16T02:52:58Z</dcterms:modified>
  <cp:revision>4</cp:revision>
  <dc:subject/>
  <dc:title>JMAP 0103ExamB Slideshow</dc:title>
</cp:coreProperties>
</file>