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8.wmf" ContentType="image/x-wmf"/>
  <Override PartName="/ppt/media/image41.wmf" ContentType="image/x-wmf"/>
  <Override PartName="/ppt/media/image8.jpeg" ContentType="image/jpeg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36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FB9C-C0B5-4B81-900E-B79BBAA0F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495F-DCE3-40A0-B3B3-DD2888B62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3836-178C-4FE5-B471-561299D75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0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BDE-4BCA-40C9-A4BF-B15D6812B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1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410-8F38-46AF-8CA4-2C7ECEF39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2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4AD1-0B76-41A8-9797-F7D1F21E8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3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5BD9-CB43-4029-93C2-721A20FF5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4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55F5-F812-4158-84A8-98B8BBC4C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5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F791-9403-4FDF-AC09-82151993E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6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DD2A-9290-4F10-821D-2A58D385D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7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7D98-B2B5-458A-AB04-717EAF903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8a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3427-C06B-42C6-B218-5D77D91AE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F74B-8563-4428-AE6B-BBCDFF2CA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A617-5A90-4120-8898-7797A537C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0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ED5A-8635-483B-9B23-56A5F1780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1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42A6-7957-49C6-BE53-CD4BEDB59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2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B0F2-776A-4A91-BC35-F78A836A7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07C4-FA9C-4DE3-A2CF-F900AD87A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4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F2D6-ABA3-4884-8496-64AFFE781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5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14E4-31FD-4228-965C-62B1B055F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1A07-5382-40D2-B9C7-A9A4C933C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22EB-6C63-4816-B18D-B82F7C78F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8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C1AA-D083-4ACC-A21C-958328727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4B10-06B7-4B65-8C49-73F02F820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9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12A2-232B-48B0-A757-772814551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0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057-7E45-4675-B753-CC252A26E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5E3-BA3C-4250-8980-859C96C39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2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B5D-7DB1-4F5B-9802-A9C7EAFF6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3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8A88-47B8-4A60-8401-2DE1AD9DD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4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AEE-B666-4A95-9A19-6F1A41565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5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A922-0450-4B2B-B08C-8EADD1FA5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6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FE63-BBA4-45B1-9266-5651FC7B8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F596-7AD5-40B1-9461-5198638D3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8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3D42-D627-43F0-BC2C-B729C06D1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93EB-5D9A-4544-AA46-CAC147194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9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645F-6641-4BA1-ACE6-BE28E7D8B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DCC3-BC56-492F-A750-43A908E39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3A88-3035-469F-A593-9E854CDB5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C048-6668-452D-A1CF-F9FF5EDF9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7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8427-0D1E-47AD-AFCA-E9E5F967C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8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EBB-9DE9-458D-BD70-E81574D77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71E-9EF9-4402-AB6B-634CF7FB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BBF-DE41-4756-910B-BF94CDBF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A34-FAC5-4D66-9052-B78A12FE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7DE-17DF-428A-A168-9BE00CE3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094-3ACD-4CA0-BAF1-AEA21545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DC6-B014-4C34-BF76-1C41C54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CF8-74CE-4542-BD2A-6D3FCB4D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FB8-4137-41B8-A175-BAF5D778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5F9-B9E0-49F0-944D-8DCAB6E5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268-1F3B-4DF3-A108-E461FE2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9D8-A117-42BC-909E-CE794869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C68-235F-4AE2-ABBF-1626265A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582E-4877-4DE6-8181-5C6C65F55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_RESOURCES_BY_TOPIC.htm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32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8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68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93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562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65160" y="0"/>
            <a:ext cx="9078840" cy="204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630520" y="2362320"/>
            <a:ext cx="3236760" cy="4135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11160"/>
            <a:ext cx="9090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2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4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25:0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5 Math A Regents Exam</cp:keywords>
  <dc:language>en-US</dc:language>
  <cp:lastModifiedBy>Steve</cp:lastModifiedBy>
  <dcterms:modified xsi:type="dcterms:W3CDTF">2007-07-16T02:43:36Z</dcterms:modified>
  <cp:revision>6</cp:revision>
  <dc:subject/>
  <dc:title>JMAP 0105ExamA Slideshow</dc:title>
</cp:coreProperties>
</file>