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3.png" ContentType="image/png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55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A6C-25D3-454A-AFD0-712C5386B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635-0720-4995-BCD0-AB095C25F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852-0C13-4E6E-BCDD-E80F6A702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F4FF-E54B-43F3-82D8-072FDB0FC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EED-5774-496C-A3B7-354F1C14F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6C9-4EAE-4680-99E8-F6855DA0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608-24D2-4427-A22F-BE7C1FA02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b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B4F1-5FC4-48C7-842E-47E9F1DE5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D93-575F-4A52-9102-F29CB014E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DB8-EE77-45A8-83D2-C4E6D0C93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AD68-2151-4795-8B7B-88BD30B6D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87D9-4BE5-4F96-84B3-E4336C9A3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615-6D67-40A5-8A5A-D0E848118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836-9456-48D7-862F-C21B28D39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B402-A852-4519-8D9D-AFEE33D63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348-1DFF-418E-8E99-62644A8EA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76AE-DF53-4079-98B3-8542BF932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3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63A0-165C-4325-BCA1-DCE3C4B3B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b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8A62-C18C-495B-B1C8-D4CFDE28B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6D16-2F04-4441-8A2C-06DAF2335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6b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7F1-F238-4AF4-B47F-4EEBB0C9B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64E-71BD-46F6-B253-3D4F2F551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CAA3-D290-43FE-978F-FDF4D39D1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3349-F570-4BF9-873F-404EBD2E1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A59B-1EBA-4A27-AD7D-3164D857F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835-4093-4EED-ACF7-8B0D09CCF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9ADD-72B0-4CD0-99E9-A32472E32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254-8B37-446D-A22A-72D174982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9A2-0535-41EB-BE9F-91AA42E34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DC6D-0E2C-4AA6-9B17-526F004FF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806B-80D2-475F-A2D6-67D08068D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5B18-46FC-4E6E-B4FD-355EDA6F1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BD3-51C4-422F-8C2C-8157EDDE1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583-1DA8-4F01-BC2E-DAB320D3D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1271-33A3-4E28-83DC-5C0497FA7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317C-0BB9-42D3-90EC-435779C88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87F-04F9-4F34-A285-BA7A6E86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D3C-D839-4D86-9BDC-DEACEE41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B7A-72E2-4023-82AC-6EB24EE9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081-2550-40DF-8F6E-6475472C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158-5096-4CD0-BBE1-A60EF02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DCE-8870-428D-B640-B1B4450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92F-677D-4DB2-A81E-86CD793B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6D7-022A-49BB-86FC-D2E79C17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42C-8D76-4644-B47E-AA66C0BC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401-55C7-4374-8D10-A5F7628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7B4-98B7-4F1D-A413-2706A40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C87-A35F-4B2E-A3D5-8E992BD7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E8D-08F6-4DED-A2FD-7F48C388B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B/0807mathb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90000" cy="62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0" y="3733920"/>
          <a:ext cx="90900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1911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09000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-22320" y="0"/>
          <a:ext cx="9090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0"/>
                    <a:ext cx="9090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3581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09000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900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09000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"/>
          <p:cNvGraphicFramePr/>
          <p:nvPr/>
        </p:nvGraphicFramePr>
        <p:xfrm>
          <a:off x="0" y="3124080"/>
          <a:ext cx="909000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24080"/>
                    <a:ext cx="9090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5" descr=""/>
          <p:cNvPicPr/>
          <p:nvPr/>
        </p:nvPicPr>
        <p:blipFill>
          <a:blip r:embed="rId5"/>
          <a:stretch/>
        </p:blipFill>
        <p:spPr>
          <a:xfrm>
            <a:off x="2819520" y="609480"/>
            <a:ext cx="33526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900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2"/>
          <p:cNvGraphicFramePr/>
          <p:nvPr/>
        </p:nvGraphicFramePr>
        <p:xfrm>
          <a:off x="0" y="0"/>
          <a:ext cx="909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"/>
          <p:cNvGraphicFramePr/>
          <p:nvPr/>
        </p:nvGraphicFramePr>
        <p:xfrm>
          <a:off x="0" y="4343400"/>
          <a:ext cx="909000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43400"/>
                    <a:ext cx="9090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9000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0" y="0"/>
          <a:ext cx="90900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2743200" y="3048120"/>
            <a:ext cx="34290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0900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0136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01368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514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0" y="0"/>
          <a:ext cx="9090000" cy="24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4114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09000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0"/>
          <a:ext cx="90900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3505320" y="4464000"/>
            <a:ext cx="19047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90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0900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0900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0" y="44416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416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5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3623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4"/>
          <p:cNvGraphicFramePr/>
          <p:nvPr/>
        </p:nvGraphicFramePr>
        <p:xfrm>
          <a:off x="0" y="4114800"/>
          <a:ext cx="91440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14800"/>
                    <a:ext cx="9144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5" descr=""/>
          <p:cNvPicPr/>
          <p:nvPr/>
        </p:nvPicPr>
        <p:blipFill>
          <a:blip r:embed="rId5"/>
          <a:stretch/>
        </p:blipFill>
        <p:spPr>
          <a:xfrm>
            <a:off x="3048120" y="2057400"/>
            <a:ext cx="31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0" y="0"/>
          <a:ext cx="9090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366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90000" cy="30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9000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0" y="3886200"/>
          <a:ext cx="909000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86200"/>
                    <a:ext cx="9090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30481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4572000"/>
          <a:ext cx="909000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90900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1828800" y="1143000"/>
            <a:ext cx="5410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2:48:35Z</dcterms:created>
  <dc:creator>Steve Watson</dc:creator>
  <dc:description/>
  <dc:language>en-US</dc:language>
  <cp:lastModifiedBy>Steve</cp:lastModifiedBy>
  <dcterms:modified xsi:type="dcterms:W3CDTF">2007-09-16T18:37:06Z</dcterms:modified>
  <cp:revision>14</cp:revision>
  <dc:subject/>
  <dc:title>Slide 1</dc:title>
</cp:coreProperties>
</file>