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15.jpeg" ContentType="image/jpeg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7.jpeg" ContentType="image/jpeg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11.wmf" ContentType="image/x-wmf"/>
  <Override PartName="/ppt/media/image48.png" ContentType="image/png"/>
  <Override PartName="/ppt/media/image51.wmf" ContentType="image/x-wmf"/>
  <Override PartName="/ppt/media/image9.jpeg" ContentType="image/jpeg"/>
  <Override PartName="/ppt/media/image23.wmf" ContentType="image/x-wmf"/>
  <Override PartName="/ppt/media/image13.wmf" ContentType="image/x-wmf"/>
  <Override PartName="/ppt/media/image17.jpeg" ContentType="image/jpeg"/>
  <Override PartName="/ppt/media/image45.wmf" ContentType="image/x-wmf"/>
  <Override PartName="/ppt/media/image47.wmf" ContentType="image/x-wmf"/>
  <Override PartName="/ppt/media/image31.jpeg" ContentType="image/jpeg"/>
  <Override PartName="/ppt/media/image10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0036-66DE-4FFB-B26A-EC5E511D4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6CB5-C7FB-41A5-9696-F92E4F7C1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9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2CF8-99B3-4732-8AE2-5D9610BDD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0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B84A-F1C7-4205-A43D-4CCA11260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1b 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3C08-62E2-4F06-9E06-146C3331B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2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49D6-074B-4822-965A-A1A9E4801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C950-4119-4D2A-85B5-5E4A8C3DE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4b 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7421-EDEA-4D82-A39A-95775C103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5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2C05-0BBD-4544-B50B-6A611C315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78EC-A1F0-4BB7-930F-21264764B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7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2AF5-3087-43A0-9BF3-F7B09D8CC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8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CBDD-30C4-40D8-BCA9-AEF91622A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1b 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CE3C-8342-4984-9A28-E1BF39216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9b  QUADRATICS: 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CC3C-0DE6-46C5-B469-FFD378EC3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0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A1AE-E03C-43E4-9636-ECB98CBD4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40D8-1AC9-4CAB-A729-BCEA3A1E7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2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1DCB-8445-4064-81B3-7864920A9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C206-FF59-4250-BA51-B015DF223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4b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1DE4-CC67-4694-8838-CA1EC2A67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5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F394-A6BF-43D2-B251-73D0CD289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6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66FA-AEB0-4927-A245-0A1AF876D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7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2338-9FFD-4403-951A-E8A40E2C7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8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F32A-10E6-482B-AD40-CFED82791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52C5-E7A2-40B4-9C9B-3A116F17D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9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2364-3633-4F92-B35D-775FAE43C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0b   CONICS: Equations of Ellipse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A17D-365C-4ECB-9624-1A43AB472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1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CB2-67E7-4020-9FF3-600A712FD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2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F3DD-28B3-474D-95B9-993B8798C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296C-7CF3-4153-A66D-995E0B616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4b   TRIANGLES: Ve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855D-D8F8-4A7E-98EE-CE29B9DDC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3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601D-A962-4DF3-8981-6FCE404AC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4b 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7615-3B50-46E6-BB9B-D6E50F2F9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5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1D39-C71C-4E9F-A224-5160E49B3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6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4421-A71E-4126-A2B8-869D9723C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7FF0-41A2-4A3B-A6E3-CAA50C71A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9F92-A85A-4E45-8908-86B62670B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CD5-1F1B-446B-89FB-E8AC43CD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593-6724-46A9-A608-78E1C431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AEC-6A8F-4812-BDCC-8DF1FC04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4F0-2CC4-4D7A-8C78-77A691AD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7D7-772A-49B6-8F12-0DBCF9DA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257-70BD-4E3A-A8EB-E0084AF2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F91-16BF-408F-B3F6-1960E3F2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229-95BB-44A6-9299-072FAAF1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701-FB6C-4581-AC31-87AF78DC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C5D-4459-41BD-8CFF-427F51C7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172-778E-4990-8F87-B5D6FFCB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380-06D9-4B9C-A08F-C94777A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6449-8B49-41C4-9605-8A20CB8D1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hyperlink" Target="http://www.jmap.org/JMAP/JMAPSolutions/RADICALS/JMAP_SOLUTIONS_PROPERTIES_OF_RADICALS.doc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hyperlink" Target="http://www.jmap.org/JMAP/JMAPSolutions/NUMBERS_OPERATIONS_AND_PROPERTIES/JMAP_SOLUTIONS_COMPLEX_NUMBERS.doc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4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7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41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2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-2208240" y="0"/>
            <a:ext cx="9132840" cy="4038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192480" cy="377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438280" y="3551400"/>
            <a:ext cx="3764160" cy="3306600"/>
          </a:xfrm>
          <a:prstGeom prst="rect">
            <a:avLst/>
          </a:prstGeom>
          <a:ln w="0">
            <a:noFill/>
          </a:ln>
        </p:spPr>
      </p:pic>
      <p:pic>
        <p:nvPicPr>
          <p:cNvPr id="52" name="Object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3657600" y="838080"/>
            <a:ext cx="1828800" cy="1360440"/>
          </a:xfrm>
          <a:prstGeom prst="rect">
            <a:avLst/>
          </a:prstGeom>
          <a:ln w="0">
            <a:noFill/>
          </a:ln>
        </p:spPr>
      </p:pic>
      <p:pic>
        <p:nvPicPr>
          <p:cNvPr id="54" name="Object 7" descr=""/>
          <p:cNvPicPr/>
          <p:nvPr/>
        </p:nvPicPr>
        <p:blipFill>
          <a:blip r:embed="rId4"/>
          <a:stretch/>
        </p:blipFill>
        <p:spPr>
          <a:xfrm>
            <a:off x="0" y="2286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358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4830840" cy="4663800"/>
          </a:xfrm>
          <a:prstGeom prst="rect">
            <a:avLst/>
          </a:prstGeom>
          <a:ln w="0">
            <a:noFill/>
          </a:ln>
        </p:spPr>
      </p:pic>
      <p:pic>
        <p:nvPicPr>
          <p:cNvPr id="100" name="Object 5" descr=""/>
          <p:cNvPicPr/>
          <p:nvPr/>
        </p:nvPicPr>
        <p:blipFill>
          <a:blip r:embed="rId3"/>
          <a:stretch/>
        </p:blipFill>
        <p:spPr>
          <a:xfrm>
            <a:off x="-2438280" y="3276720"/>
            <a:ext cx="9067680" cy="358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41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-1676520" y="0"/>
            <a:ext cx="905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2214720" cy="23702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5" descr=""/>
          <p:cNvPicPr/>
          <p:nvPr/>
        </p:nvPicPr>
        <p:blipFill>
          <a:blip r:embed="rId3"/>
          <a:stretch/>
        </p:blipFill>
        <p:spPr>
          <a:xfrm>
            <a:off x="0" y="4735440"/>
            <a:ext cx="9144000" cy="212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-2133720" y="0"/>
            <a:ext cx="8991720" cy="350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13160" y="152280"/>
            <a:ext cx="4830840" cy="343692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5" descr=""/>
          <p:cNvPicPr/>
          <p:nvPr/>
        </p:nvPicPr>
        <p:blipFill>
          <a:blip r:embed="rId3"/>
          <a:stretch/>
        </p:blipFill>
        <p:spPr>
          <a:xfrm>
            <a:off x="0" y="3809880"/>
            <a:ext cx="9132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3" descr=""/>
          <p:cNvPicPr/>
          <p:nvPr/>
        </p:nvPicPr>
        <p:blipFill>
          <a:blip r:embed="rId1"/>
          <a:stretch/>
        </p:blipFill>
        <p:spPr>
          <a:xfrm>
            <a:off x="-1905120" y="0"/>
            <a:ext cx="9079200" cy="500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3" descr=""/>
          <p:cNvPicPr/>
          <p:nvPr/>
        </p:nvPicPr>
        <p:blipFill>
          <a:blip r:embed="rId1"/>
          <a:stretch/>
        </p:blipFill>
        <p:spPr>
          <a:xfrm>
            <a:off x="-2286000" y="0"/>
            <a:ext cx="9078840" cy="579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114800" y="609480"/>
            <a:ext cx="419904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ct 3" descr=""/>
          <p:cNvPicPr/>
          <p:nvPr/>
        </p:nvPicPr>
        <p:blipFill>
          <a:blip r:embed="rId1"/>
          <a:stretch/>
        </p:blipFill>
        <p:spPr>
          <a:xfrm>
            <a:off x="-2057400" y="0"/>
            <a:ext cx="9055080" cy="4419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199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03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9:19:4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7 Math A Regents Exam</cp:keywords>
  <dc:language>en-US</dc:language>
  <cp:lastModifiedBy>Steve</cp:lastModifiedBy>
  <dcterms:modified xsi:type="dcterms:W3CDTF">2007-07-25T19:29:24Z</dcterms:modified>
  <cp:revision>33</cp:revision>
  <dc:subject/>
  <dc:title>JMAP 0607ExamB Slideshow</dc:title>
</cp:coreProperties>
</file>