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.wmf" ContentType="image/x-wmf"/>
  <Override PartName="/ppt/media/image32.wmf" ContentType="image/x-wmf"/>
  <Override PartName="/ppt/media/image25.png" ContentType="image/png"/>
  <Override PartName="/ppt/media/image10.wmf" ContentType="image/x-wmf"/>
  <Override PartName="/ppt/media/image45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42.wmf" ContentType="image/x-wmf"/>
  <Override PartName="/ppt/media/image31.wmf" ContentType="image/x-wmf"/>
  <Override PartName="/ppt/media/image46.png" ContentType="image/png"/>
  <Override PartName="/ppt/media/image29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9.jpeg" ContentType="image/jpeg"/>
  <Override PartName="/ppt/media/image23.wmf" ContentType="image/x-wmf"/>
  <Override PartName="/ppt/media/image13.wmf" ContentType="image/x-wmf"/>
  <Override PartName="/ppt/media/image12.wmf" ContentType="image/x-wmf"/>
  <Override PartName="/ppt/media/image37.wmf" ContentType="image/x-wmf"/>
  <Override PartName="/ppt/media/image30.jpeg" ContentType="image/jpeg"/>
  <Override PartName="/ppt/media/image7.wmf" ContentType="image/x-wmf"/>
  <Override PartName="/ppt/media/image6.wmf" ContentType="image/x-wmf"/>
  <Override PartName="/ppt/media/image36.wmf" ContentType="image/x-wmf"/>
  <Override PartName="/ppt/media/image5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99E1-2B15-458F-818C-07D714D1B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C48C-CD71-4F86-9171-AB4DFE637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9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28FA-856D-489E-BAC0-99A3848E3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0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90E1-54F5-4811-B89A-947A036B0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1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01E2-02D6-45A9-BAA8-BE5B33C33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2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0B2F-1CAE-4380-8932-EAB926684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3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C673-F8A2-482F-8C82-5AE096861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4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6065-1DDF-4671-9638-AABC6984B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01F0-0AD5-47F3-812D-F1A5DACAC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6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B99A-BDF5-47F5-8A22-A87F27F45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7b  TRANSFORMATIONS: Ro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E278-270A-4ECC-9FD2-18188EE2B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8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569A-3665-4618-812E-C567B7C5B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1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7D0F-87A2-43A7-BDD6-2858C91BB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9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4C8D-F7D8-4A0E-A738-3E1D4844B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0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0501-A320-4402-BFFA-30AB84D20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1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54B4-0228-4C36-8864-0DE0273B9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2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CD94-1DCB-4E0C-954D-1FA8C83E5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3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E8DD-8789-43EA-8A10-AD27234FF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4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4DE8-E593-4002-936A-E937EAC35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5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FB6B-C5E2-4F0A-BE28-A2F3AE4DA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6b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AB47-F1EC-4585-B900-076E15C6F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7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179F-9409-468D-B828-EEB8FA8F0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8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D335-53CF-4FA3-A7C9-63680718A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2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DDCB-4D07-4E4C-BC6B-98FA8948F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9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471C-CE2C-42E5-9172-7F785813D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0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88F9-BAAC-45F2-B89D-97C0D723B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1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3900-C751-4C35-9908-2120C2D02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2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AB24-E76C-4A00-B665-AE56E0B5A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3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610A-4FAA-4E4F-A1EA-D9DF6FD9F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4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2440-96EB-419F-8ADA-8A3E19ED2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AAA1-C14C-467D-921B-C1AF307C3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C755-0280-4BFF-8A73-A33DFEE2D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5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DABD-A417-47E4-A9AE-AF3A93ECF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6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08FF-044F-4AC7-A3AC-55FB312BB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7b  RADICALS: Properties of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9186-4174-4A63-A4D0-B9CF5856A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8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049A-428C-46A9-AFB3-E13F1A3DC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888-D665-4413-8D0F-7D3AECFA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8F9-7E27-441A-BC7C-407253DB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C8F-0AC2-4098-A350-94DEAC0D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4A7-0BFB-44FF-A867-5CACA1EC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B96-7F3F-4C2E-9C83-9104C82D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988-E2AC-4CDD-9190-B3CB7C60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FEBE-D8B3-4260-A1D0-5E94F0EB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300-4499-4827-95F9-318DAB90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4DF-3825-48AF-9663-8C6BFB62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DA1-253D-4981-8EDE-BC602B0D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BDB-A72C-410D-98B1-682EB2FE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BA6-5822-4123-8629-FE97340A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948C-7728-43EA-87C6-1BE9F1D40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GRAPHS_AND_STATISTICS/JMAP_SOLUTIONS_CORRELATION_COEFFICIENT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RATIONALS/JMAP_SOLUTIONS_SOLVING_RATIONAL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RADICALS/JMAP_SOLUTIONS_SOLVING_RADICAL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QUADRATICS/JMAP_SOLUTIONS_MINIMUM_AND_MAXIMUM_OF_QUADRATIC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SYSTEMS/JMAP_SOLUTIONS_BREAK_EVEN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RADICALS/JMAP_SOLUTIONS_PROPERTIES_OF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5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1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552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1981080" y="0"/>
            <a:ext cx="5181840" cy="609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4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239160" cy="551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67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65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52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648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865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2819520" y="35053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5105520" cy="548640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1" descr=""/>
          <p:cNvPicPr/>
          <p:nvPr/>
        </p:nvPicPr>
        <p:blipFill>
          <a:blip r:embed="rId2"/>
          <a:stretch/>
        </p:blipFill>
        <p:spPr>
          <a:xfrm>
            <a:off x="3657600" y="0"/>
            <a:ext cx="5899320" cy="1160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152280" y="0"/>
            <a:ext cx="3649680" cy="2308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4"/>
          <a:stretch/>
        </p:blipFill>
        <p:spPr>
          <a:xfrm>
            <a:off x="685800" y="2743200"/>
            <a:ext cx="1546200" cy="1463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5"/>
          <a:stretch/>
        </p:blipFill>
        <p:spPr>
          <a:xfrm>
            <a:off x="762120" y="4724280"/>
            <a:ext cx="15778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957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3" descr=""/>
          <p:cNvPicPr/>
          <p:nvPr/>
        </p:nvPicPr>
        <p:blipFill>
          <a:blip r:embed="rId1"/>
          <a:stretch/>
        </p:blipFill>
        <p:spPr>
          <a:xfrm>
            <a:off x="-1523880" y="0"/>
            <a:ext cx="9144000" cy="601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486400" y="1295280"/>
            <a:ext cx="3489480" cy="3497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191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6:02:4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2 Math A Regents Exam</cp:keywords>
  <dc:language>en-US</dc:language>
  <cp:lastModifiedBy>Steve</cp:lastModifiedBy>
  <dcterms:modified xsi:type="dcterms:W3CDTF">2007-07-16T02:55:08Z</dcterms:modified>
  <cp:revision>4</cp:revision>
  <dc:subject/>
  <dc:title>JMAP 0602ExamB Slideshow</dc:title>
</cp:coreProperties>
</file>