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11.wmf" ContentType="image/x-wmf"/>
  <Override PartName="/ppt/media/image23.wmf" ContentType="image/x-wmf"/>
  <Override PartName="/ppt/media/image9.jpeg" ContentType="image/jpeg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12.jpeg" ContentType="image/jpeg"/>
  <Override PartName="/ppt/media/image34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F1AB-2523-44E6-A460-7364872EF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A4A9-B86F-4C26-80DD-9F4DA7ABC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9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D443-F4F3-4707-A147-9CA841077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0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5D97-5A3E-45EF-AC7B-6667D7FBB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1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15DD-7988-455B-91E0-BB5C62F1F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2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9647-8A3C-4BC9-99FE-4B984E519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3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77CE-BAFB-4242-9494-D8DDEE131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4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0CEF-C7F4-410A-B8BC-596C49D2D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5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2A5C-865C-40C0-B933-BB4D7A16C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51AB-A539-457D-81B9-947B8EC23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7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8087-0D31-45E0-8578-B6488D519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8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34E4-0962-4F65-A4DD-ECC4D7200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1a  SOLIDS AND SIMILARITY: Classifying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EE91-5508-4CD8-948E-8159367A7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9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52EC-3345-47F8-8475-E1504D1BA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0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03EB-906C-4887-ACC8-DADBB29CD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C757-D83A-48A3-BE91-473482F88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2a  PROBABILITY: Sampl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F263-4D9E-41E4-87EA-AE1961E9B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3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7E32-8C9D-4010-86EF-1040AD918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4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4E74-6F31-414F-A7AF-158B49485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5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856B-DEE3-4555-97F0-76A4FA50C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6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5DF1-1928-4AF3-905C-43A2381E1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7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0BC3-68F2-4D85-8CED-625C9595B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8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93A9-01DB-4BCF-ACD6-A3897907C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2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248C-41FF-4C15-AB76-D52EFA00F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9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5D09-4D9A-450B-9DEA-25D74BAB8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0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BEB7-13EE-4E17-BD08-AF65D9EAE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1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3640-ADB5-4E2C-9649-36580AE87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2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7D9F-B3DE-4DAC-A59C-CEC2E8ADB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3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191-9F2A-4EA6-9277-0D7B87979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4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91B6-51AC-40CD-AE8B-1A67B2275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5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2AFE-42CF-4991-8AE0-9E130C93D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3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4524-CB90-4A20-9D0C-BEEBB726F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A5F9-D36B-49F7-81C4-6A5574AC2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2E18-3509-4E50-BC28-BE284E55E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6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2D23-C36E-49E9-BD12-EFC777D37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799B-D762-4A0E-B187-2F61EC9CB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8a  FUNCTIONS: Fahrenheit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5CBA-83A8-421C-8ECC-4A14D7029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F75-3934-42CF-8AB0-0EEBA7DA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F10-0761-4690-82F1-C7BDF438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301-CDD5-40D5-8987-73137723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B6C-EC10-4E8E-A79A-26042414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B38-4A7D-4737-8F0C-FBC7BBBA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B60-C2E8-4453-877F-F58C2464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D02-6E6E-422E-9BB1-C34FAEDF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051-1614-40AE-B7AC-EA70AE69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301-D944-43E4-81DC-B109B3EA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21C-0136-4422-911F-E9F43319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B27-AC31-40F2-9AC2-2B371306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13A-8A79-4885-8F8A-D4B19F54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868C-8952-45D3-898E-AC4DA85E3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INEQUALITIES/JMAP_SOLUTIONS_INTERPRETING_SOLU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PROBABILITY/JMAP_SOLUTIONS_SAMPLE_SPACE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jmap.org/JMAP/JMAPSolutions/RADICALS/JMAP_SOLUTIONS_SIMPLIFYING_RADICAL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FUNCTIONS/JMAP_SOLUTIONS_FAHRENHEIT_CONVERS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199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1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0"/>
          <a:ext cx="9144000" cy="27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1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06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914400"/>
            <a:ext cx="9109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79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717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781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419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11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25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2:13:0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1999 Math A Regents Exam</cp:keywords>
  <dc:language>en-US</dc:language>
  <cp:lastModifiedBy>Steve</cp:lastModifiedBy>
  <dcterms:modified xsi:type="dcterms:W3CDTF">2007-07-16T02:50:53Z</dcterms:modified>
  <cp:revision>4</cp:revision>
  <dc:subject/>
  <dc:title>JMAP 0899ExamA Slideshow</dc:title>
</cp:coreProperties>
</file>