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4.wmf" ContentType="image/x-wmf"/>
  <Override PartName="/ppt/media/image39.wmf" ContentType="image/x-wmf"/>
  <Override PartName="/ppt/media/image9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13.jpeg" ContentType="image/jpeg"/>
  <Override PartName="/ppt/media/image44.wmf" ContentType="image/x-wmf"/>
  <Override PartName="/ppt/media/image45.wmf" ContentType="image/x-wmf"/>
  <Override PartName="/ppt/media/image38.wmf" ContentType="image/x-wmf"/>
  <Override PartName="/ppt/media/image4.jpeg" ContentType="image/jpeg"/>
  <Override PartName="/ppt/media/image4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A02B-0AD2-423B-8BE2-4E1D77D07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E5C-015E-4E08-8D3C-50766E1BC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054-C4E3-4AE3-A0DC-E84DEA494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AE33-509A-4D3B-BF28-39550EE4C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FFF-2C54-470F-A681-BCCACF927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B842-2EFC-4FEB-A292-610FC448D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8825-A552-4DD6-941C-8693C2E07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6291-0106-4122-A9C8-1FD26FF43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797-D6A6-4873-B8D2-3FC256CEB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E6F-D22E-4383-BA69-43DF0DEBC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EF6-4A40-4AF4-B62E-536797188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45E9-B581-470E-A0F2-609B1605C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9347-5A1A-42A3-BEE1-DBBC0032F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060-0430-42FC-836F-7E894D4A3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882-A3C4-4871-B1EB-D316A62B0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7F20-E126-4C47-988A-00BA01182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B4A-961F-4C4F-B34B-E182315E6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439-47F8-4F58-8FCA-38935DDF8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EBE7-C8A5-4CEE-B1A2-D61A01BDF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BFD1-D505-477B-8AA2-99DB36D60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9D96-45D5-4F0D-9822-1FD1836B1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04A-D14C-45C4-97A1-397E16EF4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6A4-0D56-4E53-8385-5DEECADDC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64ED-E707-4D36-A49C-B4143EE41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157-8451-4A9C-B23E-688E5740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A4B-284E-41C6-B60B-BE89E4AFF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5118-AB61-4BE4-BAE7-FBABCD769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D4A-851F-4D28-8BEF-AD341786C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817E-49FB-4C0F-BB27-5DA44D085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D64-5EDE-4D83-A471-3C26B0311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6B1E-BC43-49A7-91AE-841EE86ED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BA61-7153-41CB-A047-31D705381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7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3A5-3297-4723-B794-5F877D51C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254A-F42D-40AB-B04D-6DDBE2DFD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0E45-1C2D-4C72-8728-5608B222C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9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A967-50FA-4B95-ACF0-46421F08E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D23-7169-41B4-B0E4-BA0212E83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690-5F54-4793-9043-D751AEAEA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EA3-D9E2-4C14-9087-0A9A501E5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667F-2B13-4B2C-9F70-FA68B0135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889-CAF8-496B-8FA2-C9DE06CAC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412-E77B-43AF-88C4-994C509E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D21-153A-4A66-A85A-9AFFA10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C4D-F6ED-4AA4-B77F-F66ED367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06D-EF1B-4E00-AEB1-2B75038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D46-3CA4-4A0C-AA51-DA06BF43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FC2-1A28-4B9B-946E-890AB10A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36D-98F1-4021-97BB-E61F902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178-10D4-427F-8B1B-ACEA56F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A43-FC90-4E77-9CAA-3D949840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343-7F6F-41E2-971E-C5528A3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63F-5358-40B3-9D63-5D34451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111-6939-4A2E-8133-96A26FC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93F-1C1D-413A-8607-0B9986F6F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32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6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520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87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8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152280" y="0"/>
            <a:ext cx="4148280" cy="5388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024440" cy="401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6019920"/>
          </a:xfrm>
          <a:prstGeom prst="rect">
            <a:avLst/>
          </a:prstGeom>
          <a:ln w="0">
            <a:noFill/>
          </a:ln>
        </p:spPr>
      </p:pic>
      <p:pic>
        <p:nvPicPr>
          <p:cNvPr id="56" name="Object 5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53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36:4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4 Math A Regents Exam</cp:keywords>
  <dc:language>en-US</dc:language>
  <cp:lastModifiedBy>Steve</cp:lastModifiedBy>
  <dcterms:modified xsi:type="dcterms:W3CDTF">2007-07-16T02:49:53Z</dcterms:modified>
  <cp:revision>4</cp:revision>
  <dc:subject/>
  <dc:title>JMAP 0804ExamA Slideshow</dc:title>
</cp:coreProperties>
</file>