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29.wmf" ContentType="image/x-wmf"/>
  <Override PartName="/ppt/media/image19.jpeg" ContentType="image/jpeg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23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33.jpeg" ContentType="image/jpeg"/>
  <Override PartName="/ppt/media/image30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13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1.jpeg" ContentType="image/jpe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3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4F71-1808-45AC-8155-5839FF8AD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2B3D-B0E0-45FE-8772-62B2E235E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84DD-0539-4BDC-8E10-D7AD6C6B1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0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A45D-2DC1-4109-9A06-803866ED1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1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6A0F-CADC-4244-A470-EF4BC6C77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2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DE1C-6F78-411D-947C-3CCAC5C3E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3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31E7-8696-472F-8A01-64823C563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4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CB73-5AC9-4607-AB9E-28DA346BE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5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20C4-9B8C-488F-9EA5-65EBC9095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6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F5BD-29BA-4DA1-8B78-F2F1D6FB7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7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0BB-8A9D-461B-B410-65852E0C9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8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741E-01CB-4025-97A7-454A88109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7DA7-308B-49CE-92B7-84F55F208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9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F37F-D7CA-4BD0-96D5-D6BEA0014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0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F275-AC1F-4ADB-A74F-ABC5994A3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1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1399-F640-45F7-B0C8-C2474CB96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2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C63B-DBED-456B-9EEF-121C37E20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3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35E6-4259-4C6E-A6A5-B1330189F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4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62AB-4FEA-4CC9-A959-C5260AAAE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3AF6-FA20-4754-BA0F-026F053CF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A3C9-4F80-4CF8-8013-79D442B57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E7E7-C534-4333-BABA-1508719E6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8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ECBC-287E-4C00-8E66-7D5DB0A10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3D9F-A4DE-41FC-9699-3892EA73D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9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AD2F-6E2A-4184-BDFC-E96924B23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0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4BF2-B3DF-4052-B002-5F823F157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1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1A78-2016-4583-B42F-836B38B54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229F-BEE9-439F-8446-81260F340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3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752A-5126-4CFA-96EB-4746256EE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4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C7B3-9C39-43FF-9ABE-8B6753DA4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3C69-D610-4138-A200-2986F0331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B7B3-4A3F-4420-B6F8-320EDC7AF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4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0209-6FD1-4933-9480-9814EDFA4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5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ABF0-FE8B-4829-9810-1D05A1107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6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A5E5-064E-452F-8851-E42C9E181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7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7B1B-EFAD-4C9D-A033-742D60E8E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8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6FC6-36D5-4985-8BC1-8BC80FBBE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71C-0AFA-476A-89F9-9CA2B60A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E65-F1E9-43B9-90EB-83B68E39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60F-DC2C-4394-8E51-94E676B3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D98-AD14-4907-9989-0AED7810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F23-12AA-47F7-8595-5331D79D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963-AADF-4FA2-9A07-E31A147A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29B-D283-4413-8F97-848F88F5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4A6-ED99-474E-9CCA-2FD24BCA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06F-F10A-4709-8FFE-799726B5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CAE-8857-46B1-9CDF-9473B9F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030-EE76-4DD7-9EC3-6A84733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F44-FDA3-4CC5-A29F-FF4051B6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02EF-DFAB-4BF7-8959-3C8147422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ORDER_OF_OPER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ROBABILITY/JMAP_SOLUTIONS_PROBABILITY_OF_MULTIPLE_EVENT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03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87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2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7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6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361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4172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740800" cy="41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32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6629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4114800" cy="410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67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5:14:5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3 Math A Regents Exam</cp:keywords>
  <dc:language>en-US</dc:language>
  <cp:lastModifiedBy>Steve</cp:lastModifiedBy>
  <dcterms:modified xsi:type="dcterms:W3CDTF">2007-07-16T02:46:42Z</dcterms:modified>
  <cp:revision>4</cp:revision>
  <dc:subject/>
  <dc:title>JMAP 0603ExamA Slideshow</dc:title>
</cp:coreProperties>
</file>