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23.wmf" ContentType="image/x-wmf"/>
  <Override PartName="/ppt/media/image9.jpeg" ContentType="image/jpeg"/>
  <Override PartName="/ppt/media/image35.wmf" ContentType="image/x-wmf"/>
  <Override PartName="/ppt/media/image13.wmf" ContentType="image/x-wmf"/>
  <Override PartName="/ppt/media/image33.jpeg" ContentType="image/jpeg"/>
  <Override PartName="/ppt/media/image30.wmf" ContentType="image/x-wmf"/>
  <Override PartName="/ppt/media/image37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42.wmf" ContentType="image/x-wmf"/>
  <Override PartName="/ppt/media/image43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67A-C2E6-425D-9575-D1B8CA393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833E-FB53-4DA3-BFE9-8075164B7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0A4-B028-4076-8321-DEBBDF9DF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67E4-81CE-468C-BEEA-674AEB69B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2F4-3A70-46B4-8590-377459691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DBA5-FDE5-469E-988E-BAAEE54E0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C65-C522-4FF2-854A-D26D1D1C6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48C4-9F8A-470C-B7AF-EAC5F7124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A0D8-1E81-479F-9423-0505FF9D2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D56C-5412-4AE5-863F-5527A7D89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8D7-7086-4847-90D8-ED363CC33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5DD-2EE7-4C21-85EB-3ED70192E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00C-811A-48A8-AD95-ABB7C8550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b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0DA-D30D-4360-8843-96E07344E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2C83-9D29-4AD8-B3DA-C9D2A7010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F18-1131-483B-99C0-7C690E4C8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A23-4A80-4096-9D36-A31937016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2189-F2AF-468C-9132-FCFAE50A3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DD3C-6A74-441C-8D5B-CB43E7AEB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B51-12AF-43B9-B1DB-2F1442097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EEC-DE67-40F8-A41F-2DDD87C0F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1B0-C995-4DE5-9465-8BB4719D1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228-F979-44F6-988D-10E9837AC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FBF-33BB-42D9-BEFC-D85810519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CAD3-A0C1-4F0D-91C4-6929BDC4C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B54-F43A-488F-8AB3-68C7235B9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26F-40AD-4B43-9A46-616219803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46CF-2641-465B-9DAE-C02EFF16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A4D-D4AA-457D-B825-32180C9DB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43DE-6070-44C2-9DC4-DB98E77AE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C8C-67C1-4B74-A000-00597DE4C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F4F-7836-40CE-927C-B8C32C2B7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b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B22-9DA5-4CCA-AB08-C5017A82F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FB6-4546-4610-93C7-2AB6CD8BE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EA1-C570-4CFE-89D4-DA760890F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7AF5-E816-46C3-B096-781F08276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BBD-DB1A-474C-B083-09A2C51F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281-88CD-4FA8-9240-15A915F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46A-25FF-4B2C-9761-5BC131E8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D87-EE52-4E6C-9251-96898C9C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4F9-5F41-4237-920F-7044B32B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162-8429-460C-B869-6AB0C8B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290-FBC3-40B3-920D-2032FDE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7A4-8B28-4C00-8C58-9038855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F37-6168-499D-BC9C-06140C01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D54-AA9F-4540-8EE0-DD1875F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764-097F-40C9-A8DD-62CF254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8FA-1160-40EB-8B25-F037F30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5A8-BFD1-4142-9B38-9345353B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jmap.org/JMAP/JMAPSolutions/SYSTEMS/JMAP_SOLUTIONS_SOLVING_NONLINEAR_SYSTEMS.doc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533520" y="0"/>
            <a:ext cx="7619760" cy="632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7800" cy="16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-22320"/>
            <a:ext cx="9013680" cy="680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886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1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090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951000" cy="393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763120" y="62485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48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98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9014040" cy="853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7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3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39:1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6 Math A Regents Exam</cp:keywords>
  <dc:language>en-US</dc:language>
  <cp:lastModifiedBy>Steve</cp:lastModifiedBy>
  <dcterms:modified xsi:type="dcterms:W3CDTF">2007-07-16T02:54:15Z</dcterms:modified>
  <cp:revision>4</cp:revision>
  <dc:subject/>
  <dc:title>JMAP 0106ExamB Slideshow</dc:title>
</cp:coreProperties>
</file>