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6.wmf" ContentType="image/x-wmf"/>
  <Override PartName="/ppt/media/image25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10.jpeg" ContentType="image/jpeg"/>
  <Override PartName="/ppt/media/image41.wmf" ContentType="image/x-wmf"/>
  <Override PartName="/ppt/media/image8.jpeg" ContentType="image/jpeg"/>
  <Override PartName="/ppt/media/image36.wmf" ContentType="image/x-wmf"/>
  <Override PartName="/ppt/media/image38.wmf" ContentType="image/x-wmf"/>
  <Override PartName="/ppt/media/image40.png" ContentType="image/png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png" ContentType="image/png"/>
  <Override PartName="/ppt/media/image27.wmf" ContentType="image/x-wmf"/>
  <Override PartName="/ppt/media/image33.wmf" ContentType="image/x-wmf"/>
  <Override PartName="/ppt/media/image45.wmf" ContentType="image/x-wmf"/>
  <Override PartName="/ppt/media/image11.wmf" ContentType="image/x-wmf"/>
  <Override PartName="/ppt/media/image39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2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B844-BA95-48CD-858D-D1B72BB52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4DDD-618E-43D3-8EBC-94A9D6525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9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3539-03D1-41AB-ADC9-EB2C86280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0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F029-2261-4DE0-B078-5EBACBF96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7B74-EFF9-4269-93FA-484FBAB2F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2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8AA6-73B1-4329-BF1C-4197558A1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7552-B606-4ABE-BD03-81101478F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4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96CA-5AFF-40DC-8F55-C2FB6C81A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5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0B53-0329-4185-B222-98179CF5D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6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9140-DA31-4523-9B5C-608DF6F0D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7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B01D-DE5C-4CE6-953A-B49FFCD55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8b  RADICALS: Properties of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A383-DBD8-491F-9F5E-2D917518E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1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9A9B-A237-48CB-80D3-F01C64A33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9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BB0C-70DB-40E1-9E70-A9D3F80F8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0b  FUNCTIONS: Operations with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914B-58BA-4456-8251-A3C77BC8A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1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8DA5-1898-4138-AD3D-DBE6A42E2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2b  QUADRATICS: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EA5B-09E0-4E13-90BB-647BA7F72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3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8C8D-A5BF-46A8-AA6A-CEF1BE502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4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C1AF-4413-42F4-BE4F-9C08D701A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5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5119-E98E-4255-9F89-D4078DFA9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6b  PROBABILITY: Norm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0680-2A47-47E5-B641-86B27EED9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7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7044-7062-42CA-BAE6-F5C8426CC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8b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E692-5171-4DB5-961B-BAF886851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2b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2748-CF83-4E0B-94B5-98B9EB369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9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3CF7-2911-46AD-86FF-61CA5FA05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0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2611-E68E-4CC4-AA65-2370EE096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1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0F8D-B5C2-4EEB-B5C9-571ADD13E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2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1E67-6F9D-406C-B73F-60ECF4399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91AB-9D21-4E6B-9A62-EFAC8798B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4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94DA-CA5D-449D-8FDB-755186D52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3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E962-15DC-4730-A51D-3D036FCAB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4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3E5E-AC86-45E4-920B-5689EFBE0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5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5C1F-AE10-469E-824C-65386AAEC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6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63C6-1B12-403E-BAD1-AB3C2AA8A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7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6041-1B11-4247-AAAF-5173D1AA5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8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96B1-EC52-419C-BDE6-9E75D72A4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41D-7D95-45E8-B69C-FBA7CD89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395B-63F8-4358-9940-2873EC29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CB7-249A-4D05-8685-6908D797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311-8236-40B8-826A-D2BF0E18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EC4-BE31-4BF4-BD2F-ACC84237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2E5-25F4-47C4-93D0-CA27B80D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81C-C83B-4B25-B062-8D9F3978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3EA2-A314-43E6-A4C2-23EE37A5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6AE-09BA-4B00-A3E7-A9BF1518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194-2BD3-40AF-8783-804FA7F6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540-D997-4F6A-942B-2F587209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16B-83A8-4150-920B-E2088CC4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AEBD-8EE8-48B1-80DF-8D97A8AB9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RADICALS/JMAP_SOLUTIONS_PROPERTIES_OF_RADIC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FUNCTIONS/JMAP_SOLUTIONS_OPERATIONS_WITH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QUADRATICS/JMAP_SOLUTIONS_QUADRATIC_FORMULA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RATIONALS/JMAP_SOLUTIONS_SOLVING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ROBABILITY/JMAP_SOLUTIONS_NORMAL_PROBABIILITY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78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00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3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25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241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00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52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33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3733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195912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4" descr=""/>
          <p:cNvPicPr/>
          <p:nvPr/>
        </p:nvPicPr>
        <p:blipFill>
          <a:blip r:embed="rId2"/>
          <a:stretch/>
        </p:blipFill>
        <p:spPr>
          <a:xfrm>
            <a:off x="0" y="1828800"/>
            <a:ext cx="9078840" cy="91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3352680" y="28195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6" descr=""/>
          <p:cNvPicPr/>
          <p:nvPr/>
        </p:nvPicPr>
        <p:blipFill>
          <a:blip r:embed="rId4"/>
          <a:stretch/>
        </p:blipFill>
        <p:spPr>
          <a:xfrm>
            <a:off x="0" y="541008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Users\HP_Administrator\Pictures\My Pictures\Thomas Jefferson.jpg"/>
          <p:cNvPicPr/>
          <p:nvPr/>
        </p:nvPicPr>
        <p:blipFill>
          <a:blip r:embed="rId5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952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002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8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97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5:02:0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2 Math B Regents Exam</cp:keywords>
  <dc:language>en-US</dc:language>
  <cp:lastModifiedBy>Steve</cp:lastModifiedBy>
  <dcterms:modified xsi:type="dcterms:W3CDTF">2007-07-16T02:51:47Z</dcterms:modified>
  <cp:revision>4</cp:revision>
  <dc:subject/>
  <dc:title>JMAP 0102ExamB Slideshow</dc:title>
</cp:coreProperties>
</file>