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27.wmf" ContentType="image/x-wmf"/>
  <Override PartName="/ppt/media/image10.jpeg" ContentType="image/jpeg"/>
  <Override PartName="/ppt/media/image31.wmf" ContentType="image/x-wmf"/>
  <Override PartName="/ppt/media/image33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43.png" ContentType="image/png"/>
  <Override PartName="/ppt/media/image13.jpeg" ContentType="image/jpeg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A55-FCCD-4766-81B1-45D48A978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9359-0C48-4197-ABA9-8CA5127FA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1CE-FB9E-4FF4-ACE8-EB375129A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543-2DAE-4128-B53B-0358DB8DD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C65-B4C1-4528-AE81-EFC772D97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A7BE-709E-4E41-9B02-325E7582B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2030-D816-45E1-9BD7-4BE295EE4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FBA-B589-4DD1-84A7-4716A4345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882E-01AB-4A23-9060-566594CED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016-C539-4337-8DD7-D9E5A48F5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0B48-565C-45E4-AB8B-8E3D1F1ED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a  EQUATIONS: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6C5-F2CC-4593-BDC1-71E80B6F4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7B1F-BC67-4938-86B6-A58941309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5DE7-4ACB-4A8E-A1F7-15EB8DB54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8C2-A9C9-415F-8D59-8D5F3BBAC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7A10-FDCB-4D9E-A4D7-1E6CA1B77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E0EE-90AE-49D6-A2A5-ACC123310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512B-84F4-4885-A563-C7883412B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4A2-642E-4CB2-ABA4-611A737D2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040C-9B07-4071-B7E0-D964F34AE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588B-77ED-48DA-8EF2-1D7D4CB15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35DB-5F35-4F2E-A2B9-D3D6C3E61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AD4A-F2BF-4E4F-A811-C363ED029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AB74-8689-4AA3-839B-BFD4C3764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DE18-BCFF-48B8-80D9-33F075A3E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04C0-5D63-40C1-97FF-2408322EA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3C1-31B7-4873-8759-CAA442C46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4B6-10C5-4295-874D-E9340BA8B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CB85-E29B-4550-903D-8B5CBBBA3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C6E7-2BD5-471A-873B-A4F7195CF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3F4F-04E1-461A-875B-949D4A39C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C374-2105-4676-83AE-17F9EB3FC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B4D-15F6-44D1-A5A1-65C0AD639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16F0-387D-4D37-A5FE-0F2E2190E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A159-B6A7-4F81-9280-74A9F0C0C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E67-17B6-4414-82EB-B19043706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1E6B-F329-48DF-8A5F-2FA975904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9F19-EFB4-4B3A-A9A1-F47034AFC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605A-697D-4D2F-9C6D-DA1DDE4A3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F73-41D6-4243-B77D-B29DA982E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3E2D-2FBD-4BDB-9276-A86227A6E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ABB-5E7F-4766-8AD0-D92FE4C4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FD2-A33B-408F-AE8A-7C13A797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42F-17A4-4C7A-992F-A124C60C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5F2-86A1-41AA-A2CE-43519AD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14D-4F0A-4D82-83BE-11187AC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79B-2D2C-4EDD-937D-EFD866A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D39-941B-4F62-8D65-BCE5C8BF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089-2BF7-4D07-ABEF-F38277B1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641-7619-4C0E-AB9B-F50B6701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F3D-5D90-42BF-8751-808F674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573-E6B9-42C2-B1D4-EF9B89F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FAD-D3D3-444B-BFFC-A724758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869D-8335-439D-8B06-D198CBB98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43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FAHRENHEIT_CONVERS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0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61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7960" cy="334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8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03848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766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8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38005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23:3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4 Math A Regents Exam</cp:keywords>
  <dc:language>en-US</dc:language>
  <cp:lastModifiedBy>Steve</cp:lastModifiedBy>
  <dcterms:modified xsi:type="dcterms:W3CDTF">2007-07-16T02:47:00Z</dcterms:modified>
  <cp:revision>4</cp:revision>
  <dc:subject/>
  <dc:title>JMAP 0604ExamA Slideshow</dc:title>
</cp:coreProperties>
</file>