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120-6C96-45FA-911E-87A238FDC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6E35-7E1F-400C-8D71-7CC83CF13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DB9-AA03-4EC6-8FD9-D723B6D14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C52-B297-4DFF-8A5B-BD12CC6DB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DB2-40AC-4597-9187-888FA4B32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7BD9-57F3-4D64-8BBD-AC37832F3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9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5E07-56EE-49F6-AB7A-9CD8DF17A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C25-F712-4060-8611-55E98B72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D33-BBE7-4003-B0B4-084CA54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704-3C67-42AF-8A58-7C3FF234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083-700C-4BCA-AD75-EACA6C3F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F3C-4EAC-49BB-B28E-A374A076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E5D-128A-4DB8-8416-BC5358E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884-B3A3-4658-BA71-F2280FDB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BD5-9F6C-4C2B-9C5F-D8F5E0F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661-121B-404B-8805-5758066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448-68CF-49B8-9494-B57D9B5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362-1C78-40E1-8C2A-BF5B0EE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105-BC31-4EAD-BD2F-C0BE880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2A3-5CF0-4C01-A845-7F9792399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FRACTION_MADNES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action M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31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13:59Z</dcterms:modified>
  <cp:revision>11</cp:revision>
  <dc:subject/>
  <dc:title> RATE:  Fraction Madness </dc:title>
</cp:coreProperties>
</file>