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6D6-BA49-48C3-8127-E00481F5C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A58-A444-46F8-A464-025C21C46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058-6927-4521-911A-8ADB18679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2FC-1F16-44D2-BF9A-8002331A7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F78-22E3-4C01-8119-E4E9291A8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ABA-012D-4156-9767-DB76040B1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94B9-0BDB-4B70-BFB2-267DE52E0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3200-C6CE-4F9C-8D9B-561477812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4CC-331C-4220-9F4A-AEC11A826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17D9-4526-45D7-A9C1-96131C557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744-2BA5-4845-92ED-44A625EDF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276-D55E-4A2A-8E3B-C7F39B65E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DC1-6B63-4881-98AA-355CCAB97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1BF1-C5FF-43F9-A87A-D3ACCEEF8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E859-EAA1-4FB1-96D6-FEAF78B91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0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54C4-E666-4D7D-9DEA-E45D0A4FB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E3B-9F69-46BE-90C8-2369BBEF8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5FB-BF76-4D35-8F78-7E2AFEB9C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8721-E6A1-49D6-8EF7-4F27E62AE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E368-1308-40CB-A3F2-8B8CAFDED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F6F9-2D8E-429A-A777-1C5E6365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D94-0BBC-4B5B-8B62-1DEFDC531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BEC-194E-4A31-85A4-7C847F1F1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244-1DD3-4999-922B-E0F150FC7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B51-5115-4A97-9949-C6DE1775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5A4-A47E-4260-9FC5-E085D469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A04-8FE0-4B21-941E-CE7E2E7C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823-BE00-4D7C-96BB-BDAD8259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ADB-9E15-4A23-BDC9-6B3ED233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588-AD59-4879-A93B-8FE164D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386-E151-4E2F-A7C6-F5BDD22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D78-A29A-4D7C-B42F-B3588A43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EA4-6E4F-40D9-BF5C-D2F7E6A7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F3D-0898-4852-8881-1D1E47D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141-2FC7-4071-B1B1-7B67814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FF7-81DC-48D4-AD8C-8CE9799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5ED-D2CA-435D-B207-126229504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GRAPH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GRAPHS.doc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hyperlink" Target="http://www.jmap.org/JMAP/JMAPSolutions/ANGLES/JMAP_SOLUTIONS_TRIGONOMETRIC_GRAPHS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4"/>
          <p:cNvGraphicFramePr/>
          <p:nvPr/>
        </p:nvGraphicFramePr>
        <p:xfrm>
          <a:off x="0" y="0"/>
          <a:ext cx="907884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07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680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32880" cy="385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57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"/>
          <p:cNvGraphicFramePr/>
          <p:nvPr/>
        </p:nvGraphicFramePr>
        <p:xfrm>
          <a:off x="0" y="3124080"/>
          <a:ext cx="9090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090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2819520" y="609480"/>
            <a:ext cx="3352680" cy="24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533520" y="0"/>
            <a:ext cx="7619760" cy="632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178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2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3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2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6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07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0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627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0:59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43:37Z</dcterms:modified>
  <cp:revision>19</cp:revision>
  <dc:subject/>
  <dc:title> ANGLES:  Trigonometric Graphs </dc:title>
</cp:coreProperties>
</file>