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529-1F34-420A-9984-5B7B13E5E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D5D-4177-457F-AF9D-29ACF0D36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D6D-76AB-4998-BB97-26081CB81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61A-290D-430B-B706-BCE862732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CA09-ADEE-4A6C-B00F-1498BEA27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B5C-8D2F-45FB-B0F9-2F3A42D1C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130-F226-46BB-B1F3-9B264484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3B4-8F7C-4968-B14F-418C09B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792-99A3-4797-8D2A-B10C8CE2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074-82DB-4087-9470-BA641758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776-36D9-46E8-BA1E-178EA0A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925-DD7A-4726-A31E-F716F33B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12D-4D68-42E7-B3E7-78064FF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414-A688-4208-AAD5-1624763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473-E252-4530-93B3-6FCD0F25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475-0F39-449A-BCE5-CE30C23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1E2-0F42-46E2-9EDC-50D8DD7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516-7759-4202-ADD1-B6E3EB9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1603-CD4A-403F-B0E8-5BD341C05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Cir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3:2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21:01Z</dcterms:modified>
  <cp:revision>6</cp:revision>
  <dc:subject/>
  <dc:title> CONICS:  Graphing Circles</dc:title>
</cp:coreProperties>
</file>