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EB81-3D0A-4EBC-A78F-1BA75DA7F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EE3-8465-410A-8CE1-6330612A6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4F35-9A3B-461F-B5B6-C71B1AB09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ACD-EE62-4B48-82C5-0ACDDD172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AE2-68CB-4979-9F4C-DFCE7C356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7DB-CC1A-46ED-8F41-48F606393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BD8-A438-4AB9-A618-26C2748E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9B8-017C-43F6-A1F5-F72E8438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FA1-0927-4A3F-B66F-2971400E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A6C-4A97-48F6-BEF8-9A001111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7F5-E8E5-46B1-8CAB-11D6E3D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966-191E-4414-A84C-209E4B1D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869-B86E-4131-8420-B7DEE958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16C-752F-46DF-B0B1-CE25A20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907-0967-4AED-8C2D-3D47E59D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20E-F064-4456-8246-90C9FF3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F1D-5492-4FF5-B623-FCB3AD5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A1D-2F76-4537-BEF8-C3393D6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A661-C61E-4A02-9FE5-381F2A7B1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IMPLIFYING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IMPLIFY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ifying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54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6:34Z</dcterms:modified>
  <cp:revision>11</cp:revision>
  <dc:subject/>
  <dc:title> RADICALS:  Simplifying Radicals </dc:title>
</cp:coreProperties>
</file>