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39BA-48D1-407B-9434-93D1B3C9A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DEA4-5E99-45E0-83D1-C1B4FDDE5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3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AA76-8F35-4BD5-80BA-0E1F703B5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D229-789D-4905-8F9A-4022D55BF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9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E32D-0928-4CE2-8718-A3DC24DDB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2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A847-CF57-4C55-9142-A4C22B714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7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26C7-6DA1-4EBF-9DBA-5BFB7F6E5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2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8F55-46B3-4ACE-8683-14C5684AA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7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B9FA-3E14-445A-84A4-BBDED7656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4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0A18-74AD-4B4E-9F3B-99EBFC4E3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0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90D1-8367-45D7-830F-DB0893BF0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4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231C-CBD7-4CF4-A7BE-E69ABAB70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0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38AD-FA61-494D-A2D4-4F893F14D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EE8F-657F-4F27-BF75-219B4E58B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D79A-8BCB-4C98-BEF6-4C3511730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A79D-7F6E-4CC8-BC12-E507626CE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AE73-15B5-457C-9E3F-520B70C5C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174B-B6CF-4602-A53A-B0A1CE523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3798-2B8B-4538-8715-5AE0DD871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8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0F00-FBBE-4276-B5C7-025B7E8DC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5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C401-1411-4F75-BAAA-CD93C2499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B9C-8B19-484D-9F2B-D217857D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129-2F53-4CE0-B626-3B7F12BA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96D-2303-43C8-AA9B-FDF76A9A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3F9-CCD7-4BCB-811D-7A85E741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583-D026-4A94-A540-FF975613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CEB-4D2E-4496-AF78-EB1A5593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5DC-B639-4531-9C73-3A8402CB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2EA-7377-4661-96CD-1E9A42DD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CEE-5698-4F56-B822-1D7394D9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21B-15FE-4531-8F40-1E06C3E2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875-6EB0-49DC-85C6-E25F1579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F20-7823-41ED-9E70-1E7A8393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1712-CB2C-4C4F-AF2A-B465C1841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al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23:18:0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10:07:09Z</dcterms:modified>
  <cp:revision>8</cp:revision>
  <dc:subject/>
  <dc:title> LOGIC:  Logical Reasoning </dc:title>
</cp:coreProperties>
</file>