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72BA-BAD3-49E2-9B9F-28457F3B9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EB7-5422-4730-AEB5-5ACAF9FD2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07F-3832-4EB8-9517-5521F0F69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77D0-994F-4E90-9BBD-76BDD91BD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BD76-11FF-49E5-B5C7-73CD235A5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2514-F8C5-432C-BFD9-0740E3AE5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85C-E69B-439B-8DFD-4E907337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AA8A-33B4-4AD9-9F7E-3A0A4C0C4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256-3541-4212-95A9-26938901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723-FDFA-4E94-916D-A77AE528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E3D-E3CF-4A01-8457-ABD2736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559-2181-478C-8260-36E0FF3F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450-78A1-48D9-9F97-07DD221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622-498C-428E-BB83-A9435741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9FC-A304-41F4-B9BE-F545154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AE3-CAD2-4E9F-B840-CA02659A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6A7-EFAB-4874-983D-64FC586E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6B4-B5C0-45F7-817C-9F25D6D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BEF-DE05-42A5-A2CC-9099B21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07E-B6AF-4452-8C03-5A2122E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369-CCEC-4C3A-BBCF-27A891AF9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2:55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1:04:22Z</dcterms:modified>
  <cp:revision>4</cp:revision>
  <dc:subject/>
  <dc:title> LOGIC:  Inverse </dc:title>
</cp:coreProperties>
</file>