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9540-B4C7-4A66-B74D-A08489AB1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AFB4-FB14-4C29-A2BB-AD282E565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6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BB31-E3D9-480E-A91F-9863029FE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226-9117-4FAB-883C-65861D573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1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E080-FAAF-4885-90A8-7934A9EC1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A256-B7B8-45E5-8997-59D4F59C2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7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EA7-C874-471C-BB7C-848E36E79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7582-6CB5-4B9F-8805-B8C393156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7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7D5E-69C7-4DAB-BC25-C90FCAB84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1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2D58-C6EA-41CB-ADA6-16C36FD9A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2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7A4B-FC11-4721-9B34-6EE61C245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B1F0-B682-4115-8A4D-F9CCCD4B2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8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F853-08B6-44E1-B6EA-8E1616D69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6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1852-2459-4E7E-80D0-DD1A85314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AFAB-EE61-47AB-81D5-8A119CB77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B78-E378-4ADA-8425-2E852397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53E-C7C5-461F-B611-FC713C92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1FC-4AD7-463B-B544-6F4D098D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665-9DCE-4A53-86AE-101DDE2A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CF5-5CF3-4DFC-A801-CA9659E7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413-2CE5-4FE5-AAAD-63FA2A51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734-D21D-45A1-A7F0-B8F1BC3E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B76-BF70-41D4-9969-FE15383F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18A-EE98-4400-BE7A-8A008EA1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2D4-5051-49BC-8E92-420F024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B67-DF86-40C6-B135-C2073E1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DAF-5437-4B46-88B2-5204343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431C-A627-4106-9D63-A0AC73EBA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PROPERTIES_OF_LOGARITH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erties of Loga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90000" cy="620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9:22:1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33:17Z</dcterms:modified>
  <cp:revision>9</cp:revision>
  <dc:subject/>
  <dc:title> POWERS:  Properties of Logarithms </dc:title>
</cp:coreProperties>
</file>