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B400-07A9-410E-BB1A-CD8ED60E4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ABA8-90C0-4371-BD1F-AE18DF307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3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62E9-CDC6-4669-AA06-39E239C57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5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AA55-35D5-40A1-BCF1-C69C609FC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3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BA0A-F05C-4423-BD71-E1A3E36E2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4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5660-7924-4999-8E0D-84097FFC4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4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573F-9551-4DA2-B9D2-3F71443DF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4b 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C6AE-9692-4FE0-A9B5-7325716B5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6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6D0B-A22A-4D39-AEC2-5AB7F00E9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1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5979-E65A-421D-9E2F-CAF6D2807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1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BF8C-ACF4-4DC8-862C-5AC707DEE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1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7175-6F32-4AA0-960D-019DB2EE8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7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20A5-4704-4194-B242-EE7AF0CEC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1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FAB8-1A12-4A69-B24F-CA592BCE1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8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66E7-76D9-40E3-8293-581C98E3A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4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180C-76E5-468E-A76E-34D58AE93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170-985E-4B93-B2EE-030F9B2A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0E81-42EF-4C87-A9BF-47ACB86F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006A-F748-4F52-8D71-8D551D6F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1F8-A233-4202-B812-18E0B9FC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6107-1F15-4CDC-BB05-73A1AF75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A891-A490-4EFE-8405-C5460973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237-48F4-4B3A-84B0-B9AB7180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9BE3-3C9A-4EB2-A47E-1686CBF8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0823-6F29-4216-9A94-18C91DE6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02E-1692-47D3-8C5F-97E7611F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E54E-5E84-4C91-8518-08878DE7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4BE-16D7-404C-B982-7D9284C7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49EB-CE44-4B5D-AE5C-61434DEF0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NUMBERS_OPERATIONS_AND_PROPERTIES/JMAP_SOLUTIONS_SUMMA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NUMBERS_OPERATIONS_AND_PROPERTIES/JMAP_SOLUTIONS_SUMM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NUMBERS_OPERATIONS_AND_PROPERTIES/JMAP_SOLUTIONS_SUMM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NUMBERS_OPERATIONS_AND_PROPERTIES/JMAP_SOLUTIONS_SUMM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NUMBERS_OPERATIONS_AND_PROPERTIES/JMAP_SOLUTIONS_SUMM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NUMBERS_OPERATIONS_AND_PROPERTIES/JMAP_SOLUTIONS_SUMM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NUMBERS_OPERATIONS_AND_PROPERTIES/JMAP_SOLUTIONS_SUMM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NUMBERS_OPERATIONS_AND_PROPERTIES/JMAP_SOLUTIONS_SUMM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NUMBERS_OPERATIONS_AND_PROPERTIES/JMAP_SOLUTIONS_SUMM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NUMBERS_OPERATIONS_AND_PROPERTIES/JMAP_SOLUTIONS_SUMM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NUMBERS_OPERATIONS_AND_PROPERTIES/JMAP_SOLUTIONS_SUMM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NUMBERS_OPERATIONS_AND_PROPERTIES/JMAP_SOLUTIONS_SUMM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PERATIONS AND PROPER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m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900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090000" cy="17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9000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09000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152280"/>
          <a:ext cx="9144000" cy="60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9144000" cy="60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056520" cy="34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56520" cy="34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1368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1368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90000" cy="13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9000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13680" cy="17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8850240" cy="53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50240" cy="53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13680" cy="51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9000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4:24:3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 Watson</cp:lastModifiedBy>
  <dcterms:modified xsi:type="dcterms:W3CDTF">2007-08-12T10:15:10Z</dcterms:modified>
  <cp:revision>14</cp:revision>
  <dc:subject/>
  <dc:title> NUMBER OPERATIONS AND PROPERTIES:  Summations</dc:title>
</cp:coreProperties>
</file>