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785B-969F-484D-B92A-A5EDF9905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2CB2-DF2E-435F-AC89-5FE1FBEAC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688-51AE-4F0F-8787-2603C4756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F0B-ED73-4380-9222-A538110D1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B306-ABA7-43D2-9230-586C02A95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C35-FC33-4DF5-8830-EF2E65678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D842-11E2-44F7-A694-06E4DF17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91AF-8362-4ECF-9F00-CA9739626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ADF-01AA-4408-88EC-A77733FB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E33-4817-4358-B134-DDF1DEB7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286-311C-419E-A312-CE2CFAB9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4F8-DBA3-4946-ADD2-F5B8ECFC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035-9A28-411E-9C72-3288D1BB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9B5-3444-4CEC-A84E-E8A8763A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6FF-FB04-4566-82D2-9B2DB29E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89B-CC6D-47E0-BFC4-D18E36CE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434-E96A-467C-86AC-1D4CBB77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9C0-851A-4FFF-98CD-185C49B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892-D8B6-4578-9FFE-D0B2C85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472-CB32-4130-B3C6-A03DBC2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891C-B1B0-4101-8EE6-A4F2A7C0D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ome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0:56:0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31:13Z</dcterms:modified>
  <cp:revision>6</cp:revision>
  <dc:subject/>
  <dc:title> TRANSFORMATIONS:  Isometries</dc:title>
</cp:coreProperties>
</file>