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01E9-4DDF-41FF-B39A-CF9DD7F796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7044-2E4B-4796-9963-4B6B489ED3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0b  POWERS: Graphing Logarithm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A249-2647-4F4C-855C-D07BE4D29A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0b  POWERS: Graphing Logarithm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8B0A-3FD9-49AD-8F4E-B9F609629A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5695-5423-4CAE-A852-B7254061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2003-89FB-4580-8730-CFDB6C71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5A44-330F-4DC2-A22C-7A3452F9D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5168-9AB4-4868-9250-6DBB8F48D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1502-D6FB-43D5-903C-A30E4515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2B4B-0877-4C60-83EE-5DEBB33E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8AA0-7160-41AB-87F0-9704C391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6044-6CE4-49F7-B35A-96F8F9C3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A39E-FA10-4ED1-9212-6230EC93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1A09-8F7E-4579-B513-1E40C4DB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28F1-4CA4-4777-BE26-27436ACA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E094-F3EC-4433-9C52-185345F1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7454-34F3-483C-B985-5A9B667985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R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aphing Logarithmic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597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59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717040" y="6248520"/>
            <a:ext cx="4269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40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3048120" y="3809880"/>
            <a:ext cx="2598480" cy="2637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717040" y="6248520"/>
            <a:ext cx="4269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23:50:0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6:35:36Z</dcterms:modified>
  <cp:revision>8</cp:revision>
  <dc:subject/>
  <dc:title> POWERS:  Graphing Logarithmic Functions </dc:title>
</cp:coreProperties>
</file>