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74D2-E090-46DB-A626-949CF20A7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3E49-130F-4AFA-BA4B-DCFAFFBAA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1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650D-9C8A-46EC-9A18-C717D73E7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0A57-49D1-4FDC-A142-2A62C45C0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CD2E-3775-4757-B908-D72B7D6C8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F7B3-755F-489F-B19D-C244C6403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8F52-5F67-4F2C-B420-D09F35DAB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613C-D13F-4EAC-85E4-4FEAED1DA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8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FA32-8DBD-4681-A4D2-DBB6984A4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1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E0CC-8086-4709-B506-5EE578533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1b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121E-9B21-4241-9447-3CCA58BBB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4b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40CA-A152-4056-9A87-F0E4319A6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3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60AB-48CD-4D02-8BA1-53C4D2B8A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0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101F-CC0B-4CFC-B585-6EB20CA39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3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7730-C9A3-4A55-BCB3-AD79BDE37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3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9450-D8D2-457F-BFD6-DBA156F05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B016-262A-4DE0-A378-A929F316E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FA22-C8CD-4234-A973-78D08C5F8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0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CA7A-6EBE-45E5-BF1D-245DF5FA2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4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D722-9E4F-4EE8-B237-CA136832F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918-0D36-40CD-8935-4D18F925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1EB-074B-40C3-8D38-F7A746F9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F53-EFA6-471F-8C1E-46A5A163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96FB-44C8-4793-A01C-C6646E1C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ED23-24E6-431F-91BF-9B2E585A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576-FD65-40C5-90A7-2D0FDD62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DEB6-FAEC-4394-ABE5-7EF171C6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886-1DCE-4F1F-8EFE-E220AF54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BD9B-AD8C-4991-8EEA-91C9930C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5A04-9642-46EE-BC2E-EFD132AF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2EA-48B6-42FF-828D-F572D657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B47-0E5B-408D-A7C8-47DAF246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7D8B-4DC0-4C40-BAE8-DE867D42E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IDS AND SIMILAR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11160"/>
            <a:ext cx="9090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24840" cy="6019920"/>
          </a:xfrm>
          <a:prstGeom prst="rect">
            <a:avLst/>
          </a:prstGeom>
          <a:ln w="0">
            <a:noFill/>
          </a:ln>
        </p:spPr>
      </p:pic>
      <p:pic>
        <p:nvPicPr>
          <p:cNvPr id="52" name="Object 5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91440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1:32:2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9:32:33Z</dcterms:modified>
  <cp:revision>14</cp:revision>
  <dc:subject/>
  <dc:title> SOLIDS AND SIMILARITY:  Volume</dc:title>
</cp:coreProperties>
</file>