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C28D-5F7F-49DB-8303-B666CC2AA0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673E-1888-4021-85AA-6BCB72FB79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8a  RATE: Conver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AEE6-61B9-485F-97B6-BF5A083A0D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7a  RATE: Conver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54C1-4D92-4E8F-9145-5AC31B2A49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14a  RATE: Conver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21BA-8600-4237-917A-2708EDC5E3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9a  RATE: Conver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343E-899E-475C-B752-36D343E385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31a  RATE: Conver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1DFC-9961-4F6F-A027-664600D84C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21a  RATE: Conver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44F4-A8E2-4D0A-91EB-14D50BE009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7a  RATE: Conver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B510-4EBD-4DDC-92B0-41EFF2349F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08a  RATE: Conver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7912-6230-4780-A1FB-68D424EEEE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34a  RATE: Conver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C331-D459-46ED-ABE4-06A417539A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4379-4198-4A95-BC9C-984AA0F85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41B0-B0CB-45E9-B41B-9563F43D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954D-8708-4378-9FDB-BF9EDC729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434D-E803-4265-8AD1-DDFD20426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6D29-5228-47B8-B8CD-124A5E86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5C4C-6278-458F-84F8-12B53EFD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58F7-813E-4AC7-86CE-8AB772DD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E8FA-E9D3-48BE-9512-D480EC49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E61F-7175-4C80-966D-907D5E84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5D6F-0BAA-48DF-8466-E5AB34BE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2DA7-44FD-4A62-AD95-9C61B8AD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6D45-0CA3-41FA-8C58-65818E25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4C4C-B78B-46A0-8785-02404EE1F9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RATE/JMAP_SOLUTIONS_SCALE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RATE/JMAP_SOLUTIONS_SCAL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RATE/JMAP_SOLUTIONS_SCAL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RATE/JMAP_SOLUTIONS_SCAL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RATE/JMAP_SOLUTIONS_RATIO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RATE/JMAP_SOLUTIONS_SCAL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RATE/JMAP_SOLUTIONS_SCAL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TE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ver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777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81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191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438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122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327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259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3124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6T19:56:36Z</dcterms:created>
  <dc:creator>Steve</dc:creator>
  <dc:description/>
  <dc:language>en-US</dc:language>
  <cp:lastModifiedBy>Steve</cp:lastModifiedBy>
  <dcterms:modified xsi:type="dcterms:W3CDTF">2007-10-12T05:05:16Z</dcterms:modified>
  <cp:revision>4</cp:revision>
  <dc:subject/>
  <dc:title>Slide 1</dc:title>
</cp:coreProperties>
</file>