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8.wmf" ContentType="image/x-wmf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0700-E428-4571-8624-929706C42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419E-5BEB-4E6A-96ED-9828C661D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2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4B89-E564-4AE2-ADE1-EECDC4490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1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FDF4-B0CF-4829-AF7F-60B6B4953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7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40B5-1989-4ED1-9E37-7AFEED477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6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846C-F23F-4A81-A8C3-27C554A23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8a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BF8C-62FF-4B4E-AA01-DD5B846F1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0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595B-004C-486B-9CF2-CC2FE95CA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5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5364-C360-4947-A736-2B1AFB787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3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B3B3-6680-4DBC-AE7F-B8BCC06EC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8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FF03-9097-4894-AC03-42AD2B3A0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9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9D8E-E6F9-4C01-8B73-FE19DF6B3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5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3262-2E6B-4BE4-BCA0-3BF8FB8A3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9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0F4-151A-4AD7-BAC5-D58298E67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A29-4E2C-4AC9-9C73-61948876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C89-5482-4A3E-85B6-34383C4D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355-C042-4DED-96F5-94DE43F9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89F-38B7-4C45-8D2F-676CDC42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7C0-FA59-4C00-8BB8-6E9D484C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0CC-ACE5-4AF7-B3A5-BF287444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80B-7F70-4D74-AEC2-921B48D9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CA4-76C5-4CFC-91B0-539AB9CF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C31-2A02-4A27-9475-7AA21D6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371-F39D-4C28-AE92-439ECA2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74E-246B-4F69-8AEC-2F2D7BE8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106-9615-468B-8EE9-41E1C505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6C20-CAC5-4A32-9246-9EE40AF85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ositions of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733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44578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30481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90000" cy="34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66880" y="0"/>
            <a:ext cx="42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514600" y="79200"/>
            <a:ext cx="443556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23:10:3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58:51Z</dcterms:modified>
  <cp:revision>9</cp:revision>
  <dc:subject/>
  <dc:title> TRANSFORMATIONS:  Compositions of Transformations </dc:title>
</cp:coreProperties>
</file>