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92D-B907-4F26-82DC-FCACEAE1A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6AB3-D540-4AC1-8F94-F2B00DF06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b 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9F4A-30C7-46AA-87FA-42AC03C59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0F71-83C1-49ED-82B2-15E061AD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982-BF30-4B52-AD35-C3B0D6177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4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BA9-743B-4194-921C-6000376CE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93E-A9C2-4D8A-81FD-BF66E68D5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EA3-329E-4888-83F3-9C3EC8FCB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AE7-3192-41DF-9506-68AEEADEC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166F-26CF-4F40-9698-779928FD4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0F3-AF24-4306-986F-9723D3D1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0FF-FF8B-4AE3-96EB-7DCB760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212-B471-4291-8ADF-E47D3AC4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0CC-0058-417B-8814-3F883483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945-9443-49F2-B3D6-1F4F1CA0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976-698E-4EE3-941A-ADD8A67E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E92-184F-4F07-A361-DF340F5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87A-14F7-47C3-AE62-F88B3F8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AD6-4BF6-46B4-8FC1-8300B3B6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AF8-BEA7-4D0C-8072-32CF164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C80-8B56-4561-962E-3913FE8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6E2-E0AA-4C26-AE4C-01E363F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8F9-2D17-4A78-94D3-D852EE22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rigonometry to Fi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15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2:53:44Z</dcterms:modified>
  <cp:revision>9</cp:revision>
  <dc:subject/>
  <dc:title> TRIANGLES:  Using Trigonometry to Find Area </dc:title>
</cp:coreProperties>
</file>