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308F-8C44-4608-9177-ED1E20F1B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94B6-42A9-4CD3-B378-9E88F98CC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4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A4BB-27D3-46F1-B724-497C7C0FB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4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618E-4372-4ECC-B2AF-28A1E44A9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3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8727-5F6F-4B26-9C24-90A1FF097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3b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1ED1-1A00-40AE-9A32-B9FB26612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7b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4B32-34BB-4935-814B-A327EE1F4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4b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5BF4-83A5-4D51-B51B-4500E987E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1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CC25-8884-4802-B082-E77DA23B9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3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847D-B244-475C-9CB6-3030A2A84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7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74D2-4EEF-4585-9845-BD909A721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0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E71D-A13B-4D49-9084-B43CAFDBB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3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CB6B-778E-4282-A554-AFCBE48F9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7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D98C-564F-4DAB-A48F-AEF44A8D9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1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EE33-E89C-4BBD-B855-5511C12AF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5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94B9-5C49-4434-B919-8FB8EF8A4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5BD7-C5C6-45FF-9688-10BE2FC6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D8D-4AED-4E9E-A931-9CCDC822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81B-82A0-43CF-8F8D-D8E2585F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760-75C6-49FC-90C1-DBF4F66E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D108-5CB3-4876-85BB-119AD235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5CA-2295-4CF6-B977-16FE1026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E9E-2600-4D6A-9AF4-F9038ADC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6C8-EF6C-4D46-9FC0-A45740E4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416-6732-4E3D-9A7E-3678E096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C9D-78BF-499D-B52B-7D3D38FA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56DF-67C3-4B87-B775-A8A80EEE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F07-5B06-440B-BD1B-9828E9BD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6927-ED92-404E-B083-041F654D4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imeter and Area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-34920"/>
            <a:ext cx="890892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85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8:54:3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2:44:49Z</dcterms:modified>
  <cp:revision>12</cp:revision>
  <dc:subject/>
  <dc:title> TRIANGLES:  Perimeter and Area of Triangles </dc:title>
</cp:coreProperties>
</file>