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23D7-7C07-4DAE-89B5-E8E5F373CE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C074-6A28-4012-85AA-4D5E9BE3A2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7a  NUMBERS_OPERATIONS_AND_PROPERTIES_Comparing_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B5D0-4B30-4D2C-9E08-6144D753BA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17a  NUMBERS_OPERATIONS_AND_PROPERTIES_Comparing_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4209-E49B-41B5-A5D5-048D1636F7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2a  NUMBERS_OPERATIONS_AND_PROPERTIES_Comparing_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8D3E-01F9-4D01-B1D2-B3E16E0CED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20a  NUMBERS_OPERATIONS_AND_PROPERTIES_Comparing_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C954-E563-4A01-AB93-061DECB607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06a  NUMBERS_OPERATIONS_AND_PROPERTIES_Comparing_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E4F7-CDEA-4208-83E0-126F6CBA2D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3a  NUMBERS_OPERATIONS_AND_PROPERTIES_Comparing_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A7B8-DF94-45F8-92CE-9DE3D511B0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4a  NUMBERS_OPERATIONS_AND_PROPERTIES_Comparing_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0849-08EA-4620-AC3C-9C8D3068F4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6  NUMBERS_OPERATIONS_AND_PROPERTIES_Comparing_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B8D2-6FA6-4083-86F8-AD4A441219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9  NUMBERS_OPERATIONS_AND_PROPERTIES_Comparing_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BE5B-D759-4224-AAC7-861FEE9146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1a  NUMBERS_OPERATIONS_AND_PROPERTIES_Comparing_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327A-B847-47C2-A208-2FF77B2348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6a  NUMBERS_OPERATIONS_AND_PROPERTIES_Comparing_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473E-E8A0-4E41-8DF0-3BBBC86E2B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02a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8489-9F6B-4FE1-A43B-47E2300E80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3a  NUMBERS_OPERATIONS_AND_PROPERTIES_Comparing_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7A99-CD75-4F8B-B4CB-C61A2063BE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B1E8-12D4-4DBD-A608-BC0FA3BF8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6492-42DD-4477-8F31-EED64498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0953-A428-48D3-8A8D-A2701E00A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EB5C-0587-441D-96A4-6BDBA80A9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2BF7-5A01-42A1-910B-AC9943D3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D9B1-A1AD-4ADF-B0D8-4F98B019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D7AD-6D9E-4932-AE23-EE0D5304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69E2-32FF-481B-A1FB-D877A45C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DF8F-4422-46C2-89AE-F1E23536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5371-C173-4A79-B29F-35B823BE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3560-FF84-4C71-944D-23556385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2EE6-3A44-4C0A-8787-EF69CA09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9BFE-D46D-4D64-8A99-F1A150C03C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NUMBERS_OPERATIONS_AND_PROPERTIES/JMAP_SOLUTIONS_COMPARING_REAL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hyperlink" Target="http://www.jmap.org/JMAP/JMAPSolutions/NUMBERS_OPERATIONS_AND_PROPERTIES/JMAP_SOLUTIONS_COMPARING_RE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NUMBERS_OPERATIONS_AND_PROPERTIES/JMAP_SOLUTIONS_COMPARING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NUMBERS_OPERATIONS_AND_PROPERTIES/JMAP_SOLUTIONS_COMPARING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NUMBERS_OPERATIONS_AND_PROPERTIES/JMAP_SOLUTIONS_COMPARING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NUMBERS_OPERATIONS_AND_PROPERTIES/JMAP_SOLUTIONS_COMPARING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NUMBERS_OPERATIONS_AND_PROPERTIES/JMAP_SOLUTIONS_COMPARING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NUMBERS_OPERATIONS_AND_PROPERTIES/JMAP_SOLUTIONS_COMPARING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NUMBERS_OPERATIONS_AND_PROPERTIES/JMAP_SOLUTIONS_COMPARING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NUMBERS_OPERATIONS_AND_PROPERTIES/JMAP_SOLUTIONS_COMPARING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NUMBERS_OPERATIONS_AND_PROPERTIES/JMAP_SOLUTIONS_COMPARING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MBER OPERATIONS AND PROPERTIES:    Comparing Re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2"/>
          <p:cNvGraphicFramePr/>
          <p:nvPr/>
        </p:nvGraphicFramePr>
        <p:xfrm>
          <a:off x="0" y="0"/>
          <a:ext cx="901368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44080" y="5715000"/>
            <a:ext cx="79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192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44080" y="5715000"/>
            <a:ext cx="79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67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344080" y="5715000"/>
            <a:ext cx="79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4160" cy="3774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344080" y="5715000"/>
            <a:ext cx="79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116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344080" y="5715000"/>
            <a:ext cx="79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438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44080" y="5715000"/>
            <a:ext cx="79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801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44080" y="5715000"/>
            <a:ext cx="79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508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44080" y="5715000"/>
            <a:ext cx="79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462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44080" y="5715000"/>
            <a:ext cx="79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387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44080" y="5715000"/>
            <a:ext cx="79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06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44080" y="5715000"/>
            <a:ext cx="79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06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44080" y="5715000"/>
            <a:ext cx="79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813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44080" y="5715000"/>
            <a:ext cx="79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9T23:40:24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1T21:53:24Z</dcterms:modified>
  <cp:revision>12</cp:revision>
  <dc:subject/>
  <dc:title> NUMBER OPERATIONS AND PROPERTIES:    Comparing Reals </dc:title>
</cp:coreProperties>
</file>