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CF6-F9A5-4EC1-8575-4239E5420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0FD-60A8-4B96-A52D-3A555D442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56B-1CCA-4BC5-8463-85216B328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899-6F96-48EB-AE21-9F66C8AF1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b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CB75-E799-4F5B-A64C-CFE1C68E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ECF-3A10-4955-9A1B-D1898B71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A79-00C5-4511-96DB-E88C289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A7B-8BDB-41BF-B5C0-75F7EF78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ADF-6E5D-43C1-86BE-E7988FB8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3A3-1842-405B-9308-0C1DF74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509-4C60-4535-A957-0CDAAFD7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7A7-F3BD-4C02-A03D-FC98158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543-9FC2-4834-9E3F-F09FECF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B7A-1771-4115-BE88-FFE03F9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1B1-3399-4697-B98E-1ACBBCF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1FA-6FD8-4D36-AD27-BB0D965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644-EBA3-4F86-93B6-2DD282F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2F74-29A9-4570-B140-BA5AD5ADA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013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"/>
          <p:cNvGraphicFramePr/>
          <p:nvPr/>
        </p:nvGraphicFramePr>
        <p:xfrm>
          <a:off x="0" y="2590920"/>
          <a:ext cx="901368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0136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3876480" cy="29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43400" y="838080"/>
            <a:ext cx="371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43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0:29Z</dcterms:modified>
  <cp:revision>6</cp:revision>
  <dc:subject/>
  <dc:title> TRANSFORMATIONS:  Rotations</dc:title>
</cp:coreProperties>
</file>