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8DC3D-DD16-4039-9377-97EE124798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9F871-0A77-48C5-A81C-FB3C0445EC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04a  SOLIDS AND SIMILARITY: Simi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4D950-4A6C-48AA-BB30-691BFFE4CB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24a  SOLIDS AND SIMILARITY: Simi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681D6-7877-4CBC-800C-D79E8B4E91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15a  SOLIDS AND SIMILARITY: Simi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E72B3-16B4-4D8A-AA1C-8EC4C6E184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22a  SOLIDS AND SIMILARITY: Simi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36AD9-C072-4B1E-8F05-6E0046E48E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18a  SOLIDS AND SIMILARITY: Simi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0A7A-6765-46BA-911D-8C6C59E27D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01a  SOLIDS AND SIMILARITY: Simi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636D6-ED28-4A07-995C-E05662E820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29a  SOLIDS AND SIMILARITY: Simi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6338F-C766-45DB-BED0-93E79ACB21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15a  SOLIDS AND SIMILARITY: Simi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D534C-3387-478E-A441-36D5530201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19b  SOLIDS AND SIMILARITY: Simi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9DF82-42D1-4FF2-9BF0-1858637B36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10a  SOLIDS AND SIMILARITY: Simi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E20CF-4CA9-4139-A87F-5D519C12F4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24a  SOLIDS AND SIMILARITY: Simi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E44EA-5533-4D0C-9133-22AFAF0959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07a  SOLIDS AND SIMILARITY: Simi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65AF1-0B35-40D9-B2B8-8D7B56937E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21a  SOLIDS AND SIMILARITY: Simi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721FA-8564-4969-A640-CC0681167C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32a  SOLIDS AND SIMILARITY: Simi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58BDE-B9BA-4791-9A98-B67B5992A2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05a  SOLIDS AND SIMILARITY: Simi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490C1-D2BB-46C4-BC06-780BD85EF9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11a  SOLIDS AND SIMILARITY: Simi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C5734-0679-443F-AE8F-A58F2A0EA4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08a  SOLIDS AND SIMILARITY: Simi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52753-F71D-4E89-905A-A614EBB8C2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859B-F35C-4E71-B8FA-4DD3E2613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0681-DD95-40DC-95BD-9FFCB854B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F634-575E-4401-AC63-36837AA6F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7603-8D6D-4AB8-8AF5-8FF51F327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A6E7-6685-48CD-9674-AD107D16B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6D8A-DE24-4DD2-8006-B9FFC9B29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2B2E-BFB7-4306-8065-E94658FE7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BD14-24FA-4FAB-B34B-F311E4CBA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BEFB-C0E4-46B2-9ACA-9EA397ECE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CD2C-177F-4074-B858-77121D32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E668-0ED1-4775-941E-B2D14F4B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78D9-F461-4663-83E2-F31D4164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ED478-59DD-4B7E-ABC4-A5D2229A66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LIDS AND SIMILARITY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imilar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2"/>
          <p:cNvGraphicFramePr/>
          <p:nvPr/>
        </p:nvGraphicFramePr>
        <p:xfrm>
          <a:off x="0" y="0"/>
          <a:ext cx="909000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ject 2" descr=""/>
          <p:cNvPicPr/>
          <p:nvPr/>
        </p:nvPicPr>
        <p:blipFill>
          <a:blip r:embed="rId1"/>
          <a:stretch/>
        </p:blipFill>
        <p:spPr>
          <a:xfrm>
            <a:off x="0" y="-22320"/>
            <a:ext cx="9013680" cy="6804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457200" y="3124080"/>
            <a:ext cx="3886200" cy="29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116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9T10:58:47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6T09:27:25Z</dcterms:modified>
  <cp:revision>8</cp:revision>
  <dc:subject/>
  <dc:title> SOLIDS AND SIMILARITY:  Similarity</dc:title>
</cp:coreProperties>
</file>