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05FF-A0F8-4181-A2E2-545811BD8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520A-3463-4FBF-BF89-31711ADB3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2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40C0-1727-4023-B15B-F25F635A2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8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BCF0-6CDB-439E-B4C9-E64914257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2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CDB8-3EAE-453B-B848-BB69E43EE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7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E7DF-A6AC-41E0-B615-001BA95DCB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2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7C11-AEBF-4092-B272-4A7120331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8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E34F-0492-4C24-8565-FD6936280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4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E970-CDC6-405B-A73A-0AB9D170A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9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0445-5913-46D8-93CB-440290C91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4a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8569-39A8-4275-9E80-CB0219443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9a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1117-103E-4818-AD55-E66F4A080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2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F44A-2F55-4AF4-95E2-E7EBD2F94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7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E40A-3664-4A95-A679-B37626B0A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4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DDEB-5236-4487-8875-B625F6C2B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9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CBDC-9C97-4840-AF15-C5950C957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7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58B4-3C62-4FAD-A385-66E0A082C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8b  QUADRATICS: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atics with Non-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2808-8B72-4BAE-B6C3-7292DDFFA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320C-FB6A-4B75-B4FB-32287AAD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E8D8-CBDC-43B0-A6B6-0C2CD060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43D-379B-44F8-87CD-98950DE2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DDE-A633-4F5B-ACAB-822992C2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BE6F-8644-4DF8-9F3A-72FF06E5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2FA7-7346-4BC8-9473-45539221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7C65-28F5-4724-8F50-D1FDF835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E1D-3E93-4CF8-9395-767ACC8F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898-2030-4628-9380-2B21C001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C258-DDF5-49F5-A61F-1D91A09A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8AF0-E614-4806-8BBB-E361BC2D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AB4A-F409-49C9-B4BB-9C0608EF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CFD9-1A25-468F-B61D-C2667D46D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QUADRATICS/JMAP_SOLUTIONS_SOLVING_QUADRATICS_BY_FACTORING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DRA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dratics with Noninteger 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0" y="0"/>
          <a:ext cx="91440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378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91281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0" y="0"/>
          <a:ext cx="9037800" cy="31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216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0" y="0"/>
          <a:ext cx="909000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0" y="0"/>
          <a:ext cx="90378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3"/>
          <p:cNvGraphicFramePr/>
          <p:nvPr/>
        </p:nvGraphicFramePr>
        <p:xfrm>
          <a:off x="0" y="0"/>
          <a:ext cx="9021600" cy="40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33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037800" cy="29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0" y="0"/>
          <a:ext cx="90216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894564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03780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0" y="0"/>
          <a:ext cx="894564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90000" cy="33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883908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3908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20:59:00Z</dcterms:created>
  <dc:creator>Steve</dc:creator>
  <dc:description/>
  <dc:language>en-US</dc:language>
  <cp:lastModifiedBy>Steve</cp:lastModifiedBy>
  <dcterms:modified xsi:type="dcterms:W3CDTF">2007-10-26T00:21:59Z</dcterms:modified>
  <cp:revision>5</cp:revision>
  <dc:subject/>
  <dc:title>Slide 1</dc:title>
</cp:coreProperties>
</file>