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wmf" ContentType="image/x-wmf"/>
  <Override PartName="/ppt/media/image3.jpeg" ContentType="image/jpeg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A2FB3-B4E4-4A96-BC9D-55E9889B6E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Thomas Jefferson’s portrait to hyperlink to solutions at the Jefferson Math Project websit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A7D8A-55E0-478D-9160-EEAF75963F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436a  RATE: Perc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6A209-7805-460B-85F9-560A80901E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225a  RATE: Perc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94EA7-D130-4E64-B404-A10964C12A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626a  RATE: Perc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2A74F-B189-4354-A655-AA72ECD753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322a  RATE: Perc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2F98F-BC5F-4677-9412-AF016373B2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127a  RATE: Perc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9CC19-D019-4D88-9F7C-32D422A668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732a  RATE: Perc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4458C-36AB-4AF0-84FC-415B0F6331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635a  RATE: Perc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3B766-E23A-4F87-9B12-CB420C6014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009a  RATE: Perc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A6940-15E7-4EEC-9B5C-AB6AB72C20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222a  RATE: Perc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F5AE4-C514-4CA7-BF65-8058798845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9910a  RATE: Perc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46857-CE7F-409B-8E6D-23137B7CA0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122a  RATE: Perc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3DEE5-5AD1-4DF0-8894-FB92DA8D3E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420a  RATE: Perc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97226-86BE-4871-82E2-3B74206F67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9930a  RATE: Perc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C45B9-F53B-4024-871E-C921686C8C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0A058-37F0-4E5E-869E-CE0A13FC7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49E7E-6D16-413D-973D-515647368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24A5E-1555-43B2-891B-6A861045F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A5A14-56AD-4FD7-9E9F-1CC50373B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0B115-A87B-4881-949B-D5681C2F6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BEE81-AD12-4C13-9E9C-1E6D52D80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BBE38-05AF-4D5C-AD6B-90C3AFD88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FFD8B-DA90-4378-B641-36584FEA3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EDC00-682C-4EE4-BB4B-5E41491A0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D1AFE-299C-4C6D-81D2-79B044095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4C8EF-E364-4AF7-9920-D72100378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2EFF7-7C38-414D-BBD5-30BF443DC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C89F3-F885-4CFF-BF42-7F067A89ED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jmap.org/JMAP/JMAPSolutions/RATE/JMAP_SOLUTIONS_PERCENTS.doc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hyperlink" Target="http://www.jmap.org/JMAP/JMAPSolutions/RATE/JMAP_SOLUTIONS_PERCENT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hyperlink" Target="http://www.jmap.org/JMAP/JMAPSolutions/RATE/JMAP_SOLUTIONS_PERCENT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hyperlink" Target="http://www.jmap.org/JMAP/JMAPSolutions/RATE/JMAP_SOLUTIONS_PERCENT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hyperlink" Target="http://www.jmap.org/JMAP/JMAPSolutions/RATE/JMAP_SOLUTIONS_PERCENT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hyperlink" Target="http://www.jmap.org/JMAP/JMAPSolutions/RATE/JMAP_SOLUTIONS_PERCENT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hyperlink" Target="http://www.jmap.org/JMAP/JMAPSolutions/RATE/JMAP_SOLUTIONS_PERCENT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hyperlink" Target="http://www.jmap.org/JMAP/JMAPSolutions/RATE/JMAP_SOLUTIONS_PERCENT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hyperlink" Target="http://www.jmap.org/JMAP/JMAPSolutions/RATE/JMAP_SOLUTIONS_PERCENT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hyperlink" Target="http://www.jmap.org/JMAP/JMAPSolutions/RATE/JMAP_SOLUTIONS_PERCENT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HP_Administrator\Pictures\My Pictures\Thomas Jefferson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05320" y="1371600"/>
            <a:ext cx="2133360" cy="304812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2666880" y="45720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Jefferson Math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jmap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RATE: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erc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13680" cy="28195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55160" cy="41148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13680" cy="26668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Object 3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35053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45720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24382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37339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4382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1905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28195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8954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30481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41911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8T18:49:25Z</dcterms:created>
  <dc:creator>Steve Watson</dc:creator>
  <dc:description>Copyright 2007 The Jefferson Math Project (JMAP) 
Permission is granted to teachers, researchers, students, and others to duplicate, distribute and modify for non-profit educational purposes.</dc:description>
  <dc:language>en-US</dc:language>
  <cp:lastModifiedBy>Steve</cp:lastModifiedBy>
  <dcterms:modified xsi:type="dcterms:W3CDTF">2007-07-15T07:12:59Z</dcterms:modified>
  <cp:revision>14</cp:revision>
  <dc:subject/>
  <dc:title> RATE:  Percents </dc:title>
</cp:coreProperties>
</file>