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5237-F218-40D3-B2ED-D5D9C355E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CDC-6C0C-439B-99CB-1264D7A90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8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6EF-0094-4C5E-9FAE-22598F224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398F-AB97-4D81-A905-14E711DA7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4CB7-865E-47A9-9D00-E1D0A3594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11F-D7F3-4E8D-A0E0-7FFCDE707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a  CONICS: Circle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53E3-7D3A-4FD4-AF81-557C6D8A2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7D64-465A-44DF-8C7E-141F9091E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52D-D56B-47DA-AD77-EFC68AD89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805A-B6F5-4993-8C37-543C909A6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8FB-89B4-4535-866B-5A6953187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5C6-1E7F-4E2A-B9AA-16D3FECD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DC8-306F-4C05-A5B6-0CB01CD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109-1BF5-46CE-B1A5-946C9FF8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E29-F09B-412C-A807-C52D962D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8AD-6D80-48EB-A171-EFAF0D26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DC8-3D27-47C2-877F-31C740F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D9B-570B-4A76-A4EC-686746C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9A7-9331-4C47-9825-7E4DEA6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2DF-9882-4B13-9A08-7EEB108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BAB-87A6-4218-93FA-B176A68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050-7C38-4A97-90A9-ACA2739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E81-CDB3-4278-B0B8-1F3C8D3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4A2F-DCE1-4ACC-8311-1E6DBDB21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rcle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136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0" y="47242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388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6:00:5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16:04Z</dcterms:modified>
  <cp:revision>10</cp:revision>
  <dc:subject/>
  <dc:title> CONICS:  Circle Graphs </dc:title>
</cp:coreProperties>
</file>