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png" ContentType="image/png"/>
  <Override PartName="/ppt/media/image24.wmf" ContentType="image/x-wmf"/>
  <Override PartName="/ppt/media/image23.wmf" ContentType="image/x-wmf"/>
  <Override PartName="/ppt/media/image5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13.png" ContentType="image/png"/>
  <Override PartName="/ppt/media/image8.wmf" ContentType="image/x-wmf"/>
  <Override PartName="/ppt/media/image33.wmf" ContentType="image/x-wmf"/>
  <Override PartName="/ppt/media/image9.wmf" ContentType="image/x-wmf"/>
  <Override PartName="/ppt/media/image28.wmf" ContentType="image/x-wmf"/>
  <Override PartName="/ppt/media/image30.png" ContentType="image/png"/>
  <Override PartName="/ppt/media/image3.jpeg" ContentType="image/jpeg"/>
  <Override PartName="/ppt/media/image4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32.wmf" ContentType="image/x-wmf"/>
  <Override PartName="/ppt/media/image29.png" ContentType="image/png"/>
  <Override PartName="/ppt/media/image2.wmf" ContentType="image/x-wmf"/>
  <Override PartName="/ppt/media/image16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F177-9D04-49CF-B4A8-58DA6D203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65B5-1D48-47B4-B76A-4086BEE44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4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F95B-51B5-4F07-91BB-2D8DC31F5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3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FBF0-C52E-486C-88B4-876E970E5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1b  GRAPHS AND STATISTICS: Regre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058C-B9E3-4AB9-A9EA-91B50161C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5a  GRAPHS AND STATISTICS: Regre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2801-A101-4EE7-9BAB-11850938D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9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8926-481C-4BBE-9CD4-07B6C91AF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4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0B07-8DB2-4618-B3FF-A0E1889A8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2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9749-E42D-4291-B252-EF6C2FB69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3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525E-A82B-49C7-B308-0E2FDA022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1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A11F-A1E5-4609-A9F4-EF33FD8AA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9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C5D6-C487-45E3-98CB-FB2ED3830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2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8ADD-F4EF-4E23-A3E2-489FB8E04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0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7BEF-F6BA-4A12-BDF5-3CA09E496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4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3091-1689-469B-AE53-A67BC49B8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0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CE63-B166-4FFC-91A0-916A8019D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8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DCD5-6046-4ABE-8873-6A664DD1F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3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0F91-47F3-495B-A0CF-AAAEA171D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3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2DFB-9847-4057-855A-011AAEE28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8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50C3-A0CA-43B2-9208-A1F0B6F19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31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08ED-2677-4A00-BC80-B8D86BED7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854-CEB3-4BE8-853B-C86C9F29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010-D98C-4251-94BF-3ACD3676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834-D9DE-42A5-8A25-E0D70C02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8B9-60C7-46E0-ADE0-00D9CDBD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0C8-ACAD-4E0B-B31B-374B6746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5EA-12EF-4803-AC88-6D7AB35F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DFCB-C393-4954-A666-F4E414E7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125-51FA-45FC-A64B-FAF344E8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131-CE59-447D-9756-4A27C398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1779-6C42-4A69-B467-F8FD4838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3CD-F164-4B86-A315-903CB3DB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766-7442-4D32-B943-4E1E3302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4939-A396-452F-9AF5-5186AE223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GRAPHS_AND_STATISTICS/JMAP_SOLUTIONS_REGRESSION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hyperlink" Target="http://www.jmap.org/JMAP/JMAPSolutions/GRAPHS_AND_STATISTICS/JMAP_SOLUTIONS_REGRESSION.doc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GRAPHS_AND_STATISTICS/JMAP_SOLUTIONS_REGRESS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GRAPHS_AND_STATISTICS/JMAP_SOLUTIONS_REGRESS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hyperlink" Target="http://www.jmap.org/JMAP/JMAPSolutions/GRAPHS_AND_STATISTICS/JMAP_SOLUTIONS_REGRESSION.doc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GRAPHS_AND_STATISTICS/JMAP_SOLUTIONS_REGRESS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hyperlink" Target="http://www.jmap.org/JMAP/JMAPSolutions/GRAPHS_AND_STATISTICS/JMAP_SOLUTIONS_REGRESS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hyperlink" Target="http://www.jmap.org/JMAP/JMAPSolutions/GRAPHS_AND_STATISTICS/JMAP_SOLUTIONS_REGRESS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GRAPHS_AND_STATISTICS/JMAP_SOLUTIONS_REGRESS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GRAPHS_AND_STATISTICS/JMAP_SOLUTIONS_REGRESS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GRAPHS_AND_STATISTICS/JMAP_SOLUTIONS_REGRESS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hyperlink" Target="http://www.jmap.org/JMAP/JMAPSolutions/GRAPHS_AND_STATISTICS/JMAP_SOLUTIONS_REGRESSION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GRAPHS_AND_STATISTICS/JMAP_SOLUTIONS_REGRESS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GRAPHS_AND_STATISTICS/JMAP_SOLUTIONS_REGRESS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GRAPHS_AND_STATISTICS/JMAP_SOLUTIONS_REGRESS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hyperlink" Target="http://www.jmap.org/JMAP/JMAPSolutions/GRAPHS_AND_STATISTICS/JMAP_SOLUTIONS_REGRESSION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S AND STATIS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g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1959120"/>
          </a:xfrm>
          <a:prstGeom prst="rect">
            <a:avLst/>
          </a:prstGeom>
          <a:ln w="0">
            <a:noFill/>
          </a:ln>
        </p:spPr>
      </p:pic>
      <p:pic>
        <p:nvPicPr>
          <p:cNvPr id="73" name="Object 4" descr=""/>
          <p:cNvPicPr/>
          <p:nvPr/>
        </p:nvPicPr>
        <p:blipFill>
          <a:blip r:embed="rId2"/>
          <a:stretch/>
        </p:blipFill>
        <p:spPr>
          <a:xfrm>
            <a:off x="0" y="1828800"/>
            <a:ext cx="907884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3352680" y="28195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Object 6" descr=""/>
          <p:cNvPicPr/>
          <p:nvPr/>
        </p:nvPicPr>
        <p:blipFill>
          <a:blip r:embed="rId4"/>
          <a:stretch/>
        </p:blipFill>
        <p:spPr>
          <a:xfrm>
            <a:off x="0" y="541008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HP_Administrator\Pictures\My Pictures\Thomas Jeffers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073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45720" cy="6672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1440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4"/>
          <p:cNvGraphicFramePr/>
          <p:nvPr/>
        </p:nvGraphicFramePr>
        <p:xfrm>
          <a:off x="0" y="4800600"/>
          <a:ext cx="90900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800600"/>
                    <a:ext cx="90900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5" descr=""/>
          <p:cNvPicPr/>
          <p:nvPr/>
        </p:nvPicPr>
        <p:blipFill>
          <a:blip r:embed="rId5"/>
          <a:stretch/>
        </p:blipFill>
        <p:spPr>
          <a:xfrm>
            <a:off x="2590920" y="838080"/>
            <a:ext cx="3581280" cy="3919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81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1523880" y="0"/>
            <a:ext cx="9144000" cy="6010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5486400" y="1295280"/>
            <a:ext cx="3489480" cy="3497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-1066680" y="0"/>
            <a:ext cx="8966160" cy="4973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5715000" y="762120"/>
            <a:ext cx="2946240" cy="2963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60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344628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4800600" y="3276720"/>
            <a:ext cx="3398760" cy="339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7205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943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268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93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9000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3505320" y="4464000"/>
            <a:ext cx="1904760" cy="239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705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69400" cy="6118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257800" y="380880"/>
            <a:ext cx="2868480" cy="3733920"/>
          </a:xfrm>
          <a:prstGeom prst="rect">
            <a:avLst/>
          </a:prstGeom>
          <a:ln w="0">
            <a:noFill/>
          </a:ln>
        </p:spPr>
      </p:pic>
      <p:pic>
        <p:nvPicPr>
          <p:cNvPr id="66" name="Object 3" descr=""/>
          <p:cNvPicPr/>
          <p:nvPr/>
        </p:nvPicPr>
        <p:blipFill>
          <a:blip r:embed="rId2"/>
          <a:stretch/>
        </p:blipFill>
        <p:spPr>
          <a:xfrm>
            <a:off x="-1751040" y="0"/>
            <a:ext cx="8966160" cy="603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05652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5652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3" descr=""/>
          <p:cNvPicPr/>
          <p:nvPr/>
        </p:nvPicPr>
        <p:blipFill>
          <a:blip r:embed="rId3"/>
          <a:stretch/>
        </p:blipFill>
        <p:spPr>
          <a:xfrm>
            <a:off x="5029200" y="380880"/>
            <a:ext cx="3511440" cy="3505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05:09:3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3:24:46Z</dcterms:modified>
  <cp:revision>19</cp:revision>
  <dc:subject/>
  <dc:title> GRAPHS AND STATISTICS:  Regression</dc:title>
</cp:coreProperties>
</file>