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6AB-A1D4-4883-9A9B-D1CAE0729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44AD-6F51-450D-A186-A00D49CF9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331-39C2-47AA-8FCF-FAC7E5B62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E0F-55AD-4D05-928F-4F3DF5C6C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9A2-4552-4F93-B480-AB1B9C39C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111-2507-485C-898E-A4AE64588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1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684-CF72-4BA7-9F3D-55BF7D763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DF7-7F50-4CE3-B088-108CB03AB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4C45-A54C-4B9F-B676-074953623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7CE-F566-478C-A4F0-2485F1EE3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6D9-D399-49B8-AA9E-916518FCC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47C4-D408-4AB2-A866-CCE68880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E48-85BC-4EC5-9EFA-624C530B1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E321-72CC-447A-B619-830CC84F6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521-2C30-422F-BF7F-E8367B8C5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4345-C9EA-4266-A46E-B9680E006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838-E4CD-402F-A585-284342AC7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583-2065-4B88-988A-C21872ADB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4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0F3-7D5F-4E64-8347-864304362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593A-004B-42C7-AD7A-04F28F1EB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358-5C5E-4E53-B460-9DA7F0EBA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72A-061D-4672-A6FD-636259386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748-860D-4886-AF36-F01383658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637-6C4F-47E6-9D26-D4AE88093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2E09-DCDE-4B9C-9AF1-C5A092CDF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4E9-2B93-4E76-9DE3-278BA7D9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408-3C1C-42F6-B130-1138B57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0D0-9DB4-4188-A1C4-42B46361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5C6-1715-4978-8AAD-4EB5EEA6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2BB-E175-49B6-9DA0-20837EC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4FB-5860-45B7-9EEA-6F503D8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093-8611-4171-9568-409721CD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CCA-8114-4A5F-83C3-97B8767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A51-A281-4A62-A274-ED2E2CF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9CA-2D1F-43A1-B9F5-3AE151B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E0F-046A-428B-BC6A-8266CC3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6BD-4311-4B5B-B91C-5217344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80A0-CB94-4A5A-AD6E-624D57CF2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rcumference a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7:32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56:17Z</dcterms:modified>
  <cp:revision>16</cp:revision>
  <dc:subject/>
  <dc:title> CONICS:  Circumference and Area </dc:title>
</cp:coreProperties>
</file>