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90C8-9DC2-4322-81AA-AF31A08E3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CF84-A753-4B85-B2DE-4EEFFADC9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b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AFC1-B45B-4BE7-B480-9578E3694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310A-4262-484D-B49F-DF42885D8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8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428-3DF8-4A1F-BE67-45CA40EDC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EA5-F9BB-45E4-B41C-3D9DEA9DF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8198-E246-4F6A-A466-953BF6682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639-A39A-45D0-95A0-A83FC989B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A48-FB91-4E45-B78D-3151CE240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13C-2AA9-4A71-9A8B-659843E28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7CF-1F33-4877-A916-B5502114D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B6E-E270-4A58-B4EA-28FC8850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0BC-C216-4E7E-9393-985AF737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A62-7794-46CF-BC48-8C16CFAE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915-B87F-4FB8-A86F-25851A74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D51-C99C-45CD-B076-A0A41EDF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CCA-4304-46DE-AF1F-49BD7A1D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804-9CE5-4239-BC6C-DCA3AB72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913-28CF-4570-BFAF-54BDDC60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BE4-F236-4284-9102-EBA5D70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5DE-A6A6-4DC8-A57E-C7EFF90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A55-6DDF-4046-A48F-0ED0FE0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CD8-8B16-42F2-8AA8-3A5F862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1F0-250B-41A2-AC98-2453C526D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00:1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25:01Z</dcterms:modified>
  <cp:revision>9</cp:revision>
  <dc:subject/>
  <dc:title> TRIANGLES:  Triangle Inequalities </dc:title>
</cp:coreProperties>
</file>