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B7AE-1822-435E-9F08-AFBE09145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128B-3645-40C1-9FAB-D845D6269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97C2-EA6A-40DC-883A-EFBF82484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5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C724-8AF9-461A-9D45-C1DD3343C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D2BD-E2FC-44B9-ACFB-1214FB001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2E2B-5FF9-4076-8E07-941285DAC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4DBA-AA6F-4BE3-B2ED-CCF1F5B01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2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606D-D3C1-4B9E-BD03-B8A4564C1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BCA5-8CCA-464D-A5EB-74F424EAE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8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16B6-1E46-4575-903A-DE59D8B6A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9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F7CB-7A7A-4FEA-9E36-A2AA5DC0F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6E52-C0A9-4664-81B5-69F79511F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0F25-11B3-4789-9092-9C89F348B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1836-098A-4F5C-9495-A242CCD00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F52-4873-4BD2-B092-8691302D4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AF6F-018C-4536-ADA4-E04981DC0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2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E195-E630-49AB-A190-BF7DE50F9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0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8784-D355-4812-985E-FA854D22B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5D01-D6F0-4FDD-8A9D-F60232572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4966-50A6-436D-8952-A98CBE0E8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5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3B8-FD64-49F2-AA80-C823CA38E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9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616B-F261-4C60-ABE8-C7A131386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5D80-BB69-4670-B83D-C4AD16762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0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65CC-7DD2-4879-9BF1-3D8A8BCAF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56C-91C6-4EFB-9D0F-53CF7EA2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902-86A9-430C-8A36-8BB2EFDA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1A0-1E51-4FED-9024-18EEF4B7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14C-1B36-459F-AF0E-46D8E625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CEA-37E3-49FA-9273-E22CBB4E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C65-EBB1-4544-A044-7977B028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E2F-392B-4609-9693-F561119C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75C-FF03-4EC2-937D-99675412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8A6-64D6-4C64-98B3-25B5B05A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53D-262D-4861-AA2E-7189D0DD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61C-B69C-44E8-8683-41876168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0B6-C351-444D-BE05-1358DE3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2A1F-E68F-4F8D-B3C2-BCFA04ED5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COMBIN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bin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900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8945640" cy="19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0"/>
          <a:ext cx="912816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90378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0" y="0"/>
          <a:ext cx="9037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0" y="0"/>
          <a:ext cx="91281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34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41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33:22Z</dcterms:modified>
  <cp:revision>15</cp:revision>
  <dc:subject/>
  <dc:title> PROBABILITY:  Combinations </dc:title>
</cp:coreProperties>
</file>