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5FED-08FE-4139-92C8-25A08D1A7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C6F9-BA7A-45CE-8AA3-DB02678B9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8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06FC-73E3-40ED-BAA5-9763C4944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1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4631-57C4-462E-BB59-48703A2A4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6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C088-A3A0-4F46-BF16-A58658C66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1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2408-5ACA-427A-835B-CBE54B3D2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4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5943-C7BB-41B4-801F-9080AFF21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4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A551-B9B5-499E-BC51-278340B1C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8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A99A-DA44-48FD-A534-AF44187E6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117-A3FA-421C-9DE4-9B1E6EB3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F25-E512-4699-8FBA-CB6A30D9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072-8B1B-453A-95FF-6D9A4787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B8A-5D8D-4432-9745-30EF05D4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D64-0015-47FB-930D-5EEBDC8F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236-55BD-4D76-8781-15461822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FF8-C18B-4451-97F5-65D56800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9C1-CE25-49F6-B93D-D7D6DF4C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99D-28FF-4FA1-B9FB-B66D43DF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656-825F-4540-AF9F-BFADBD27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575-7F21-44ED-A56E-9F180B77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F30-BD73-4F5B-B94D-1482FE58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0160-5119-49B8-9DBC-35FBF888D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INEQUALITIES/JMAP_SOLUTIONS_INTERPRETING_SOLU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INEQUALITIES/JMAP_SOLUTIONS_INTERPRETING_SOLU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INEQUALITIES/JMAP_SOLUTIONS_INTERPRETING_SOLU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INEQUALITIES/JMAP_SOLUTIONS_INTERPRETING_SOLU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INEQUALITIES/JMAP_SOLUTIONS_INTERPRETING_SOL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preting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216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1376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1376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0216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078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78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78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78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5:41:5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1:45:26Z</dcterms:modified>
  <cp:revision>8</cp:revision>
  <dc:subject/>
  <dc:title> INEQUALITIES:  Interpreting Solutions </dc:title>
</cp:coreProperties>
</file>