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086-062D-4827-AF47-CE8128131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15B5-F47E-4CF0-A242-A624C6913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8ABE-2634-44AA-80C6-C700E1B22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9D61-6092-49DC-A240-149005557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2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B87-1A09-4D67-A5D8-A8CA558A3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DA9A-CC77-4CCC-8AE2-035D6358C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D7F-A560-4AA5-B085-1C1A9BCEA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4C00-8510-4702-AA71-7D383C8E0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05CC-81D7-43A2-AFD6-C583070CC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145C-6F0B-4EE3-8C8F-6399A42E9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086-6B5C-4A1F-96AE-A5D67B14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4D5-BB99-4CC2-B0FD-81A8F8CD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F39-33D7-419C-A6E0-6A521EDD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B61-CCEE-4D44-8545-1196622C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082-09A8-42DA-8B45-B781497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494-10CB-4C33-A63E-B860E8D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F73-E754-43CC-B1C4-FFB2FDD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66D-A08F-420C-A575-657834D5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C4D-B22D-4684-869A-93E85B16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CBD-E794-4665-AD83-B272448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8EC-E221-46B8-BF1F-9D5BB90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8DC-E088-49C9-AAE4-D5B2555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36F8-2CA7-4CFC-B63E-7BA88A7B2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RATIONAL_FUN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68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61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1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60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"/>
          <p:cNvGraphicFramePr/>
          <p:nvPr/>
        </p:nvGraphicFramePr>
        <p:xfrm>
          <a:off x="0" y="0"/>
          <a:ext cx="903780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24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45:43Z</dcterms:modified>
  <cp:revision>8</cp:revision>
  <dc:subject/>
  <dc:title> RATIONALS:  Rational Functions </dc:title>
</cp:coreProperties>
</file>