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C78-DFCB-4A68-AFE3-0164ECBE2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DC82-0D1B-438E-BFB9-604196449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B81-F961-48DD-B582-F84A22F52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DE2-1623-4EAE-9F52-188783BB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5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026-467C-442C-B12C-DA3EE873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CDB-0C3B-4333-9FA3-9601B53B7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D45-4407-4271-A2B2-03258654F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2FE-53F9-47BD-BF64-E98449119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DCA-A718-4D9B-AB57-4B598EAA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201-FDE8-470E-B673-3D45255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D6-D511-482E-8DF7-214C0E16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BF3-C18D-4202-B071-B15CE0D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3F0-DD51-4BC8-8560-D38DA66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25B-EAEF-40CD-8389-71062DA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FC9-ABBB-48E1-93C5-DFFFCA87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54F-161A-401D-924C-AFB4950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47A-D5AE-4515-B1AD-965323F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37E-16B4-41FA-B7FB-38C743F5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7A7-0884-409B-BD39-F56C61F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8AA-589C-450C-9C35-A573DDF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652E-B58F-4229-B451-0677973FA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EVALUATING_VARIABLE_EXPRES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10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56:30Z</dcterms:modified>
  <cp:revision>12</cp:revision>
  <dc:subject/>
  <dc:title> NUMBER OPERATIONS AND PROPERTIES:  Evaluating Variable Expressions</dc:title>
</cp:coreProperties>
</file>