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1685-CBD6-42FE-87E9-50C4A7F6C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775-CCAD-40DC-ACBB-C80009883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5BB1-0191-4632-9139-6B8C14CF1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E50-8820-4DA4-993A-B0DD3B383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434-40F7-40DF-A6D6-68331C156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9896-00B5-4624-920B-B63D4E7D9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1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D424-C2EB-495C-AFD5-85E55D39D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9E0D-119E-4DF3-9141-1CD81A394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A0E-EE42-4628-AAAF-3EE37EFF6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A67-09E9-40B3-8CAE-B9A1E767B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F4F-EB66-43C4-887C-B7AC73B06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60B7-AFE2-4264-BFBA-1280AEEB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A8A2-2E10-40E3-B8C6-937BF7915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84B-D607-4BA0-BBBE-78CB8168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920-E4E0-4B3A-A75E-0A238CD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37D-3B89-470B-9A53-58F236AE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A95-7D5C-4BA0-A7CF-123D4257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869-5252-4492-AC98-1FFEE5B1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E00-1C17-4DD5-B7A6-B37D550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401-9EF7-4D55-8B6D-6807533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F16-BAC0-4795-AAD9-D2462E74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832-F559-4EB9-AED3-5896DA5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1A0-A4DA-44E4-B357-E42A208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A37-C3C2-45DD-97B0-96BDA7C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321-AF5F-4334-B672-3B633B4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6D0-5115-41C1-BD7E-42CB07BFF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ADDITION_AND_SUBTRACTION_OF_RATION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tion and Subtraction of Rat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3"/>
          <p:cNvGraphicFramePr/>
          <p:nvPr/>
        </p:nvGraphicFramePr>
        <p:xfrm>
          <a:off x="0" y="0"/>
          <a:ext cx="90378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3"/>
          <p:cNvGraphicFramePr/>
          <p:nvPr/>
        </p:nvGraphicFramePr>
        <p:xfrm>
          <a:off x="0" y="0"/>
          <a:ext cx="9037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2816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2:17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27:24Z</dcterms:modified>
  <cp:revision>12</cp:revision>
  <dc:subject/>
  <dc:title> RATIONALS:  Addition and Subtraction of Rationals </dc:title>
</cp:coreProperties>
</file>