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422-CBED-4C8E-A154-8C18E6323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67D-205C-4A4E-835C-67E953AC3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F85A-555D-4C12-A7CC-C648568B7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A5A4-E472-4BE7-84F3-60BAA2FEA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ABF-3827-4436-8236-602003D5E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a  NUMBERS OPERATIONS AND PROPERTIES: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64DA-811A-4455-A572-76C2BE224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457-A62B-4D81-84F4-275EB9E2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75A-6D35-4A87-B58B-BA0A7645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21D-90C3-4C05-8D37-FFAABF3A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06F-DF00-45C6-9F77-53850DC4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133-E93D-42C5-B827-5ADA4A3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4A1-06E5-41D5-8BE4-9D72103D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C34-F7D1-4FD3-8D1E-DF3DE296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E04-251D-499E-9686-1C96A87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61B-944E-400C-9BEB-AA60AA2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01C-1F6D-4FA6-A152-AC12640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05F-F480-4A38-ADC7-890CC54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B4B-0C62-4454-B144-BE8087EA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DF98-7CC0-4A5F-B68B-92EFA94B4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ORDER_OF_OPER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 Order of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7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2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4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8:58:3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3T17:32:31Z</dcterms:modified>
  <cp:revision>7</cp:revision>
  <dc:subject/>
  <dc:title>NUMBER OPERATIONS AND PROPERTIES:    Order of Operations</dc:title>
</cp:coreProperties>
</file>