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3BDDD-F720-4DF0-80E4-622E411947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BFE2B-41BF-43E4-AF26-C1740D5328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26b  ANG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C7993-AE2A-4BDB-9726-C81081B44D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12b  ANGLES: Double Angle and Angle Sum and Difference Identit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D61E8-D49B-4E57-9B68-30DBA341C7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09b  ANGLES: Double Angle and Angle Sum and Difference Ident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85EB3-08A9-4D6C-9B98-3F73AE0D94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16b  ANGLES: Double Angle and Angle Sum and Difference Ident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E94FF-9569-4D03-B66D-81CE9E10C4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01b  ANGLES: Double Angle and Angle Sum and Difference Ident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26AF5-B5CC-4998-9FBC-1E9E320475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12b  ANGLES: Double Angle and Angle Sum and Difference Ident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90D83-6ECB-4B4E-8418-9EEC16C9AF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18b  ANGLES: Double Angle and Angle Sum and Difference Ident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A96A1-DBC4-425A-B4C9-E870E20600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19b  ANGLES: Double Angle and Angle Sum and Difference Ident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DC396-4965-4871-BB9B-109DDCDEC7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13b  ANGLES: Double Angle and Angle Sum and Difference Ident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09B84-52B1-4792-80E9-5378BBE855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09b  ANGLES: Double Angle and Angle Sum and Difference Ident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A57F6-B46C-4B7E-B581-CA05B4B160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04b  ANGLES: Double Angle and Angle Sum and Difference Ident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63720-B6C8-48E5-B0D8-7608AB837C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17b  ANGLES: Double Angle and Angle Sum and Difference Ident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AE5AC-1848-4095-9014-C12FE4F52E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08b  Double Angle and Angle Sum and Difference Ident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74155-F8F1-4108-ABD4-2DB73879D6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B07B-E7FE-4A53-AF94-282D2D526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0DCE-CA63-474A-904E-699CB38D9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093F-B637-40AA-A2AF-46A92EC93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77D1-8C66-4273-BBCD-BF3D7BF60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63DC-80FD-4E5E-A294-CE5E3F2B4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F1A5-26BC-403A-BCA0-8AEF6B86A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80AE-32F7-4178-8935-570831BED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7E23-E7E5-46DA-9B40-6894C5F75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A63B-BC46-47A0-9F0F-3750A5B19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967E-1C87-4773-BDAA-2488B78F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6265-00FD-44A3-B535-24AFB06E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B005-331B-43A3-A47F-E7A2601C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25D8F-4AD9-4582-89FF-CF17F4D015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ANGLES/JMAP_SOLUTIONS_DOUBLE_ANGLE_AND_ANGLE_SUM_AND_DIFFERENCE_IDENTITIE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hyperlink" Target="http://www.jmap.org/JMAP/JMAPSolutions/ANGLES/JMAP_SOLUTIONS_DOUBLE_ANGLE_AND_ANGLE_SUM_AND_DIFFERENCE_IDENTITI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hyperlink" Target="http://www.jmap.org/JMAP/JMAPSolutions/ANGLES/JMAP_SOLUTIONS_DOUBLE_ANGLE_AND_ANGLE_SUM_AND_DIFFERENCE_IDENTITI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ANGLES/JMAP_SOLUTIONS_DOUBLE_ANGLE_AND_ANGLE_SUM_AND_DIFFERENCE_IDENTITI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ANGLES/JMAP_SOLUTIONS_DOUBLE_ANGLE_AND_ANGLE_SUM_AND_DIFFERENCE_IDENTITI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jmap.org/JMAP/JMAPSolutions/ANGLES/JMAP_SOLUTIONS_DOUBLE_ANGLE_AND_ANGLE_SUM_AND_DIFFERENCE_IDENTITI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ANGLES/JMAP_SOLUTIONS_DOUBLE_ANGLE_AND_ANGLE_SUM_AND_DIFFERENCE_IDENTITI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ANGLES/JMAP_SOLUTIONS_DOUBLE_ANGLE_AND_ANGLE_SUM_AND_DIFFERENCE_IDENTITI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http://www.jmap.org/JMAP/JMAPSolutions/ANGLES/JMAP_SOLUTIONS_DOUBLE_ANGLE_AND_ANGLE_SUM_AND_DIFFERENCE_IDENTITI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jmap.org/JMAP/JMAPSolutions/ANGLES/JMAP_SOLUTIONS_DOUBLE_ANGLE_AND_ANGLE_SUM_AND_DIFFERENCE_IDENTITI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http://www.jmap.org/JMAP/JMAPSolutions/ANGLES/JMAP_SOLUTIONS_DOUBLE_ANGLE_AND_ANGLE_SUM_AND_DIFFERENCE_IDENTITI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GLES:  Double Angle a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gle Sum and Difference Ident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241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4592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091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809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160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165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11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814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7640" cy="2295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847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684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13" descr=""/>
          <p:cNvPicPr/>
          <p:nvPr/>
        </p:nvPicPr>
        <p:blipFill>
          <a:blip r:embed="rId1"/>
          <a:stretch/>
        </p:blipFill>
        <p:spPr>
          <a:xfrm>
            <a:off x="-34920" y="0"/>
            <a:ext cx="9178920" cy="2976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887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828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5T08:49:21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07-26T01:10:58Z</dcterms:modified>
  <cp:revision>11</cp:revision>
  <dc:subject/>
  <dc:title> ANGLES:  Double Angle and Angle Sum and Difference Identities </dc:title>
</cp:coreProperties>
</file>