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DC69-FE3F-437C-8202-A9F599968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FB5E-4064-48FA-9D78-743CEEA31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1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8439-0A55-4C48-B3EE-3097504BC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2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6886-2939-4C54-8206-257D0A4A8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9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5B94-E17B-499D-847C-0610B1672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1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1EE9-C515-47F4-ADC2-50696905E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5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BD97-C45E-4F89-8365-7BC5834F7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4b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17A9-2E06-4A76-97ED-2DB67FDC9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9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2F1F-9293-4DAA-B8D9-F4A96C132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4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AA37-793A-40C6-9851-DE0C2F322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1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D404-F376-4924-AE04-63169423A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0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6497-284B-4023-BDFC-22CF6E451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6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0D2E-0F80-4884-AF40-97FEA0DBD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9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30F2-31B3-45B4-AC17-FFFA37A79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0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ABD3-5941-4D3C-912E-0C2318D83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1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9F78-CB31-4DB0-B371-8F5A99356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4E5-CB88-48E3-91A5-BF674649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1DC4-6F7C-4443-B559-20CBEC79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245B-9C43-436B-9227-E4F53D26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4F1-BC44-4B57-A9EA-3E91C882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13AD-3046-455F-8872-0927C1FF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601-8A27-4226-92AF-4F9989A9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379-C1E3-46EA-89C4-497FF7D2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0AD5-4135-4430-B86C-86348347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A99B-12CB-4821-B5C6-AA88DF2F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A09-C4FE-414C-9813-24BFE8F6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3A6-52F2-42ED-8382-3DB154CA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F3E-F37F-44A0-99DB-FA2201C7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38A0-C49B-47D6-8280-9F2110335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0" y="0"/>
          <a:ext cx="90136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510552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90000" cy="30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22320"/>
            <a:ext cx="911052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1:52:2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49:05Z</dcterms:modified>
  <cp:revision>9</cp:revision>
  <dc:subject/>
  <dc:title> TRANSFORMATIONS:  Symmetry </dc:title>
</cp:coreProperties>
</file>