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B31E-EE31-4A39-B07E-0535BBCD4D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3F21-AE43-4DE5-85D1-9A2A7073AB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9b  INEQUALITIES: Trigonometric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569D-9ADB-4DF3-82F1-FE4CA3B551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3b  INEQUALITIES: Trigonometric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7687-D38C-4195-B9A1-0ED77C9433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2b  INEQUALITIES: Trigonometric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4A9A-6A83-4FFC-ABCD-1E2EB79FDD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97FC-DE09-4340-9DCA-E94EF687B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D3E6-2352-4800-BBFC-2300143D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A074-F21A-4168-80FE-F210EE55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CEC2-026E-40B6-A7E5-C9C0B2D4D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823B-49D8-4362-A503-69368E31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C05C-C2CF-4F8C-9CC3-88B786EE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AEA6-13AC-4EF7-A00B-9DF932BF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F97E-9A76-4906-8BAD-DC98A4EE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A8FE-046C-4452-8B97-FC3F490D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B0A9-92AF-4739-AE39-D7AAE162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670C-2890-4FF4-8AEF-F1153C72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D782-81B5-4531-B7FA-D5DAEE05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07B6-0A32-410A-8BCE-74088D63A7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INEQUALITIES/JMAP_SOLUTIONS_TRIGONOMETRIC_INEQUALITIE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EQUALITI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igonometric Inequa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-2057400" y="0"/>
            <a:ext cx="9078840" cy="4430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4800600" y="609480"/>
            <a:ext cx="3962520" cy="5295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21600" cy="33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33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4572000" y="2362320"/>
            <a:ext cx="3984480" cy="397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-2206800" y="0"/>
          <a:ext cx="9064800" cy="34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06800" y="0"/>
                    <a:ext cx="9064800" cy="34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3" descr=""/>
          <p:cNvPicPr/>
          <p:nvPr/>
        </p:nvPicPr>
        <p:blipFill>
          <a:blip r:embed="rId3"/>
          <a:stretch/>
        </p:blipFill>
        <p:spPr>
          <a:xfrm>
            <a:off x="4419720" y="838080"/>
            <a:ext cx="3809880" cy="3918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17:21:23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5T22:07:05Z</dcterms:modified>
  <cp:revision>6</cp:revision>
  <dc:subject/>
  <dc:title> INEQUALITIES:  Trigonometric Inequalities </dc:title>
</cp:coreProperties>
</file>