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485A-3091-4290-A52E-E03735D44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B1D8-4E16-4BE8-B4E1-B8C58A176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8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EE8B-6615-4E05-AE93-BF0790C13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2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888F-C677-4CF2-935E-CEA036266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9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64D5-7623-46AF-A015-A6BA2BB05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6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E7F0-EBD1-4E6B-A60F-C6F372B79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7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7A84-BC2C-4C55-8FB4-E608EE9D6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9A5-DAC7-4855-81C8-CCF328CA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755-B203-4CFC-8E5D-BD3EDF42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D95-D474-4F04-89E2-005B15B5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106-8E8F-42AF-A158-27BBB247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2CC-E636-4068-9E51-ED6CF203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353D-915B-4AAD-935D-D46A1177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E71-5A91-437F-A5BC-1AB40385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AF5-1D4E-4C71-9718-70CA3A56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3CF-4C4C-421C-A48B-CFEF6702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84B-B383-4D71-A950-45B3C981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BD6-4638-420A-8DE3-D2CF3DD4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04E-431F-4E78-ABF7-CBD07CAC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ABC1-96EA-4F3E-B115-7A896CF69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OWERS/JMAP_SOLUTIONS_BINOMIAL_EXPANS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OWERS/JMAP_SOLUTIONS_BINOMIAL_EXPAN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OWERS/JMAP_SOLUTIONS_BINOMIAL_EXPAN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nenti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12816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894564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7:47:1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42:43Z</dcterms:modified>
  <cp:revision>7</cp:revision>
  <dc:subject/>
  <dc:title> POWERS:  Exponential Equations </dc:title>
</cp:coreProperties>
</file>