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6A97-DCCE-4EF1-B196-A0357A540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5D45-31DB-4E72-9978-23178C14E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2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F46-4706-4136-AF17-9B0A8A9DB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2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945C-783B-4DEF-B74E-EA41F88CD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6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E2B6-59CD-458A-ACA0-FBCB69AAD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5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8216-E308-4796-B3A2-C06326C82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1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F40B-B74B-4D44-AFA4-27B1BB8D4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C2C0-7B27-4E62-8F5B-A55A0EC96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7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8CD4-4547-408C-B4A7-793BC1A47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EAD3-8ED8-496C-8A66-2D9DCCB18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3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2931-BC23-4669-BCDC-800F8591F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38FF-DA38-493D-BB81-AF5E7A4AB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9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FF31-F96E-4614-B1A9-91C537D52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7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7DD3-3556-4E15-83BF-A3D591671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B88-1777-46E6-9909-C4E19FDF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A49-C65F-432E-B588-44BBC20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0D8-A921-4F04-A523-7FC4515A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204-EDC0-4DCC-A5F4-A331F55F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57B-1E1A-425B-B6FB-8CF3D060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589-CD91-41A7-B89F-FB341D9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BC8-E3ED-4B10-B974-BA69E3D3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670-F7B7-41C6-AEB3-00E6FD6B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C9E-F100-4E9C-B8BC-2988097E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4C2-AEB0-42B5-BC09-95281FA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074-B981-44A6-8062-7F6502E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B90-80E6-4CB9-8A3E-0169915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8A68-370D-4B92-AFED-8A81A8DBF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EXPONENTS_AS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nents as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2816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8945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4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0" y="0"/>
          <a:ext cx="900756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0756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4:33:1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10:28Z</dcterms:modified>
  <cp:revision>11</cp:revision>
  <dc:subject/>
  <dc:title> RADICALS:  Exponents as Radicals </dc:title>
</cp:coreProperties>
</file>