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0F03-9D36-4582-9905-215FA4DC0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7085-81E2-49CF-A13A-D860EFFE5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9012-69B0-4EF8-B688-8095E7519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2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F831-9443-4764-9A53-F4520507D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A2BB-5DEF-4B4D-8800-D379BA14D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371B-6129-4B5D-B82A-2656C6990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FCAA-FBF4-43FB-A2B5-4F91144BB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C20-3CD9-4C59-A9C8-C0FC96854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8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EC51-2847-41F2-A20A-685D58A3F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5F5B-0AE9-4689-9AB2-6A697B3B5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E71E-443D-40BD-8985-38125B980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D66-39D2-4CEF-BF84-340C4653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F37-9ABC-4692-B9D4-C2650B69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56B-ABAC-46A0-9347-B71D2764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D94-A5A7-4C91-A1A1-CD830E84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977-BA56-4A8B-BBD5-251D224E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2DE-2311-4BDA-9F35-49B0D257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AC8-A551-43DE-B8EC-75A243DE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358-A46A-4418-A932-E305A265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6C1-B92F-434B-B0EC-E6653F28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721-7A1E-4276-9F17-04DC59DE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ECB-6DDE-4853-8776-F59AB26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9C4-3529-4808-BBDF-BB9390B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A41E-967B-425D-B7FE-A2747D04D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terior and Exteri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ngles of Triang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9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59:4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27:53Z</dcterms:modified>
  <cp:revision>11</cp:revision>
  <dc:subject/>
  <dc:title> TRIANGLES:  Interior and Exterior Angles of Triangles </dc:title>
</cp:coreProperties>
</file>