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7134-2506-4AFB-A934-DC0FBCB31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E5BB-F909-46E6-A508-979B6321C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8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FFB2-CCB6-4196-A180-05199AE8D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9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9273-9427-48B6-BB8C-1969BBF54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3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2783-ACA0-40D3-BFF6-F87121CCC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1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A1F0-9CEF-4C76-AAD8-E28B460DA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2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EC16-A3F1-4138-8FDE-29E4E9924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4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5CA5-0DC7-4F18-AA99-102478CBB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1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4242-F314-4C95-A673-B0516726B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1B2-30B4-4930-9EC0-D8E5A26A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FDF-26F3-4E58-9AE3-AEC8F5F2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4B0C-541E-4AC1-98AB-9FDD0C73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3B0F-B747-4CB4-8A42-C268EB30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AC4-A8FF-4706-AEE3-9FB5528A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70F-A5E3-4A13-AC9C-8FEF46DB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224-888D-4593-9ECC-F6720F98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73D-42F6-44FC-89BD-949001CE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1AC-C648-4FE7-BBE2-476D5BA2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A55-6234-4AA3-8F83-9B9B1A75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85F-0D4F-448B-A22B-4A9E1310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FA6-C65D-4625-8994-E193DAB0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CE80-CAE8-4F00-8E2F-1ED60D183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INEQUALITIES/JMAP_SOLUTIONS_QUADRATIC_INEQUALITIE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INEQUALITIES/JMAP_SOLUTIONS_QUADRATIC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INEQUALITIES/JMAP_SOLUTIONS_QUADRATIC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INEQUALITIES/JMAP_SOLUTIONS_QUADRATIC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INEQUALITIES/JMAP_SOLUTIONS_QUADRATIC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EQUALI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 Inequ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216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11376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9000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2160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216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2666880" y="2895480"/>
            <a:ext cx="3664080" cy="365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0" y="0"/>
          <a:ext cx="9021600" cy="23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3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2590920" y="2895480"/>
            <a:ext cx="3504960" cy="349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021600" cy="30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0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2895480" y="3200400"/>
            <a:ext cx="3276720" cy="327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6:47:5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2:04:47Z</dcterms:modified>
  <cp:revision>6</cp:revision>
  <dc:subject/>
  <dc:title> INEQUALITIES:  Quadratic Inequalities </dc:title>
</cp:coreProperties>
</file>