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A423-7D2D-4A75-8D51-5A2F5B198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BC1C-EBB9-4BB0-9B5C-F2A455923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BE63-A329-4DC2-9348-8D24F6990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5AB3-6FA3-4E85-9A8B-CBB363415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4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87A1-5501-41C5-A163-50241D862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25E4-7AF9-409B-BF8C-5C445510D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1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1D40-E64D-4450-BB34-5071DC968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5BF7-BC2A-4C79-BB13-DA2345B1F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3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F902-9208-4824-9C5B-9F7C3C46D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33A4-E980-41B2-BE51-0D0FD2B9B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9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41F5-CBFE-4E82-87A5-7509E53A4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2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4561-A76E-484C-8B67-68D32B4A5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1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A503-F243-4D04-B8DC-9D10465D6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53A8-A6F1-4CC0-BCE7-23FD516C8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0EEF-5B8E-4F9B-90D0-1D996B88A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798-2499-4B55-9CD5-F85A8FEA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5D1-643B-4DA3-B599-B0F9BDCD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9AA-4E8B-46A3-B7DE-9DAC8B59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B61-2276-495D-8BFF-F2F28C5A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AE7-C047-4433-8CA6-0D2968EF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1AE-1A50-4B43-BC5B-96F71F8B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F04-11ED-4584-A43A-48813881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F4F-C9FF-4601-A010-1C7D62D6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355-AE2A-4897-AC0B-FAE3DFAA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11D-D7FE-4477-9347-469E9587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438-D399-420F-A380-3B40E425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866-8B2F-4006-A513-E9808F8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4491-DD95-4CC2-A28C-F9C661E9B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SOLVING_TRIGONOMETRIC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Trigonometric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6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9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-1905120" y="0"/>
            <a:ext cx="9079200" cy="500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08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98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9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8908920" cy="266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4:13:1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19:06:37Z</dcterms:modified>
  <cp:revision>9</cp:revision>
  <dc:subject/>
  <dc:title> ANGLES:  Solving Trigonometric Equations</dc:title>
</cp:coreProperties>
</file>