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502-480A-4799-A21B-F6DB8D655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286-5EAF-46BF-8356-B50417016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AD03-6D13-495F-9CCC-9945C053B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324D-7462-42DF-BAE4-3F54149CA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DF4F-B5B3-4A84-93F2-8EC7B8F01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a  EQUATIONS: 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8995-7016-41A5-85D5-AAC6CF228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DB6-342E-41E5-89AA-DD618DCD7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810-3990-4B30-8ADE-34AC32517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B993-B9F1-4545-81C4-C30A3D648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5EA-BD03-447F-A39E-BF6F2A2D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B1C-998C-40C9-A1D2-51E62F38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018-4ABE-4AC4-88ED-E8095D78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085-2582-4E2D-B3C0-DFE74D51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E9F-11CA-4025-8735-3B081EB7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11D-DCF9-479C-AC93-9B318769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DAD-2F77-4D27-8007-04DFCDD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B50-BC79-4B29-A7E0-78CA11F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820-48C3-469D-8B34-4403663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69E-5245-44CD-99E1-F018201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3FE-745F-46C7-97DF-41CF16B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903-8D8E-45BA-B190-D05955A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335E-C0F3-40DA-A3AE-C3C219D88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USING_THE_DISTRIBUTIVE_PROPER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9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2:18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3:13:57Z</dcterms:modified>
  <cp:revision>15</cp:revision>
  <dc:subject/>
  <dc:title> EQUATIONS:  Using the Distributive Property</dc:title>
</cp:coreProperties>
</file>