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29.wmf" ContentType="image/x-wmf"/>
  <Override PartName="/ppt/media/image31.wmf" ContentType="image/x-wmf"/>
  <Override PartName="/ppt/media/image11.wmf" ContentType="image/x-wmf"/>
  <Override PartName="/ppt/media/image4.png" ContentType="image/png"/>
  <Override PartName="/ppt/media/image12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6452-843A-4BCD-841E-EFF9C6E143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CB65-2EA8-49A1-AA68-AA77F42774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4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D143-7C67-4E50-95C7-C5F9A97146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4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6910-AF3A-4A83-91FE-942E17EBDF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0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CCF6-E9EE-49CF-8D1D-21DDBD7BF5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10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D579-A76C-450B-AB61-A8363DE74D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0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5349-A273-41EA-A1C1-470AE4BCA5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1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157B-8441-442F-B5DD-922802F4A2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6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2154-C564-498F-A7B2-EE1BB65AB2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1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4B78-D2BB-4026-8C42-C7B3485C5B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4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AD7A-6955-43F9-8B1C-5F2C973765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7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02B0-6462-4CF2-BBB7-A5165F66E1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32a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804E-8830-46FB-9397-76E3AF9326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9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F941-9338-436A-8803-8EE8794126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2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4B33-3DFA-4612-BDED-34464DA9D8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33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29C9-97C1-4A1B-817B-C5410F6C53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33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B4E7-FB09-4101-B727-F4540CE596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8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1EDA-CCE5-4ABF-9993-9814A68515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30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95DA-1F62-4F3A-8EE4-557926F16B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3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79A1-DADA-4146-A758-D7CF483A83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5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C986-39FB-4B0B-AC00-E10B654BBB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2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04CC-A1C9-4EAA-903A-8B7AF76101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3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1EE5-D5D7-4AD6-BFD3-2BD1AC2830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3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B18E-9D54-49C8-81D8-AEE618485C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7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255E-6B23-4FBA-9698-A339871FB1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3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24E7-84FD-49D4-A313-1F285793EB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34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DD75-84F1-4251-B200-22AAD4E14A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33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8AE2-1D15-4EA1-A07A-E156E5CCE7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4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C447-2250-4AAD-BF93-B08FF57A3F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94BB-D35D-4F41-976C-9CDE917AF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F5AB-8841-4C04-8BD2-5DA09E30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5D11-7A0B-4153-B708-88B96FC6C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2C8C-E9BF-4CD6-9385-873575A4C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3821-B2D9-4FD1-8B7D-D6B90909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695F-600E-4D46-B8F8-6DD45982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A7CC-7EEC-45F5-8E38-B0AB1EB5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260C-79CD-471C-B9F9-6A9C4708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466F-3844-4B0E-8759-8D02A55A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4885-89FA-4D03-9F42-79770AD9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2968-ECBA-4DA7-AAB0-9958E07A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547A-7082-4A05-8469-07056417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339B-BF7D-41DF-93A2-A089600D6D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OGIC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of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6644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0" y="0"/>
          <a:ext cx="914400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4"/>
          <p:cNvGraphicFramePr/>
          <p:nvPr/>
        </p:nvGraphicFramePr>
        <p:xfrm>
          <a:off x="0" y="4114800"/>
          <a:ext cx="9144000" cy="29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114800"/>
                    <a:ext cx="914400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5" descr=""/>
          <p:cNvPicPr/>
          <p:nvPr/>
        </p:nvPicPr>
        <p:blipFill>
          <a:blip r:embed="rId5"/>
          <a:stretch/>
        </p:blipFill>
        <p:spPr>
          <a:xfrm>
            <a:off x="3048120" y="2057400"/>
            <a:ext cx="3133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7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5105520" cy="5486400"/>
          </a:xfrm>
          <a:prstGeom prst="rect">
            <a:avLst/>
          </a:prstGeom>
          <a:ln w="0">
            <a:noFill/>
          </a:ln>
        </p:spPr>
      </p:pic>
      <p:pic>
        <p:nvPicPr>
          <p:cNvPr id="75" name="Object 1" descr=""/>
          <p:cNvPicPr/>
          <p:nvPr/>
        </p:nvPicPr>
        <p:blipFill>
          <a:blip r:embed="rId2"/>
          <a:stretch/>
        </p:blipFill>
        <p:spPr>
          <a:xfrm>
            <a:off x="-380880" y="0"/>
            <a:ext cx="5715000" cy="1160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3"/>
          <a:stretch/>
        </p:blipFill>
        <p:spPr>
          <a:xfrm>
            <a:off x="5181480" y="228600"/>
            <a:ext cx="3649680" cy="2308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4"/>
          <a:stretch/>
        </p:blipFill>
        <p:spPr>
          <a:xfrm>
            <a:off x="6324480" y="2819520"/>
            <a:ext cx="1546200" cy="1463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5"/>
          <a:stretch/>
        </p:blipFill>
        <p:spPr>
          <a:xfrm>
            <a:off x="6324480" y="4800600"/>
            <a:ext cx="157824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191120"/>
          </a:xfrm>
          <a:prstGeom prst="rect">
            <a:avLst/>
          </a:prstGeom>
          <a:ln w="0">
            <a:noFill/>
          </a:ln>
        </p:spPr>
      </p:pic>
      <p:pic>
        <p:nvPicPr>
          <p:cNvPr id="81" name="Object 3" descr=""/>
          <p:cNvPicPr/>
          <p:nvPr/>
        </p:nvPicPr>
        <p:blipFill>
          <a:blip r:embed="rId2"/>
          <a:stretch/>
        </p:blipFill>
        <p:spPr>
          <a:xfrm>
            <a:off x="0" y="4419720"/>
            <a:ext cx="9144000" cy="29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3" descr=""/>
          <p:cNvPicPr/>
          <p:nvPr/>
        </p:nvPicPr>
        <p:blipFill>
          <a:blip r:embed="rId1"/>
          <a:stretch/>
        </p:blipFill>
        <p:spPr>
          <a:xfrm>
            <a:off x="-2057400" y="0"/>
            <a:ext cx="9055080" cy="4419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4724280" y="380880"/>
            <a:ext cx="41990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813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04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21680" cy="82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1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5T05:47:58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10:05:48Z</dcterms:modified>
  <cp:revision>38</cp:revision>
  <dc:subject/>
  <dc:title> LOGIC:  Proofs </dc:title>
</cp:coreProperties>
</file>