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2C71-B626-487C-999D-8D3171248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8B65-0309-4576-83CB-A954981F2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6b  PROBABILITY: Norm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7BF9-3973-42E5-ADF0-14BFCF8E4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2b  PROBABILITY: Norm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76A5-34DA-4E4F-9C81-198B02553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7b  PROBABILITY: Norm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6EF1-51F5-4383-A1BF-771D8E9CF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C3F-BCF0-425C-896B-A3F46C78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705-9F1F-4273-8806-24E0ED3C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74E-1FCF-4298-A8B5-845E33D5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130-2CB1-42D5-AEF6-7EB8C668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FF44-0DAD-4EB4-B7F5-064012E9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C4E-DED9-46DB-ACFE-4670C4CF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BF9-80A1-4FE3-B955-FE81C5C8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F73-EB8A-4DD7-A41E-44181659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867-CA7D-40A0-BFAC-96DA4719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9F3D-2418-4E51-932D-7EF00C81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988-82E3-4B67-9A12-6B20CA44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321-5159-46C3-B52D-EC5D2AC5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45FE-DE3D-4852-B20C-6E93791EB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ROBABILITY/JMAP_SOLUTIONS_NORMAL_PROBABIILITY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rmal Prob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8945640" cy="30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894564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42:0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4:36:50Z</dcterms:modified>
  <cp:revision>7</cp:revision>
  <dc:subject/>
  <dc:title> PROBABILITY:  Normal Probability </dc:title>
</cp:coreProperties>
</file>