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09AF3-A931-4445-B231-46979A42D1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DB60D-1545-49BB-840C-FB7D688842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30a  PROBABILITY: Probability of Multiple Ev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4F96B-B347-41C0-9A86-CD677ED0E3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05a  PROBABILITY: Probability of Multiple Ev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4A3D4-888B-43D6-8689-9D038E29FC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25a  PROBABILITY: Probability of Multiple Ev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3DC10-AD03-4A3D-B1A3-95741743D6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29a  PROBABILITY: Probability of Multiple Ev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CF564-F6A9-41E7-9173-B5F55E4767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27a  PROBABILITY: Probability of Multiple Ev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227D1-18ED-4AF0-B06D-16C0AACD02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30a  PROBABILITY: Probability of Multiple Ev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5C4A6-0F91-428E-9905-3E320294FF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7D29-E8AA-46CD-86AF-4C7094023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DD35-2571-41FB-8D27-BE68E0A35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8F12-349E-4796-BB1F-7CA3EC6F1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976E-E95E-4DA6-A9DB-2CE665219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087D-2C2C-4677-A6AF-4B5568A5C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DEE0-F964-485E-ACBE-4F5526740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3C51-6EFB-4229-AA56-438117AB0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8E55-72BA-40AA-A16D-FF73908EB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1263-3A31-4F06-A714-AC4E83960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F3FF-459B-4B12-8F54-A9AC73E6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5DE8-0373-4522-A662-D068A048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BAD8-6994-4C67-B101-95FA5ED1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700FE-516E-4AEA-AB24-7D9CF6F291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PROBABILITY/JMAP_SOLUTIONS_PROBABILITY_OF_MULTIPLE_EVENT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hyperlink" Target="http://www.jmap.org/JMAP/JMAPSolutions/PROBABILITY/JMAP_SOLUTIONS_PROBABILITY_OF_MULTIPLE_EVENT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hyperlink" Target="http://www.jmap.org/JMAP/JMAPSolutions/PROBABILITY/JMAP_SOLUTIONS_PROBABILITY_OF_MULTIPLE_EVENT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hyperlink" Target="http://www.jmap.org/JMAP/JMAPSolutions/PROBABILITY/JMAP_SOLUTIONS_PROBABILITY_OF_MULTIPLE_EVENT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BABILITY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bability of Multiple Event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0" y="0"/>
          <a:ext cx="903780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0" y="0"/>
          <a:ext cx="894564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4564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0" y="0"/>
          <a:ext cx="9037800" cy="46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46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0" y="0"/>
          <a:ext cx="9037800" cy="394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94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0" y="0"/>
          <a:ext cx="9128160" cy="237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23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2"/>
          <p:cNvGraphicFramePr/>
          <p:nvPr/>
        </p:nvGraphicFramePr>
        <p:xfrm>
          <a:off x="0" y="0"/>
          <a:ext cx="9128160" cy="271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27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02:19:55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12T03:49:39Z</dcterms:modified>
  <cp:revision>8</cp:revision>
  <dc:subject/>
  <dc:title> PROBABILITY:  Probability of Multiple Events </dc:title>
</cp:coreProperties>
</file>