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0136-5E9A-4EC7-81A0-0063D778C2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4260-D3A9-4A46-B718-7A69383F2F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9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AE67-987F-4A83-B055-45C0B67A5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6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14F0-2B36-46B4-BC99-9AC2711D0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6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E49F-A613-4037-823A-2D210C33F3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9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5A93-0FD8-4220-9F52-D9909BC5D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8b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B83C-054F-4A90-9DCB-7F6B1206A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6b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4A51-AAA8-41C6-9EBC-BF187D324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1b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25FC-06E9-4CE3-AD1B-05781F29BD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9b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2881-5311-4F9A-889E-A050073D0C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1a  RATE: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F759-6BE5-4013-BE5B-FB3D0BCC08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5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A05F-5D3D-4A2D-97A1-054858A848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2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11C0-2654-4A9A-A242-7BF64E007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7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30B7-A392-4AF8-A2D1-54AC6C9F6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8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67CC-C7CD-400A-8B61-E1FAE7A65A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0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EC61-81D8-4BD5-A1C6-F9729C74D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5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D010-16BD-492D-9A8B-8E9089A54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3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AABC-3987-4EAC-9FA9-42FE94821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8CF8-D022-4AD5-A397-DFA45EB2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23DD-FEF3-460E-9C2B-0327F94E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AFB5-F758-4DFC-A7A9-705AFDD4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F840-D963-4208-9A49-8E1D4258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A3AB-7A6D-438A-8D07-D42215D8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3895-C310-42C9-A5FE-A4D153FE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8AEE-EB6C-4ED2-995B-E13BD9E1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4CF3-15F5-410D-A30C-A2BF849E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A6E3-17DD-40AF-8F6F-14CF1F0E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FD04-07CB-4841-A64B-915046CD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FA50-CE9B-4662-B4F5-F39D5AB9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30D1-1D25-4E72-8C1A-E45A83FE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006C-AABE-47D1-A228-77D95CE76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TE/JMAP_SOLUTIONS_SPEED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RATE/JMAP_SOLUTIONS_SPEED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E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0" y="0"/>
          <a:ext cx="8926560" cy="29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26560" cy="29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62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41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267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24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41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952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86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952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20:07:33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5:14:12Z</dcterms:modified>
  <cp:revision>13</cp:revision>
  <dc:subject/>
  <dc:title> RATE:  Speed </dc:title>
</cp:coreProperties>
</file>