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CA30-4929-4B06-8A6B-17407C9DC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6E07-B9F2-4160-A9D0-6E4F48F69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0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B3F7-40E5-4473-9762-DC02FBCBC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3FAB-5655-498A-BF32-EF73F12AD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A191-F1C5-45F3-95DD-22B598834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4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EE90-277A-414B-9D4A-B1BDCAA36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9F21-77F0-4E57-8C42-A8AF9FFC2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FF11-9E90-4F7F-B377-81C9B5610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8E6-B7DD-4D6D-BD90-AB8087DE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993-0CAD-40B0-B41E-CFB64342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8EE-B90A-4C52-B3FE-787FBFCD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496-DE05-47AC-9E7E-D6130487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454-0F7D-4B8B-8969-D9484415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8C4-81FA-40C0-85A1-DE18D0C0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B59-1994-411F-A07D-99F12D28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E0A-247D-4659-9165-800D25B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9DF-860E-47A6-8BA1-DBEE83B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31A-ECCB-46AD-B1A8-BC39D2DD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8DF-CE83-4A00-9557-3015FC7D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895-7A46-4329-9C9A-1693D47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75E-2BC2-4409-BB0A-2DE07D5C2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CONSTRU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tr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1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8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7662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740800" cy="410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18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8:25:4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0:48:35Z</dcterms:modified>
  <cp:revision>10</cp:revision>
  <dc:subject/>
  <dc:title> ANGLES:  Constructions </dc:title>
</cp:coreProperties>
</file>