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DC41-1013-4DD2-840B-2648FCFCF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A20F-E55D-407C-8A4D-E3A95CF16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4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46CB-17D2-48A7-9F82-2F3CB11C3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6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9FC5-3A87-4898-BC75-14F6BA831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9797-1905-4862-B969-30C8E18F1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6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94B0-FC12-4481-879A-15990350F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C8B6-6BBB-41C6-B97F-FA9FD5236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5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A65C-2FC3-482D-BDC0-FB10154ED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4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D27B-D4D7-4201-A3B2-2FD6BACFA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5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87D2-43EE-480A-8361-00D83FEE2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9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436E-ADBA-479E-924F-3A7B44CC8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7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C953-7E98-460F-80AE-A4C2D5FBF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DE05-5EC0-49D8-BDD7-7234535AF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5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FB14-09B6-4549-8A3D-79DD2FEED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2BBD-8BAC-423F-AD08-FB2F03DB1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7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B7A1-67D3-431B-B8F1-845B8F2DD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6E58-CF79-422C-9507-F183BB083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B9AF-0B29-48E3-B827-43496AC12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7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5FB3-1096-4FEB-8C7A-F0A06F734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D68-4847-4B91-9C37-9DE37B3D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E51-BC99-4B48-AAF7-88C78EA4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50A-D05E-4C07-B52F-50D76EDB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530-1C6C-4A95-8B18-D2909E34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6DD-B048-4D8F-8E42-12D65518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739-7430-4D54-B1A1-AC38EB49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9D0-DE1E-4D9D-8E18-A1ED132B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366-6289-4AB3-A673-57496BD1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4FC-3616-48F2-908A-DB739419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F6DC-9061-4699-ACA9-B7513204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F3F0-EAC6-4702-82D1-60798C1C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16BD-D346-48CC-843B-BD98AE86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5018-F355-4D74-BEC5-6DE1E2724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ROBABILITY/JMAP_SOLUTIONS_PERMUTA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mut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0" y="0"/>
          <a:ext cx="91281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0" y="0"/>
          <a:ext cx="8945640" cy="16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0" y="0"/>
          <a:ext cx="9037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894564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0" y="0"/>
          <a:ext cx="90900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0" y="0"/>
          <a:ext cx="8945640" cy="43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0" y="0"/>
          <a:ext cx="90378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89456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30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216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2840" y="42840"/>
          <a:ext cx="909000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42840"/>
                    <a:ext cx="90900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50:2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4:14:54Z</dcterms:modified>
  <cp:revision>10</cp:revision>
  <dc:subject/>
  <dc:title> PROBABILITY:  Permutations </dc:title>
</cp:coreProperties>
</file>