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ED0C-7FDF-4654-992E-198741BEC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CBF9-C2B5-48D1-83C5-431FE1F23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5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772D-77F2-4637-952D-A7AC10D1E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4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3613-5011-4F1E-A1C2-465AE91CF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8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3A99-2859-49A8-95D7-9B6F41C9D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9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AC94-B6CC-4A4E-A854-B48F3868D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5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0AD3-6396-4ADB-B3A5-42F5F5B40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5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A458-560C-4AD0-86CC-F05812351C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7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EAE9-84AB-408D-9574-72C82E606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8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5D1E-06B8-4C77-B5E4-7167B8ECA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6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A261-C3F1-45A9-8E9A-8F93C6911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6b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5733-2DC8-47FB-BFE9-8EC871343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3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54B9-F532-4C29-BF22-4FD456A25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5b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B35D-9FA1-4A47-871E-8C770D7F4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2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D9F5-7196-489A-A5CE-45C525397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1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A5FB-8124-4416-8C5A-4AC059312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8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3F27-03CF-43AC-B3A8-89BB7EC99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1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7E26-C89B-4A43-98F9-8B830761C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5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4CFA-F66D-471D-8AE4-B3B8201E7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6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2AAF-69F3-4F5F-AA42-5DC081775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6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C483-A4CD-4268-87A6-A51AAF0FE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6680-A38F-40AC-ACE8-0C3082D2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B7B4-07D5-46E5-BD90-9463F3EC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C83-34E0-4E4A-8038-B9D76F53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D0BC-48EF-45E5-B0D2-2BF97EE8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4952-C6C9-49DD-B9C2-23AFAF21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015A-5B6D-4B57-85AC-EAAF0E1A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D288-0713-48C2-A60C-66EEF070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4E1-D2C6-425F-A22F-E53193D1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C62A-469C-4AEC-9B1C-4538AF40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5396-C073-44FD-9DAE-DD0A44C7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56CC-E3BF-426F-80DA-8361DA2E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137-57BD-4F61-A737-EE6DC38F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0F85-A996-4508-9023-F4EDC8D38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OWERS/JMAP_SOLUTIONS_OPERATIONS_WITH_POWER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rations With Po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37800" cy="35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128160" cy="466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46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8945640" cy="27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03780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037800" cy="40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0378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0" y="0"/>
          <a:ext cx="902160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0" y="0"/>
          <a:ext cx="90378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03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0" y="0"/>
          <a:ext cx="9037800" cy="40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6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0"/>
          <a:ext cx="90378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26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1281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8945640" cy="40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40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8945640" cy="41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00:17:3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10:40Z</dcterms:modified>
  <cp:revision>13</cp:revision>
  <dc:subject/>
  <dc:title> POWERS:  Operations With Powers </dc:title>
</cp:coreProperties>
</file>