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17.wmf" ContentType="image/x-wmf"/>
  <Override PartName="/ppt/media/image9.png" ContentType="image/png"/>
  <Override PartName="/ppt/media/image34.png" ContentType="image/png"/>
  <Override PartName="/ppt/media/image13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F945-AEA1-40A5-AACC-8A814A8A5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80B-4811-4C13-A597-942AD70E8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374-37BC-4770-A5E1-3C348268C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9AFE-5B3E-4EB4-88E4-204429F50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3A8-A2A6-4D7E-B32E-1E81860C0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D2B-DD82-467A-BE3F-44A7FC666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DFC-098A-4218-9000-B7AE41F0C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C34B-E4EC-4772-941A-16BC67E7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96F-33D6-4029-B36D-68531F44E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20E-0442-4057-A9F4-B79D67DF2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E32-AB45-450C-B14D-180BBC23A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E80-8D95-4363-BFED-F2EDCD49B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232-1235-41CA-B460-F190ECFA4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56A-5350-4C1D-A004-0FEF748D4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070-B0CF-4242-8C7C-B2DCFAEC4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75D-7A5E-4496-A7FD-63A9CAC58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605-80F7-4629-AA29-D785BF2A5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6047-3BF8-4962-9261-2535A0109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3EEA-5342-43CF-A94B-1F460AB00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D360-14B6-48AB-A933-4DBDE82B8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A7B-6233-4C9A-B175-D82AB9700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05AB-A325-40AC-954B-C5327BEB3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6976-CC2E-4E47-80BB-87F50E0F3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D1E-61EA-4419-8F2B-DE1845218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D95-3551-4625-A66F-892AD2176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709-3DBE-4347-8940-F2934C53E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A12-7657-4064-BF6D-F9F8F63D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880-873A-49BA-AF73-9D251B3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E83-8150-4939-9EB9-0CA3F1B9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60B-A086-44EA-B692-D1A1C455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980-2187-47FC-9B73-605D3D3B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003-7672-45CE-AD06-21784C9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D9C-9C69-4C42-92C2-0D6C660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171-6A91-4718-B26C-AD7D90C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069-C652-4143-9DBA-B758A5B5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A92-5003-4225-8A3D-D66A2CC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C83-AD12-4BCB-8E36-07ED15D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438-6F55-4B4C-A392-3645A3F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BBF-95D8-4866-92D9-E2517EDF0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SOLVING_NON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SYSTEMS/JMAP_SOLUTIONS_SOLVING_NONLINEAR_SYSTEMS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Non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36687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3"/>
          <a:stretch/>
        </p:blipFill>
        <p:spPr>
          <a:xfrm>
            <a:off x="0" y="5486400"/>
            <a:ext cx="9090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80052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90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366552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0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0"/>
          <a:ext cx="9090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951000" cy="393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763120" y="62485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4300560" cy="432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35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895480" y="3430440"/>
            <a:ext cx="3276720" cy="328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657600" cy="36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743200" y="3330720"/>
            <a:ext cx="3375000" cy="35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8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971800" y="3643200"/>
            <a:ext cx="2895480" cy="290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3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6:10:38Z</dcterms:modified>
  <cp:revision>15</cp:revision>
  <dc:subject/>
  <dc:title> SYSTEMS:  Solving Nonlinear Systems </dc:title>
</cp:coreProperties>
</file>