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F709-78EE-4D1C-880A-47717E93B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477A-930C-421C-BBEA-5A5750C39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0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50EA-4064-4C30-BD68-D1AECF589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5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FD94-BF88-4E25-94A0-3CCC25BA2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88A-D58B-484F-B0B1-2049AD883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9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6B57-BAFB-4FEF-9755-9D618AB0D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8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5969-A873-47C4-8A94-50EA1706B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2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5F62-5FB0-4AE9-8805-D5CEF684D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8C9C-E095-402E-A719-2C0B35A28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2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742C-8A3C-4F39-9752-C20B4C392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55BD-08E1-47FD-B5F3-6C5595809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7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0449-B494-48E3-9F07-7F5FDC24B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AF85-22EB-4C82-9191-1B1B5018F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2E7-4BE0-4C9A-B5D1-5C91A203C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C5F1-4CE6-4A52-9DC4-2CFADFF15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5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598A-C1B5-4413-ACF0-A9241D5CC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0FA-3AAE-4B96-A07C-033B2A80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4DC-9856-4FCF-80A7-A1EB8B8A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C7E-2A0D-41E8-8EBB-12707D2D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16B-F0AE-4E48-8F6C-11E6F5C0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903-A925-49DE-B989-763BFB62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746-E8A9-4CC4-9DB2-3A6524B3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A96-30A9-4B2A-871C-345A92C8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688-62B6-4645-8B22-B8BAF1B0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0FC-2AA6-436B-ABD8-233495CF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068-3A4B-4636-BCC5-70FED63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669-5D75-475A-9301-64189A8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FD0-FE61-495F-A6DE-86A09125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7680-CC5F-49C2-9201-21998C4FB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COMPLEX_FRA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lex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28160" cy="19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49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1281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HP_Administrator\Pictures\My Pictures\Thomas Jefferson.jpg"/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037800" cy="33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037800" cy="66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0" y="0"/>
          <a:ext cx="899172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9172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28160" cy="19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0:43:1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53:14Z</dcterms:modified>
  <cp:revision>10</cp:revision>
  <dc:subject/>
  <dc:title> RATIONALS:  Complex Fractions </dc:title>
</cp:coreProperties>
</file>