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3.jpeg" ContentType="image/jpeg"/>
  <Override PartName="/ppt/media/image2.wmf" ContentType="image/x-wmf"/>
  <Override PartName="/ppt/media/image25.wmf" ContentType="image/x-wmf"/>
  <Override PartName="/ppt/media/image4.wmf" ContentType="image/x-wmf"/>
  <Override PartName="/ppt/media/image27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4.jpeg" ContentType="image/jpeg"/>
  <Override PartName="/ppt/media/image16.wmf" ContentType="image/x-wmf"/>
  <Override PartName="/ppt/media/image1.jpeg" ContentType="image/jpeg"/>
  <Override PartName="/ppt/media/image1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C1E30-E72E-4B94-A7C6-AC4C387203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444B3-D539-4E08-A62C-C8A0894C82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34a  EQUATIONS: Combining 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AA619-E868-4FA4-BD22-A50E7A64B7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01a  EQUATIONS: Combining 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62042-C7AE-4E14-A74E-9F0D9E245D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02a  EQUATIONS:  Combining 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8F385-31CA-4681-ACFB-8EF7C3DCD5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31a  EQUATIONS: Combining 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B71CD-39F6-480F-A01E-BC1A9C89C5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25a  EQUATIONS: Combining 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ED9BF-DF57-41AF-8D19-21106CF503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19a  EQUATIONS: Combining 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7F076-277B-48B7-BD17-C0E9A79147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07a  EQUATIONS: Combining 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9DB4D-8335-4757-9733-EBAC46AA16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04a  EQUATIONS: Combining 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87DDA-B5DA-48AF-A48C-8E7FB46182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20a  EQUATIONS: Combining 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FDD47-D954-496D-8170-D7818CD737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04a  EQUATIONS: Combining 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A0F98-B4E0-454E-AB03-CED52557D5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23a  EQUATIONS: Combining 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F7028-E2D4-49CD-A3D3-A1F26D3CFC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10a  EQUATIONS: Combining 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DAAE7-4533-4351-B42E-D6DB99195C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11a  EQUATIONS: Combining 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7E645-9696-45C5-85AF-C023064847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13a  EQUATIONS: Combining 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D1198-04CB-4AAD-808A-047E840DA4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25a  EQUATIONS: Combining 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104AF-2B93-4336-B96C-E7624BA67B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24a  EQUATIONS: Combining 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269FC-A3DB-445C-A958-2AAE746A59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24a  EQUATIONS: Combining 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8223B-36EF-4C47-A499-A6431DDCB0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11a  EQUATIONS: Combining 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B2EFC-CCE2-41EA-9F7B-8C31157ED1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18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8608C-42E3-4557-926B-1EE383AD18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14a  EQUATIONS: Combining 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A62E4-4A77-420A-9103-160D1D3AA1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05a  EQUATIONS: Combining 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6F0E4-2184-403D-A81A-D78EE1F296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23a  EQUATIONS: Combining 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610D2-F95E-42A4-8D71-B20E2D651F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21a  EQUATIONS: Combining 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97E36-CC5F-4BA4-9249-4F965C4DBB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04a  EQUATIONS: Combining 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61D3E-ACD6-4684-AFF1-EAB104A34B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01a  EQUATIONS: Combining 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A32DA-7B2D-40CD-B27C-C7753D5678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02a  EQUATIONS: Combining 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E80DA-B2B5-4226-A5A6-E42265CEE1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FD2B-E64A-4F04-BC1E-11CA63ACF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C530-94B9-4FCF-8EF6-5060E29C4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658E-EBA0-4AB9-86A7-E4FDF89CC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8AB9-F842-4D0A-8ACE-56F01233A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9658-0DC3-4591-B0C6-CC5B64F0D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3A2F-966C-476A-924C-66931BC49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5E2C-20ED-4319-9836-0A0698E29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466C-8F9C-4134-A54D-AD4D10EC5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6A01-D643-4B7E-9A65-1073FD186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4790-EF43-4F33-ADBF-80B3CF6B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9564-A0F2-4074-A2DB-F1E5E9DA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FAEE-7723-4DBD-8549-5AA0BC32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95416-07E8-4EF3-99B1-8DA40CD69B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EQUATIONS/JMAP_SOLUTIONS_COMBINING_LIKE_TERM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hyperlink" Target="http://www.jmap.org/JMAP/JMAPSolutions/EQUATIONS/JMAP_SOLUTIONS_COMBINING_LIKE_TER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hyperlink" Target="http://www.jmap.org/JMAP/JMAPSolutions/EQUATIONS/JMAP_SOLUTIONS_COMBINING_LIKE_TER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hyperlink" Target="http://www.jmap.org/JMAP/JMAPSolutions/EQUATIONS/JMAP_SOLUTIONS_USING_THE_DISTRIBUTIVE_PROPERTY.doc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hyperlink" Target="http://www.jmap.org/JMAP/JMAPSolutions/EQUATIONS/JMAP_SOLUTIONS_USING_THE_DISTRIBUTIVE_PROPERTY.doc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hyperlink" Target="http://www.jmap.org/JMAP/JMAPSolutions/EQUATIONS/JMAP_SOLUTIONS_COMBINING_LIKE_TER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hyperlink" Target="http://www.jmap.org/JMAP/JMAPSolutions/EQUATIONS/JMAP_SOLUTIONS_COMBINING_LIKE_TER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hyperlink" Target="http://www.jmap.org/JMAP/JMAPSolutions/EQUATIONS/JMAP_SOLUTIONS_COMBINING_LIKE_TER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hyperlink" Target="http://www.jmap.org/JMAP/JMAPSolutions/EQUATIONS/JMAP_SOLUTIONS_COMBINING_LIKE_TER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hyperlink" Target="http://www.jmap.org/JMAP/JMAPSolutions/EQUATIONS/JMAP_SOLUTIONS_COMBINING_LIKE_TER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hyperlink" Target="http://www.jmap.org/JMAP/JMAPSolutions/EQUATIONS/JMAP_SOLUTIONS_COMBINING_LIKE_TER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EQUATIONS/JMAP_SOLUTIONS_COMBINING_LIKE_TER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hyperlink" Target="http://www.jmap.org/JMAP/JMAPSolutions/EQUATIONS/JMAP_SOLUTIONS_COMBINING_LIKE_TER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hyperlink" Target="http://www.jmap.org/JMAP/JMAPSolutions/EQUATIONS/JMAP_SOLUTIONS_COMBINING_LIKE_TERMS.doc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www.jmap.org/JMAP/JMAPSolutions/EQUATIONS/JMAP_SOLUTIONS_COMBINING_LIKE_TERMS.doc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hyperlink" Target="http://www.jmap.org/JMAP/JMAPSolutions/EQUATIONS/JMAP_SOLUTIONS_COMBINING_LIKE_TER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hyperlink" Target="http://www.jmap.org/JMAP/JMAPSolutions/EQUATIONS/JMAP_SOLUTIONS_COMBINING_LIKE_TER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EQUATIONS/JMAP_SOLUTIONS_COMBINING_LIKE_TER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http://www.jmap.org/JMAP/JMAPSolutions/EQUATIONS/JMAP_SOLUTIONS_COMBINING_LIKE_TER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www.jmap.org/JMAP/JMAPSolutions/EQUATIONS/JMAP_SOLUTIONS_COMBINING_LIKE_TER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jmap.org/JMAP/JMAPSolutions/EQUATIONS/JMAP_SOLUTIONS_COMBINING_LIKE_TER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hyperlink" Target="http://www.jmap.org/JMAP/JMAPSolutions/EQUATIONS/JMAP_SOLUTIONS_COMBINING_LIKE_TERMS.doc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www.jmap.org/JMAP/JMAPSolutions/EQUATIONS/JMAP_SOLUTIONS_COMBINING_LIKE_TERMS.doc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http://www.jmap.org/JMAP/JMAPSolutions/EQUATIONS/JMAP_SOLUTIONS_COMBINING_LIKE_TER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hyperlink" Target="http://www.jmap.org/JMAP/JMAPSolutions/EQUATIONS/JMAP_SOLUTIONS_COMBINING_LIKE_TER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QUATION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mbining Like Ter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219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133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438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2"/>
          <p:cNvGraphicFramePr/>
          <p:nvPr/>
        </p:nvGraphicFramePr>
        <p:xfrm>
          <a:off x="0" y="0"/>
          <a:ext cx="9013680" cy="12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1368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6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980560" cy="3048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980560" cy="2414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963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200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952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952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743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952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355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C:\Users\HP_Administrator\Pictures\My Pictures\Thomas Jefferson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686800" y="613872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Object 2" descr=""/>
          <p:cNvPicPr/>
          <p:nvPr/>
        </p:nvPicPr>
        <p:blipFill>
          <a:blip r:embed="rId1"/>
          <a:stretch/>
        </p:blipFill>
        <p:spPr>
          <a:xfrm>
            <a:off x="34920" y="0"/>
            <a:ext cx="9109080" cy="23684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23083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2508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025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623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564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32840" cy="1828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828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143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606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C:\Users\HP_Administrator\Pictures\My Pictures\Thomas Jefferson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686800" y="613872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981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933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1T20:58:26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12T04:52:40Z</dcterms:modified>
  <cp:revision>16</cp:revision>
  <dc:subject/>
  <dc:title> EQUATIONS:  Combining Like Terms EQUATIONS:  Combining Like Terms</dc:title>
</cp:coreProperties>
</file>