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46A3-0D09-4C17-A44E-0247BC47D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E355-E5AA-41C8-AB2F-43920BDD6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8a  OTHER POLYGONS: Interior and Exterior Angles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7947-515E-4540-A574-017B33FFBB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9a  OTHER POLYGONS: Interior and Exterior Angles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DEF6-7504-4DF1-BFA0-AB8366CA9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4a  OTHER POLYGONS: Interior and Exterior Angles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1426-BA1D-4343-8754-E8BA1AF56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6a  OTHER POLYGONS: Interior and Exterior Angles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1D52-65EC-4A63-97B8-3552FDF4C0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3a  OTHER POLYGONS: Interior and Exterior Angles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4A46-0E58-4791-942F-432BA79C5F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7a  OTHER POLYGONS: Interior and Exterior Angles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5376-5D1D-4767-840B-947665949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8a  OTHER POLYGONS: Interior and Exterior Angles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9F97-D146-403A-94F2-8321AF223B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3a  OTHER POLYGONS: Interior and Exterior Angles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1280-8E35-45FD-BF2D-BD689E309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95C8-E75D-4952-9F23-C00A3B4F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E810-CE73-45B4-B1D0-E46CA896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DCF1-1D16-4A00-9D38-04077A9E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8E7B-A1BA-4148-B223-51671B6A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0687-6D2D-4AD9-B406-D859405B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53FA-06BC-4FD3-85EF-27EDA788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B893-DD6A-4300-B646-C92C9F69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E15B-6349-4FF8-9401-2770A101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B7B0-FE70-4A50-AA3C-D6E2A698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8873-BDC1-47B7-979E-7A9A95B1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EBAE-395E-4E43-A51D-F547D91C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A8FB-F0E2-4678-8159-7E8E85A4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6B97-C7C0-412C-B2C3-BD29EED7D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THER POLYGONS:  Interior 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rior Angles of Other Polyg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21:52:4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6T03:14:51Z</dcterms:modified>
  <cp:revision>7</cp:revision>
  <dc:subject/>
  <dc:title> OTHER POLYGONS:  Interior and Exterior Angles of Other Polygons </dc:title>
</cp:coreProperties>
</file>