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0D2A-A870-474F-AF5A-868ADCDB4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CC05-DAE5-411F-A508-75A148D48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0b  FUNCTIONS: Operations with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DFBA-1319-4FA8-B32A-E9A634D74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7b  FUNCTIONS: Operations with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B290-52B2-426B-9BDB-A7209DE54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2b  FUNCTIONS: Operations with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BD2F-3999-4733-9B48-9D45D9614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A31-10DD-436E-B8CD-B9EF69B5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460-CAEF-4040-A016-F4E5F3CE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C4E-5592-43DF-AE5E-DA8D5B05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A41-EB80-4F49-9280-769E0E65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145-DB5F-4C0F-8742-1185E17F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406-4D88-41B0-AF4E-10FBF7B1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534-0D38-4E8C-B663-986BD7C9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E0D-BFC0-46B7-AF7C-9A8CDA4E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8B0-F6EE-4FAC-BBFA-38869B6A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9BB-38FB-4E9F-9384-7DA02869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925-12F1-4C35-B7A2-2E2D3422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B01-D2AD-4028-9C50-3CFC46E5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3F79-A128-47C8-BB38-5D5FE2EE3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FUNCTIONS/JMAP_SOLUTIONS_OPERATIONS_WITH_FUNCT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s with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0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23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224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22:08:1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32:05Z</dcterms:modified>
  <cp:revision>10</cp:revision>
  <dc:subject/>
  <dc:title> FUNCTIONS:  Operations with Functions </dc:title>
</cp:coreProperties>
</file>