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51A5-83A8-49C5-B014-F6947FFB6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BE1D-A259-49C3-9B1E-C0BC43F71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6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A0BC-A414-449B-8508-1B89E515D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6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D83A-C94C-4A4A-9D25-B12148064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3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00C6-D4D7-4813-B244-296E6E790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4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4AD0-246E-4071-9E85-9A27895DF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0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F346-1BEF-4BC7-9E6B-CBC156D45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5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BF42-4BA3-43F3-BD8E-DD07DF953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3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1EF7-D360-4CA9-AD8C-54D88432D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6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ED68-3A38-4D85-8CB5-9AC37690F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9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23BD-6450-4A9E-AEBD-E60ECDAAA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1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12E4-66E8-4590-9AB8-1445B0BF5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239-0C84-471B-BD60-2158D882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2622-7631-4624-B8A1-49B20BFC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A08F-5D69-44AD-A095-B6E84457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EEE-11D3-48B4-A5C1-5FD6B973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4AD5-2883-4EBD-999F-002E7A19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9890-AD5E-4E40-8273-D4D5D522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7FA-8987-47EC-841F-2F87145F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C7F5-4F0A-4D62-B93A-3F65B38D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D8AD-ACB3-4B40-AE6E-7C3C0BE3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8E59-D756-4AAC-86DB-08324F25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8FFA-C804-4BE7-90BA-96A33B23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024-E967-4772-8040-F0FF8646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89CF-4E0C-446B-BF02-2DACA9F91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ANGLES/JMAP_SOLUTIONS_RADIAN_MEASURE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ANGLES/JMAP_SOLUTIONS_RADIAN_MEASUR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ANGLES/JMAP_SOLUTIONS_RADIAN_MEASUR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ANGLES/JMAP_SOLUTIONS_RADIAN_MEASUR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ANGLES/JMAP_SOLUTIONS_RADIAN_MEASUR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ANGLES/JMAP_SOLUTIONS_RADIAN_MEASUR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ANGLES/JMAP_SOLUTIONS_RADIAN_MEASUR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ANGLES/JMAP_SOLUTIONS_RADIAN_MEASUR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an Mea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113760" cy="21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02160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9000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2160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21600" cy="41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21600" cy="62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62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63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05:38:2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8:19:14Z</dcterms:modified>
  <cp:revision>13</cp:revision>
  <dc:subject/>
  <dc:title> ANGLES:  Radian Measure</dc:title>
</cp:coreProperties>
</file>