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D2B-2ABE-4A8E-BB46-3720F4C01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B78-95A0-4269-B280-176BC69A3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5D14-485E-42FD-BA02-7A25F81E7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a 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A792-19A3-4CCC-9447-805C47819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AFB-CD94-4FB9-BCEC-9EEF2F1C2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4EF-2037-42B2-BB6A-A39445B28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DE8-12FC-4B86-8018-D2DB44CF9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132-7D7A-4F35-8484-B52775DBA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D394-06C1-430D-8FDA-C9B5A0BB8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B32-3AEF-4A90-A36A-37AC864EB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6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E201-2329-4759-962E-04DE566DF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820-E4FB-43B1-B6AA-296F43670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72AC-D8C7-42C3-990E-BA1499B40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B7C-0310-4BB2-AAB8-58043B838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E96-B70F-4AD4-8B2A-96E8B3BEB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A00-19C8-41CE-9DEF-8C008051D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6BE-DAF5-4AF2-B297-21C05165A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456-0027-44A1-B1CF-07371ED2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DE4-D455-43DA-92EB-91F1F41F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189-ED65-4824-908A-37CD71F6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8C5-0647-4284-A18A-9D0A5EA2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CE6-4CA9-48E5-B62E-372F672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F23-8636-4348-855D-ED1AD91E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08E-3BA8-43F6-9ABA-2795204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BD6-7877-4A29-AA60-AC21762E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422-33F2-40CE-BEA0-D6FE246D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1C7-4604-4C64-BB0A-DAB3B4E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9FF-796E-44F4-911D-5618D9F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027-966F-4B5E-80B1-C5DA8B3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346-B7D7-417B-81DE-A5B01CF43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TRANSFORMING_FORMULA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TRANSFORMING_FORMULA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EQUATIONS/JMAP_SOLUTIONS_TRANSFORMING_FORMULA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ing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6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951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8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1368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514600" cy="265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1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4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1:54:4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58:06Z</dcterms:modified>
  <cp:revision>16</cp:revision>
  <dc:subject/>
  <dc:title> EQUATIONS:  Transforming Formulas </dc:title>
</cp:coreProperties>
</file>