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03A-E369-4282-A3DD-CB19B14D8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AD6-2A64-4018-BBFC-554B71E25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433-9240-43AB-8500-8BC129DE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7CD-AA78-49DB-A0B3-C213CE919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123-A1EE-4F78-B644-611FF95D4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C34-B413-4799-AD12-B1A0399E2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23EC-FF1F-46BB-8065-ACE72552C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7CF-3F09-46E9-9AFA-87EF849AB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CE77-10BD-4435-9F46-4A43F018C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4469-018F-4CFF-8C00-C46EFB42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C364-68AC-426C-8FFB-6ED68F3C1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203E-C413-4006-8659-B20B4EBCC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F45-1D3D-494D-8E45-496647DF8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492-83CB-46F2-9626-B267D765D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E751-445A-4B35-9761-E57AA4F2F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0BB4-137E-454E-BC33-AD5E25F68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2D8-F4F8-4506-9C65-F9A2E88BE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BED-9DA5-40BA-AD01-3EE979791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AA6C-1B56-402F-A369-F940D0EC3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8C5-532E-4ECC-84C4-26C060F35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C4C-0FC7-4AD5-A81F-E6E870635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D25-4868-4006-A148-40F73EB23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523-0E5D-4E2C-A839-EF7AF510C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90D-F8BA-4A71-880B-33950503C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1AD2-C5A7-4ADA-938C-AA12612D8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D74-ED6E-4305-A690-E7DA9730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1B0-F7C4-41FF-926C-5AA4A22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838-74AC-449E-90EC-FDE15FEB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9CA-BBF5-433B-8841-AA5111CD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B00-F556-4489-984C-E085139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ADF-88C9-4EDE-B420-B931D2FA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0C0-4BAC-4522-B78A-55835B6C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7B4-60D6-4C4B-A4F6-728C949D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2C1-3FCF-4A19-BD97-162D0B96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DDA-4F7A-4CFD-952B-FDD6D08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5B1-3B05-42CB-B1AA-DBC208F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4D0-D34F-44E6-A500-E457EB19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68C-AECE-4C6F-A665-66E25585B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SOLVING_QUADRATICS_BY_FACTORING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Quadratics by Fac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105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05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128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8945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8945640" cy="714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0" y="0"/>
          <a:ext cx="9021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28800" y="3581280"/>
            <a:ext cx="5178600" cy="315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0" y="0"/>
          <a:ext cx="9021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3:08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3:54:06Z</dcterms:modified>
  <cp:revision>15</cp:revision>
  <dc:subject/>
  <dc:title> QUADRATICS:  Solving Quadratics by Factoring </dc:title>
</cp:coreProperties>
</file>