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42BE-ACFA-4D84-AF3A-9BAC77023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D6D-80FF-499F-8C1A-1A1CE1F69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6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0CFD-F2E5-40D3-8AA1-318CEC043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8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F953-EE40-433D-8BEE-3890233BD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B85F-3F26-4276-9252-E4B887CBE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DD86-972D-4D86-A266-2A76590FA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8045-2CD5-4273-AC7E-FE75AC4F5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7E5-E8A2-44A5-B33E-4406A9175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00D3-2536-47B2-A646-5B47C385C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D647-FAD3-4CB0-8972-EE61678BA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637-F99A-46CB-B0D5-51FEB11C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D0A-2139-4BC9-9313-0DCC7AB0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938-4367-4E67-AE1E-4689A2ED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29A-7C9E-42B4-9063-1991E682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D84-15B4-438C-A2FE-503B8095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1CE-4881-4101-BFF2-091EE71C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96F-9F7C-4D90-AF35-0BC11606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F55-D6D2-44B5-AACA-052027B6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685-2899-4FB9-9815-9C4DD462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248-4441-42A8-8CA3-58912A8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E6D-1069-4339-A3EC-8A04C71D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2C4-E68E-477E-BF74-CC9EC055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7DA6-2620-49EE-A329-007D1A770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EQUATIONS/JMAP_SOLUTIONS_SOLVING_TWO_STEP_EQU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EQUATIONS/JMAP_SOLUTIONS_SOLVING_TWO_STEP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Two Step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8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0900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27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9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1:41:0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49:25Z</dcterms:modified>
  <cp:revision>9</cp:revision>
  <dc:subject/>
  <dc:title> EQUATIONS:  Solving Two Step Equations </dc:title>
</cp:coreProperties>
</file>