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4.wmf" ContentType="image/x-wmf"/>
  <Override PartName="/ppt/media/image2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BC74-1E42-47DA-B093-7C9451DD9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5967-1035-4CD0-AF7A-16551E9BB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7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A048-2F10-4D79-A4B9-FD9F35A38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7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297E-E521-443E-B6A1-947A9704D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9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5084-5AE2-482B-8B28-73BE4B4AC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6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BE99-3D4B-4A0D-B0A6-CAC2D8FEE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0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A310-DF86-4741-AA21-F31C13AF4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3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0D48-D369-4245-B781-AD53CFCFA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4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0D43-16A3-4B2C-A41A-FE236D460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1b 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9081-4BF9-441B-881F-15933ADDF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6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D7BD-5BE2-4B4D-9B9A-B9049E27D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1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704F-43A4-4A4C-83B4-6B8454DE7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8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5570-9567-4596-B9FF-50E295957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8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73AC-0398-4C00-B25F-2032AD41B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2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FF39-EAF9-4E53-8E06-F3470DAE8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7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C869-CCB7-4077-AC60-89138D34C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3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4198-E91B-459F-9B80-E54716314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1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9E44-CC55-4A6F-986B-46B8F374A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4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C6CF-7168-45D3-8BA9-BFD5C75B2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5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253A-085A-4B43-AA65-FAE0D8997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246D-FECC-4E7C-B573-C44B60CA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415-5E6E-4DF1-BC62-E3F0D834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467-C992-4D7D-B449-CD4BF1B3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518-3FD8-4FFF-82C5-3877999E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008-AF32-49BC-828F-83D015DC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726-DCBB-4F4B-9A0F-B9E1B04C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1E9-4B7A-4CCE-B396-5C9CF341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C3E-BB81-45AB-883D-1FE11EB7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8BC-E032-4FB2-BCFC-3E80FF62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337-DFA8-4D67-8C91-36AB8E33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27C-7916-4B39-8057-0C18DC9F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430-CC7F-498B-AEC4-759593F4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4FC4-78E0-45A3-B55C-FD267C292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f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3" descr=""/>
          <p:cNvPicPr/>
          <p:nvPr/>
        </p:nvPicPr>
        <p:blipFill>
          <a:blip r:embed="rId1"/>
          <a:stretch/>
        </p:blipFill>
        <p:spPr>
          <a:xfrm>
            <a:off x="-2438280" y="0"/>
            <a:ext cx="9090000" cy="2960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114800" y="380880"/>
            <a:ext cx="4836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-1752480" y="0"/>
          <a:ext cx="90788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52480" y="0"/>
                    <a:ext cx="90788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5257800" y="304920"/>
            <a:ext cx="34290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438280" y="3551400"/>
            <a:ext cx="3764160" cy="3306600"/>
          </a:xfrm>
          <a:prstGeom prst="rect">
            <a:avLst/>
          </a:prstGeom>
          <a:ln w="0">
            <a:noFill/>
          </a:ln>
        </p:spPr>
      </p:pic>
      <p:pic>
        <p:nvPicPr>
          <p:cNvPr id="72" name="Object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657600" y="838080"/>
            <a:ext cx="1828800" cy="1360440"/>
          </a:xfrm>
          <a:prstGeom prst="rect">
            <a:avLst/>
          </a:prstGeom>
          <a:ln w="0">
            <a:noFill/>
          </a:ln>
        </p:spPr>
      </p:pic>
      <p:pic>
        <p:nvPicPr>
          <p:cNvPr id="74" name="Object 7" descr=""/>
          <p:cNvPicPr/>
          <p:nvPr/>
        </p:nvPicPr>
        <p:blipFill>
          <a:blip r:embed="rId4"/>
          <a:stretch/>
        </p:blipFill>
        <p:spPr>
          <a:xfrm>
            <a:off x="0" y="228600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0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3881520" y="380880"/>
            <a:ext cx="1628640" cy="1676520"/>
          </a:xfrm>
          <a:prstGeom prst="rect">
            <a:avLst/>
          </a:prstGeom>
          <a:ln w="0">
            <a:noFill/>
          </a:ln>
        </p:spPr>
      </p:pic>
      <p:pic>
        <p:nvPicPr>
          <p:cNvPr id="77" name="Object 5" descr=""/>
          <p:cNvPicPr/>
          <p:nvPr/>
        </p:nvPicPr>
        <p:blipFill>
          <a:blip r:embed="rId3"/>
          <a:stretch/>
        </p:blipFill>
        <p:spPr>
          <a:xfrm>
            <a:off x="0" y="2362320"/>
            <a:ext cx="9144000" cy="290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2895480" y="2895480"/>
            <a:ext cx="33624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0" y="0"/>
          <a:ext cx="909000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2743200" y="3048120"/>
            <a:ext cx="342900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0" y="0"/>
          <a:ext cx="9090000" cy="20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-2514600" y="0"/>
            <a:ext cx="9013680" cy="6705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4840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1:05:3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56:16Z</dcterms:modified>
  <cp:revision>14</cp:revision>
  <dc:subject/>
  <dc:title> TRANSFORMATIONS:  Reflections </dc:title>
</cp:coreProperties>
</file>