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3969-5381-4249-8145-442161BDC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B68E-9861-4827-AD22-C72C00C3E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8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B66B-68E4-4024-A56D-52F65799E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7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D1BE-DA01-4366-BDC3-5F6E43E43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8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6BA3-2B03-48C4-993E-E7AB856C2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9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89BE-805C-4F67-895C-AD2B524EF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2A9-8D4A-4955-84E0-FB52F57F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EAA-56E5-44FD-B135-1E682B81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126-37AB-4DC5-94E2-384044A1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669-0C36-4EAC-A3C4-DD35FB41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5FD-DD36-4662-907E-93A1A773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8FA-3B16-4F86-9AB5-D1E4A091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034-57B8-4865-A7FB-40C2BE72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B2D-8275-4D26-8257-01273DA0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E01-1A2C-4BD8-B24B-478D5A2F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60D-8929-47BA-B0DB-C793FAD0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58E-0D72-4134-AD5C-5898B27E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8B1-55CA-46ED-96BA-3AE10AF5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F1B4-C928-4B37-98ED-86BFFAB78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PROPERTIES_OF_RADIC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PROPERTIES_OF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erties of Rad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2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-2206800" y="0"/>
          <a:ext cx="906480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06800" y="0"/>
                    <a:ext cx="906480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105520" y="304920"/>
            <a:ext cx="3192480" cy="377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12816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7:33:1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59:55Z</dcterms:modified>
  <cp:revision>11</cp:revision>
  <dc:subject/>
  <dc:title> RADICALS:  Properties of Radicals </dc:title>
</cp:coreProperties>
</file>