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8F4A-14F7-4106-AF95-AB910DF52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0D77-7297-45C4-83CD-290A18A60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4C6C-1599-4A3D-9558-310203432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3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21E0-2513-4A17-81AB-5E495004A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FCCA-43C8-4483-93CD-F7F53D43E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0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70EC-FD75-47E4-99C3-B482908EC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6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6330-F9E9-40A4-8AA6-B26AEC706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54D0-E6FE-4EDB-806A-4CA31DFF1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43B8-F54D-42E5-9AC3-DB90D60BD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3DA0-E747-4393-9195-931FD82D6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3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3B17-98FE-45BF-97FC-0B0D3E5B6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5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2D7E-081B-47C0-A869-27B90D6FD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1650-82A7-441E-B981-10C058976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5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82D6-7497-4E7F-9134-577D3EBE6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2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2AE5-8D34-4DD6-9E74-4B0594A51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DEB-9E43-4D90-BFA3-B08D193A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DD5-4D34-46A0-BD4A-9C08127E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66C-B2C3-45E6-B96F-8997AB59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0F6-21DB-41E4-BA07-B2C8597C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516-35F3-4564-9CC6-FCD3B916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8FF-03D0-4FFB-BFC6-DFE65172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BF5-2890-4DD6-A5FD-4883344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251-1059-4811-AAAB-741826DB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17F-825E-4672-9F16-65D99379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8AA-48DF-43EA-BEB7-9222771B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EDD-327B-41D1-A188-CDD02F83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293-0C58-424D-B948-16B31C87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434B-7B17-4BD1-8460-FA7B3A0C2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DEFINING_FUNCT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ng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0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1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4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09080" cy="641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1981080" y="0"/>
            <a:ext cx="5181840" cy="609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2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2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1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6:32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29:12Z</dcterms:modified>
  <cp:revision>13</cp:revision>
  <dc:subject/>
  <dc:title> FUNCTIONS:  Defining Functions </dc:title>
</cp:coreProperties>
</file>