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16A2-C62B-44AB-81DB-7C215BDCB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2AD6-33BB-47D5-B6E5-B6164087C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4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170C-F2DE-4D76-BDE2-600F3091C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791A-FED1-40E1-B3EB-86DD4C389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0E9B-EEB9-4A63-BEAB-D0FA02750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9417-CB35-4CBD-81AA-8F1039FFF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7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0C36-F1A4-457E-B915-A2626F0A3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2365-CF18-4C08-A775-6715FEA1D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84CD-4E8D-4B23-9BD9-506CC166B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0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3474-A913-4422-B16C-778E3E644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8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8DEE-8FA1-48CD-B561-4EB457981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AC81-D720-4374-89BB-85D29CDA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E2F-FF45-47FA-86B3-32BDDC6F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4B5-E82A-4D27-8CEE-6936F810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67A-B960-44BF-AA14-F2743A3C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8A6-D749-4743-8B9C-8FF33279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433-28B9-492E-9172-4E91B0E8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9F7-AC2E-4B78-B8F0-F68DC5D5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666-8CA5-44B9-891E-B29C17CE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F0F-73EA-44F9-9465-C6717F19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870-8191-418E-B591-F648E8E8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E01-A102-4894-8E72-B75601EC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69D-2C6F-47AB-A45F-D252B67F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8027-4182-4F4D-A0DC-7159AD556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IMAGINARY_NUMBER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aginary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98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202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91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55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552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40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222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08:25:0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2:04:42Z</dcterms:modified>
  <cp:revision>14</cp:revision>
  <dc:subject/>
  <dc:title> NUMBER OPERATIONS AND PROPERTIES:  Imaginary Numbers </dc:title>
</cp:coreProperties>
</file>