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19B1-C050-4CD1-9E9C-090BFC0A3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36B2-32AE-406C-8D9A-4CFC5CBA3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5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D724-D98C-4B89-AA5A-003EACA9A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0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19DE-606D-429F-AE54-DB8E54F83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5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A9C3-8E39-4011-BAC2-648A10F52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2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4B67-ABCB-4FCE-9B4C-F4B75E27F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6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6DC2-63D4-4C82-96A1-325058ADE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1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1FEF-610C-4D32-8B41-37DBA4BE4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1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D0BC-FEEC-43B6-805D-468AABC14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0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0D45-3047-43C3-9D60-3AEFE304B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2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F6A9-B0D3-4CA6-AA62-FE116FD38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2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EC7C-E024-4F1D-B233-72FE79084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074-7B1A-447E-9352-8CBD02AA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042-4FFF-4966-B715-FCEC0B78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20D-7CDC-4897-9E2A-ACF9CEF2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B97-5EEF-401B-9696-8471EF2B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55A-2EEA-4EAB-B1AC-CE8E50EA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C40-2374-4E2E-B4C9-6FC4F60E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2A7-C0B6-4A4B-8B1B-B4ACA4C7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692-6B50-4713-9D54-2F3BC6DF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365-B89F-4D53-ABFC-91823DD2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28B-97B8-483D-9EE9-ACD0D9BA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D1D-F3D6-45E6-8A4A-4913C0BF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D95-2F43-420E-BD47-64C50C5F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82E0-B521-447B-B32E-07A9DD727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INEQUALITIES/JMAP_SOLUTIONS_SOLVING_INEQUALITI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INEQUALITIES/JMAP_SOLUTIONS_SOLVING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INEQUALITIES/JMAP_SOLUTIONS_SOLVING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INEQUALITIES/JMAP_SOLUTIONS_SOLVING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0"/>
          <a:ext cx="90788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788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0216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2160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900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0"/>
          <a:ext cx="911376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32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889956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9956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7:01:4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1:38:07Z</dcterms:modified>
  <cp:revision>6</cp:revision>
  <dc:subject/>
  <dc:title> INEQUALITIES:  Solving Inequalities </dc:title>
</cp:coreProperties>
</file>