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3.jpeg" ContentType="image/jpeg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FBA9-BB05-4706-AA32-63341362C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9B91-0F21-46FE-98D2-DBB57B665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6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549D-BA10-4BE1-BB63-D7BDDC409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1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2091-BA20-4F7A-88F0-10F64C936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6255-9197-4063-946A-3B2C4D497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882A-3892-49E0-BED7-053134B2A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89FC-3ACC-442F-92AB-2C354CB18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5110-6E87-4FDC-BE7E-A81EBA564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0C56-92A4-4543-8987-153C3A88C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5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29BD-1078-4C3F-85B7-DFC48A699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3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FE59-6307-4027-B29E-1B65F1DF3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1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A3CE-3AA2-45F1-A85D-CD3F5541F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CB30-8BB0-4FE9-8527-CBABBCA4B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6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6578-745B-4DD1-BA27-64061AE42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6E77-EDBF-4FD2-89C6-6382BC6F2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358D-1EBB-4828-B778-1B310148F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9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321C-5579-4A40-A93E-35D1299F9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B2E-412E-4613-924E-487C2D6DD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B346-6CEA-49C5-BF9C-01042DE30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2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963B-4747-40AB-AC15-76B185198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D770-3C34-46DC-A350-43BF82EB6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2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37F2-79C6-4545-8D10-362207A26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B753-A2CF-4B94-B1DA-24D3C039D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523E-D590-4F99-931C-697D374A4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C3E7-3CD7-4C53-9412-3737979FF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8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A4FB-2279-4A1C-9AD8-2095D7689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5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6875-0A04-4D65-BC2C-45330BF3E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16F-E4CE-48E6-B299-C2D4B00BB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3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79CD-FFB2-48ED-9EFC-C4B66EDF5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8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2B0A-30D5-43D4-A552-70E5C3DD8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781-DAEF-45DC-A447-95DF6FCE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C03-D052-407E-8B87-77039E0C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6F3-298D-4193-8A0F-C452E1B0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6C6-4022-4D11-B37B-21A01D40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555-6D35-4AB5-8F9D-863A7EBC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C0C-4C0C-44C8-8A2C-403D61C4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E54-E0CF-408E-9C5F-B763456F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6E5-ECAE-4B82-B4D6-D0449067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7A6-3D54-4DF5-A883-431F434F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AA2-4F65-4B98-84A8-E8DAACA2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A01-1B1D-4E62-BAB9-AA33903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4FC-95A2-446B-B0A8-D28DC81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06C9-69AD-4214-917A-45E92BD1D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PROPERTIES_OF_RE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NUMBERS_OPERATIONS_AND_PROPERTIES/JMAP_SOLUTIONS_PROPERTIES_OF_RE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NUMBERS_OPERATIONS_AND_PROPERTIES/JMAP_SOLUTIONS_PROPERTIES_OF_RE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NUMBERS_OPERATIONS_AND_PROPERTIES/JMAP_SOLUTIONS_PROPERTIES_OF_RE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erties of Re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84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78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1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246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1"/>
          <p:cNvGraphicFramePr/>
          <p:nvPr/>
        </p:nvGraphicFramePr>
        <p:xfrm>
          <a:off x="0" y="0"/>
          <a:ext cx="91090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09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0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0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4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3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0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3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38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8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21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4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76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7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7960" cy="334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136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7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8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3135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2:58:2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00:44Z</dcterms:modified>
  <cp:revision>19</cp:revision>
  <dc:subject/>
  <dc:title> NUMBER OPERATIONS AND PROPERTIES:  Properties of Reals </dc:title>
</cp:coreProperties>
</file>