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D221-0F3D-4D2D-95FB-6B21BFDDB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2D4-BA60-4F4C-875C-958ACDFDF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11B9-09D4-4053-81C9-1C803AF4A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E97-8B7B-42A4-BFA8-D52701B60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238-9ACE-46C0-870D-A1C30D5FF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CCC-6795-4B64-AD26-91E884B9C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F5D-867A-469C-80F8-83A202C90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447-66AC-4B28-8FA1-E6CD5AE06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583-4027-43B2-A3EF-5DB7F09D3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EEB-3B90-4BDC-A956-5BB9347F2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690-8A71-417B-9C54-82662B437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C46-DD97-448C-994D-9D3798F68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097-78D0-4E4F-A775-19847D44B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CE8A-80A6-4597-87EA-576510D39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966-E498-401E-9124-8E8FB2038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47-FCC6-4A6F-8A2A-393233A7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7AB-0A66-4A48-B239-7A67FB1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C0A-944B-46FA-9C8D-9A9C43AD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715-B747-4A0B-AC4A-FA0A3109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61E-DFE3-497E-B44E-CFA0A340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0B9-2401-4508-A8C1-7FB2158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240-E9E1-4AC9-96D9-1A6ABEB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19D-BA0D-44D5-8647-23A430F7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5B7-E7C0-49D5-9E34-CAFDD62D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8F5-2B47-450F-84A2-397562D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479-7ECE-494C-9B86-EAAB8A94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825-8E6D-494E-A07C-C37CD7F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3CE-61D1-4B55-9088-83A67043F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INVERSE_VAR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RATIONALS/JMAP_SOLUTIONS_INVERSE_VARIAT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RATIONALS/JMAP_SOLUTIONS_INVERSE_VARIAT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91540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21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2160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021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0216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0:58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02:20Z</dcterms:modified>
  <cp:revision>10</cp:revision>
  <dc:subject/>
  <dc:title> RATIONALS:  Inverse Variation </dc:title>
</cp:coreProperties>
</file>