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EEF0-CBFF-4C48-A406-61BCD4B7E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522-6CE5-42C7-AF2A-E20E443BD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5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0AAC-3204-4A9E-88B0-9AFB8655C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1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3946-5A4B-4AA5-8F06-ECFB23311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7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C71E-AAD1-4F1C-A88D-17199E367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88E-C0F0-4594-B9FF-9234DB53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372-587C-47CA-99A8-1DEF0BE5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8E9-ABB8-478A-B8A5-5BAA265A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B85-6722-4C01-88D4-37FC419F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23E-24C0-4432-AA5F-B6F04177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37E-01FB-4ED2-9C3B-9131D7D3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3F1-2326-48AA-9932-59E46D00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E57-8E19-4487-A6CA-79ACB19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380-D010-4852-B353-993AA93A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844-3F03-4E9F-958B-E6F4B4A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1DD-4430-45A8-9A3F-A5CBF07B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FFA-B492-44D8-B16F-C6628B88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3AD3-FCAD-4B03-8DEE-E7EA47EC8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IDS AND SIMILAR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ifying Sol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0:51:4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36:01Z</dcterms:modified>
  <cp:revision>6</cp:revision>
  <dc:subject/>
  <dc:title> SOLIDS AND SIMILARITY:  Classifying Solids </dc:title>
</cp:coreProperties>
</file>