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CC78-517F-4A50-881C-D5B776D34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E277-C1BD-4F2F-9DC8-AEF94A481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54F2-50A2-4DE6-A803-B9D2A6B14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964-40A9-47DF-8771-E3EB75C3B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85A-5ED7-4947-9AE3-AC1D41F1B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807-1C2E-4DA3-A1F4-38D5B9450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DDDC-447F-4619-9892-AD2BF11A9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7FD-201B-40D6-9EA0-5962F2E6A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AA6-42C6-49ED-9F5A-93D0C482E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736-AB18-4F8D-8E2F-17BAFCEE5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5454-7694-416A-9766-0F0ECFC14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0215-34FB-4546-BA20-40F440448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8D66-E706-4862-A423-409314CF1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25E1-38F5-420E-B821-F3D87051B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10C-55E3-4EAA-B380-8CA28697B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7D0B-FBAE-4038-8C94-4D7F0FB2F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4A2-1D7D-41F6-A928-E574CFDAB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821-6508-438E-81D5-BD9A91DB0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B8D-C4DB-4FE6-8F9D-BB35E63C6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C15B-3B23-4044-81D1-38A411334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50B-72ED-4739-B435-9076094D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401-8662-41BF-B22B-80D257E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AD7-54A2-455B-B0BD-A900DFBA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51A-43B8-4318-8717-45E5BD90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7A0-84C4-40F1-87CC-F5B2D22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1A3-6D39-4DFE-9E04-80946F1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B06-3DA9-4C88-B5DD-C851F3D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B2E-AB88-4D09-BD5D-74F8689E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007-923E-45FD-8AEF-590B255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E27-D017-4BD6-BA0A-B856A14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074-0E02-44DA-9AEC-B47B854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111-49D9-43E6-9ED4-DAFE51A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50C-ABBA-4863-BA33-C2CAE385F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EXPONENTIAL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hyperlink" Target="http://www.jmap.org/JMAP/JMAPSolutions/POWERS/JMAP_SOLUTIONS_EXPONENTIAL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013680" cy="670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44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14040" cy="895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9014040" cy="853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58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6T20:42:32Z</dcterms:modified>
  <cp:revision>11</cp:revision>
  <dc:subject/>
  <dc:title> POWERS:  Exponential Equations </dc:title>
</cp:coreProperties>
</file>