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E621-8B78-4307-A700-2FC57490E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A6FA-0575-41E0-AD65-1E0AA1635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343-C604-4957-B4A3-D13AC2004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1D8-1E48-4714-BA15-93F404EF3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418-AD64-4516-B040-D071E0096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5F8-9A44-4F9D-B504-7344F6742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CDB-35F4-4905-B76B-3CBBC1567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D2FF-A41D-4D21-8C57-D05933C6E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746-C126-4AFA-B14D-1596FDC8A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E18-079D-4486-90C5-DE0F78311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710-9008-433F-9E47-AF3134865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AA8-777D-44F7-B3EC-12EDE9EDB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6D05-985C-4416-BE67-93A0227D6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A37-7FE4-4ECB-9E10-005A6887F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F2B-EB61-437F-84D8-42D0BF5D7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0D7-587F-4912-A386-B3CBB43E9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77B-3C35-43D5-85C7-89AF3F29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FE4-AFDE-412D-A315-7863DDE6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658-A5FE-4EBC-8689-9082ADC4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A7F-0CA0-43BD-9A4C-033581A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40E-8E7A-49F0-9260-FF9D2136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88B-DA89-4045-B99B-ED04AC0E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640-A85E-4372-8E16-374D1C7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1A9-EDBD-4210-84A1-0B93D8A9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960-C9A7-47C2-9B9B-D511047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87C-2EED-4B47-A508-0F83397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8F0-A1D4-4686-AE3D-D74F2A3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CA3-9B56-454C-9683-2F2D9564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72E-75F7-4A86-AA1E-F1A2EBEA8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ABSOLUTE_VALUE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solute Valu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89805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8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078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216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21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89312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312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216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216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2160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15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8:06Z</dcterms:modified>
  <cp:revision>10</cp:revision>
  <dc:subject/>
  <dc:title> INEQUALITIES:  Absolute Value Inequalities </dc:title>
</cp:coreProperties>
</file>