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A00-CD1C-49FA-94B0-4C475D9DA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A37B-4D60-4EC1-928F-361B0332F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41F8-9840-4E30-95C1-B168914E1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4321-74CB-4949-81B4-579AEB67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6956-8C17-419E-8E1E-6B577A6F8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32B5-E5E0-4091-A494-74F36A36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A008-6103-4705-BCBD-7C984BB1A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BA1-39A5-453B-87AD-FEB5161A9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EEB-4A33-4AB4-B5C0-35BFDB497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7C9-788C-40AA-99FA-757CD42E8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739-E886-444E-9523-379C46681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D86-6BEC-42A2-B42E-35186C48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701-7407-40D4-95C7-47915CE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77D-13C3-4044-BDBE-E4676F18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D49-4CDD-4607-8EC1-E9266A43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92A-FFED-4C88-B890-6FE6A77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D0E-8472-44A3-918E-94794D2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595-9222-43EF-AAE6-38D61695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F6A-CE5F-47B2-90C2-AFC5967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559-D384-4FE2-9DDD-8F99078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DAF-B96B-4FE0-955B-A575D25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B1F-B42C-408B-89D7-F1C9665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49B-FE02-4001-BFDC-3B5D4DE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BCF-0685-4220-BBFF-0AB96DCE2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IDENT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Id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78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4564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4:42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27:51Z</dcterms:modified>
  <cp:revision>13</cp:revision>
  <dc:subject/>
  <dc:title> ANGLES:  Trigonometric Identities </dc:title>
</cp:coreProperties>
</file>