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7D47-FE6C-46B9-ADEF-6C2C81F38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923-EA7F-423B-88D7-81902DCE4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7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005-3202-4D06-AA6D-3D5B7B827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85D-5792-4B16-B2FA-909572413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EC09-CCFE-4E5E-B505-0A58BCC7D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3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C92-DB1B-41E8-A8CF-00E65B9AB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2929-5BB2-4961-B667-10F3B9F32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D67B-65F6-44BD-8A59-F7539DA05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E6B-AD1B-479D-BEF3-0F46F14B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B4A-B799-4EE4-8D31-7987C2D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58E-30D3-4583-889A-1E3A1962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C2C-2328-45D6-A455-882F32DE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15B-F9B1-4217-9A29-A0F7CE3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7F0-5397-4E11-BDB1-1ED015B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AF5-1527-4F27-8790-FFBC5DD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30B-FEF8-4EAA-916B-6B47D416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FDB-FFA2-4A07-8CD2-EC73D84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630-1CF9-4CFA-A813-E8E6D63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7E2-E5BC-493D-B6E1-4C00B36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90F-70C2-4722-A7DB-B39C0C0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8B0-F4F0-45A2-A2EE-BEBC65155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SOLVING_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3:10:0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58:28Z</dcterms:modified>
  <cp:revision>10</cp:revision>
  <dc:subject/>
  <dc:title> SYSTEMS:  Solving Linear Systems </dc:title>
</cp:coreProperties>
</file>