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408A-CFCA-492E-81A3-DEE3D2749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DAD4-4372-4CA1-8F7E-126B89E9E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7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82C1-2E63-4C57-95BE-B8D86738F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4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0FB0-C647-4343-BA26-2684E6F58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329A-38E6-4EAB-8469-8351046E1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5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95AB-F392-4DE3-B9F2-208C43EAB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4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7C10-07FA-414F-943E-C006265B8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E554-EB0E-4F9E-B614-728CB7179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E05B-C80F-401D-9256-B32B221F9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9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FA59-D232-4D0C-BFF1-3566186F1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5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08AF-EDB0-4502-AF2E-80580C3B2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A46F-672A-4511-86D4-7365F55B9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8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E778-1055-496B-88B1-47A87074B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3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4B25-6D81-4865-A4AE-7397F514A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9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006C-50FE-437F-B057-40C11EA75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DF37-E415-4517-8235-5A6EB2FAC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6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C4EA-30ED-4335-82B3-F9BEE389B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5DB4-BBD0-40D3-9324-FEF3ADF0B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4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D1EE-1940-4258-A330-721A45086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961E-2160-43B3-B59C-1F3E5C863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3F42-AA86-4F43-87B4-AFAB572A6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AF7C-13DD-42BB-89EA-532F48395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CEA-4D87-49AF-BC1E-1DB91CDA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E56-536D-418D-A413-8528610D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9EB-FDBE-468C-A1CC-00C7237E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EFD-87C3-49B2-93FF-7D47A249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D9F-1C1F-47F7-AE57-F2240D67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A5A-AF8B-4AE3-BA0C-E2C12F33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DA1-49AC-4327-B19D-7C64D436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F3E-83FC-4DF2-8110-07F57452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4C9-96D9-401D-8870-2AA33B7B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74F-18B6-4563-BE3E-DF6CB518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391-B57A-455E-B814-F1A979AD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763-7809-48D3-952B-47C0FF4B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DCA0-1565-4EB4-92A0-D15456BE3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COMPLEX_NUMBE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hyperlink" Target="http://www.jmap.org/JMAP/JMAPSolutions/NUMBERS_OPERATIONS_AND_PROPERTIES/JMAP_SOLUTIONS_COMPLEX_NUMB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hyperlink" Target="http://www.jmap.org/JMAP/JMAPSolutions/NUMBERS_OPERATIONS_AND_PROPERTIES/JMAP_SOLUTIONS_COMPLEX_NUMBER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00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4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17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200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0900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96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4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71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4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-33480"/>
            <a:ext cx="9013680" cy="686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2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89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3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358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4830840" cy="4663800"/>
          </a:xfrm>
          <a:prstGeom prst="rect">
            <a:avLst/>
          </a:prstGeom>
          <a:ln w="0">
            <a:noFill/>
          </a:ln>
        </p:spPr>
      </p:pic>
      <p:pic>
        <p:nvPicPr>
          <p:cNvPr id="57" name="Object 3" descr=""/>
          <p:cNvPicPr/>
          <p:nvPr/>
        </p:nvPicPr>
        <p:blipFill>
          <a:blip r:embed="rId3"/>
          <a:stretch/>
        </p:blipFill>
        <p:spPr>
          <a:xfrm>
            <a:off x="-2438280" y="3276720"/>
            <a:ext cx="9067680" cy="358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69400" cy="666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9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207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7:06:2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07:27Z</dcterms:modified>
  <cp:revision>22</cp:revision>
  <dc:subject/>
  <dc:title> NUMBER OPERATIONS AND PROPERTIES:  Complex Numbers </dc:title>
</cp:coreProperties>
</file>