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CCCB1-341F-47CD-9A86-617FD19706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46826-FFA8-47DE-8A97-A99733DC3B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08b  TRANSFORMATIONS: Trans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56857-90E0-4DF7-A805-A316FB6626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29b  TRANSFORMATIONS: Trans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FF524-622B-4983-A79C-9DD15618C5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11a  TRANSFORMATIONS: Trans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6C2CC-73E5-4602-8416-3EF398C111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02a  TRANSFORMATIONS: Trans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0DA2C-C66B-4B8E-B2E6-552B0CF24F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03a  TRANSFORMATIONS: Trans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20062-305B-4163-8B7D-9152B8BC65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09a  TRANSFORMATIONS: Trans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5C46F-63C9-4C36-933D-D1513EEE9B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09a  TRANSFORMATIONS: Trans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EB930-1EC7-4760-A547-9A3E858903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09a  TRANSFORMATIONS: Trans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5A52B-80D2-4621-AD90-FF17876952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09a  TRANSFORMATIONS: Trans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A0148-C312-436B-A830-E713A98F2F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14a  TRANSFORMATIONS: Trans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79A50-AEB9-4AA4-94B8-2B0CABE37A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B732-8ABC-42C0-9AEA-1471D0724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708B-3955-4C5F-A4F7-602126CCE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F7DC-2002-4574-8711-1E3B544D9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7744-E2D8-4169-8819-43E06AD4F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CDB9-7A6F-4239-B7B4-0F5C7E2D5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B68C-043D-439C-BDA5-B3325CB57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D632-CEEE-44BC-97CF-4FE3B0ADF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94CD-D99F-4B55-B82B-C067584D2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3E36-3ACF-4834-BFC0-CA6887322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F7C2-C19B-4018-A5B0-3F5359D9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E140-525F-4ABD-9983-522428AD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5A01-3645-48E5-803C-CFE0A315A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4FA63-5300-4D0B-A088-6AD76D1B7C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RANSFORMATION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rans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5562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4876920" y="1828800"/>
            <a:ext cx="4062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-2362320" y="0"/>
            <a:ext cx="9090000" cy="6324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4191120" y="304920"/>
            <a:ext cx="4419360" cy="4487760"/>
          </a:xfrm>
          <a:prstGeom prst="rect">
            <a:avLst/>
          </a:prstGeom>
          <a:ln w="0">
            <a:noFill/>
          </a:ln>
        </p:spPr>
      </p:pic>
      <p:pic>
        <p:nvPicPr>
          <p:cNvPr id="53" name="Object 4" descr=""/>
          <p:cNvPicPr/>
          <p:nvPr/>
        </p:nvPicPr>
        <p:blipFill>
          <a:blip r:embed="rId3"/>
          <a:stretch/>
        </p:blipFill>
        <p:spPr>
          <a:xfrm>
            <a:off x="0" y="3429000"/>
            <a:ext cx="9066240" cy="5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2T12:10:20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07-15T07:29:08Z</dcterms:modified>
  <cp:revision>7</cp:revision>
  <dc:subject/>
  <dc:title> TRANSFORMATIONS:  Translations </dc:title>
</cp:coreProperties>
</file>