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6CAB-A1F6-4840-B8D9-34B4C6379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DEC5-35FD-4594-B158-2124F7A2F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2a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7192-5B2F-4D4D-B600-6E6D138AB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4b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3505-C33D-452B-8157-FBFD28200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7b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6C82-71E7-45BC-AC44-BE7BA51C8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7b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0B40-4C0D-4F96-B66A-1D7E56960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4b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5A8E-C04B-440D-B7FD-C1FFDF11B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3b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5355-0769-4254-BB8A-61DB5174A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DCE-9471-49C6-8BDE-183B5C6B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9EF-18A6-46D0-A79A-D3198567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7A5-474E-4937-BDC8-BBF6CAE3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77E-5364-40BE-B4C6-951FB76B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9C3C-9884-4A71-AB1B-1EE9C184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9BBB-80F6-4219-81C6-D3754E16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4B3-20E7-48D5-9AAC-D3531F9E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958F-BE4B-4413-BF92-804D48F0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DC1-988F-4FC3-8D75-86948941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61C4-8F5A-4E8C-9C2A-3DDA31F0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3430-5445-4BB8-A8D4-6843141C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C70F-5F85-454C-AC5B-C90C28C6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D822-D770-486E-88CB-2BB67F840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IONALS/JMAP_SOLUTIONS_MULTIPLICATION_AND_DIVISION_OF_RATION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RATIONALS/JMAP_SOLUTIONS_MULTIPLICATION_AND_DIVISION_OF_RATION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TIONALS/JMAP_SOLUTIONS_MULTIPLICATION_AND_DIVISION_OF_RATION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RATIONALS/JMAP_SOLUTIONS_MULTIPLICATION_AND_DIVISION_OF_RATION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RATIONALS/JMAP_SOLUTIONS_MULTIPLICATION_AND_DIVISION_OF_RATION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ION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Multiplication and Division of Ration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96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8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541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02:11:3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5T19:30:16Z</dcterms:modified>
  <cp:revision>14</cp:revision>
  <dc:subject/>
  <dc:title> RATIONALS:  Multiplication and Division of Rationals </dc:title>
</cp:coreProperties>
</file>