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3DDD-C54E-4290-B752-4AC23C27F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3D39-68F7-4EC1-9401-E5893D13C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5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740A-7E72-4C0F-83C8-926885954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2732-DBB2-489A-899E-FAB0943DA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4a  TRIANGLES: 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8302-4550-4A2C-8DB0-72F2900B2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6448-FA1D-40CF-A66A-4C952F1E9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6DA6-F09B-4FAC-82F6-A223F2AB4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2920-45C9-4B06-BAC4-4B8612722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2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7E25-27C7-4D72-99BC-4B426B884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2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611C-442D-4BA1-9F10-1E1A8C4C3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2E82-13B5-461D-AC19-D2A03FD19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26F8-4393-4139-A199-D6FFEDB84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0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92FD-CB90-475D-BAD7-13401815B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1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C25E-4A8C-4910-A2CA-657352704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0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6B9D-0E0C-4C35-9888-83658249E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293-C34F-4B6D-941A-2A7E3E04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67D-BF66-40BB-817D-05FE143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350-2F79-4ED7-94D2-F37997FF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CA8-3768-4684-8BFD-93ECE66C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38C-BDA4-4261-8008-046C04E3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91E-9939-4F29-9D8E-B49272B6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ACE-C29E-4CB9-8F69-D23D118A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CE3-12BA-44C7-8583-61B3BA2A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18A-879F-416E-8F7B-E79E506F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3E2-6A21-4EF7-AFA8-F62F6A3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7A9-998C-4AC7-8359-FF28B9C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747-7374-486C-BD6F-2D8AF8E0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158C-428F-4E7D-9040-8552420E5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09000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81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9:38:3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9-16T17:46:57Z</dcterms:modified>
  <cp:revision>11</cp:revision>
  <dc:subject/>
  <dc:title> TRIANGLES:  Special Triangles </dc:title>
</cp:coreProperties>
</file>