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0BD9-9DCA-4F58-B97B-14EE1F744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8FAE-6F3E-4858-A835-D8EBF5D8C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8a  FUNCTIONS: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C15F-023C-4D66-B8EB-EAE76C205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9a  FUNCTIONS: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A6CC-BF7A-4B85-904B-89027A52C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4a  FUNCTIONS: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C327-E587-402E-A965-A7C8D863C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3b  FUNCTIONS: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35D0-D55C-45CD-9701-5C8D8F230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DD2-6828-485A-8E6B-41FA2B7F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1C5-63C7-4B79-BA85-61F8909C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5B0-EEB1-4B1C-86A8-BB77273A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2D8-3482-4C1B-945B-CE3AC810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2FC-2254-4638-AC64-3755E14F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F17-AAA2-4A39-A009-3F37AC08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022-A2BE-47B2-9AF0-5F3DE5A7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C499-1F76-44DE-B438-F9867B9D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6E6-F575-4967-928C-5088C78D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10AF-6399-42E2-A676-ACA3CCF0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540-BEB5-4991-A284-B1A79890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C5A-A28A-48D2-8C7E-01809ABE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9CD1-19A6-4573-8B30-F7FC08573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FUNCTIONS/JMAP_SOLUTIONS_MODELING_RELATIONSHIP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FUNCTIONS/JMAP_SOLUTIONS_MODELING_RELATIONSHIP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NC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deling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97720" y="5791320"/>
            <a:ext cx="746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97720" y="5791320"/>
            <a:ext cx="746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97720" y="5791320"/>
            <a:ext cx="746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38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97720" y="5791320"/>
            <a:ext cx="746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21:58:3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0:30:48Z</dcterms:modified>
  <cp:revision>10</cp:revision>
  <dc:subject/>
  <dc:title> FUNCTIONS:  Modeling Relationships </dc:title>
</cp:coreProperties>
</file>