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E918-AD1C-48A3-A904-ACFD36F4E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7167-CF03-4878-9AD4-BB8C4EB2F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8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830F-EA81-4EA8-A286-74DB8067A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7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F30A-A90A-4E9C-A00D-F03E1F3AA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8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24C4-C537-4E61-B8E6-8CCED4400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4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B5A4-3E4C-4A13-964C-030FD61D2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2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DC1C-E51C-4A13-ACE3-A391FFA2F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5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C07-FF8E-4F54-9B80-388F1AA61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0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59BD-3A09-4D57-86DB-9F616745F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3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F2FC-85F1-47E3-A335-1FA702ED2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9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E797-3F91-4D9C-AA0E-6C0E76738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BC9-DA0C-4CE5-8C3D-46CF5860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493-8BC8-406B-8AFA-4187F1DA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2DD-8752-47C9-8495-66783178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327-73E9-4B34-A536-81474B57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03D-737D-4F91-89B2-39A0DB2F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4DB-3AD9-4E3D-962B-26188F3B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8CB-E78C-4850-A693-D9F2B4A6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EEF-FD66-41FC-BC8E-6EF1ECBB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D31-F6F6-4B08-B461-91B9C7EB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0AC-4762-4943-913A-605C7E09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DFA-7824-4484-A763-D2333B0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26D-7BEE-48A1-BB52-ECE0786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0D03-3AAD-4F24-8F6E-4FCABD854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ra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9:10:0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1:05:36Z</dcterms:modified>
  <cp:revision>5</cp:revision>
  <dc:subject/>
  <dc:title> LOGIC:  Contrapositive </dc:title>
</cp:coreProperties>
</file>