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32D1-B672-4252-A242-44D30A9D6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4C78-6856-4F1A-8D15-C3C53639A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4a  INEQUALITIES: Linear Progra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0F62-F3B7-4669-982F-F45379608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E32-0132-4947-A0FA-F956D8F3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A67-A042-4478-8DC5-3174A093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A8B-43D2-46F3-9E51-06AEA315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940-82FE-4ED5-AD68-85D1E227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9C3-62CC-4F10-AF64-F2D2CBB7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20D-9C55-4E65-BB71-A46F0197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340-1216-45F4-AF2D-D3D86C82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8E4-C6C1-4210-9B9A-5AECDD9F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0FF-3518-4EC4-9914-D4401E6A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C65-D7E6-4094-8ACF-994BEF55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26DB-F02B-4DC4-8820-6663EDE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B64-F768-4DD1-AD15-C9EC933F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DC23-F482-4E05-BB49-0A504E792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216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971800" y="3352680"/>
            <a:ext cx="3314880" cy="331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6:43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1:51:52Z</dcterms:modified>
  <cp:revision>6</cp:revision>
  <dc:subject/>
  <dc:title> INEQUALITIES:  Linear Programming </dc:title>
</cp:coreProperties>
</file>