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8677-59C1-4283-B060-58C9C7932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F7F6-BE1F-418D-BB7B-86CA35CBD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3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70A0-081D-4AE7-9855-8B3745F3D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8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2CE7-65EB-4FEE-9E2C-FE2502D5A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6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918E-D07F-4B4B-8507-78A696178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2b  RADICALS: Solving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88D0-3436-4348-A3D9-0FC23F71C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7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9472-4475-4C4A-94E7-DD1CA2E1D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2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61F7-A94B-4A13-8C40-474B50EC9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4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F52F-5E69-48E7-989A-56E4936B2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5x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E6DD-E10D-4576-8754-F098FFFED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4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5AD8-D9BB-4462-895E-5578C2932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8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5683-DB52-41DC-B565-E934848E7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7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E0E2-1EFC-49ED-A696-DC0065C74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9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03F4-5403-4CDA-8047-9FC67763E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FC8-4B63-48E7-9F95-58586140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E7D6-1E80-41A9-9EE3-6D118D2F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878-3220-4BA5-BC4D-20612497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324-26E4-4FBF-9844-BB28D174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973-88D9-49C3-B626-3B1ACA08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A09E-7B4B-4E01-B0EB-385DD492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DA9-FBCD-4E9E-B933-5C80DEF7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1F0C-A394-4F34-BE7E-E0925164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00E-EC65-4A6E-9DF9-BEDF7317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A195-6DB9-4A2C-A370-C040C100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084C-B242-47A7-828C-D4BF602F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5447-6814-4067-8C53-9DE7E766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32F9-4275-49C0-9CC5-676DDED94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DICALS/JMAP_SOLUTIONS_SOLVING_RADIC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RADICALS/JMAP_SOLUTIONS_SOLVING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DICALS/JMAP_SOLUTIONS_SOLVING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RADICALS/JMAP_SOLUTIONS_SOLVING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RADICALS/JMAP_SOLUTIONS_SOLVING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RADICALS/JMAP_SOLUTIONS_SOLVING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RADICALS/JMAP_SOLUTIONS_SOLVING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RADICALS/JMAP_SOLUTIONS_SOLVING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RADICALS/JMAP_SOLUTIONS_SOLVING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RADICALS/JMAP_SOLUTIONS_SOLVING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C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ving Radic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37800" cy="577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7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122400"/>
          <a:ext cx="9051840" cy="62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2400"/>
                    <a:ext cx="9051840" cy="62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8945640" cy="777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3962520" y="457200"/>
            <a:ext cx="4419360" cy="4427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-1600200" y="0"/>
          <a:ext cx="903276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0"/>
                    <a:ext cx="90327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5850000" y="609480"/>
            <a:ext cx="303516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113760" cy="31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26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128160" cy="102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12816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8:03:2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7:05:10Z</dcterms:modified>
  <cp:revision>17</cp:revision>
  <dc:subject/>
  <dc:title> RADICALS:  Solving Radicals </dc:title>
</cp:coreProperties>
</file>