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4DB-B558-4AEE-9E10-ED54B6192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2CBD-20DF-4307-B64E-08A8CF052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D779-C5FE-49F7-940D-0DAAE141F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8F8-AAC1-4E9F-BABF-891409859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7FC0-28F2-4F18-9568-1BA19D6BF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DBE5-6B90-4FD5-8AB4-27EC83ABD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D66-9AC6-4ED0-AB40-280466636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E9E-953D-48A6-B2D1-929FD1FE7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F5D-C4CE-4CC4-A32F-DB67B7F09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1C9-B610-4F57-B957-4C925AB4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500-42A2-47D0-9756-FF967A0C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118-4AA0-475C-A70F-68A5015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1DF-81A8-472D-AAC7-44866578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B02-34A1-4702-993D-35B0E1E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7F0-1B05-4035-A9DF-05E3FF61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90C-B4B0-4305-A4A8-4C4816F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6A4-53FC-4735-959D-C0B0009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603-91FE-4C64-81F9-3A5A9542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E9D-5C7F-41F6-8319-F08F9E3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01-C610-4ADD-906B-02E5416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291-438C-43DD-B572-907098B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A39-BB50-42C2-B0DF-64E45065F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ZERO_AND_NEGATIVE_POW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ero and Negative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50:31Z</dcterms:created>
  <dc:creator>Steve 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00:24Z</dcterms:modified>
  <cp:revision>13</cp:revision>
  <dc:subject/>
  <dc:title> POWERS:  Zero and Negative Powers </dc:title>
</cp:coreProperties>
</file>