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B851-D3B3-4B2F-9C0E-133443149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9537-30FD-4E70-B80F-D97704D53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8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FBE1-9EB0-4E9B-8B69-D22AA86F5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E0A0-3B81-482C-A6A5-E4F5C5EAC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7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4026-ECCC-4EF9-A880-381278A79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0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705D-6AC0-4DBD-80C9-910C8056F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DCB3-BA3D-41C1-A350-9A1A90231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66E7-D5D5-4630-86BF-5BE79EB7A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EF05-CE0D-47E9-B466-8F2CEEADE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CF16-5651-4B44-B0DE-2894B5C2C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86B9-DB00-4417-B96E-42EC2D05B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AFA8-5D6E-4A37-918C-FD324B2FB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715B-3992-4A64-88C8-9D4E625DB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0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D85D-9733-49CC-9177-0C7865208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7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1FC5-0817-453B-BF35-A4EBB6C36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7D0A-9985-4AA9-8778-C9586B6A3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9E1-244D-446E-9AA8-87F353868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158F-3167-433C-825B-A42D644EB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9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F820-48C0-4982-937A-B094A9807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4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0E16-139F-4FB8-8454-8A68475C0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BD2-7201-47B5-B33C-776141AFF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AFE-6876-4A55-887E-F452C46E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AE8-F7F2-41DD-92EE-38C605B6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088-B81B-4578-8ECD-4100B87C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EE4-A6D0-4D10-9B5E-1BED952D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C74-D470-4147-B966-72CB710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D9D-1490-4883-BA4C-72EF9D73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7A5-6197-41E2-8AAF-6997B904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453-AC3F-49EE-A642-6AD04974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347-3C09-4712-A017-9F2BCB36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541-6C4E-431F-84D2-A824BB6D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06A-37D9-430E-A435-2FF32D0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DE5-7A7A-4CD7-925D-3365807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D371-437D-45D8-A025-5819168FD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USING_THE_DISCRIMINANT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the Discrimi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900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-15840" y="0"/>
          <a:ext cx="90374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40" y="0"/>
                    <a:ext cx="90374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885492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49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9037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037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0" y="0"/>
          <a:ext cx="9037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28160" cy="66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6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216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89456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5184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184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3:41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0:30:45Z</dcterms:modified>
  <cp:revision>11</cp:revision>
  <dc:subject/>
  <dc:title> QUADRATICS:  Using the Discriminant </dc:title>
</cp:coreProperties>
</file>