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DEA-7733-4F9E-A990-6A44F5043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36EF-BE72-4AC7-86A6-F594C2114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E87-4581-4CEA-9100-96FF48A93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EF3-4F1E-4233-B06B-243116D17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E0E9-AE1A-4514-BCC7-A74AD1A2C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CA40-8E5D-4824-8BBA-8565B722B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4FB-AF80-4E69-8AD5-37050CDC8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42D5-0A2D-49F0-B2F7-7AEC7C741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4A02-B925-4F20-BB7F-47DF76548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0EA3-61EB-4FF2-95FA-137063001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17E3-5567-46E9-915D-ECABFBD3F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F26E-2FF4-4947-8E95-2BC1E0B83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F47-5284-4ACF-B3D1-BD3692883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3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557A-6950-450E-9123-E944648F3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3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FE4-74D2-42BB-8EC3-2622DEB7B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8BA5-D3A8-4CFB-8F7B-6FA385767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E17-9CAA-4F00-BC4E-F4636FAD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369-39F8-4A76-919A-E7DF13F8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B00-5AFB-4CEA-95BA-391E8CA8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A84-6E19-4D73-AA45-7E9BE8EB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AC9-4AF9-4DC3-9EE3-7B6EC2CB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C61-88EC-4FBC-B074-1281A89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53F-8828-406C-90AA-356AF8CB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EB6-9F6E-484F-8A3C-822B4776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326-505D-4828-91A2-C7885FBB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ADD-11B3-4857-A5FE-0C280AA7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3F3-3CE7-4050-85A8-0C4575E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AFB-6338-4F6C-9123-706B0575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679C-FD0D-44C8-B5BB-A28205033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 of Cir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1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2840" y="42840"/>
          <a:ext cx="9090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47520"/>
            <a:ext cx="9109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23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19:15Z</dcterms:modified>
  <cp:revision>13</cp:revision>
  <dc:subject/>
  <dc:title> CONICS:  Equations of Circles</dc:title>
</cp:coreProperties>
</file>