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75FE-739B-43E2-A615-88D673A47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3FD8-1F79-423B-9F0A-4C57B932A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699D-5B6D-469E-84CE-801272356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7DE8-1510-4B66-BDB2-9CCFABC2F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773F-99AC-478F-A41A-B62976B75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1AA7-8DB2-4E3C-9703-6B3A26CCE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DBCB-ADB5-4D2F-964B-34AD7532F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BD51-505B-4A40-B2B0-2E714A9CB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8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AD96-B295-4A0F-A5AC-12928766F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5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AB0E-88C5-4476-BA7F-AD6B261A1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5AA6-FC0E-4272-A275-095E11818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6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7FA9-A25A-42DC-93B0-047E3519C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E4D9-0476-4C94-8039-7710E3279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4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7405-0408-40E6-9578-64E83FB44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4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A5F9-F6CC-4FAA-9689-D21D7F5B6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8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876C-1919-4C3E-AFF4-4CFE8D053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3659-0B2B-4C1A-9C2C-312888ACD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7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D725-66B5-42CB-83DC-7BBE14D57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1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DD36-B7AF-497C-A130-0844C3B92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F831-2994-4BBF-99C2-600511D86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061-BDDD-4A34-9713-3254BF9DA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A3D-C281-45C7-BEE3-76D40F66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5FF-2319-4C66-A72A-99AE31A4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024-9174-4DBB-8922-D0FCED76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2BD-0717-44FB-A2E1-254007DC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679-8CF8-4B04-8A1D-03550C64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4A6-AE53-48FE-993A-1658D1E6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7F0-7A17-4A4D-A30A-E7F6FE90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ED2-37D3-4BEC-8551-994273C4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7CF-D93A-4F02-BFDD-FB09644D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FC6-4209-45FF-ACEA-AA3EF373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7DE-D95B-4EEC-955D-E41013DE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5E7-807A-4AAD-A80F-492D01F6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B9FA-1B8C-4320-9495-23CC4268A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OPERATIONS_WITH_POLYNOMI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s with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28160" cy="41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216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0378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90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12816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1:57:4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2:15:33Z</dcterms:modified>
  <cp:revision>14</cp:revision>
  <dc:subject/>
  <dc:title> QUADRATICS:  Operations with Polynomials </dc:title>
</cp:coreProperties>
</file>