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95C4-9701-4850-B36C-D68D26408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3BF0-236A-4F51-8B2F-4B055BEE8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4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3C9E-B6B9-4B8C-90FE-2D12BE0E7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3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D7C7-6BF6-4B04-8FA5-E95B94373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7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AC8E-5EA6-4389-BB4F-56C925011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9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E9E0-4A57-4CF2-BADF-34F0E9C79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1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97C1-0429-44FC-85E7-FEB3982B1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8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186E-357B-43A6-AFB7-B72FE42D3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7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160C-474C-4C27-B705-E5528E3B5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2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5159-6B70-41C2-AAD1-261002DFC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4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4968-4C35-44A6-B9BA-AA8732368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4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2107-BA35-4B68-A779-092851DC8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734-246B-43BC-A6A8-5E41D71F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9722-CC18-4AFD-BA08-7FC24636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11E-168D-4EB3-9C6B-0A36EBE0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A8D-ED62-4431-9A9B-F71FCB7D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2C7-0A00-45E8-A750-9BE2337E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81BD-0B07-44D0-818D-9773ECCE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E19-1491-46F3-8F38-B4F1C4BD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08FB-674A-46AD-8FC7-45D3233E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AD9-C147-419D-BD36-9213255C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E18-D5A3-4CD0-973A-96AB5102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9F6-FCAD-40C9-B698-67CAA1E2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A92-E19B-490E-A7E0-B7F9D73F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8BCB-6A73-46AC-AC45-F93F9278F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w of Cos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090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2:33:2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06:49Z</dcterms:modified>
  <cp:revision>14</cp:revision>
  <dc:subject/>
  <dc:title> TRIANGLES:  Law of Cosines </dc:title>
</cp:coreProperties>
</file>