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770-6DC5-407E-B9EE-F0E3DA80B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E4C-F6E4-46EA-BB2C-C8B7CCF40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1C1-000F-47C2-90AE-19A340B63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B0D-F28C-4978-9EB1-B8443C53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3C6F-5E55-4CC5-950B-FA5448625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C9F0-33B2-4855-8485-8BE07F383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9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782-4953-44B4-9A36-40F27126A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55D-B1C6-46F5-8D33-2B1736247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293D-0987-4947-95B9-7E262FAFE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204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E2C-F6D0-4779-BFDD-549FCEC71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B9B-21BE-4A6D-84BC-A47F961B9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0CF1-CFB7-4734-96DB-C0B6A3774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7C8F-BBCA-44A5-8D87-829D86041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6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06CA-AB17-4657-9D40-AC1FEEC63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6BA-6197-480E-BE92-CFD674C2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871-80C6-4560-9DE0-3B799B86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A70-5F0D-4353-9A40-34513C59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745-C414-4154-836C-ACA8F4BE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CDD-B928-4967-8906-06302AA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46C-ED16-47F2-9A58-8D0C7A4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6FE-8A90-406C-9C0E-DDEF6C4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C37-0038-4AB5-A60B-B8EC2CD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2CC-A1F7-4C0A-9DB2-AC4DE46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192-15E4-4D6D-AD89-EF99FD8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12B-7D5F-4155-83B1-DA68210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D81-3BF3-4621-AFD0-64E29B8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A93A-B14E-4A6B-913B-678AEECB0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AVERAGE_KNOWN_WITH_MISSING_DATA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AVERAGE_KNOWN_WITH_MISSING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verage Known with Miss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144000" cy="31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7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44000" cy="25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18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31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2:04:12Z</dcterms:modified>
  <cp:revision>13</cp:revision>
  <dc:subject/>
  <dc:title> GRAPHS AND STATISTICS:  Average Known with Missing Data</dc:title>
</cp:coreProperties>
</file>