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FC8A-6415-4E29-8DC0-155B490F0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DC27-B0C8-44D4-92FE-AAE065FBE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2b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F45E-5D15-4826-ACC6-27EF4F510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1b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8CC4-71BE-41E1-ADF8-F17BD4BB04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8a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3CE9-4C54-49DD-BDB4-A490B0D664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6a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D1A6-EAC0-43AE-9D58-02C9046DB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7a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402B-EC37-4A16-8EE7-0E74AE15B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4b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400B-08B1-4649-B981-028BF47F0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3b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E973-B502-497E-A3FD-D1A2992094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3b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9328-C1AB-4F17-8B50-65C88F3FA3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4b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EC7F-4C37-4B8A-AA87-EF7B02CAC4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1b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1162-C7DF-46AD-AACC-35E3A9869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23A3-AEF0-46C7-9D98-E055D661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BE3E-48B9-41F9-9FB6-07B96FBC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C314-6EBE-4BC4-A4D4-1DE7FB1D0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CF3A-1076-41C0-8817-57340AEC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6453-9DF3-441B-BE31-B93E4201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DDE3-B618-45BB-B6BD-071595EC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936D-E557-4A9A-AD20-E03119BD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129B-0481-4039-8F7C-846F0737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4E7B-54CE-4D6C-A8B1-078DA856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9113-E2EF-454A-9375-FF5782D5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4DF4-5798-49B3-9E5A-15FD50AB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ADF8-7051-4E43-B5FB-5A390D24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750C-EAE0-4BAD-9286-F2D5C2456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QUADRATICS/JMAP_SOLUTIONS_QUADRATIC_FUNCT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QUADRATICS/JMAP_SOLUTIONS_QUADRATIC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QUADRATICS/JMAP_SOLUTIONS_QUADRATIC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QUADRATICS/JMAP_SOLUTIONS_QUADRATIC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QUADRATICS/JMAP_SOLUTIONS_QUADRATIC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QUADRATICS/JMAP_SOLUTIONS_QUADRATIC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QUADRATICS/JMAP_SOLUTIONS_QUADRATIC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QUADRATICS/JMAP_SOLUTIONS_QUADRATIC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DRAT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dratic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894564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3"/>
          <p:cNvGraphicFramePr/>
          <p:nvPr/>
        </p:nvGraphicFramePr>
        <p:xfrm>
          <a:off x="2819520" y="3521160"/>
          <a:ext cx="3184560" cy="323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521160"/>
                    <a:ext cx="3184560" cy="32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Picture 3" descr="C:\Users\HP_Administrator\Pictures\My Pictures\Thomas Jefferson.jpg"/>
          <p:cNvPicPr/>
          <p:nvPr/>
        </p:nvPicPr>
        <p:blipFill>
          <a:blip r:embed="rId5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0" y="0"/>
          <a:ext cx="894564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2743200" y="347508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89456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603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49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378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1440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89456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37800" cy="47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7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2:42:3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5T23:58:37Z</dcterms:modified>
  <cp:revision>12</cp:revision>
  <dc:subject/>
  <dc:title> QUADRATICS:  Quadratic Functions </dc:title>
</cp:coreProperties>
</file>