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D6359-33A6-4EBD-9253-6BC4A56BC9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5F723-4710-4462-BECE-464A4A55E1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15a  TRIANGLES: Pythagor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94EF3-40B2-4B03-8589-1DF0D92624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07a  TRIANGLES: Pythagor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1F914-F0BE-44AD-8D1C-EEC9CD5A75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33a  TRIANGLES: Pythagor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16F37-0973-43E3-BD39-78A925C0FD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30a  TRIANGLES: Pythagor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6986A-7FAC-4956-97C0-DB5FC117B3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34a  TRIANGLES: Pythagor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772A6-A774-493A-BD62-80C87E83D2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07a  TRIANGLES: Pythagor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61B35-4593-4E55-B0B1-4A59655015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24b  TRIANGLES: Pythagor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9CD0C-41D4-4854-9098-21D3F5776C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09a  TRIANGLES: Pythagor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F8430-2245-49A6-97D5-227480EA70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15a  TRIANGLES: Pythagor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60058-31F8-4E10-9436-AF46811333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02a  TRIANGLES: Pythagor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8E84C-6C3A-4C1E-94C7-0DD9DDF328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10a  TRIANGLES: Pythagor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79581-1F4F-4C60-BC0D-8251974706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08a  TRIANGLES: Pythagor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BDAEE-5262-42BC-8A5C-8E277E758C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23a  TRIANGLES: Pythagor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59D55-5161-42B6-BF01-26E5FC0C05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31a  TRIANGLES: Pythagor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73940-1A8C-4B2D-9033-B379BC8D43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22a  TRIANGLES: Pythagor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1C537-5148-4325-BC76-2A3CBB87BA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445A-AF20-4D0B-ADD3-1E0BFCD0A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D456-5D50-484B-9F09-31CB1F7D3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7DC0-7F59-4089-9F1D-E27C0DBBB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E1F1-620F-4537-BBDB-B8CED7554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E224-F8E5-4B3B-9595-187647B45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79F8-1E17-45CA-9ABC-377D2F298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FAFF-5AAC-480E-B0E6-9447169F9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1D0A-95CC-465B-B4C1-6DDCAA8C4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FA32-48A8-45B8-B414-D5DD9C70A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BFAC-4BE5-490A-A52A-B966C3F40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1D37-94C5-4AEA-AE8F-C777381A6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BE12-C19F-4289-B000-ADE7C8865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35F08-25B1-44EE-B893-BB14FC2486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RIANGLE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ythagor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0" y="0"/>
          <a:ext cx="9013680" cy="267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13680" cy="26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65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2"/>
          <p:cNvGraphicFramePr/>
          <p:nvPr/>
        </p:nvGraphicFramePr>
        <p:xfrm>
          <a:off x="0" y="0"/>
          <a:ext cx="9013680" cy="267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13680" cy="26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7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58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980560" cy="47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3T09:18:26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26T08:51:08Z</dcterms:modified>
  <cp:revision>14</cp:revision>
  <dc:subject/>
  <dc:title> TRIANGLES:  Pythagorus </dc:title>
</cp:coreProperties>
</file>