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C2B0-9986-43FA-BBEA-FC1B64467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D195-D161-44B6-A305-CD96ADD5B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DC5B-173A-400C-9875-5E3F4FAF7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028-0087-4794-93A7-C68D21761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76D1-400E-43FA-A9E7-0F73DB543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7775-A49A-4B99-A14D-1574FA199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EA9A-7CD3-43E0-A61E-CA3170C86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FCDB-0F62-463E-B2E9-FFA7E97EC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AB3A-3B23-488D-A282-2613A8405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BB56-738A-4263-9FA8-EC3982664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2BC1-957D-4D9A-8C93-0E5930427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1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B34D-2B3E-422A-B195-738BE14B4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5BFD-63AD-4C6C-837D-5BC2DD824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FEE7-D458-46A3-A3F3-9A63BFBF8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1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4D8B-7B5D-485A-9161-6E490E985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97FD-13B5-40F0-AE86-E28E8D1A6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0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FFF0-ECBF-4BA2-B621-F43C19318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A5FF-3218-4FF9-B138-5F9D2778C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2155-7521-437E-8ECF-45C1912CD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9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3E0B-F40F-4788-B031-068FECE89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8902-BAE1-4832-A76E-CC06E0873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E111-D0CF-4E66-BFE4-1FDC3EDF9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2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A0DB-615E-4E1E-8379-75B46187A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36B4-522D-4BA4-9CB8-0CE12B7E2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0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07FC-0C5D-4B8E-9A4E-B9E1936AD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0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E352-2D68-4CAD-BD19-7A8FFC863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4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40AB-A8D7-4EFE-BD9B-0CA3F7E56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27FC-EA8A-43EB-8060-38FB29A4C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6388-8541-48DA-8259-D0A5C5324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1E63-3B1E-4BDA-93F7-ED912B0D7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023-FE26-4C74-8530-EDF124E9B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B767-D668-442F-8DB5-00E68E27A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0D1-F3C5-456F-8E75-D131528C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FE7-BB51-4978-BA78-7C68D01F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567-4284-4BC5-83D3-110DCC4C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CE1-5861-41EE-A42A-D5ADBCFE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D01-DDA9-4530-8757-EECEA592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EFC-28FA-4213-8503-63394254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375-80EE-457F-8709-76496259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396-32E8-432C-A983-0A2E2173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3CA-B150-40F0-99ED-3C40C553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296-114C-449A-A5E7-E2926CFB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4AF-3A97-437C-A812-C86E847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4B6-6FB2-46E3-BC37-F3EA43E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352F-E286-4BB5-A04A-D77C1E6A5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 POLYG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erimeter and Area of Other Polyg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2:06:2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1:16:16Z</dcterms:modified>
  <cp:revision>12</cp:revision>
  <dc:subject/>
  <dc:title> OTHER POLYGONS:  Perimeter and Area of Other Polygons</dc:title>
</cp:coreProperties>
</file>