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559C-2D7F-444C-9852-E5A57C065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3E4-ECD4-4FB1-9BB5-69B51725C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129E-C466-42BE-8A46-9C077A68E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06E-3D28-4DDA-9D8D-DE9DEF279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6F4-E5F8-4751-AF2B-AC5E33374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3BB-8E82-4E16-91AA-B2C7E3D82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109D-D0A0-4CB7-967A-326E30A7E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77D8-E16D-409F-8D9F-7DE667172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A8DE-3B10-480D-99CB-6C576D58A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472D-7149-40F2-B7E1-F8A50919C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6C7-793E-475E-B581-B7682A8E1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710-3F4C-4055-9F15-F23548E75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3F8-922E-49EB-907C-42E2F7EB4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A664-F8E0-4D9F-8CB6-C57FD2D58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370D-139B-4E5B-AC8D-1513A6374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F50-7298-46C2-8AF1-55333FB85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2E53-31D1-4077-8C34-718A0B954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CF6-187F-4B69-B91B-FD513B14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EE3-17E0-4D80-9EB8-03768F5E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4A5-B3F3-463A-BCF1-F8A56B8D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D33-4E1F-4D98-9E45-98ABADE1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A55-A02C-4007-B3A2-8434BAF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C9F-6B62-4520-B11C-55BD4DA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C81-6D10-4A14-B9DD-F8CE404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B89-25C1-4AD8-A9FA-0CBB762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6DA-AF4E-416A-B8DE-E04BF958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F0E-02ED-43A8-8F00-7177E08B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1BF-AB52-4765-9CB1-15A6A4B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ED9-AC29-46C5-99DF-2E147A4D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DD48-31B4-4B04-A788-76C4D4AC0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FACTORING_POLYNOMI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885492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13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3780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04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36:00Z</dcterms:modified>
  <cp:revision>12</cp:revision>
  <dc:subject/>
  <dc:title> QUADRATICS:  Factoring Polynomials </dc:title>
</cp:coreProperties>
</file>