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BCD4-B677-4E81-BF74-5AC6816BF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F55-121D-495F-B0D1-B3187C13E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1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6BBA-C33E-4F7F-BB47-6C082F605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2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2D2A-1DD7-4529-8EED-1010FF0F4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1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692-EBFA-42D1-B617-B6853C8C1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BB9-5609-409A-8FDF-FB0F8979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D86-2BE5-458F-8BF5-D6ACE7F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CC9-48A7-4FF3-9952-F0020AD6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C67-556B-4FDE-A5FE-80FC2370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731-58F8-469D-B7B5-2D197DE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030-B6DF-4E31-AE43-F64B5802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876-890F-4E47-A45A-ED9960A5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698-5679-40BA-A5B9-87EBDA26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EF4-D9C9-4C83-B608-9E2DBEF7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081-C641-4D82-AB66-5CFFEDDF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E32-9E36-4912-9097-AC401B10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F2E-35BA-4D18-A939-E8F7E10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DBA4-2CA8-4813-90A8-02B51DD2B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SAMPLE_SPAC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mple Sp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53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2:30:2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3:55:37Z</dcterms:modified>
  <cp:revision>7</cp:revision>
  <dc:subject/>
  <dc:title> PROBABILITY:  Sample Space </dc:title>
</cp:coreProperties>
</file>