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B38C-F6B3-43C7-A42B-10A52F952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5AAC-E582-4E66-BE2F-D03BE44FB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4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F439-AED9-480C-B989-9FB944526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2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2D7B-B5B5-4192-A127-07FF38922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7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C0B5-D240-4610-935C-1A7C4D5C5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0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2710-FBFF-4A6A-A31D-487431AAA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1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891E-AF7B-4394-A676-EC6DA50DF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9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03E2-C219-4C5E-B1DC-0B32C1F4F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2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C593-A8E7-425A-A48B-C2DD5FB70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9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A753-14DF-40E5-BFAD-72FA3A33E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5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4772-4F27-4544-92D0-930E8A375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1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264B-5F26-4250-9BDE-76C2F8390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5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F637-F8EA-4D00-8E65-4F0721253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14E-EA1B-4789-859A-DA2AF903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911-E2DA-42F0-88A0-6306E9A5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B9EA-DE7D-45F6-B945-DB650E46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CC5-E762-4C1B-9A22-E8952319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22E4-4CAC-4274-8240-019169C0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F9B-1152-4005-BB34-C869AA17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5F0C-BB73-4AE0-84C9-C7D71061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D1E-99E0-4154-956E-02D4807E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BFAB-6C91-442A-BD27-50260641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B044-8AB7-4812-BEFE-0ED8C04E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81C4-5D02-4806-B518-D164315A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3FFD-F6BD-4BF0-BAAE-D8AE4450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E5B3-6497-450D-B2CF-374E297D6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ROBABILITY/JMAP_SOLUTIONS_THEORETICAL_PROBABILITY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BABILI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oretical Probabil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19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7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181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34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8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19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03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410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2:37:4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4T02:35:06Z</dcterms:modified>
  <cp:revision>11</cp:revision>
  <dc:subject/>
  <dc:title> PROBABILITY:  Theoretical Probability </dc:title>
</cp:coreProperties>
</file>