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B8DF-F652-466B-9EBB-D2AAC2E8A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EA98-B5C0-42F0-B9BA-8A23D9767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4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55C3-4EF7-41B1-82D4-4B50F3C85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2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C073-76EC-4FE7-8C04-8C434FE0C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5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9A41-DF0B-4692-9865-B8D18C2E2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4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D46B-072B-4EAA-86AD-A89E52B62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9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77CD-C7F0-4A60-B9C0-4902CDFA3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5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E73C-D92E-4AA1-8F2E-ABC0850BF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2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39DA-2CF4-47E6-91D0-0314637D3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2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B6E7-E54C-497C-AC09-FF6EC65C5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9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A4E3-5584-4AEA-9CE5-5136067B0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0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FE73-9484-4DFA-BA4B-6C1E5D37F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7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55EA-6BFF-474B-A8A8-D570C85BF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6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1079-5DFB-4147-A83B-39DDD9290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9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D400-9EC9-4AAD-ACD1-8ECA1CF06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2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C1C7-944A-422C-A597-789DCC3F4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1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D7DD-777C-4959-9AFD-1D3151B3F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DAB-A7A6-46DE-9413-F5B18DB3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5BC-0D47-41E5-B7EA-1D07B731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6F1-9DA1-491F-9A18-711F3419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051-7611-4655-B79B-C1C73548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EF6-0425-43C3-9A36-01E09D96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177-38DF-4D0F-89FA-05CD368C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847-1606-4F92-A6D6-2DA74FCC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08D-0A98-4C9C-86AB-CC4B06E1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402-0B3C-4FC5-8270-0BFAB4D7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93C-D819-4932-8BF2-A2E1727F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C8B-166A-4260-8565-7F71EB51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F13-8B51-45D2-BBCB-32567362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A64F-C39E-4E6A-9CFA-3AF05354F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IONALS/JMAP_SOLUTIONS_RATIONAL_EXPRESS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12816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3"/>
          <p:cNvGraphicFramePr/>
          <p:nvPr/>
        </p:nvGraphicFramePr>
        <p:xfrm>
          <a:off x="0" y="0"/>
          <a:ext cx="90216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894564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378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37800" cy="41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128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0378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5184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518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37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128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2:25:2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7:41:05Z</dcterms:modified>
  <cp:revision>10</cp:revision>
  <dc:subject/>
  <dc:title> RATIONALS:  Rational Expressions </dc:title>
</cp:coreProperties>
</file>