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3688-4578-4086-96AF-B0ADFC689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D60E-B5BF-4B3E-8C0F-36A60D861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0b   CONICS: Equations of Ellipse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3A1A-AFFE-47BA-9AE4-EF71451BF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7b 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18F8-6D50-49D2-9C50-C0EB05732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0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35C6-AC5B-4D63-BEF3-980C3E8E5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2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03CD-2B8C-45D7-83A8-E61EA567A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9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EDB8-0EF3-4C98-8C97-86209CA4C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1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792E-3CF4-4B46-88CD-07AA0BB93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8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1466-8501-49C7-A5AE-49954396D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6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400D-610D-4B78-85C3-845D0510C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7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6A1F-856D-4C25-AA76-43C30DCC8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F32-3356-4BFF-A983-BF294B1C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946-5DDA-481C-9108-218DC070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AE4-3AC3-4635-A29E-B73B687C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08F-33C1-4A28-A8C2-DAB34CCE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4A9-7F88-4DB5-A076-525712EE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8CE-0F9F-40FA-9B0A-87554E8C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DF9-7442-455A-BF1F-BFB745A5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FBD-CD28-4ADA-86A0-3D458149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ADE-B637-471F-8A37-D7F6D641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E3B-4A9C-4403-898A-57FEA928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746F-6FD0-4EAC-8B3A-CA6A49EF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752-943E-4420-89C4-2095EA41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713D-A25E-4038-BD71-F681CEF11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tions of Ellip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-2133720" y="0"/>
            <a:ext cx="8991720" cy="350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4313160" y="152280"/>
            <a:ext cx="4830840" cy="3436920"/>
          </a:xfrm>
          <a:prstGeom prst="rect">
            <a:avLst/>
          </a:prstGeom>
          <a:ln w="0">
            <a:noFill/>
          </a:ln>
        </p:spPr>
      </p:pic>
      <p:pic>
        <p:nvPicPr>
          <p:cNvPr id="61" name="Object 3" descr=""/>
          <p:cNvPicPr/>
          <p:nvPr/>
        </p:nvPicPr>
        <p:blipFill>
          <a:blip r:embed="rId3"/>
          <a:stretch/>
        </p:blipFill>
        <p:spPr>
          <a:xfrm>
            <a:off x="0" y="3809880"/>
            <a:ext cx="9132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5:51:4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19:05:37Z</dcterms:modified>
  <cp:revision>10</cp:revision>
  <dc:subject/>
  <dc:title> CONICS:  Equations of Ellipses </dc:title>
</cp:coreProperties>
</file>