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509A-F8FE-4002-8344-8CBC99954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167F-E263-4225-B096-68D471846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2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48A3-BCE6-4B41-96AD-A886049A1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6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C223-7AF9-4998-87F1-113D7D773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5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3EA2-C1DC-4B3A-A973-126CEF9F0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9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D315-934C-41B1-A011-2CE480812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5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62A0-BDB1-4F45-922B-EA7CC9A36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9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E944-1BF8-4481-A6F1-1BDC6914B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2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7B2B-24FA-4527-BCEF-BB3931088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6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7AA0-B540-4F6C-B28D-C38956A08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0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A271-918C-4A7B-B869-C835304FE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0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CF96-60BD-4FC5-87DA-E8CCB0638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1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832B-B63F-4FCA-9DD6-D6FEC7024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CC8-3AFC-4B9D-AF70-6E373798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E35-4C63-4AD9-9378-215970C5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B87-0F90-4340-98FA-6A6F29AA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AF6-2CEB-4FA0-9745-FB9DC550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DD8-FD73-4D88-97C9-8E43A53C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DBB-B5BE-45C3-9271-2D0B1BD0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624-5C3A-41AF-BBF2-7CBFA686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21A-D9FC-4C26-8268-701944A3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39A-303C-4169-8674-9423454F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863-9B06-40D3-8D7A-B62C7D80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6C6-B587-4CEE-87CD-8044177A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CE7-FFD2-43BB-BF56-4C8CB599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9048-0762-4586-B693-8D606DB8B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FUNCTIONS/JMAP_SOLUTIONS_INVERSE_OF_FUNCT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rse of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-22320" y="0"/>
          <a:ext cx="9090000" cy="3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320" y="0"/>
                    <a:ext cx="90900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2971800" y="838080"/>
            <a:ext cx="3581280" cy="3934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3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3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7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2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1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27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239160" cy="551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914400" y="25560"/>
            <a:ext cx="7315200" cy="680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45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7:33:1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34:50Z</dcterms:modified>
  <cp:revision>8</cp:revision>
  <dc:subject/>
  <dc:title> FUNCTIONS:  Inverse of Functions </dc:title>
</cp:coreProperties>
</file>