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BA23-EF8A-4B0A-8AC1-0CF5E0254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8899-7861-4C0A-841C-2D43DE56C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7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A799-4CDE-4724-88E0-0DB5C34CF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3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C9AF-9460-4864-AEAF-7D2C91C85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2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9448-E842-462A-AFCD-57DFFD564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8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F525-10EE-43E5-B880-C3F88F906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4b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C32C-8E4F-4182-A24D-1BE4204F7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6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EFD-11BB-4BB6-BC65-2A63E8A3F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1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57A2-BA42-44F5-A228-C49324AC9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0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0D3E-91C5-49CE-B410-13CAC5E35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2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AC08-C803-4083-9899-A19396184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98D8-599F-4516-8B25-EDD9D5B44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EAC1-8CE4-4B4A-B9C7-231BE08C1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D855-F7B3-4903-8BEE-D0D20D51A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6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433D-BF48-4890-BFCE-11E2D110D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4B3-E102-49DB-B798-405C4A81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D03-2A88-4A45-A9C3-60266413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003-7272-40EF-9F65-D8FBAFAD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B84-988A-4BEF-9251-E7C2FB7F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31C-7394-4F82-B787-EC6D7021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303-EE82-41C5-B38C-DF915D68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187-65E0-44A1-ADB1-7E3E66E3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367-596D-45DB-9511-4E2E1D8B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57B-CE53-4664-A836-8F06249A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0A9-FF80-4ADC-AABC-3D5BDE81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1C0-86C1-4245-81D6-39680508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760-66C1-4D5C-9326-E03A51DD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D97-DE78-464F-85A4-8A5DFDB6F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OPERATIONS_WITH_RADIC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s with Rad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13680" cy="34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8352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12816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216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4:48:4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52:50Z</dcterms:modified>
  <cp:revision>21</cp:revision>
  <dc:subject/>
  <dc:title> RADICALS:  Operations with Radicals </dc:title>
</cp:coreProperties>
</file>