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1C79-9FD3-4B25-A02B-B3757A956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EE05-BFB1-42B6-9564-D11A6B233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0E7-84A3-478D-BFD3-43B7F9A3F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DBD-693D-485C-959A-C9B648D52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C7E-236A-404C-A829-B93D6368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059-BA55-4858-AA81-ABBA50EC8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6B24-29D1-40B9-B9E1-1534C0266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1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A2E-7FD9-464F-9257-0EF8C2646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5F3-1DE6-4BC4-B05A-BDE6765A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E63-8B21-401B-BA6B-2B3392A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E96-54F9-402E-8EA4-693076E2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326-D062-468D-B45B-BB15244D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20A-A134-400E-9410-B3FEA0C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B86-D664-4DF6-9169-60B358E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1AC-3050-474E-8364-7B9FF36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304-7669-4C52-9361-C736625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46B-AA94-4B34-9A77-940D783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C98-23B7-4306-95CA-B2848C3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748-8E8E-4E3B-8336-E6C95CE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16B-362F-4585-9866-E52089E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9B06-76BE-450D-BB6B-44F6F4BC6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MIDPOI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38480" cy="404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1050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46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41:22Z</dcterms:modified>
  <cp:revision>6</cp:revision>
  <dc:subject/>
  <dc:title> LINEAR EQUATIONS:  Midpoint </dc:title>
</cp:coreProperties>
</file>