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6694-BF35-4594-A28B-BF8BE46E2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3C9B-1AEA-4BC0-A437-A2FE1C65F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5E1F-3498-46EE-9EAA-AB1DB9B81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21C-A6ED-44A1-AE5C-43260A9DC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5A0A-AA3C-4543-8455-FA1291D8E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08B5-E46E-480A-B598-FB6D53292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4A48-CB33-4E11-B9B6-91BFAC008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BFA-4B40-4784-9E6D-5D92893FB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82D1-9699-4DEC-A0E6-3281E90C9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F196-6D42-4892-9640-762A763C7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9799-89C2-47B3-A67B-5BB504BDB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683-BA29-4ADE-BF6E-E61C5B344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E80-6EE1-434E-98A7-EC03F9E5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63B-74D7-45B0-B045-CCFE4DB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18E-97A5-45E8-8707-D2DCC47D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85F-5A27-487D-8CDE-AA8CA544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AC2-9804-4FCD-8D2F-91CA3BB7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366-D1EF-44B2-907A-4B696EF7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B67-4562-401A-B5F1-01F1B8AF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2A7-A3A9-42C8-B1C7-E75A69FF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509-D954-4CC0-ACEF-C741DF73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686-28CC-43C8-8E80-F0506F7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95B-5700-4467-BC68-7049719F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50F-E8B1-4C18-BE36-8808C8A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9790-D94B-4D1D-BDEC-5D9F87847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LOGARITHMIC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hyperlink" Target="http://www.jmap.org/JMAP/JMAPSolutions/POWERS/JMAP_SOLUTIONS_LOGARITHMIC_EQUATIONS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arithmic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37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1281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281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3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378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281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3780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9000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55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0:12Z</dcterms:modified>
  <cp:revision>17</cp:revision>
  <dc:subject/>
  <dc:title> POWERS:  Logarithmic Equations </dc:title>
</cp:coreProperties>
</file>