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A577-3D44-484A-911A-079E6DF74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9AF9-EAEE-4741-8D01-ABBC6A3FA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8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C0E5-5D7A-4BE9-B8B0-D3BE1B534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A9D6-027A-4784-9336-DAEB5B1C7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3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C8E9-0439-49C3-8732-C4FFD1420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0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05CA-8210-4A62-A034-C0BD452E8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C2AA-76FE-40CC-85A6-FBC728406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8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3897-1EF5-41E1-9899-B3910A1F3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4DDC-0D35-49F2-822E-3F0CC9B5C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7CD0-E3AE-43B4-A905-87D80AC73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6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62E3-979A-4676-9910-1F195095E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3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4191-2277-49F2-A178-A865E9D32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9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C4EE-6F89-4218-B0E8-3CA80F822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1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774D-90D1-4A98-AEA2-973FD6EBD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3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C8F0-B840-42F7-A182-4D2E16042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B3D-6A00-4A13-98A6-85D13F8B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CE0-6387-4915-BD09-C72527BD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066-8A88-4506-893C-D7763B07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29F-6D9C-489E-A507-906E259E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72C-B54B-4222-9426-5E14F6EC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687-8F05-4AEA-AEF1-2C6C3E5A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2F1-0012-460B-BD6A-5EE37717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F4C-F1FD-487E-993D-D9F02D77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7AF-858B-4782-8854-999F14BF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2DC-7024-47EB-A0F8-4E23B523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BCD-21C4-44E7-9936-DE306C66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88D-DC89-41DA-A5BB-ED254184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DB86-A7EC-4B85-8DD5-541BB0060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RATIONAL_NUMBE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NUMBERS_OPERATIONS_AND_PROPERTIES/JMAP_SOLUTIONS_RATIONAL_NUMB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 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013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8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9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28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82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8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3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67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3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4:00:4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1:25:46Z</dcterms:modified>
  <cp:revision>12</cp:revision>
  <dc:subject/>
  <dc:title> NUMBER OPERATIONS AND PROPERTIES:    Rational Numbers </dc:title>
</cp:coreProperties>
</file>