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3F4F-3D01-4428-9155-457F712E3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59D0-D21F-471F-88E5-1CC48C4C1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7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29A8-F8F1-47E9-9B33-6AC061601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0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7F3B-44BD-4152-BF56-4399A39F6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0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1E01-8E5E-4003-B70F-E67C7F83D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6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AF36-E00A-48DD-A90F-35084E6A9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5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E5A9-A9C8-4581-8B4F-A73694DD7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1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2AE3-E9E1-4E7D-8FCF-75785B5B0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1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3E3C-1432-4417-8429-F6EF2DEF0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2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1567-1FAA-4717-AF1F-88168AD5C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7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40E4-332D-4104-A926-CCF166F76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5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FB7E-01E4-4F05-80B7-438D14C55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1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6BEE-3398-46C3-BF6F-A77FD9F82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3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927C-4B18-4BB3-8F54-E33C6C124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8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BE9A-EB6A-4D48-AD20-71714E686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DA5-185D-4406-898F-2E366ED3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70E-C201-48BA-ABDB-749A700A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29A-26BA-4A72-B957-0C895499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9A3-4A19-45ED-850F-A6E8C44B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22D-2B32-4B54-906A-C121914E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79A-818C-4EE9-80A7-4985115B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4E8-6F14-4401-B5B4-E62308CA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982-205C-4580-A529-DE60BF55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6AB-66F6-402C-8F09-A43D521F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030-BE60-49F4-A24F-F491141F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1AF-6BD6-40B2-84AE-B50D33DE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BCC-DE02-4BB5-86C5-6A78794C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E61F-38AB-42B2-B21E-6AA496088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FUNCTIONS/JMAP_SOLUTIONS_COMPOSITIONS_OF_FUNCT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FUNCTIONS/JMAP_SOLUTIONS_COMPOSITIONS_OF_FUNCT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ositions of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0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5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5621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26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821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4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9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91440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84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8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0:07:4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11:18:27Z</dcterms:modified>
  <cp:revision>14</cp:revision>
  <dc:subject/>
  <dc:title> FUNCTIONS:  Compositions of Functions</dc:title>
</cp:coreProperties>
</file>