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BBDC-FE1D-48F6-B1AE-DE4CEA2FB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C214-D12B-4D19-84F0-852122C2F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4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C92D-E353-4E80-A7D9-F07D863C3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8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CF37-B630-41F2-8128-F0F7D65C2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1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A5E8-569E-4E12-AD6B-5F3B220EA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6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5EE7-8865-4715-9E48-6AB2EBC63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2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AA67-1381-4EED-819B-98EC3244A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0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30D2-5AF4-4A35-9E39-F387BF8BB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2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A20C-8638-476F-9B00-116AFF8F7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9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6828-C83B-498D-A4F0-C6F3C0AED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8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D3C3-F566-488A-ABA6-A102EA734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2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A810-9E78-45C0-A9BF-66CC6A4C7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7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A92B-52FC-413A-B47D-5A44EEEC6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3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0803-4D39-47F1-8611-8A86D8D76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5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23FD-4A2B-4DEF-A2D4-46C2CCBDA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2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EC8B-DBBD-41EE-A6C4-E98FB7D21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0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812C-79B1-44D7-B172-5967FD4DF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8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A8D5-B183-4B07-A89C-98C1D1BF8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1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4C7B-CE46-4563-B71C-6E784AB40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0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A363-0260-49F3-AAEE-67F89E1C5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DD4-5459-4D09-9129-EC9BBCF4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21B-DC41-4EB4-813A-C45C1733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0B9-66B5-4D17-B4DF-42F41264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2BA-8116-4E13-818F-7567B381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7D2-B852-4918-BE3F-CA2E361E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24A-F0D2-4288-8E20-534464BD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E0D-37F9-4F7F-AA0F-731B0EC3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67D-21CA-43AC-A0EF-B5C160BC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7B4-AD9E-4233-A8B8-17349E15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9F2-0E6C-4D29-A78F-401C1682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FFE-F9F4-42D0-B415-C59B3719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66D-2141-43A3-8620-1585C90E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9A24-3FE2-47A0-932B-4F3961464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UNIT_CIRCLE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Circ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01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53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4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86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2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47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65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79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81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38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34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14" descr=""/>
          <p:cNvPicPr/>
          <p:nvPr/>
        </p:nvPicPr>
        <p:blipFill>
          <a:blip r:embed="rId1"/>
          <a:stretch/>
        </p:blipFill>
        <p:spPr>
          <a:xfrm>
            <a:off x="0" y="163440"/>
            <a:ext cx="9109080" cy="650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53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767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5:16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0:15:19Z</dcterms:modified>
  <cp:revision>11</cp:revision>
  <dc:subject/>
  <dc:title> ANGLES:  Unit Circle</dc:title>
</cp:coreProperties>
</file>