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jpeg" ContentType="image/jpeg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3C58-9A66-457D-A989-7007962A5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05F0-6D8E-489D-A812-12B81A722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3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AAE5-1983-4044-AD82-19F4B95DE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7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DDE2-F5A7-408B-B3C0-B921DA4F2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C23D-47F0-46EA-B46E-ED0034CDE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3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14AB-8828-4266-8555-5A3F47785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6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F388-AA0A-4937-8C01-669953316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1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8029-D5EF-4169-9AE8-7A037D863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4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B7D6-0E4E-40D1-AEF9-A71B5A684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CEF0-55C9-49FC-9EE0-234B28422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9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FEDA-EF16-40C8-8A19-03D3AA57B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1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2D69-AABD-433D-95AE-5B94636C9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3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006D-C91B-4E11-8985-391647F51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8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F84B-36CF-4546-A237-890828D0B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F827-D31E-4EDD-ACD3-D23F6884F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4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5A7C-22CF-48A9-BD96-E0B9158D7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1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E2BD-DA7B-4344-BD2F-8BB19AD98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8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A3DF-CB56-40F9-A018-17E312545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8b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1883-2DB1-4E92-9F3A-E944AEB9B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3b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6FFF-533D-4A48-AA7A-165DD6A1E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57EB-762D-4577-A07A-90F6045F4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0057-F7EC-4A45-807E-7C3E58B74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3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D2A4-CB00-4DFC-B7CE-E5610E257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4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BA30-2662-4974-B9C1-8E7D0C0F7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6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E3DD-7C10-4679-87C6-FBC6408A6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6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AF16-E7D2-4B65-ADDC-4287047EE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6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F177-B92B-4098-BB8D-7B60132E9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684-5DFB-4F36-BE2C-C6DD3B4F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5F2-450B-43EB-AA08-23E5B4CF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066-76AB-412F-A819-745ABFD4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EFA-DFB2-4C71-9E8C-7CE052C8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280-8718-45E2-8BC2-ED942E8A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E7C-6C0C-4445-9AFC-4FDF5D59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427-8F66-4100-84A5-4F4279AE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9DD-4E0C-4763-B87D-7AEB1941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123-003C-4235-8EE9-FB44C83C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E26-E9E2-4C2D-A068-D833D527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733-0F03-424B-BC5E-CF0141A0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05A-3CD2-40C6-B224-87396438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9E29-BA59-41AD-8E05-59C5F5F91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SYSTEMS/JMAP_SOLUTIONS_WRITING_LINEAR_SYSTEM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STEM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ing Linea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73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26560" cy="1447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4:00:0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6:01:38Z</dcterms:modified>
  <cp:revision>10</cp:revision>
  <dc:subject/>
  <dc:title> SYSTEMS:  Writing Linear Systems </dc:title>
</cp:coreProperties>
</file>