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3428-101E-4342-B0E0-3DDAB077D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48D3-673B-4BD5-B956-F8623151C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5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7452-CE21-4786-B755-B0C0DD3E2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1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83D4-9AF5-40AD-BEAE-5D24667D6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4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6AB1-9903-4030-9038-604CA2BD2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1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8841-84DC-4E83-9673-A2A10A961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4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6546-2FBB-47A4-9362-3DB8FD852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1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3D6B-23DB-4167-A7E2-9351F2AA9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7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EB99-DD08-4926-821A-E16FB78D3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3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1FC0-6FB2-442C-92F3-7C3EE59C05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0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A850-FF94-488B-93DD-AB3F18775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4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930D-D0F9-44C4-A655-31498AC706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1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E913-4F68-4309-874A-CD923C8E2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D4DD-B0D9-4761-BB09-8CD68D4F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5D38-414E-4BF1-8381-EFD0F299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764A-1AB3-4FCB-9994-CDDAAD31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51F-0813-4B7B-8CD5-BF194409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6461-6094-4E56-8B1B-E3F54DC4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4B1-16CA-47C1-BDEF-0C497419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3AA0-B967-4767-AD6E-D4A9DCFD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B233-CC94-47D1-9C7B-59CBC464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DDE1-9626-4DBB-A5B5-2FEC35EB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69C7-7253-4934-8291-06F2D2A7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11E8-CAB3-4145-ADDE-FF65AC00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F3CC-34E8-4DFE-9875-0874FDCD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673E-6AC4-4A38-8EDA-9FFFF3A26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OWERS/JMAP_SOLUTIONS_EXPONENTIAL_FUNC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POWERS/JMAP_SOLUTIONS_EXPONENTIAL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POWERS/JMAP_SOLUTIONS_EXPONENTIAL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POWERS/JMAP_SOLUTIONS_EXPONENTIAL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POWERS/JMAP_SOLUTIONS_EXPONENTIAL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POWERS/JMAP_SOLUTIONS_EXPONENTIAL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hyperlink" Target="http://www.jmap.org/JMAP/JMAPSolutions/POWERS/JMAP_SOLUTIONS_EXPONENTIAL_FUNCTIONS.doc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POWERS/JMAP_SOLUTIONS_EXPONENTIAL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POWERS/JMAP_SOLUTIONS_EXPONENTIAL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onenti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12816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12816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037800" cy="534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53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894564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128160" cy="17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3"/>
          <p:cNvGraphicFramePr/>
          <p:nvPr/>
        </p:nvGraphicFramePr>
        <p:xfrm>
          <a:off x="0" y="0"/>
          <a:ext cx="911376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48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9000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4"/>
          <p:cNvGraphicFramePr/>
          <p:nvPr/>
        </p:nvGraphicFramePr>
        <p:xfrm>
          <a:off x="0" y="3733920"/>
          <a:ext cx="9090000" cy="67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33920"/>
                    <a:ext cx="90900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5" descr=""/>
          <p:cNvPicPr/>
          <p:nvPr/>
        </p:nvPicPr>
        <p:blipFill>
          <a:blip r:embed="rId5"/>
          <a:stretch/>
        </p:blipFill>
        <p:spPr>
          <a:xfrm>
            <a:off x="2209680" y="838080"/>
            <a:ext cx="4191120" cy="2687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577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57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12816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23:33:3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6:26:54Z</dcterms:modified>
  <cp:revision>12</cp:revision>
  <dc:subject/>
  <dc:title> POWERS:  Exponential Functions </dc:title>
</cp:coreProperties>
</file>