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200C-A746-4EFF-B715-55CD3B5CA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EA52-039B-4392-B294-8D8898F71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5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6910-54E3-4D1A-82AB-86F284129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7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D94A-8CCF-43B7-8DFE-5DC8B9400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6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32D7-BF94-48A4-89FA-5802B94A8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4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FBEB-A017-47E8-9F3E-F37366DEC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9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7D9E-E226-4FA1-8E41-BE6009D56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8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3736-0A45-4DFB-9219-3527F6D93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7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8397-F06C-4E30-83A7-8DA8231E1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9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8119-9634-417B-A928-7E0B3371B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8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F520-9657-42EB-B68F-0CA850DB1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9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BD46-7880-4085-9AA5-285AAED72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4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1EFF-B9B4-47F2-9E06-5DCEF48A9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1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9FD1-931D-4A78-A0EA-4E829A86B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4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5F2C-3271-4297-9807-998A98388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1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A7FC-BF13-4250-8196-E72F04577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4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9107-18D7-4129-A19D-A31E333CD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0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91BA-C43A-4053-8361-2A1959718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0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5C0C-7C38-4568-A34B-DFB3FD646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1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6406-A3E4-4B0F-8EEA-2BCFFCA5E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26A8-7990-457A-A412-BF4F487F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777-16BE-4D64-9DBF-B9799EED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B91-7E5A-43F2-AC87-DF3EE8FC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0E6-DA2D-4201-8B8F-6DB7B21E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29BF-497C-46CA-8A5A-918F2519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91F-13D1-4DC6-AF38-DF655A6B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865-6B2D-48CB-9BE4-9124A8F7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EF19-78DC-4B6A-8453-31BEA6D2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F40-3D22-4C38-A4EE-0348B857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CF8-A59C-4035-8C21-4D598950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3D5-9BFF-4F15-81F2-C5077580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970-8281-4E68-83D2-759E320C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6893-3413-4310-A04D-069580F2B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OWERS/JMAP_SOLUTIONS_SCIENTIFIC_NOTATION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entific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9000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8352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83520" cy="24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144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83520" cy="30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90000" cy="25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5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090000" cy="25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5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9090000" cy="22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090000" cy="30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0"/>
          <a:ext cx="90900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83520" cy="21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21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83520" cy="21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8352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83520" cy="22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8352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8352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14400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83520" cy="31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09:42:1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20:05Z</dcterms:modified>
  <cp:revision>13</cp:revision>
  <dc:subject/>
  <dc:title> POWERS:  Scientific Notation </dc:title>
</cp:coreProperties>
</file>