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0D73-D038-452D-9831-A752771690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E81B-D929-40D8-80FF-9F73495352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4a   ANGLES: Complementary Supplementary and Vertical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C5DB-F511-46CB-8FCB-2F856ED6AC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1a   ANGLES: Complementary Supplementary and Vertical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6430-36CF-4217-95F2-D2630C596A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1a   ANGLES: Complementary Supplementary and Vertical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DE73-8FFD-426C-BCD6-319574D517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9a   ANGLES: Complementary Supplementary and Vertical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F1E2-D2E3-4418-B293-DD408E8969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28a   ANGLES: Complementary Supplementary and Vertical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5F4B-8ECF-4EA3-A9F4-9669F2F462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7a   ANGLES: Complementary Supplementary and Vertical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F780-FBEE-492B-BD30-54EFE67BEC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8a   ANGLES: Complementary Supplementary and Vertical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4BD4-FA6B-4704-BE6F-767F448457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3a   ANGLES: Complementary Supplementary and Vertical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4F48-6D84-4558-AE5D-2E471C0DA3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1a   ANGLES: Complementary Supplementary and Vertical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D9F8-1205-40F9-A1EF-77E75A82A4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4a   ANGLES: Complementary Supplementary and Vertical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BC28-EF2C-4ACB-8799-2AF699F65C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69A8-10F0-4D2B-A15E-54BFBE56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C99C-1836-4F4F-A089-58322B02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5480-ABE3-4D3F-9FE1-00ACE9F73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A07A-493B-4EFB-BF64-4F4306889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26A9-C195-4249-B104-00AAACE6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FDC6-B1FB-43BD-93F2-45D975DC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4C1E-B3B6-4682-83A8-4EEB8F0E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85FD-4255-49B8-B874-5ED5DABF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FEC7-F7CD-4F2B-9B7A-9AB34363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DD7A-A18A-4BE8-A8A3-389E0B8C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DD65-EA02-4617-A0D6-60A58C42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94E0-F6EC-4D33-B0D2-0053D4C0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C09D-FE8F-472E-BCAD-46308FDEEA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ANGLES/JMAP_SOLUTIONS_COMPLEMENTARY_SUPPLEMENTARY_AND_VERTICAL_ANGLE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ANGLES/JMAP_SOLUTIONS_COMPLEMENTARY_SUPPLEMENTARY_AND_VERTICAL_ANGL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ANGLES/JMAP_SOLUTIONS_COMPLEMENTARY_SUPPLEMENTARY_AND_VERTICAL_ANGL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ANGLES/JMAP_SOLUTIONS_COMPLEMENTARY_SUPPLEMENTARY_AND_VERTICAL_ANGL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ANGLES/JMAP_SOLUTIONS_COMPLEMENTARY_SUPPLEMENTARY_AND_VERTICAL_ANGL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ANGLES/JMAP_SOLUTIONS_COMPLEMENTARY_SUPPLEMENTARY_AND_VERTICAL_ANGL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ANGLES/JMAP_SOLUTIONS_COMPLEMENTARY_SUPPLEMENTARY_AND_VERTICAL_ANGL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ANGLES/JMAP_SOLUTIONS_COMPLEMENTARY_SUPPLEMENTARY_AND_VERTICAL_ANGL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GLES:  Complementa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pplementary and Vertical 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115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871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7" descr=""/>
          <p:cNvPicPr/>
          <p:nvPr/>
        </p:nvPicPr>
        <p:blipFill>
          <a:blip r:embed="rId1"/>
          <a:stretch/>
        </p:blipFill>
        <p:spPr>
          <a:xfrm>
            <a:off x="0" y="0"/>
            <a:ext cx="8815320" cy="3043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14400" y="0"/>
            <a:ext cx="9129600" cy="362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1320" cy="3224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58240" cy="2514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1028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1523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1500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1157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2T05:37:38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26T00:50:27Z</dcterms:modified>
  <cp:revision>16</cp:revision>
  <dc:subject/>
  <dc:title> ANGLES:  Complementary Supplementary and Vertical Angles</dc:title>
</cp:coreProperties>
</file>