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1F0-1795-4FEE-942B-C40E813D1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6AF-1B63-4459-8770-4485A4C23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1102-D24D-47B2-90E1-D777A9E13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813-34E2-463E-A0C1-0291E18DA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706F-E3AE-486F-855C-063C22176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27B-958E-4405-8B0C-F16014D67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2CA-3905-4A2C-8910-7E5804D1F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56-C843-4782-9A0B-9D82BF8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447-A7FA-4823-B40E-24932DA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5DA-FFC3-4A07-A888-DE459DD3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ACC-217D-4D49-8CED-861A99CA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0C0-32D9-4731-B394-6CBE551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D0C-02D2-466C-B521-B170B65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7C5-0E24-46D2-A0BB-BE38600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54C-0E4B-49DA-AD25-0986866A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3B4-F6F7-4FB8-8811-9730DBF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A6C-56C6-4739-BD2D-5C9BE72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72C-713D-4439-9F1A-38EE9C96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CF0-8982-4180-A7A8-9F09DC7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31B-177F-4EE6-A7B4-63E25A384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_RESOURCES_BY_TOPIC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Absolut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15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3886200"/>
          <a:ext cx="90900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909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2:50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46:36Z</dcterms:modified>
  <cp:revision>18</cp:revision>
  <dc:subject/>
  <dc:title> NUMBER OPERATIONS AND PROPERTIES:   Absolute Value </dc:title>
</cp:coreProperties>
</file>