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9DC0-D0A1-44E2-8D11-497252184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D0A7-D190-460B-B860-32A92832D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087D-348F-4E66-A495-C5191EB12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3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A81A-D311-4583-9EFF-2F74A3BAF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9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1848-87BB-4B66-A491-9AD1EE4CF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9CEC-3139-45C3-9DFC-584A8E38F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6E14-44C3-44C7-8F45-073D1B609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8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60B3-F6A6-4E71-BFB8-84675B855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3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2D92-4C97-47E9-8568-D2729CADA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4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0431-BB69-411A-804C-240282758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0349-A377-48EE-8B6F-1CE00F4B1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104B-FA4A-4552-8FDA-4070E6BF2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1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A820-2DB4-4999-B3DF-2F07283D3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7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9424-96CE-4429-B8A5-1852B72F3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5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6E90-75A7-49E2-BF7A-653DA85B5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5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8551-5FF3-40DD-8392-3F94261DE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2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745B-EDA5-4FC0-BEDF-99E2C7211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1CB-F3D4-4C64-A0B7-79C7AFD1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8D6-D2EA-4165-97BF-E6F4896E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7E5-FAF5-47F9-A2C4-C8511E47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05B3-7A99-4598-B661-BF0A955B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9E4-B895-43DF-B01D-46A0B1E7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33B-97AA-411C-8B13-91C42F00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0C2-87E4-465D-B5C7-E5946D31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426-9634-4D34-82ED-E8404066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465-9A6F-4B18-B450-DFB92179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445-94AA-4359-BECA-7C8F4A76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661-3A1E-430A-999B-CFB72E71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157-D7E2-4188-9872-A9183ABB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C991-BBA7-44BB-8813-3D5FF3E6B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THER POLYG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cial Quadrilater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900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1:35:4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13:28Z</dcterms:modified>
  <cp:revision>11</cp:revision>
  <dc:subject/>
  <dc:title> OTHER POLYGONS:  Special Quadrilaterals </dc:title>
</cp:coreProperties>
</file>