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51EE-4470-4450-8A6C-90793BFF0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E0DD-A913-4CB7-AD42-C4850729D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784C-6682-4387-8517-EE0FEBB08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558E-C938-4F71-A217-B1C4D497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3E7-CDA3-4C3E-81DE-F68AEDB66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A68-13DE-44CA-A1B5-57B506EC6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BBD-93C8-4B48-B4D1-D0EFA8012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91F1-AA76-4EB9-BEFB-9BCB2EDF8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4A7-97EF-46A0-8E5D-6CAC7B9AD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67AF-69E4-4B40-B78C-23510F3B4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04C-934B-45C5-8841-6827CE24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B29-36EC-41D0-B58B-BBB4851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778-7193-423C-B03C-AE85E53E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0CF-D88A-4271-9DEB-84B3055A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21C-005B-4169-9704-5E7A4271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926-53A9-44E2-9393-902C40B9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FA3-C7D1-451D-8BC4-5ED9041D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11E-CFD6-445D-A1E2-E4E17F8C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A51-F678-427A-B154-3E179FF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C9B-3C64-4BB6-B9D1-0C7F428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34E-8D54-4469-95FF-F34359A7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28B-423E-4724-A5D4-75E0A26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A0D3-400A-4EBC-BB28-D976160DA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371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111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24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393920" cy="1431720"/>
          </a:xfrm>
          <a:prstGeom prst="rect">
            <a:avLst/>
          </a:prstGeom>
          <a:ln w="0">
            <a:noFill/>
          </a:ln>
        </p:spPr>
      </p:pic>
      <p:pic>
        <p:nvPicPr>
          <p:cNvPr id="63" name="Object 4" descr=""/>
          <p:cNvPicPr/>
          <p:nvPr/>
        </p:nvPicPr>
        <p:blipFill>
          <a:blip r:embed="rId3"/>
          <a:stretch/>
        </p:blipFill>
        <p:spPr>
          <a:xfrm>
            <a:off x="0" y="297180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124080" y="3429000"/>
            <a:ext cx="2590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3:33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0:43Z</dcterms:modified>
  <cp:revision>12</cp:revision>
  <dc:subject/>
  <dc:title> TRANSFORMATIONS:  Dilations</dc:title>
</cp:coreProperties>
</file>