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7A96-7BCA-482E-BF50-850945A18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4660-86BD-449D-B5BC-363522A47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D6F-EE9C-45F1-9AB5-84B358CAD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D03D-DEEB-4EED-B097-76CAA2C52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EC0-4FB1-48F9-8016-BC5BCE868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656E-13A4-45B6-882E-23C2D24BE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89A-B93A-456A-B742-520ADBC88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B2AF-108B-4DED-8FFC-899B58B5C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012-4050-44EF-ACBE-CA62EA1B8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1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472E-4384-4445-A9DC-570D024C8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657-AA89-4C94-9741-2B4765125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9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713-C36C-47FF-9A31-74EE264DB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9E15-694A-48BE-80A8-15A4B31C7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857B-9920-4770-A1D6-C69C00606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FA59-B99A-475E-AFAF-455F414B8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1E45-11B4-44FE-B10D-D320ACD8E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955E-2E87-407E-94AA-90F06C17D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90D-B931-4B25-929B-C17CCA42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EDF-F2A7-4F5C-AED4-128CE966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61C-2476-4DD7-BD74-6AA3C1D8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D89-AA3B-4EB1-8001-3E519553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227-6CCE-455B-BCEB-DCC8B54F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9B5-AE30-49DC-859B-C4CFADC7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24B-F281-4D5E-96A0-DBC7898D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083-C67F-460C-BF2A-A92CEB06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16C-A169-4920-8D42-E48322FC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A6A-83F3-4B36-B3BD-D666AB1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4A1-3FE2-49F9-94B6-941C824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A2C-956A-4401-A3F4-E44E4FF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29C5-1E41-4516-915E-D08DF793C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MINIMUM_AND_MAXIMUM_OF_QUADRATIC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hyperlink" Target="http://www.jmap.org/JMAP/JMAPSolutions/QUADRATICS/JMAP_SOLUTIONS_MINIMUM_AND_MAXIMUM_OF_QUADRATIC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inimum and Maximum of Quadra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0" y="0"/>
          <a:ext cx="90378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378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89456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8945640" cy="60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6031080" y="1523880"/>
            <a:ext cx="273204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89456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5719680" y="1447920"/>
            <a:ext cx="3119400" cy="3124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-2286000" y="0"/>
          <a:ext cx="9064800" cy="61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0" y="0"/>
                    <a:ext cx="9064800" cy="61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4267080" y="609480"/>
            <a:ext cx="4046760" cy="403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66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8549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181480" y="990720"/>
            <a:ext cx="3413160" cy="519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8854920" cy="70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70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0" y="0"/>
          <a:ext cx="90378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37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89456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378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8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0:09:04Z</dcterms:modified>
  <cp:revision>11</cp:revision>
  <dc:subject/>
  <dc:title> QUADRATICS:  Minimum and Maximum of Quadratics </dc:title>
</cp:coreProperties>
</file>