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9E23-85C7-4ACB-907E-D1D4862D6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DA51-BE5A-4D06-99AC-AA49F3867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4D1-15A1-4993-B988-E690DE51A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EDE9-1AFD-49D5-9D3A-DE4DED3AB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C6F-3625-4657-941A-59FCC7A7B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6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3F6-E4E1-4736-BDBB-742456879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586F-2A6E-4AA3-B297-9D7551951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F66-B2CA-4A88-8E90-F5289AD7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3D6-0AAB-4BE4-B92A-612CCBA3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9BC-5521-4878-83F6-62C567A8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2A4-2D64-45E5-A8D7-791A9376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E65-429F-48B0-AD33-7103CF59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973-DB4A-40E4-B5D4-F9449FC8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68C-E6D5-43F0-8012-927A9D03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726-6475-4AF3-ADD1-4EC0C849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C2A-8840-4464-B56F-7FA8CD49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63A-A0C5-4E1C-AA43-6CBC10B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A4D-2EF4-4D56-AD18-77BA7C2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558-88F4-4418-9CE1-F77121B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724-FC43-4EA3-A640-680C3BA40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CORRELATION_COEFFICIENT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relat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9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1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1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06:4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14:22:55Z</dcterms:modified>
  <cp:revision>9</cp:revision>
  <dc:subject/>
  <dc:title> GRAPHS AND STATISTICS:  Correlation Coefficient </dc:title>
</cp:coreProperties>
</file>