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713-0696-4583-90F7-4F2050ABE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C32-ACE3-46E9-B142-5DCC11A30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670-FEF2-4D42-AFDF-599AFC7EB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AB5-F868-4968-9CB4-0F49D697C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76DC-B938-4991-82A6-B79A5C9A9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E5D-1B11-45D9-A093-AE3196FAD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14CF-604B-447C-9CDE-461B570DF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7DD1-F93D-474D-B2BE-F0E01F0B9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7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59D-2E9A-4562-8E2F-6C5F72FC5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B85E-70DB-4F9D-B2BB-A14A241B0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2576-9F59-418B-9BD3-D114D2C2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AC4E-98BC-4E36-A876-F15715E54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7643-C0DA-46A2-889B-2E26B7E6F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4553-A6A7-4F56-BDA7-05F102B2F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62D-418A-4EF8-9BBE-9BD21D585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BD93-2611-44B0-89B9-582CE44A4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EFF6-60D0-4836-999C-5B5B29FD7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4030-8F5B-4FE1-99FA-D18BF854B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1677-6487-4E93-80BD-C8DCCA87D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0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4BDA-989D-403F-8B8B-6FE792E37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422-6036-4E4F-8AFA-29B1AD011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62F3-3B4B-4F79-8896-1C7C0EFBD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CD9-684F-4BAD-9CF4-2417FB830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88F5-EDFA-4591-9513-EABA65BA6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62A-C945-4F81-8843-0B939191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132-17C3-43F7-ADA4-60B4FFE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C20-FD99-469A-993E-9543ACBA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EAE-4F80-49B9-88F5-7D080D56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942-B071-47A4-B3FC-49A61A1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CBC-CBEA-4AC6-AEBC-71CA745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B71-4756-4C64-B542-3C495F31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0C6-3944-4BBC-BE34-5A070E08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E86-3CEF-49CF-B9B4-1B7BA215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F30-D43C-41FA-BA59-32DFF1F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A10-BFA4-4F13-A7CB-438F21E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EE7-AF6D-424F-AC63-C4D2495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B5B4-CC00-4005-901C-20FEFA4DD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ic Trigonometric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34920" y="228600"/>
            <a:ext cx="91090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0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42840" y="3166920"/>
          <a:ext cx="909000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0" y="316692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2438280" y="1295280"/>
            <a:ext cx="4111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02:5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02:17Z</dcterms:modified>
  <cp:revision>15</cp:revision>
  <dc:subject/>
  <dc:title> TRIANGLES:  Basic Trigonometric Ratios </dc:title>
</cp:coreProperties>
</file>