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B3D4-15A9-4A72-B960-8B29E27B9E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20D3-5557-48E4-BE91-DC706F640E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1a  LINEAR EQUATIONS: Slope and Direct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64EC-9889-4F77-A31B-F5243750A6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7a  LINEAR EQUATIONS: Slope and Direct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A547-3F33-4234-9A43-C4FBE4C927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15a  LINEAR EQUATIONS: Slope and Direct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B9A9-E0A4-4305-A864-96DA37ED89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18a  LINEAR EQUATIONS: Slope and Direct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A429-2AEE-4EB0-84E8-6E8F406409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12a  LINEAR EQUATIONS: Slope and Direct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FB51-A338-45E8-A51F-19C7E9901E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8a  LINEAR EQUATIONS: Slope and Direct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F66E-596F-483F-9A6E-CB06380EA4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24a  LINEAR EQUATIONS: Slope and Direct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9BA1-7567-4207-B85B-FA9CEA3DD4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05a  LINEAR EQUATIONS: Slope and Direct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676D-4722-4B13-8F90-7182101D24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8a  LINEAR EQUATIONS: Slope and Direct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6250-C43B-48E9-ABDD-F73E1AD34B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03BC-9CBC-44B6-B82C-C4E1EB64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C3DB-488D-4B20-8AB6-94CB6931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83D5-4D7C-4CC3-A11C-C926A033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7A31-849E-4414-9967-D73B2B0F0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F2D0-91AF-4BAA-A066-C8905582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40A8-2E32-44D9-8F6A-FAAB66AD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227D-3CD6-4E58-B2E7-BBCCC2F2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C1E9-E83F-4061-B7A4-74A774F8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CDCB-E745-4E77-876B-FF1D28B1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A232-3C35-4FF2-B965-A1B55EB1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2BC9-2BAC-4420-A5C7-A8B1B5FF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2DAB-8FE5-4DB2-A9E8-A877C50A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2D6F-9278-4C13-9616-78D6D2651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LINEAR_EQUATIONS/JMAP_SOLUTIONS_SLOPE_AND_DIRECT_VARIATION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LINEAR_EQUATIONS/JMAP_SOLUTIONS_SLOPE_AND_DIRECT_VARI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LINEAR_EQUATIONS/JMAP_SOLUTIONS_SLOPE_AND_DIRECT_VARI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LINEAR_EQUATIONS/JMAP_SOLUTIONS_SLOPE_AND_DIRECT_VARI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LINEAR_EQUATIONS/JMAP_SOLUTIONS_SLOPE_AND_DIRECT_VARI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LINEAR_EQUATIONS/JMAP_SOLUTIONS_SLOPE_AND_DIRECT_VARI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LINEAR_EQUATIONS/JMAP_SOLUTIONS_SLOPE_AND_DIRECT_VARI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NEAR EQUA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lope and Direct Var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512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981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943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486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29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828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4560" cy="5464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048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18:27:25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5T00:59:36Z</dcterms:modified>
  <cp:revision>6</cp:revision>
  <dc:subject/>
  <dc:title> LINEAR EQUATIONS:  Slope and Direct Variation </dc:title>
</cp:coreProperties>
</file>