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B9E1-C8FC-4EE4-AFB1-75BB9556B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F82D-0711-4ABD-AEFA-E92C94D98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7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C3F1-7BF1-4F4B-A7E1-64FC08399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4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A363-5C41-46CE-9CFD-6748DA174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6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D481-58C2-40BC-9991-9C0F8EC9D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1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41A1-3696-491F-A6B7-FF88B5833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7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2DFB-C14B-484D-B9F4-CB098239F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0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99A3-2C64-4197-83CB-DF48AD40A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9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3B92-7588-41C3-B916-4DB797638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0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20B9-9DB8-4965-BCB5-7AEAB6680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5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7D8F-D8AF-4BC7-8222-C6EBBA717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9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3229-7BAF-4BDC-86AC-3C7C60FF5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EF6-60F7-4868-AB63-D99901AC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F0A-0FC4-4F47-89A9-6D6AB21F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ECD-A0BA-4CB3-AB01-CF84AFD4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6C4-6D75-4C1F-86AB-E1A007BC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E24-2238-4506-AB78-3C40DB6F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8CF-CDEE-4B92-AFA5-41EA91FC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400-861A-471F-A449-0F263717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472-8056-4295-ABB3-E82ED225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7C2-980E-4355-B123-DDBB27E8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9BE-F3B3-4F09-BDE5-F60B7617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C4D-C182-46A1-A7B7-F4411223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A1F-F051-45AF-9C87-5295E92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0A8B-C9FD-4A02-8522-B7735208D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STANDARD_DEVIAT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hyperlink" Target="http://www.jmap.org/JMAP/JMAPSolutions/GRAPHS_AND_STATISTICS/JMAP_SOLUTIONS_STANDARD_DEVIATIO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hyperlink" Target="http://www.jmap.org/JMAP/JMAPSolutions/GRAPHS_AND_STATISTICS/JMAP_SOLUTIONS_STANDARD_DEVIATION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 Dev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86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3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95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6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518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79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214720" cy="2370240"/>
          </a:xfrm>
          <a:prstGeom prst="rect">
            <a:avLst/>
          </a:prstGeom>
          <a:ln w="0">
            <a:noFill/>
          </a:ln>
        </p:spPr>
      </p:pic>
      <p:pic>
        <p:nvPicPr>
          <p:cNvPr id="61" name="Object 3" descr=""/>
          <p:cNvPicPr/>
          <p:nvPr/>
        </p:nvPicPr>
        <p:blipFill>
          <a:blip r:embed="rId3"/>
          <a:stretch/>
        </p:blipFill>
        <p:spPr>
          <a:xfrm>
            <a:off x="0" y="4735440"/>
            <a:ext cx="9144000" cy="21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9000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0" y="4441680"/>
          <a:ext cx="909000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41680"/>
                    <a:ext cx="90900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3352680" y="1447920"/>
            <a:ext cx="2362320" cy="2892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44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7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4:11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51:30Z</dcterms:modified>
  <cp:revision>9</cp:revision>
  <dc:subject/>
  <dc:title> GRAPHS AND STATISTICS:  Standard Deviation </dc:title>
</cp:coreProperties>
</file>