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F9C0-3646-4A22-840D-2BB45B02B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E84-5F4D-49FF-A4D2-D353DA0A5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9E4-E7EB-4685-920C-3DEA6EE05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6A3A-2715-4E9B-8A34-14995816F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96B-6D64-487A-BC75-1D35E27DA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9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75C-113B-4B64-87F1-DD477EC76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FDD-8995-45D5-83FA-88D7E4C71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991-12E4-4B3C-A1C6-97F49BCB1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39D-ED62-4FBC-8430-49BB15BEE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872-CDE4-479E-ADFA-48B98391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45B-7589-40CB-ADD4-523C20D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80D-9720-4E68-B20F-7F637664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676-3DA8-4D14-BD16-FC3E0CEA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044-A0C6-40EF-8494-17A7EB1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F19-100C-4400-B1BF-D09C3DC0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EDD-50E0-4CC7-80D3-C413E15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5A7-52E3-42AD-B3D5-5D7EA20D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AFD-2DC0-461D-B17C-0B12439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2D1-0B63-49DC-889B-D24FC8E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4EE-8D50-4B4B-85EF-FEF37A4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30D-EC25-40A1-9218-BA01DE4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3348-434B-4E49-B52A-543B9F426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GRAPHING_AND_WRITING_LINEAR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LINEAR_EQUATIONS/JMAP_SOLUTIONS_GRAPHING_AND_WRITING_LINEAR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and Writing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5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133720" y="2666880"/>
            <a:ext cx="4343400" cy="391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68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34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48:30Z</dcterms:modified>
  <cp:revision>6</cp:revision>
  <dc:subject/>
  <dc:title> LINEAR EQUATIONS:  Graphing and Writing Linear Equations </dc:title>
</cp:coreProperties>
</file>