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7C86-DEC8-4A0C-B0D7-32BD5750A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0910-8161-42C1-BE20-62B6BD766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E53D-4A21-4BFC-B0ED-B3C162062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6907-3C61-479A-9554-75184C615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7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3D99-CCC5-4B5D-8E98-2402A935E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7056-5B58-435D-AABB-152973DF3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0577-01E3-4EE6-8142-64EF82BCF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1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6604-0233-4683-80AC-04986594A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2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8BCA-3CB8-48A4-AA65-EFFF2D50D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F90F-4EB2-4E6B-B61A-9369C30CE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BD96-955B-4B74-BBCF-CB2CCF00C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4A91-3EDD-4AB2-91A8-FBBB2D508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8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0061-80BA-4DC1-B3B2-917A7D20E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B5FF-B1CD-4EDF-B317-94296607B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4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F544-D06D-429A-886A-4EAB27977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B5C9-992A-41AD-83BF-CCD8F36C8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394F-1136-47C5-8443-DC3079B85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A2D2-1E45-4A12-83D7-551752B4A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0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26E8-AAE7-410B-9A57-1E929B486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8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7A75-34DA-45D9-AE79-58687B488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D8D8-795E-49AA-AF31-80E8D7AD2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2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B33C-1CCB-4A2C-BECC-70D82C87F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20C-E3FA-43F5-B70E-F1B6C3708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5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08AB-7DCF-4BB6-9F61-5B7223CB7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BD0-A401-4C30-8019-B5F3F06E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13D-BA79-4AB2-922A-5731EC09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F4A-6555-4A46-A993-96407F7C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D58-4586-47E3-9BEE-835B809E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A76-8AB9-49B2-8E61-5D74F7FF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85D-FB58-413D-B8C4-886AC20D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FC5-6243-4D60-8D3A-F106C374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CAB-D300-4D88-B57C-31D8585B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5D4-F77C-47DF-BB15-C479DCC1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A44-891E-4DF8-847F-D5B624F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375-C5BB-4BFB-BAF2-5CD3DA8A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98C-361B-47B5-8D28-364159E3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97AE-19D2-471D-A774-739820BD6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rds Secants and Tan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9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4343400"/>
          <a:ext cx="909000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343400"/>
                    <a:ext cx="90900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5" descr=""/>
          <p:cNvPicPr/>
          <p:nvPr/>
        </p:nvPicPr>
        <p:blipFill>
          <a:blip r:embed="rId5"/>
          <a:stretch/>
        </p:blipFill>
        <p:spPr>
          <a:xfrm>
            <a:off x="3124080" y="1981080"/>
            <a:ext cx="2590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0908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73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5:06:2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22:47Z</dcterms:modified>
  <cp:revision>16</cp:revision>
  <dc:subject/>
  <dc:title> CONICS:  Chords Secants and Tangents </dc:title>
</cp:coreProperties>
</file>