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DFB-5FAE-4466-9ADA-95D7BA316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55A4-8A61-49DE-8241-A34C3DA0D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7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5DC1-CAC2-4715-8B73-C5073BF5F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BCC-3C06-4699-A99F-C242CF19C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0154-5AAF-41E4-A882-B8DABB3C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278-C1A8-4B06-972B-9DFD16C76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5D30-EE9D-49D1-9F38-05019E6F6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8F32-672C-4989-A23A-9BE19B133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9CE-943E-47D3-B1BC-0BB40DB4B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EDDD-1555-4A5C-9E7B-7B63DF968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5B0-C470-4068-8A07-672BAD253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AC5C-0426-4957-873B-57E7DCB37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5B2-7C81-4DB6-882B-78DF0EF7D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28E-DC99-4EA3-83B1-FF821DEA2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327-69B0-49A9-949D-B619D758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95F-ED40-40DF-BA28-2B91888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E8F-633E-4AB8-A756-F133050E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1D5-355F-4208-8C42-84DDBBF2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AB4-557B-4F4D-8BF8-BA080483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58F-FF4E-485E-AEBE-ADC3381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707-AFD6-4B97-921B-193C695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F05-F4EB-42CA-A5E7-D732285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8CB-9AF0-4371-8372-DC55DF4F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A60-63CC-4E86-A474-C3234DEC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A5E-00EE-4B9B-BEF7-EC596B6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1AF-66D2-4F0E-A094-1BE02C5F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FC6-1193-43E6-B355-185904C7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NORMAL_DISTRIBU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2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9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1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37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47:09Z</dcterms:modified>
  <cp:revision>11</cp:revision>
  <dc:subject/>
  <dc:title> GRAPHS AND STATISTICS:  Normal Distributions </dc:title>
</cp:coreProperties>
</file>