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59A6-D974-444C-A720-8130D417C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AB62-D158-41DF-916B-C68A4F791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6b  EQUATIONS: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EC2D-2A27-4D26-99E0-E1E4A89EE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6911-AB21-45DF-804B-4AA18569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B50D-9DBD-4354-BDA1-AF8648B7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E83B-CC76-4E57-894D-1DB7EA72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67D-E6C2-4D53-82F6-8CCCA55E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1E00-E9BA-4FBA-864C-F3592C3E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572-11CD-429F-ABBD-A6B90E16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7DD1-237E-4B55-904C-9F022478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15C-1744-4E0F-B487-94257286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07C5-CC8F-4C74-94DC-822C56AD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FB71-0973-4C5E-96D9-DD70DC72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AA1-874D-409D-9067-B2CEAA45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DC0-1426-42F9-8AB5-E23C33CD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9A32-A124-48E8-A611-C40A8EF30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bsolute Value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5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20:54:3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4:59:40Z</dcterms:modified>
  <cp:revision>8</cp:revision>
  <dc:subject/>
  <dc:title> EQUATIONS:  Absolute Value Equations</dc:title>
</cp:coreProperties>
</file>