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25340-8139-421E-AB1B-F0CA9B85E1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BA5F6-9C25-41C9-B723-EA29E57FC1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25b  PROBABILITY: Binomi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70457-607B-4077-ABDA-DDA7A0EAA7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25b  PROBABILITY: Binomi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93AAD-AC77-48C1-9642-105E11DC7F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28b  PROBABILITY: Binomi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0F1DE-9307-4EC3-AE49-0B0AF18A5A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29b  PROBABILITY: Binomi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68F33-93E5-4914-A2D9-7FD2C4D143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31b  PROBABILITY: Binomi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28E64-4302-43D3-AB69-D661F58088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30b  PROBABILITY: Binomi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21E51-2D38-42F3-BF54-49F249F178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29b  PROBABILITY: Binomi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152F9-6A66-45C5-AB56-4DE3AE713B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30b  PROBABILITY: Binomi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B8911-8A4C-4327-AE37-D1BF5621EF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28b  PROBABILITY: Binomi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7394-3B77-4559-AC76-99E8E272AD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31b  PROBABILITY: Binomi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03E7C-298E-45CF-83BD-645D743363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02b  PROBABILITY: Binomi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F1500-76D7-4550-91D5-02A2BEA688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34b  PROBABILITY: Binomi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EE471-6120-47B7-A5A0-7167BEFAF8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02b  PROBABILITY: Binomi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CCDD4-FCD3-4375-B5DA-A22D0ADFEB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02b  PROBABILITY: Binomi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95C9D-16E8-4C46-A6DB-20E2A34BDF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01b  PROBABILITY: Binomi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8F482-A546-4404-8390-CD83A8DD6D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22b  PROBABILITY: Binomi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682A2-AB1B-4E5C-A336-6B727D1E0B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23b  PROBABILITY: Binomi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1295F-1306-4B62-B752-7462641B1A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24b  PROBABILITY: Binomi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13BBB-E47A-4613-8EE0-5F64E7CB4D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22b  PROBABILITY: Binomi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89BE2-489B-4705-976F-58B7467CF9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D0EA-FAED-433C-AC78-A5CF73E21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4ABF-7F91-44D7-83AF-5D88F2922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5810-F1E9-4E84-8B63-1F1AA96CF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1DA4-7C7A-49C6-8995-9BE1388D8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9E47-2FB3-46AB-806A-CADEA0134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E231-2181-4933-A58C-5E044ACF0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4542-184F-49BE-AAFD-0313D9954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E80A-4402-4C7D-908D-C258FED4B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2A8B-2F4A-4F6C-BB35-A0F94A197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343C-0ADA-4168-93D6-08CFC36C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0AD2-BAB0-4379-BFEB-BDFE83CD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1B35-ED24-48A0-B968-1013FAA1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7FA16-A268-4C8E-9D9F-274AE313BA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PROBABILITY/JMAP_SOLUTIONS_BINOMIAL_PROBABIILITY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hyperlink" Target="http://www.jmap.org/JMAP/JMAPSolutions/PROBABILITY/JMAP_SOLUTIONS_BINOMIAL_PROBABIILITY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hyperlink" Target="http://www.jmap.org/JMAP/JMAPSolutions/PROBABILITY/JMAP_SOLUTIONS_BINOMIAL_PROBABIILITY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hyperlink" Target="http://www.jmap.org/JMAP/JMAPSolutions/PROBABILITY/JMAP_SOLUTIONS_BINOMIAL_PROBABIILITY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hyperlink" Target="http://www.jmap.org/JMAP/JMAPSolutions/PROBABILITY/JMAP_SOLUTIONS_BINOMIAL_PROBABIILITY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hyperlink" Target="http://www.jmap.org/JMAP/JMAPSolutions/PROBABILITY/JMAP_SOLUTIONS_BINOMIAL_PROBABIILITY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hyperlink" Target="http://www.jmap.org/JMAP/JMAPSolutions/PROBABILITY/JMAP_SOLUTIONS_BINOMIAL_PROBABIILITY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hyperlink" Target="http://www.jmap.org/JMAP/JMAPSolutions/PROBABILITY/JMAP_SOLUTIONS_BINOMIAL_PROBABIILITY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hyperlink" Target="http://www.jmap.org/JMAP/JMAPSolutions/PROBABILITY/JMAP_SOLUTIONS_BINOMIAL_PROBABIILITY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hyperlink" Target="http://www.jmap.org/JMAP/JMAPSolutions/PROBABILITY/JMAP_SOLUTIONS_BINOMIAL_PROBABIILITY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hyperlink" Target="http://www.jmap.org/JMAP/JMAPSolutions/PROBABILITY/JMAP_SOLUTIONS_BINOMIAL_PROBABIILITY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hyperlink" Target="http://www.jmap.org/JMAP/JMAPSolutions/PROBABILITY/JMAP_SOLUTIONS_BINOMIAL_PROBABIILITY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hyperlink" Target="http://www.jmap.org/JMAP/JMAPSolutions/PROBABILITY/JMAP_SOLUTIONS_BINOMIAL_PROBABIILITY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hyperlink" Target="http://www.jmap.org/JMAP/JMAPSolutions/PROBABILITY/JMAP_SOLUTIONS_BINOMIAL_PROBABIILITY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hyperlink" Target="http://www.jmap.org/JMAP/JMAPSolutions/PROBABILITY/JMAP_SOLUTIONS_BINOMIAL_PROBABIILITY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hyperlink" Target="http://www.jmap.org/JMAP/JMAPSolutions/PROBABILITY/JMAP_SOLUTIONS_BINOMIAL_PROBABIILITY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BABILITY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inomial Probabilit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2"/>
          <p:cNvGraphicFramePr/>
          <p:nvPr/>
        </p:nvGraphicFramePr>
        <p:xfrm>
          <a:off x="0" y="0"/>
          <a:ext cx="9037800" cy="370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7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2"/>
          <p:cNvGraphicFramePr/>
          <p:nvPr/>
        </p:nvGraphicFramePr>
        <p:xfrm>
          <a:off x="0" y="0"/>
          <a:ext cx="903780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Object 2"/>
          <p:cNvGraphicFramePr/>
          <p:nvPr/>
        </p:nvGraphicFramePr>
        <p:xfrm>
          <a:off x="0" y="0"/>
          <a:ext cx="9037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Object 2"/>
          <p:cNvGraphicFramePr/>
          <p:nvPr/>
        </p:nvGraphicFramePr>
        <p:xfrm>
          <a:off x="0" y="0"/>
          <a:ext cx="9037800" cy="166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16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Object 2"/>
          <p:cNvGraphicFramePr/>
          <p:nvPr/>
        </p:nvGraphicFramePr>
        <p:xfrm>
          <a:off x="0" y="0"/>
          <a:ext cx="9037800" cy="166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16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9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Object 2"/>
          <p:cNvGraphicFramePr/>
          <p:nvPr/>
        </p:nvGraphicFramePr>
        <p:xfrm>
          <a:off x="0" y="0"/>
          <a:ext cx="903780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2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Object 2"/>
          <p:cNvGraphicFramePr/>
          <p:nvPr/>
        </p:nvGraphicFramePr>
        <p:xfrm>
          <a:off x="0" y="0"/>
          <a:ext cx="9128160" cy="201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20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Object 2"/>
          <p:cNvGraphicFramePr/>
          <p:nvPr/>
        </p:nvGraphicFramePr>
        <p:xfrm>
          <a:off x="0" y="0"/>
          <a:ext cx="894564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456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8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Object 2"/>
          <p:cNvGraphicFramePr/>
          <p:nvPr/>
        </p:nvGraphicFramePr>
        <p:xfrm>
          <a:off x="0" y="0"/>
          <a:ext cx="8945640" cy="466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45640" cy="46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1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Object 2"/>
          <p:cNvGraphicFramePr/>
          <p:nvPr/>
        </p:nvGraphicFramePr>
        <p:xfrm>
          <a:off x="0" y="0"/>
          <a:ext cx="9037800" cy="604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60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4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9037800" cy="329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29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Object 2"/>
          <p:cNvGraphicFramePr/>
          <p:nvPr/>
        </p:nvGraphicFramePr>
        <p:xfrm>
          <a:off x="0" y="0"/>
          <a:ext cx="9037800" cy="33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3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7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0" y="0"/>
          <a:ext cx="9037800" cy="27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7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0" y="0"/>
          <a:ext cx="9113760" cy="313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13760" cy="31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0" y="0"/>
          <a:ext cx="9090000" cy="254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25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0" y="0"/>
          <a:ext cx="8945640" cy="300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45640" cy="30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2"/>
          <p:cNvGraphicFramePr/>
          <p:nvPr/>
        </p:nvGraphicFramePr>
        <p:xfrm>
          <a:off x="0" y="0"/>
          <a:ext cx="9037800" cy="234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3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0" y="0"/>
          <a:ext cx="9037800" cy="66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0" y="0"/>
          <a:ext cx="9037800" cy="470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70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7T17:05:44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12T04:44:28Z</dcterms:modified>
  <cp:revision>13</cp:revision>
  <dc:subject/>
  <dc:title> PROBABILITY:  Binomial Probability </dc:title>
</cp:coreProperties>
</file>