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1709E-F870-440E-81FE-8A7C0D401B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F8589-0A53-4833-BE23-F02776F9AC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006a  NUMBERS OPERATIONS AND PROPERTIES: Properties of Integ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6D95A-3A2C-4D90-A186-41EBF5D517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06a  NUMBERS OPERATIONS AND PROPERTIES: Properties of Integ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3D7D9-4F60-47BA-AED5-3AD85F314C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16a  NUMBERS OPERATIONS AND PROPERTIES: Properties of Integ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2D0C7-C57E-44E6-B432-2F83F96BE9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12a  NUMBERS OPERATIONS AND PROPERTIES: Properties of Integ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B045F-62F9-4FFE-9903-122BA566F1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13a  NUMBERS OPERATIONS AND PROPERTIES: Properties of Integ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B1A08-B4CC-45C5-9C0D-1D76FF8629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13a  NUMBERS OPERATIONS AND PROPERTIES: Properties of Integ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923CD-8C56-4AEE-A130-A853CAEC3F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25a  NUMBERS OPERATIONS AND PROPERTIES: Properties of Integ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D7BA6-8F43-4C3F-9CED-BF79C7C62D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326b  NUMBERS OPERATIONS AND PROPERTIES: Properties of Integ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01FC5-6EF4-4D53-BB86-0663A400A3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8218-50CB-4660-8034-0E4680B4C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BE58-7ACE-4D2D-85CF-630394712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790F-C6AF-4F08-B1FF-8E2F958C8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39D2-5614-47FA-B380-F2EFD7AD1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1F19-7F4B-44A2-9766-DE1B2C67E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0639-3C45-45F4-9715-0B157CE22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C0D3-B962-4489-AB76-8FFB1B8A0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0DC6-5CD1-4FBB-A31A-0ABC1F224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1473-DFCA-403E-A3B4-25347CCCA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EFCB-C79D-42BE-8FE9-EE1FC0631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22CC-1988-4438-8098-D86F01988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028D-3781-4A89-ADF1-EE08A8233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BB882-BD61-4E36-9514-B5936ED2B2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NUMBERS_OPERATIONS_AND_PROPERTIES/JMAP_SOLUTIONS_PROPERTIES_OF_INTEGERS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NUMBERS_OPERATIONS_AND_PROPERTIES/JMAP_SOLUTIONS_PROPERTIES_OF_INTEGER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jmap.org/JMAP/JMAPSolutions/NUMBERS_OPERATIONS_AND_PROPERTIES/JMAP_SOLUTIONS_PROPERTIES_OF_INTEGER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hyperlink" Target="http://www.jmap.org/JMAP/JMAPSolutions/NUMBERS_OPERATIONS_AND_PROPERTIES/JMAP_SOLUTIONS_PROPERTIES_OF_INTEGER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www.jmap.org/JMAP/JMAPSolutions/NUMBERS_OPERATIONS_AND_PROPERTIES/JMAP_SOLUTIONS_PROPERTIES_OF_INTEGER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www.jmap.org/JMAP/JMAPSolutions/NUMBERS_OPERATIONS_AND_PROPERTIES/JMAP_SOLUTIONS_PROPERTIES_OF_INTEGER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MBER OPERATIONS AND PROPERTIE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erties of Integ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11160" y="0"/>
            <a:ext cx="9132840" cy="1565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32840" cy="1541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Object 2"/>
          <p:cNvGraphicFramePr/>
          <p:nvPr/>
        </p:nvGraphicFramePr>
        <p:xfrm>
          <a:off x="0" y="0"/>
          <a:ext cx="9013680" cy="28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1368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7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32840" cy="1565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32840" cy="1628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85320" cy="3897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32840" cy="2022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Object 2" descr=""/>
          <p:cNvPicPr/>
          <p:nvPr/>
        </p:nvPicPr>
        <p:blipFill>
          <a:blip r:embed="rId1"/>
          <a:stretch/>
        </p:blipFill>
        <p:spPr>
          <a:xfrm>
            <a:off x="11160" y="0"/>
            <a:ext cx="9132840" cy="1887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0T09:08:35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11T22:03:28Z</dcterms:modified>
  <cp:revision>14</cp:revision>
  <dc:subject/>
  <dc:title> NUMBER OPERATIONS AND PROPERTIES:  Properties of Integers</dc:title>
</cp:coreProperties>
</file>