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D517-0D35-4948-B330-2699F083A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55A4-590F-4729-9889-8535A3CAD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3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E765-A705-4F5D-943C-E7BE67727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9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E006-A6A0-4D3F-ABBB-3214984AD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7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C53-1653-495E-8062-5ADA9786E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0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C596-140F-4BC6-93B9-6A05DE75B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5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BB7-86B8-458A-B7EE-4F5B6F206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E7AE-4D84-46F8-A21C-B189E33AB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880B-166F-4C3F-A145-C16F8FEA7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5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9CEC-615B-489E-8170-F68DAD19E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FD23-22A5-4EC3-9C40-3D4BD7F59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236F-4BD6-4371-807F-E07C2E66E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8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DB8B-7FA6-4471-ADBF-42C9C4F48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0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4C83-1847-44AE-ABA6-604075538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B39-2C99-46F4-98FD-D2F4B547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054-DF11-4C98-A92D-C79C46BF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12E-4057-41F2-8B4A-4605C259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A88-6087-4906-8EA7-65A313AE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78E-D8A4-4C20-A207-F1FF76B6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D5A-D185-429D-894E-B932B4C0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6E5-50B4-488C-A0D6-53456AAE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633-3C42-4BC1-AE7F-5A3E2B4D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D8E-33D0-4CC5-B9EF-BB8181E2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3C7-6BA2-47C6-8D21-49BABD85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053-F448-42E1-9AB8-294325B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5E8-4C88-4CB3-8836-E412E3C6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4A8B-6FA8-4BEE-A50A-EC50A8676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RATIONALIZING_DENOMINATO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izing Denomi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2160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03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3780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17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3780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1281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378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3780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03780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7:41:3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57:54Z</dcterms:modified>
  <cp:revision>15</cp:revision>
  <dc:subject/>
  <dc:title> RADICALS:  Rationalizing Denominators </dc:title>
</cp:coreProperties>
</file>