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6.wmf" ContentType="image/x-wmf"/>
  <Override PartName="/ppt/media/image29.wmf" ContentType="image/x-wmf"/>
  <Override PartName="/ppt/media/image11.wmf" ContentType="image/x-wmf"/>
  <Override PartName="/ppt/media/image12.png" ContentType="image/png"/>
  <Override PartName="/ppt/media/image17.wmf" ContentType="image/x-wmf"/>
  <Override PartName="/ppt/media/image9.png" ContentType="image/png"/>
  <Override PartName="/ppt/media/image10.wmf" ContentType="image/x-wmf"/>
  <Override PartName="/ppt/media/image8.wmf" ContentType="image/x-wmf"/>
  <Override PartName="/ppt/media/image13.png" ContentType="image/png"/>
  <Override PartName="/ppt/media/image30.wmf" ContentType="image/x-wmf"/>
  <Override PartName="/ppt/media/image3.jpeg" ContentType="image/jpeg"/>
  <Override PartName="/ppt/media/image2.wmf" ContentType="image/x-wmf"/>
  <Override PartName="/ppt/media/image25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4.wmf" ContentType="image/x-wmf"/>
  <Override PartName="/ppt/media/image27.wmf" ContentType="image/x-wmf"/>
  <Override PartName="/ppt/media/image14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AB4D-4508-4DDD-AD0D-A4FF92DA9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7278-3B71-4881-882D-09BF7E4FD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9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244B-9962-434E-8D1B-9C454C129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5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4FDF-75DD-44C8-A58F-3E9580240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1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4326-B0AC-43BE-B623-765A567F9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0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1608-998D-4ED9-918D-E9674562C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0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94D9-05BA-4469-A346-B0E279AD5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1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25D2-288F-4AB3-AF58-A8F6B106A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7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AEF3-2C95-407B-A58A-ECABD7B04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3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25AC-98DA-40DA-8DEB-EFECD6360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4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1873-E009-45A3-97A9-FCA516E2E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2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1EC4-F515-4CFC-A228-8A3A09E67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4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2348-3253-4CC9-98E4-19D936F04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2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1BB8-726D-49A5-B19D-EF91B58CA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4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72DA-DA2F-462A-8B01-46943BCBB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1E7-D633-4C4C-9F45-9EC613EB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8BB-6859-4C73-965D-3F580F93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A56C-C597-47AC-8414-7B816BC5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EA8-69B0-4147-A26F-D45FB1B2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B5D-B8F3-4B9C-B72A-077A0A28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B72-50D5-4315-A9F3-3576C55D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7C8-20BD-40AD-BA82-1AA7DC4A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32E-193D-42EC-A1E0-58D21322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C07-1314-4910-B7FF-AE93E7B2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A4F-4A89-489B-BBAB-49869AB1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C4E-34E0-40E8-B9D9-91D4F518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79B-9E10-4BDC-98A1-1D7B9DDE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D4A7-40C4-4EA0-BBCF-6F554ECD3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GRAPHICAL_REPRESENTATIONS_OF_DATA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hyperlink" Target="http://www.jmap.org/JMAP/JMAPSolutions/GRAPHS_AND_STATISTICS/JMAP_SOLUTIONS_GRAPHICAL_REPRESENTATIONS_OF_DATA.doc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hyperlink" Target="http://www.jmap.org/JMAP/JMAPSolutions/GRAPHS_AND_STATISTICS/JMAP_SOLUTIONS_GRAPHICAL_REPRESENTATIONS_OF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GRAPHS_AND_STATISTICS/JMAP_SOLUTIONS_GRAPHICAL_REPRESENTATIONS_OF_DAT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://www.jmap.org/JMAP/JMAPSolutions/GRAPHS_AND_STATISTICS/JMAP_SOLUTIONS_GRAPHICAL_REPRESENTATIONS_OF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hyperlink" Target="http://www.jmap.org/JMAP/JMAPSolutions/GRAPHS_AND_STATISTICS/JMAP_SOLUTIONS_GRAPHICAL_REPRESENTATIONS_OF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GRAPHS_AND_STATISTICS/JMAP_SOLUTIONS_GRAPHICAL_REPRESENTATIONS_OF_DAT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jmap.org/JMAP/JMAPSolutions/GRAPHS_AND_STATISTICS/JMAP_SOLUTIONS_GRAPHICAL_REPRESENTATIONS_OF_DAT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wmf"/><Relationship Id="rId6" Type="http://schemas.openxmlformats.org/officeDocument/2006/relationships/hyperlink" Target="http://www.jmap.org/JMAP/JMAPSolutions/GRAPHS_AND_STATISTICS/JMAP_SOLUTIONS_GRAPHICAL_REPRESENTATIONS_OF_DATA.doc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hyperlink" Target="http://www.jmap.org/JMAP/JMAPSolutions/GRAPHS_AND_STATISTICS/JMAP_SOLUTIONS_GRAPHICAL_REPRESENTATIONS_OF_DATA.doc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hyperlink" Target="http://www.jmap.org/JMAP/JMAPSolutions/GRAPHS_AND_STATISTICS/JMAP_SOLUTIONS_GRAPHICAL_REPRESENTATIONS_OF_DATA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ical Representations of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878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2765520" cy="213336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3"/>
          <a:stretch/>
        </p:blipFill>
        <p:spPr>
          <a:xfrm>
            <a:off x="1447920" y="1600200"/>
            <a:ext cx="9129600" cy="1193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4419720" y="32004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HP_Administrator\Pictures\My Pictures\Thomas 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65160" y="0"/>
            <a:ext cx="9078840" cy="2046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2630520" y="2362320"/>
            <a:ext cx="3236760" cy="4135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289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69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612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ject 3" descr=""/>
          <p:cNvPicPr/>
          <p:nvPr/>
        </p:nvPicPr>
        <p:blipFill>
          <a:blip r:embed="rId1"/>
          <a:stretch/>
        </p:blipFill>
        <p:spPr>
          <a:xfrm>
            <a:off x="152280" y="0"/>
            <a:ext cx="4148280" cy="538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4024440" cy="401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5343480" cy="480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5257800" y="838080"/>
            <a:ext cx="346068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22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0" y="0"/>
            <a:ext cx="4419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science qui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students received the following scor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 95, 95, 90, 85, 85, 85, 80, 80, 8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, 75, 75, 75, 70, 70, 65, 65, 60, 5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statistical grap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s a histo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 stem-and-leaf plo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isplay this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sure to title the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label all axes or parts used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495680" y="8380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r type of plot requires a gr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your work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3809880" cy="3836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 flipV="1" rot="10800000">
            <a:off x="228240" y="41295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 grid is necessa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your work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5720"/>
          </a:xfrm>
          <a:prstGeom prst="rect">
            <a:avLst/>
          </a:prstGeom>
          <a:ln w="0">
            <a:noFill/>
          </a:ln>
        </p:spPr>
      </p:pic>
      <p:pic>
        <p:nvPicPr>
          <p:cNvPr id="68" name="Object 5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1066680" y="2057400"/>
            <a:ext cx="2590920" cy="1419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4"/>
          <a:stretch/>
        </p:blipFill>
        <p:spPr>
          <a:xfrm>
            <a:off x="3962520" y="1905120"/>
            <a:ext cx="3657600" cy="1850760"/>
          </a:xfrm>
          <a:prstGeom prst="rect">
            <a:avLst/>
          </a:prstGeom>
          <a:ln w="0">
            <a:noFill/>
          </a:ln>
        </p:spPr>
      </p:pic>
      <p:pic>
        <p:nvPicPr>
          <p:cNvPr id="71" name="Object 8" descr=""/>
          <p:cNvPicPr/>
          <p:nvPr/>
        </p:nvPicPr>
        <p:blipFill>
          <a:blip r:embed="rId5"/>
          <a:stretch/>
        </p:blipFill>
        <p:spPr>
          <a:xfrm>
            <a:off x="0" y="4191120"/>
            <a:ext cx="9144000" cy="29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HP_Administrator\Pictures\My Pictures\Thomas Jeffers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57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2210040" cy="2210040"/>
          </a:xfrm>
          <a:prstGeom prst="rect">
            <a:avLst/>
          </a:prstGeom>
          <a:ln w="0">
            <a:noFill/>
          </a:ln>
        </p:spPr>
      </p:pic>
      <p:pic>
        <p:nvPicPr>
          <p:cNvPr id="75" name="Object 3" descr=""/>
          <p:cNvPicPr/>
          <p:nvPr/>
        </p:nvPicPr>
        <p:blipFill>
          <a:blip r:embed="rId3"/>
          <a:stretch/>
        </p:blipFill>
        <p:spPr>
          <a:xfrm>
            <a:off x="2133720" y="1066680"/>
            <a:ext cx="9055080" cy="85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4"/>
          <a:stretch/>
        </p:blipFill>
        <p:spPr>
          <a:xfrm>
            <a:off x="4876920" y="2362320"/>
            <a:ext cx="3039840" cy="2492280"/>
          </a:xfrm>
          <a:prstGeom prst="rect">
            <a:avLst/>
          </a:prstGeom>
          <a:ln w="0">
            <a:noFill/>
          </a:ln>
        </p:spPr>
      </p:pic>
      <p:pic>
        <p:nvPicPr>
          <p:cNvPr id="77" name="Object 5" descr=""/>
          <p:cNvPicPr/>
          <p:nvPr/>
        </p:nvPicPr>
        <p:blipFill>
          <a:blip r:embed="rId5"/>
          <a:stretch/>
        </p:blipFill>
        <p:spPr>
          <a:xfrm>
            <a:off x="-914400" y="3962520"/>
            <a:ext cx="9132840" cy="868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Users\HP_Administrator\Pictures\My Pictures\Thomas Jeffers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152280"/>
            <a:ext cx="9078840" cy="2471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4952880" y="3124080"/>
            <a:ext cx="3259080" cy="327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722160" y="3733920"/>
            <a:ext cx="3351240" cy="1325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3:18:5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0:44:05Z</dcterms:modified>
  <cp:revision>24</cp:revision>
  <dc:subject/>
  <dc:title> GRAPHS AND STATISTICS:  Graphical Representations of Data</dc:title>
</cp:coreProperties>
</file>