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90EA7-29FF-4514-BA28-87037B4430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B4B70-7C73-4590-8234-3093A29BC1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08a  LINEAR EQUATIONS: Slope Intercept Form of a 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65886-761E-4349-9033-67F530B04B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203a  LINEAR EQUATIONS: Slope Intercept Form of a 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B5A06-97C0-4ABC-8122-A8F5A2EBAD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05a  LINEAR EQUATIONS: Slope Intercept Form of a 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644F5-7CFE-4098-96E2-D9790A6E91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21a  LINEAR EQUATIONS: Slope Intercept Form of a 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2411F-8687-4677-8C13-A2D34C2D5C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B559-8F95-4663-8E6C-5748D6502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C3DF-A920-40B5-8E18-D503BB8D0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F996-B3B6-4AA4-9696-9017E66C4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BBD7-807E-4082-90D1-E158DEED5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4F2C-711F-481C-BC54-6D8C34931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E939-93D8-46BE-B534-AF870171F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7320-403E-47DD-8D62-716053D97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8D62-D6E4-40C4-A518-3F5D5A296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6455-297F-4799-90D1-B101B40A3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C696-721F-4080-A54D-FE51AD4FE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882C-AF42-427A-A481-2CA5A8F01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CAF0-DCC7-47AE-AE89-DE41844C8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48CBB-0855-4E22-8189-39F6E436D8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map.org/JMAP/JMAPSolutions/LINEAR_EQUATIONS/JMAP_SOLUTIONS_SLOPE_INTERCEPT_FORM_OF_A_LINE.doc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http://www.jmap.org/JMAP/JMAPSolutions/LINEAR_EQUATIONS/JMAP_SOLUTIONS_SLOPE_INTERCEPT_FORM_OF_A_LINE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hyperlink" Target="http://www.jmap.org/JMAP/JMAPSolutions/LINEAR_EQUATIONS/JMAP_SOLUTIONS_SLOPE_INTERCEPT_FORM_OF_A_LINE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INEAR EQUATIONS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lope Intercept Form of a 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19810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5909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3429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2096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4T18:47:47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dc:language>en-US</dc:language>
  <cp:lastModifiedBy>Steve</cp:lastModifiedBy>
  <dcterms:modified xsi:type="dcterms:W3CDTF">2007-07-15T00:59:07Z</dcterms:modified>
  <cp:revision>5</cp:revision>
  <dc:subject/>
  <dc:title> LINEAR EQUATIONS:  Slope Intercept Form of a Line </dc:title>
</cp:coreProperties>
</file>