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C020-0EFA-441A-8BF2-B6AFB7A61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2512-D187-4644-BDF1-2B37317DC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4b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FF78-AFC7-42B5-A49E-55F78D5A8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6b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BAC3-96DD-4EAA-B295-45532D8B5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9465-BC19-4D1C-B3EF-96D421C3B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7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3681-3A0A-463E-B866-14D1B6762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2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EA24-573F-4C90-9FB9-5F0E5EB14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C276-D60F-4608-8176-310BEE053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9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E7A7-59D4-4398-829E-EC6FBE835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0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A91A-B16B-4863-BDCB-BBA3CBD1A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7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9B79-C59B-4089-B084-00F95DCE1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61FD-A90C-48E1-A466-5E4FDDF88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BFD-CCE5-42B3-A98E-EC03DF93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BAC-5BEE-4BFA-ACA9-F44F5650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061-5050-47BC-8187-0AD34FAA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1CE-F72E-4067-BFA6-234773B2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384-D33E-461A-A8B2-3228378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EB9-3505-4AAA-AE8E-566B1C40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922-77DA-4FDD-949E-ACF13AC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6E6-38CF-4E3F-8247-BBD38BAE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E26-81F7-478E-92C6-98A6FAAC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C9B-056A-4FDF-9451-F7410290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A07-AA3A-4102-8BF2-D099400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BB8-DDC3-43FB-ACBF-92E62CE4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9120-4DC2-4D27-8FEC-F6E9B7A2B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SYSTEMS/JMAP_SOLUTIONS_BREAK_EVE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hyperlink" Target="http://www.jmap.org/JMAP/JMAPSolutions/SYSTEMS/JMAP_SOLUTIONS_BREAK_EVE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http://www.jmap.org/JMAP/JMAPSolutions/SYSTEMS/JMAP_SOLUTIONS_BREAK_EVE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hyperlink" Target="http://www.jmap.org/JMAP/JMAPSolutions/SYSTEMS/JMAP_SOLUTIONS_BREAK_EVE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eak 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78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272040" cy="5668920"/>
          </a:xfrm>
          <a:prstGeom prst="rect">
            <a:avLst/>
          </a:prstGeom>
          <a:ln w="0">
            <a:noFill/>
          </a:ln>
        </p:spPr>
      </p:pic>
      <p:pic>
        <p:nvPicPr>
          <p:cNvPr id="57" name="Object 5" descr=""/>
          <p:cNvPicPr/>
          <p:nvPr/>
        </p:nvPicPr>
        <p:blipFill>
          <a:blip r:embed="rId3"/>
          <a:stretch/>
        </p:blipFill>
        <p:spPr>
          <a:xfrm>
            <a:off x="0" y="2994120"/>
            <a:ext cx="9090000" cy="3765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114800" cy="410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2743200" y="2286000"/>
            <a:ext cx="3772080" cy="377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8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556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2:04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34:37Z</dcterms:modified>
  <cp:revision>9</cp:revision>
  <dc:subject/>
  <dc:title> SYSTEMS:  Break Even </dc:title>
</cp:coreProperties>
</file>