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8471-FF24-4CB7-85C5-7EBA75F14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369E-C297-4E67-AE22-E7AC955EC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0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A1C-06DC-4721-BA2E-8B9869AE6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4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C183-733C-475A-ACFC-FEC8AB537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9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3630-B06C-4CEC-91A0-FA7A16911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1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CEA6-5B41-4BA1-BE5E-07DABED84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6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6226-C1D4-4E89-AC74-8B0BA9828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0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EAFE-C1D8-4659-9DC2-3008E24AC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6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6C95-F5CB-4360-9080-58B8230C2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9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3AFB-A7BF-4434-82F2-74EB7F0AE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9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5716-04A4-4C90-AB64-24861F5DA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831-02EC-4F4A-9FCF-9C4B20EB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492-2FE0-45C3-BFF5-48950A11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A5B-3E30-4C82-BE02-86A1CBD1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D18-F5B8-4528-B40F-ACF3C213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4DE-E436-44D9-ACFF-A9CF5D7A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A72-5785-431E-A510-1A23C81E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2B1-37B5-4004-A94F-0803CA3C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2B0-F7C7-48DC-B84A-7FFEA17D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FF1-087B-4746-BE4F-DA075BEA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0A1-ACA2-42E1-837A-0B7441E6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44D-E171-4AE4-8C21-28330C21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63A-E707-4E05-AC30-7ED3FD6B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AC7C-DBB9-4334-B741-205F11A3C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Using Trigonometry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e Triangle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0:29:0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3:07:58Z</dcterms:modified>
  <cp:revision>11</cp:revision>
  <dc:subject/>
  <dc:title> TRIANGLES:  Using Trigonometry to Solve Triangle Inequalities </dc:title>
</cp:coreProperties>
</file>