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0D38B-F41B-4418-867B-E91921B74D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89695-BEAF-4FFF-B3A6-CABF0F3CEA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12a  GRAPHS AND STATISTICS: Relating Graphs to Ev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8495B-6716-409F-A15B-E358F9E217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10a  GRAPHS AND STATISTICS: Relating Graphs to Ev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81328-2468-462D-963D-6A4A5D1DB1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21a  GRAPHS AND STATISTICS: Relating Graphs to Ev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85BA8-B111-4875-B559-7B4BE75C1D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14b  GRAPHS AND STATISTICS: Relating Graphs to Ev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777B0-7BC7-4DC8-821D-F7C0CE216D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1C8A-521E-40A6-822C-31494A956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A0AB-7B9F-4CE1-BDBF-F42B0886B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F68A-D11D-4045-8E25-6AD5637EF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41C8-0B64-40DA-8BC9-D4D8A5E9C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8459-713A-47BA-99BF-2F594BC7B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6311-EA9B-438B-AE21-FC2645996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45EA-CBB6-45F6-A682-83B1FC85B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33A8-7E56-4209-93FC-EA3562BA7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32E2-96F2-4F64-A515-8AF175CA0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10CA-EC85-45DB-AF1A-3937D2A7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EC99-78F6-46CC-BA84-FBC4DFA4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CE63-082D-44EF-BEA4-BE7BB2F3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155F6-8DA0-4C21-A09D-E6153E3476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GRAPHS_AND_STATISTICS/JMAP_SOLUTIONS_RELATING_GRAPHS_TO_EVENT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GRAPHS_AND_STATISTICS/JMAP_SOLUTIONS_RELATING_GRAPHS_TO_EVENT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GRAPHS_AND_STATISTICS/JMAP_SOLUTIONS_RELATING_GRAPHS_TO_EVENT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RAPHS AND STATISTIC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lating Graphs to Ev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5595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5322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5703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-2133720" y="0"/>
            <a:ext cx="8991720" cy="5116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"/>
          <p:cNvPicPr/>
          <p:nvPr/>
        </p:nvPicPr>
        <p:blipFill>
          <a:blip r:embed="rId2"/>
          <a:stretch/>
        </p:blipFill>
        <p:spPr>
          <a:xfrm>
            <a:off x="4800600" y="533520"/>
            <a:ext cx="2930400" cy="2743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1T06:40:53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07-23T21:07:21Z</dcterms:modified>
  <cp:revision>8</cp:revision>
  <dc:subject/>
  <dc:title> GRAPHS AND STATISTICS:  Relating Graphs to Events </dc:title>
</cp:coreProperties>
</file>