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0B62-A2B7-4D67-BD02-672F67322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B59-DD15-4409-A9B2-4C6ED084D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044B-4DEE-4CDA-B925-90299E383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1A3F-B4EB-4550-A667-8DF2789C1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2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13C-218B-48FF-9914-78C5D5731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D38-1875-4F9D-97C1-304AF5195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7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019B-1220-4E0D-AE16-5EB3BFC11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9938-91C6-42B5-A056-313A0E8BF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3081-EAAF-4E78-BAA5-90A5E933F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1783-738C-418C-944C-69BA9B491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4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FBC6-1C4C-49B1-9BEE-2CFB7DFDD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F1DC-A6E2-4CD0-A87D-B17B2EC4C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98F-F303-444C-B467-517AE695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F96-9090-4A58-B5B0-BBDEE0D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566-8288-4489-95B5-4EB259C6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4EA-1D5F-4417-B035-73F5909B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750-FFAE-4788-8231-2930939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F46-5FD5-446A-B336-41C7EDBC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208-B2A7-47FD-81D9-DA3F704C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A4B-2A94-450E-BD16-0A4C9BF4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52A-AD8F-432F-B0DF-12445CCF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49D-B074-42DB-A66C-8244B35B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29F-CACC-4CC9-8530-161099F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036-CC80-4EF5-8790-44C2DDF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5D8A-26A8-4729-B3AC-4FE070FD6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RATIO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9:23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3:35:24Z</dcterms:modified>
  <cp:revision>11</cp:revision>
  <dc:subject/>
  <dc:title> RATE:  Ratios </dc:title>
</cp:coreProperties>
</file>