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CE7-75FA-4497-80A7-7C2D4B287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2C7-E695-419A-9ACF-C16AF27B0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00D0-7487-4233-AF12-0ABA9B50B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30B7-1E0E-4757-A5EB-84EBF6E51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484-440E-4C86-B27A-36219577A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B814-F8F6-46A9-B8A9-D5E4BDB46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b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84F-E2EE-4E7D-9AF7-9DAF2AF6F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1AFE-EA70-4FD1-82E9-39BCC0E7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0B9-86AA-4640-A006-6C7B8ADC5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89E-2809-42A5-B0ED-C3938135B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82ED-8913-42FE-805A-0F59A9F04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6EA-5C9B-449C-B23F-A34066754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8968-D79D-4EC7-A58F-B98CB8254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B001-8267-4DE8-A8AA-C5B1AD112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206-0702-44A5-A980-541BEB6E5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299-39F1-40A0-A91F-53B49C8E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124-99B4-4275-9229-E099417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BE5-F9B8-4622-BC3E-B739B8CE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C24-83CB-4B86-9788-6DC06BC7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6EC-4383-4AEF-8338-94639D1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379-D9CE-4616-AEA0-63D1DB0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8E2-98E6-479E-A86A-CAA0868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FD1-C844-4C19-BE3A-EBA863F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48D-0FDD-4618-A3D9-20DC3147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B9D-0E64-4F94-9F9C-EE030ED1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167-069F-4E4E-9874-7BCAAE5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76F-67CD-4B89-B489-B772C12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D79-3D6B-4F3A-B2EC-FBAD6BD63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ntifying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4648320"/>
          <a:ext cx="9013680" cy="13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901368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3300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0:34:5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3:08Z</dcterms:modified>
  <cp:revision>9</cp:revision>
  <dc:subject/>
  <dc:title> TRANSFORMATIONS:  Identifying Transformations </dc:title>
</cp:coreProperties>
</file>