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6D8D-63D5-4DE0-B6A2-8A67A8D93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267D-739D-4386-9DCF-24849093E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0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7409-CD12-458D-A53B-CC114B075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3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F2AF-7D88-4328-891A-24FB17DB6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9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6EA0-667A-4C09-AC30-C7FA57139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5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525B-38C4-4806-AEE7-DD3FE365F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8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5E3-9F82-4B72-AF2C-D4B95554E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0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6D43-38D5-4EE1-B245-448FDC765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8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97F2-A703-4C53-9074-9C36E7DF0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C82-9D10-4271-AD33-15A7594A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302-9444-45D9-BCCF-8682207B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57F-71BE-43B2-B8E2-E368B321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5D1-F70B-4711-800A-9A63C859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EEC-3C5B-4846-8632-AE86710F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596-E28C-4198-82F0-446CD3A0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805-5A9C-45E4-8053-E1711C85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125-0DC6-47B5-AEC0-74173501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332-1830-4F98-B47E-EEF9FEF7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7C2-4D39-4BC1-8A42-D5094173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618-8908-4E92-A2BE-0EB6B36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E5A-2719-4D24-B6C1-F7F802A6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FBA1-BB72-41CA-A48D-0CB2583C5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LINEAR_INEQUALITIES_AND_SYSTE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LINEAR_INEQUALITIES_AND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INEQUALITIES/JMAP_SOLUTIONS_LINEAR_INEQUALITIES_AND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LINEAR_INEQUALITIES_AND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INEQUALITIES/JMAP_SOLUTIONS_LINEAR_INEQUALITIES_AND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Inequalitie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13760" cy="20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1376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137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21600" cy="623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13760" cy="64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64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899172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917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3"/>
          <p:cNvGraphicFramePr/>
          <p:nvPr/>
        </p:nvGraphicFramePr>
        <p:xfrm>
          <a:off x="0" y="0"/>
          <a:ext cx="911376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2514600" y="2819520"/>
            <a:ext cx="3740040" cy="3787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5:55:5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50:18Z</dcterms:modified>
  <cp:revision>7</cp:revision>
  <dc:subject/>
  <dc:title> INEQUALITIES:  Linear Inequalities and Systems </dc:title>
</cp:coreProperties>
</file>