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E49D-658C-419C-A7FA-7933DBC74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C591-241C-4D46-8B16-19F6E1FF6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019-9B93-4F3B-BCDA-915D9DFA4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B323-DE53-429D-87DC-1FDB3F4E6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28D4-FA56-402F-9653-D035E186B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5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CF5-6466-428F-B65C-7BFB55610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A52-1EC2-44DA-9804-535060450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0B2B-4E39-4842-9E54-D41DB0F4F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B2EC-0349-4B89-8D3D-033680A81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FD79-0F3C-4FC7-B965-A39065540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02E-08D3-4DDE-B176-21E41632B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999-2148-4FC2-8BEE-708C78750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B8B-5EF2-4A96-824E-A84BDADD5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6602-6249-4DFD-A11A-71CB99800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5159-8B5D-4154-A3C3-4C4C9B5D2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C17-8A8E-48B7-BC7E-3F9AA78D2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0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BD1-5A15-43FE-A2F4-37539D05E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074-D6B8-4035-BFAC-A97F3822A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3533-7C90-4C74-9CC2-223A358E2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69A-783D-4835-8B89-45A1C1AC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797-7AA8-4C7B-A498-262FA44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7A9-EF81-4CAF-B217-E571D51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666-4F03-4D55-8FC5-141C035E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750-B21F-4DA8-B1E8-826AB3F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063-AA79-4663-AB19-F051219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7D4-6513-44F9-AC0C-BB43755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8EA-D2EF-4536-8C1E-D52592D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0D6-F9AA-4B92-8780-5E2B72A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B31-CB54-4643-BA02-C276A05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EB3-5E3F-4B97-9AA5-B5650E4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72A-4875-4C13-A9AA-AA77979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7BEA-D60E-45FA-8EAF-DC0CF8B92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48988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5:05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9:12Z</dcterms:modified>
  <cp:revision>11</cp:revision>
  <dc:subject/>
  <dc:title> LOGIC:  Locus </dc:title>
</cp:coreProperties>
</file>