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3A5D-260B-41F9-A68F-F31923815F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43D0-3C5E-4AB4-B36D-29E3D51846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2b  FUNCTIONS: Three Views of a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579F-D00F-4815-9506-8BE18DD87A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0a  FUNCTIONS: Three Views of a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36CF-1704-405D-8A47-F748B5E655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1a  FUNCTIONS: Three Views of a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25BC-3266-498B-9E8A-2CED71B0B7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13a  FUNCTIONS: Three Views of a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0F80-3D40-46C9-AC52-957B270F68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6b  FUNCTIONS: Three Views of a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EFFF-4A74-4F33-BD67-CA4461FCDE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1b  FUNCTIONS: Three Views of a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BF7D-B750-456B-800F-2DF7763E2F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1b  FUNCTIONS: Three Views of a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ECD9-7DA7-4D79-9DC7-84418BB5DE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2b  FUNCTIONS: Three Views of a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820A-6CAD-4BA2-9027-3CBE957844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8b  FUNCTIONS: Three Views of a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0873-D463-45F8-B059-9237C8794A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10A8-C4AC-4560-9474-10511FAB0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9F88-1FAC-4FA4-B0E6-B7F5C6B9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3151-0F9E-4E78-B643-D86895066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614F-D4EA-470B-BE79-CABBCB85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546E-7C98-499C-A134-2D97A1BC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8887-94DB-4EA3-8B1F-C297CD38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5B3D-3148-493D-8EB5-30B3FD5F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A41C-DBDB-4716-8416-18675923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069B-02DF-4E68-BBC0-9B8BF3C9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3483-C725-4528-B26A-2E73A926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F04E-5511-49E4-9150-271EB1DF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35CD-6092-437B-B640-2BF52772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BDE5-00C1-419F-A8CC-4A2E861A6B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FUNCTIONS/JMAP_SOLUTIONS_THREE_VIEWS_OF_A_FUNCTION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FUNCTIONS/JMAP_SOLUTIONS_THREE_VIEWS_OF_A_FUNC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FUNCTIONS/JMAP_SOLUTIONS_THREE_VIEWS_OF_A_FUNC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FUNCTIONS/JMAP_SOLUTIONS_THREE_VIEWS_OF_A_FUNC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FUNCTIONS/JMAP_SOLUTIONS_THREE_VIEWS_OF_A_FUNC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FUNCTIONS/JMAP_SOLUTIONS_THREE_VIEWS_OF_A_FUNC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FUNCTIONS/JMAP_SOLUTIONS_THREE_VIEWS_OF_A_FUNC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UNC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ree Views of a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0" y="0"/>
          <a:ext cx="9144000" cy="484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48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768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757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367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971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0"/>
          <a:ext cx="90900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0" y="0"/>
          <a:ext cx="9144000" cy="565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65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0" y="0"/>
          <a:ext cx="914400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0" y="0"/>
          <a:ext cx="9090000" cy="101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4"/>
          <p:cNvGraphicFramePr/>
          <p:nvPr/>
        </p:nvGraphicFramePr>
        <p:xfrm>
          <a:off x="0" y="4572000"/>
          <a:ext cx="9090000" cy="105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572000"/>
                    <a:ext cx="909000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Picture 5" descr=""/>
          <p:cNvPicPr/>
          <p:nvPr/>
        </p:nvPicPr>
        <p:blipFill>
          <a:blip r:embed="rId5"/>
          <a:stretch/>
        </p:blipFill>
        <p:spPr>
          <a:xfrm>
            <a:off x="1828800" y="1143000"/>
            <a:ext cx="5410080" cy="3273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/>
          <p:cNvPicPr/>
          <p:nvPr/>
        </p:nvPicPr>
        <p:blipFill>
          <a:blip r:embed="rId6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22:19:02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2T05:21:22Z</dcterms:modified>
  <cp:revision>9</cp:revision>
  <dc:subject/>
  <dc:title> FUNCTIONS:  Three Views of a Function </dc:title>
</cp:coreProperties>
</file>