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9CA8-8BE3-445E-95D2-A47B8A71F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9C26-7BD1-43D0-B8A9-A6046D13D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8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11B7-F1A6-4B9C-A038-8C1FE304C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0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D05C-EF4E-4A4D-A0E0-62535B5A2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8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D454-6582-4A89-84E4-A036959D6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4b  TRIANGLES: Ve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FB23-9BDD-488B-A7C1-67C7F5470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4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C8EE-113F-4558-ADC6-3993D61C4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C8B-6B0C-4234-AA50-B6136899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439-4FD9-46F0-A8A7-8939AC4F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59F-1F6E-4F55-9D88-002A159F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7D7-B4EF-4936-802C-0176AECE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544-C7AB-4DD2-8105-34B6DFF0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016-2458-4B1B-891F-7D936481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EB4-64A3-4E38-9EC9-56A8C661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BBE-4BD8-40B6-B6F0-D2BF42E2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19C-DBF2-403F-9F5D-8024BF22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E65-E126-45EC-BFBC-4921DAE5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E5D-1499-4BE8-B3A7-30668FDB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D1B-6C9E-4C1E-979C-37CE8F03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C385-7D9C-495B-8A83-85D336418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0:49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09:10Z</dcterms:modified>
  <cp:revision>10</cp:revision>
  <dc:subject/>
  <dc:title> TRIANGLES:  Vectors </dc:title>
</cp:coreProperties>
</file>