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C5BE-6680-4CD2-A2B1-3764DAC6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B0F-722E-4E63-BAEA-CD464CCE2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BED4-CD14-477D-AAB7-317EB0642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F94-348B-437A-8018-01B963DB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7A72-6AB2-4A77-B20E-4616C18EE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2EB-E8FA-4670-9081-D36B4EBFE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B50-4CF6-4AC0-B42F-47D7D9AAF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3F19-29D5-4748-8413-F2B53C14C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5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421-CB97-4C3C-9611-09D0468C6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9CE-2904-4410-9CD1-F0CA9CB6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B09-4194-4C42-ADFF-26447436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510-7E89-4383-87A7-B393136D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C4-8F53-44E0-AC6B-8912C2B0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A68-6D3E-4EC4-8D6B-9A3F4DB5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E98-9B3D-43C4-B1F8-F58A7BA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D4D-998D-4202-A7F3-1098567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FF3-B81A-495B-8CC4-E88FE71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826-AA11-40DD-8F13-C657AAD3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A97-0CAB-4307-9115-7709B038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036-0678-4992-A821-6EA75F6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407-2D41-42E5-9967-CEC12B9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0139-D99B-4BE4-8405-78D31CC8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2840" y="42840"/>
          <a:ext cx="9090000" cy="30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79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34920" y="152280"/>
            <a:ext cx="910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7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43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53:36Z</dcterms:modified>
  <cp:revision>12</cp:revision>
  <dc:subject/>
  <dc:title> TRIANGLES:  Distance </dc:title>
</cp:coreProperties>
</file>