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6F4A-D6FD-447F-802D-9AEA2C075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5508-8B11-4FEB-8922-FCB193D5E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6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8E9B-6AC6-4BD5-B0DD-61DBEA812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4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DFC2-D3EB-4C9E-8AB8-181258AA4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1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EA24-3F3D-4856-868C-8FC344DE7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707-4438-4B03-B09D-0C5E4243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651-E915-4FA8-AA44-D3487456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04D-03BF-48D4-9EB0-A567CA2A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B83-7452-466E-8EA9-D755E6F1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147-0713-47D0-B469-A9F6D643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CE4-FAB2-4266-8A54-9E96D306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802-3F05-420F-A33B-07E7155E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3AC-8B8D-4911-9CDC-379E2B6F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F8B-3D7B-4DD8-B752-0AE599CD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6E2-BAC2-4110-A440-0874CFF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045-2050-4392-90DF-CCFF99BC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F83-C75B-4F7E-8CB4-92C8087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1EA9-76FD-4B80-A989-AD4979068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GEOMETRIC_PROBABILI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ometric Prob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66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778960" cy="67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78960" cy="67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10:5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3:53:31Z</dcterms:modified>
  <cp:revision>9</cp:revision>
  <dc:subject/>
  <dc:title> PROBABILITY:  Geometric Probability </dc:title>
</cp:coreProperties>
</file>