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711A-DC60-4D5A-BE46-B785C7B49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40FE-D1EB-45A6-A11D-32A9ED873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8E58-CD05-4B37-B3F2-8EB680E70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D7D-37B6-450B-ABC4-1A2247005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437-23F7-4EBC-BFE2-3CFF636F2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3C3D-7831-4D22-A32D-9EB9FFA7B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05A0-34D8-48D3-8F72-F3B5D0A8F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752-436A-49B0-A994-009DA3839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332-906E-40EB-996B-D93C04C5E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8A1A-5770-498A-9D4E-866FD31C6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B9B-9CA7-403A-9061-002FAD0B9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0C5C-9C9D-4BF7-84D1-22C528A13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CC5-3DD7-44D6-B28B-BD8DC7C14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78E-4F4B-47C5-A002-BAF303ED7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FD8-0684-47E0-934C-A4766E3B5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6019-5895-45C6-894F-A9251080F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00C-414B-4926-A3EB-45900B196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19F-52ED-4B3D-B06C-94475042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FA1-CA9C-4706-9D4A-ED54589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B3D-8634-4BFB-8A76-94C8E3D4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223-7018-42E6-A7F5-C2623AFE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82A-92AF-484A-8FAB-ACD8ED9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A5C-21D1-4823-B322-31A88DAB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BB2-2C64-4751-9BC8-8E7B005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726-3F9C-41D4-A3EA-DA18986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D3E-FDB0-4DB2-B0C5-2133B6C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F53-5A43-4A01-AF9D-290C554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796-AA38-4752-85D9-364FB90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9FB-4EDC-4FCE-98FA-0119827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7B2A-63BB-4C6E-A53E-1DE53E54A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VENN_DIAGRA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jmap.org/JMAP/JMAPSolutions/GRAPHS_AND_STATISTICS/JMAP_SOLUTIONS_VENN_DIAGRAMS.doc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GRAPHS_AND_STATISTICS/JMAP_SOLUTIONS_VENN_DIAGRAM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VENN_DIAGRAM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GRAPHS_AND_STATISTICS/JMAP_SOLUTIONS_VENN_DIAGRAM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nn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5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-2209680" y="1066680"/>
            <a:ext cx="9055080" cy="43261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3" descr=""/>
          <p:cNvPicPr/>
          <p:nvPr/>
        </p:nvPicPr>
        <p:blipFill>
          <a:blip r:embed="rId2"/>
          <a:stretch/>
        </p:blipFill>
        <p:spPr>
          <a:xfrm>
            <a:off x="0" y="3733920"/>
            <a:ext cx="9121680" cy="233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648320" y="0"/>
            <a:ext cx="3646440" cy="333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113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137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9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4:41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41:59Z</dcterms:modified>
  <cp:revision>14</cp:revision>
  <dc:subject/>
  <dc:title> GRAPHS AND STATISTICS:  Venn Diagrams </dc:title>
</cp:coreProperties>
</file>