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A347-7979-46D5-9DE2-174A2826B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D17C-1DF0-409A-A82C-9D5268E4A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3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C5FC-234A-4D07-AB96-9710B93C9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2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D4EA-DE86-4DC0-AC3A-78133E3C4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5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1607-0B68-4459-89A5-DFF558EB1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1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A885-08B2-4A1B-8EB0-2378E7C4D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1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6E8D-E506-4368-A3C0-ACA6677BE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6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F747-BEC0-40EE-90EC-7661D805B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8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DA93-0914-4B1F-A4BF-AADCEC5CA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8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5AFF-98C3-4548-8270-006C10534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2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70CF-13C8-4D87-9883-5F57E580E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7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BE06-43C1-4964-A0AA-D72BD9547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4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4C91-0195-41A5-93E6-A6EF6D5E7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3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D675-6300-4AA5-B428-98E4C0867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4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284B-4688-43AF-BE1B-3391C3DDA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3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5AD6-C526-471A-A552-D6EBF2A35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4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45C8-0DA9-4E51-9343-623131806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7B1-4086-4C4E-8E84-4A03DDC4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7DE-BE24-4CD7-A1FB-12EA906E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0F8-2CC0-4B24-8A9C-8D7A1074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89D-D181-44EC-AF00-3F9F5481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51E-7F27-45A0-856B-3B8DE521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D66-FF6C-4FBA-B116-F7C59566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A88-235B-4722-B333-277E3AED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ED5-4082-47BE-B3AF-A877CFC7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61B-5F3A-48A0-97D0-DF134BF0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3FBC-7845-41D5-ABC7-93B029E1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F19-2371-4E2E-866E-2261FDCD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353-7BE7-491B-AB84-4F3B89F5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2219-661A-428B-BC42-DE1944F71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MULTIPLICATION_COUNTING_PRINCIPL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ication Counting Princip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0378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8945640" cy="33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037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2816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0" y="0"/>
          <a:ext cx="91281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21600" cy="37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9000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0378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0378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37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12816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18:4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02:49Z</dcterms:modified>
  <cp:revision>12</cp:revision>
  <dc:subject/>
  <dc:title> PROBABILITY:  Multiplication Counting Principle </dc:title>
</cp:coreProperties>
</file>