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F8CC-99BE-4A67-87CB-DA8B5A6F2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537-C8C1-4EE2-A42A-09233C359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1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A73-8FB0-4BAB-8671-4CBB33AB5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19B-1BDD-4D57-B08C-F03D6531F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F796-9959-4C19-978A-38DE1F3AD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B58-7096-4843-A273-EB89F7259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BD5-12E1-4211-87B7-50E43820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C20-8391-47A7-92C4-0FA15DD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82B-65C0-4271-BEF2-3397A5FB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2D7-6CC6-4A6F-B190-6878139A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209-281D-4A3E-A25E-086DA13B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B07-EDF8-4E81-A493-E5DCE5C4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F6E-7B75-4277-9DE6-4F1A716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4D6-89D5-4366-A52D-2CEB8BE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A3A-DCF9-4926-AEE9-1F72BDD3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31E-C60B-44D8-BA01-8EF6B9D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EC7-09D8-44E2-B9FB-D039A98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3F3-07BD-41BF-B5A2-2DD1927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4ADB-74C9-4160-BA16-778E4B131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QUARE_ROO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QUARE_ROO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quare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216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22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4:53Z</dcterms:modified>
  <cp:revision>14</cp:revision>
  <dc:subject/>
  <dc:title> RADICALS:  Square Roots </dc:title>
</cp:coreProperties>
</file>