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A95C-A4FF-4608-8763-03C9BDCAA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248-97E4-4033-BEE1-F66CE7AFF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4EA0-8D58-43C8-ADE5-6751E20CB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604B-A834-4A7D-8FFC-826369C57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A33-F9F4-43A3-A04D-D4373BB19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BDF0-720D-407E-9DA6-04563E693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103-B1CA-4B80-A001-EB7686ACC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129-3BB6-4155-9718-A9D2DF430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8E47-0017-4EDE-8134-01E74A4C1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B3C-6EF3-4430-88C6-17B4C1E0B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C13-5324-4936-8F0C-39A229F64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300-02D9-464D-A581-AC3C5F043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81E-BDC7-4D8B-BC24-04814302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29D-BB36-4778-9FEF-2F0024A9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F39-13E3-45D6-9E3D-FE24FAA2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82E-7B3C-4175-B356-065288E6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13B-9B31-477B-90A5-DBFE5FD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DFB-7295-4182-AFA3-94B16B5C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45E-1E32-4ABC-98F1-E14B379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AD0-82F3-4721-B0F2-64675B13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92C-A0B6-4CA1-BAC0-DD461E2A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40E-467A-4267-930E-425AF0E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3F6-DBE1-49F9-AD09-20D5AB0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3AD-DAD8-44AA-BB16-ECDF1F7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2D5-4539-43B2-9F34-EFFFDF3B4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PARALLEL_AND_PERPENDICULAR_LIN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allel and Perpendicula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9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58:0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11:38:25Z</dcterms:modified>
  <cp:revision>13</cp:revision>
  <dc:subject/>
  <dc:title> LINEAR EQUATIONS:  Parallel and Perpendicular Lines </dc:title>
</cp:coreProperties>
</file>