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11A8-849E-41DA-8A34-9BC8BE018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F634-93A9-4529-9687-F497F615F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CC30-14AE-443A-9F4F-4A671C1F1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9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7A7D-49BB-4BFA-B6FD-7B1720441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536B-2560-4E3B-8984-E7ACD1814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010320a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EAF-A267-4C92-8B62-2C50556D4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C8C1-276E-42B5-A808-529B31C4E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F6D7-DD77-482E-9AF0-8BCE22C04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E2A-20A5-48BD-8A5B-F0A718C4D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AEEC-B5BA-4DD9-8472-A2996A5CB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8279-6993-4205-A3FC-05CA5F063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0A09-E313-4AEE-8BD2-CBE24DE20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0990-076B-4772-A400-399E7D0BB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DCE-810C-4202-8672-18A5B186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605-7521-400F-A6B4-9C1F8C4F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1E9-E4D3-4F93-8C55-09F8EF61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7CA-A5C4-449D-9F90-62D10791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E40-5792-4E1A-A509-29F8978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F04-4BC7-4BCC-8F9D-BFF149C3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4BC-AD21-43AE-8280-B2A9EE5D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FF4-6FA1-44CB-B2E0-1AE617A8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B26-EDB7-4390-990F-E6727E73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DB2-FA6B-4280-9A9C-FCC516B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7A4-AB46-459D-A989-5644303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3AD-87BA-4B6D-A60E-7AD1B51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B180-6DAE-4CCA-A4A9-B70552653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IG IDEAS 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3EE9-CA1D-452A-A819-CD22075BC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ANGLES_INVOLVING_PARALLEL_LIN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 Involving Parallel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527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4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2" descr=""/>
          <p:cNvPicPr/>
          <p:nvPr/>
        </p:nvPicPr>
        <p:blipFill>
          <a:blip r:embed="rId1"/>
          <a:stretch/>
        </p:blipFill>
        <p:spPr>
          <a:xfrm>
            <a:off x="0" y="0"/>
            <a:ext cx="8983800" cy="515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562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52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88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6760" cy="48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370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12" descr=""/>
          <p:cNvPicPr/>
          <p:nvPr/>
        </p:nvPicPr>
        <p:blipFill>
          <a:blip r:embed="rId1"/>
          <a:stretch/>
        </p:blipFill>
        <p:spPr>
          <a:xfrm>
            <a:off x="0" y="0"/>
            <a:ext cx="8886960" cy="512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17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8:45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0:53:19Z</dcterms:modified>
  <cp:revision>21</cp:revision>
  <dc:subject/>
  <dc:title> ANGLES:  Angles Involving Parallel Lines </dc:title>
</cp:coreProperties>
</file>