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C4D-A3D1-4C55-8593-3E4B802D9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AF74-F716-41DD-B84B-5AE1A1623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BF1E-CE3C-4269-AE71-6489B9616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a  LOGIC: Converse and Biconditiona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B57-2F03-4474-AA77-5E6AA91BD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70D2-8E2B-4F6D-9381-04D4218AE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E9F-1D6D-4A5F-8684-1D7FB693A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4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A2EC-58F2-4DF9-AD4D-E1077AD25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CCA6-B718-4C52-AD88-2400F29CE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9C0B-72F0-4CD9-8287-E64AAD2EF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DD4A-D1E2-4FE5-9BB4-15BE6A6CD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FC17-E979-4BED-B71A-38331E8BA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D643-DEBC-40DD-AD35-990F80A74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0E3D-0048-4B3A-9B2F-414D5DE4B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C06-BFB1-4FD7-B931-A59BEED5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244-FE64-498E-85CB-3FF17F0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A32-76FB-4680-B250-4623817C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A9E-BEC0-4D7D-9B69-25488F11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B57-89A3-4B07-B170-DD76F8A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C96-58B4-4703-9643-B8AF70DE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B8C-D815-44F3-9A18-C72A7504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DF0-C794-4011-8D7C-F12244E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C0D-4EBE-4534-9CB4-BCACE1C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41F-8107-43A2-B26A-51EEC9CD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F52-E383-4391-8315-D58F7C8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CEF-31AA-4CBB-BE07-BAE31009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A493-B74E-4817-A299-68096CBF6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se and Bicondi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2:15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10:11:26Z</dcterms:modified>
  <cp:revision>7</cp:revision>
  <dc:subject/>
  <dc:title> LOGIC:  Converse and Biconditional </dc:title>
</cp:coreProperties>
</file>