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0BBD-E077-4CEC-ABBF-76336FEFF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5D4D-E3F5-42E7-A86E-4D155DF3A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1a  RATE: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A6DB-65AE-42DA-BCF8-047D6B335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3a  RATE: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141E-7921-4E01-8F79-7FB3839E5D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3a  RATE: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D4BF-4764-4144-A3DF-F411B992B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4a  RATE: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605F-BACA-43B1-9025-04F289568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2a  RATE: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573A-3838-41AF-B2D0-0603548DF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9DD0-7CED-4FEE-8228-F59B19CF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727-00F2-4F71-A763-183D19B1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97A4-7CB1-4533-A380-4B4173A3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C578-339E-49E8-9ADB-7ECAE4F8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6E5F-CF0F-4B13-9E19-07D6F956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2648-60FE-46F1-A716-69FF40CE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3378-FFCF-46A0-A9BE-4D9F68A3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29A5-F636-4A78-9220-8C7024D3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8AA1-7D63-4904-82FF-3F058321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AA9C-BA09-45AB-9027-78E88F94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B6A8-0AC0-419C-9A46-5FB17491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C27F-AEF3-41EB-B3B0-0E17D048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FC1D-F8B5-46A3-B2A7-FB5AD298E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TE/JMAP_SOLUTIONS_SCALE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TE/JMAP_SOLUTIONS_SCAL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RATE/JMAP_SOLUTIONS_SCA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E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9000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97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9:58:1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6T19:58:21Z</dcterms:modified>
  <cp:revision>8</cp:revision>
  <dc:subject/>
  <dc:title> RATE:  Scale </dc:title>
</cp:coreProperties>
</file>