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641F-E5F9-4C75-A0AA-3D5F27CFBC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9BBB-DC60-4BF6-8586-9CFD6E0FDA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5b  RATIONALS: Solving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B36F-FF13-4699-8D0D-04A97A4AE3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34b  RATIONALS: Solving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7404-7E2A-4230-8F05-19221CB646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2a  RATIONALS: Solving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7C81-3629-4490-B675-224CDCB4D2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31a  RATIONALS: Solving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EC94-434A-4704-9A09-0ABE7B8AF6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2b  RATIONALS: Solving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5F98-7D28-4460-AC2C-EF9C5B1413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9a  RATIONALS: Solving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7376-6A0E-4517-8316-68E4C4A6F4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9b  RATIONALS: Solving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36E5-E551-4165-972C-D90C43F8CE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9b  RATIONALS: Solving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9579-C21E-4E52-8CB6-C19E5C0173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2b  RATIONALS: Solving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D809-B744-40E6-9E3D-FE0EBF667C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4b  RATIONALS: Solving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8115-6847-4C86-9416-6C640EEA9F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699A-57C5-405E-AEDD-2E2DF851F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741E-3235-4DBD-AED8-29D6A4AE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464C-96A4-40A3-901F-D67A83107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783B-412F-44EB-B13D-00C6C8BFC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F76A-DB72-4323-A116-AE014D5B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941E-8143-4D64-8413-159884DF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B6F8-A6D8-4A87-B5F2-0C51E913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93A9-8FBC-4BE9-AB8A-E98DA340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4574-729A-45A8-ACCD-7B5B22EB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B3DD-3293-4541-9509-201EC1E4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0C16-2473-4C4C-AFC1-F4951EA7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458B-6018-4E04-A7B0-070CBFBF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640B-8271-43FE-8595-1511245BF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RATIONALS/JMAP_SOLUTIONS_SOLVING_RATIONAL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RATIONALS/JMAP_SOLUTIONS_SOLVING_RATION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RATIONALS/JMAP_SOLUTIONS_SOLVING_RATION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RATIONALS/JMAP_SOLUTIONS_SOLVING_RATION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RATIONALS/JMAP_SOLUTIONS_SOLVING_RATION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RATIONALS/JMAP_SOLUTIONS_SOLVING_RATION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RATIONALS/JMAP_SOLUTIONS_SOLVING_RATION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RATIONALS/JMAP_SOLUTIONS_SOLVING_RATION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TIONAL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lving Ration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0" y="0"/>
          <a:ext cx="90216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0"/>
          <a:ext cx="9037800" cy="656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65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329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2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37800" cy="13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13680" cy="13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37800" cy="166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16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37800" cy="13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912816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8945640" cy="263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26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03780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10:37:52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7:34:23Z</dcterms:modified>
  <cp:revision>8</cp:revision>
  <dc:subject/>
  <dc:title> RATIONALS:  Solving Rationals </dc:title>
</cp:coreProperties>
</file>