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AAF7-8130-4646-BF52-4AF965B61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4E71-799B-4BD1-89E4-8C021BFAC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8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44A0-7B5B-4342-B64D-DF46E27D8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9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653E-D6EA-4F17-AAA4-8132BFF50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5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A541-6B4F-4EC5-864D-6DF9710E3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9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12AA-BC11-4F4B-AF3E-61FB7B86C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8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67F9-809F-4AB3-B4F5-B39D373F3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1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E56D-9C46-40F8-8646-7B28DAA0A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44A8-8B6B-40D9-A91D-67A306C5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8E0-731D-4C1C-A55E-6A3E0788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4DA-C868-48E1-8522-65DCFA06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6EE-4665-4890-B5F6-3837C761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090-C78E-40FB-94CC-EB8DF535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F61-9F08-4CF4-AE36-6D899E78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5F0-139E-48CC-B69B-BF426A08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52F-CAA5-4CE3-82D4-96229DCD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D7D-434F-4AE7-B9FF-A1024DD2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162-78ED-4EE9-A0B9-35C15BBD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FD1-474D-41A2-A798-38BC4773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2AB-2104-4706-95EA-32F41072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6EC7-EA7C-43AA-97A6-46FC215E6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LINEAR_EQUATIONS/JMAP_SOLUTIONS_STANDARD_FORM_OF_A_LINE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 Form of a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02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8:55:3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8:19:56Z</dcterms:modified>
  <cp:revision>6</cp:revision>
  <dc:subject/>
  <dc:title> LINEAR EQUATIONS:  Standard Form of a Line </dc:title>
</cp:coreProperties>
</file>