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29EA-04EC-4E15-BA31-9672987FB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4C13-B3AF-4ED1-ACC0-FAEEE1EDE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DEC7-911F-470A-9D02-85D249FBF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AFE7-A51C-45EC-B204-E3963E78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44BD-1AA8-4A49-AB8D-7BEA3537B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8F0-D22C-4A8A-9CC3-569930ADE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955-4FC9-4113-894A-FE32FE0F0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1E2B-1DE6-4C29-9CA0-D1A958412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C117-E187-45D6-B384-DD193EBD5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2C7-3EE2-4425-AF40-761177D95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3061-F764-46BA-A390-6B208D1B0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9EF-1B66-4965-BBBF-5BB2B1CA6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60F-D4D8-4034-8D82-3D881FBD7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0A8-A88D-4F83-A1CA-D9B6B6920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9ED-D21B-437A-88CC-70FA4D549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B4E-A53A-410A-B873-099EFCD45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10B6-735E-4156-8DF6-2C2521B4E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565-3AA1-4FE9-8D3E-0A04CD78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6EB-B128-4B56-A9BE-DBAE6886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804-8C34-4FC7-96FB-8AA2B67A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16B-5C1D-48DE-ABF4-A6DA824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D98-9991-43CF-BD87-8E3DFD03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540-ED15-4B12-A1E9-746C79A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88A-046C-4E1A-870A-8204DC4D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50B-C9E7-4C68-82FF-372B7E2D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490-8EE5-498C-8E48-6D4D426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B4B-98FF-4F12-B9A2-1C2A29D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7F6-CD2B-4D79-B670-5DCE58E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969-A614-470B-A704-877E3EE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D61-9F36-4DF3-B139-062F79014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w of S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-1676520" y="0"/>
            <a:ext cx="90568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334120" y="685800"/>
            <a:ext cx="2859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56:1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5:58Z</dcterms:modified>
  <cp:revision>14</cp:revision>
  <dc:subject/>
  <dc:title> TRIANGLES:  Law of Sines </dc:title>
</cp:coreProperties>
</file>