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90C-A292-4B8C-9A88-BB835727D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A27-4149-4564-A1FB-FE902FBD5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7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BEE-4460-4AE6-8966-3A4EF07EA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D22A-8F7F-4498-A820-88449465B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497-7F1C-472B-9900-88835D2C6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8F7C-9D1F-4DEC-8024-6B8E34A49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F254-5255-4EC7-9D02-3B0004C27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DD2-CECB-4477-9B3B-2B13B2236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8BD-AE2C-4902-A420-9C4A5DB07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644-E8E9-45CA-8655-96909C42F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FD55-00C1-41B9-B330-21D1CAF6F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B281-EFFB-4740-93F0-4769BB756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9B2-5F69-4B37-8305-FAC836C14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143-DC6E-40C9-85CD-CAB4FE062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4744-BB41-4341-A81C-F412927CA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4282-7373-44BD-8463-407F209F8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B99-D168-458D-A031-121DC5611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9E5-811D-4911-8B26-C1BD44E9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B67-CCFB-4245-8D18-1F3B1C1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CCF-9BF0-4A27-A3DE-683834AA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808-99C5-4FCF-B49B-5AB06281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D37-F9B7-41B5-8950-04210C1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565-7AD9-4E93-80B3-DA68A12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81B-540A-42FB-847E-5BFB0646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89C-68A4-4CED-9F94-D8B55F04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F77-C648-4345-9228-2616F3F2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C38-3CFA-460D-8651-AAE66BB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FDD-30A3-44F6-89C2-D460692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587-CF7C-4B9F-BAC6-54807A7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5881-1770-450E-93D9-8B81F0F27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CENTRAL_TENDENC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www.jmap.org/JMAP/JMAPSolutions/GRAPHS_AND_STATISTICS/JMAP_SOLUTIONS_CENTRAL_TENDENCY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ntral T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58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4400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44000" cy="38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23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58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3"/>
          <p:cNvGraphicFramePr/>
          <p:nvPr/>
        </p:nvGraphicFramePr>
        <p:xfrm>
          <a:off x="0" y="3200400"/>
          <a:ext cx="90900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87044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55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2:22:2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46:32Z</dcterms:modified>
  <cp:revision>17</cp:revision>
  <dc:subject/>
  <dc:title> GRAPHS AND STATISTICS:  Central Tendency </dc:title>
</cp:coreProperties>
</file>