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1.wmf" ContentType="image/x-wmf"/>
  <Override PartName="/ppt/media/image8.jpeg" ContentType="image/jpeg"/>
  <Override PartName="/ppt/media/image13.wmf" ContentType="image/x-wmf"/>
  <Override PartName="/ppt/media/image30.wmf" ContentType="image/x-wmf"/>
  <Override PartName="/ppt/media/image31.wmf" ContentType="image/x-wmf"/>
  <Override PartName="/ppt/media/image33.wmf" ContentType="image/x-wmf"/>
  <Override PartName="/ppt/media/image12.wmf" ContentType="image/x-wmf"/>
  <Override PartName="/ppt/media/image36.wmf" ContentType="image/x-wmf"/>
  <Override PartName="/ppt/media/image37.png" ContentType="image/png"/>
  <Override PartName="/ppt/media/image40.wmf" ContentType="image/x-wmf"/>
  <Override PartName="/ppt/media/image38.wmf" ContentType="image/x-wmf"/>
  <Override PartName="/ppt/media/image39.wmf" ContentType="image/x-wmf"/>
  <Override PartName="/ppt/media/image9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10.wmf" ContentType="image/x-wmf"/>
  <Override PartName="/ppt/media/image25.jpeg" ContentType="image/jpeg"/>
  <Override PartName="/ppt/media/image32.wmf" ContentType="image/x-wmf"/>
  <Override PartName="/ppt/media/image2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BD90-2821-484E-8EAD-83C8EE113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CC09-6CF6-49CF-8FCB-B20C4EDDA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9a  RATIONALS: Ration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74C0-8A2B-4E5A-A4ED-491AB3BA9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0a  TRANSFORMATIONS: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5B52-733A-4290-A51D-F247F11C1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1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9D01-C97C-46C3-B61E-409FD8C40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2a  LOGIC: Converse and Bicondi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4D81-3F4D-48CE-A959-21CC7041C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3a  FUNCTIONS: Three Views of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4D8D-6DF2-4572-A4C8-E7128FB6A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4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573D-2A4F-43FB-A674-EE8D8CA61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5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C413-D182-4758-8306-C33FBE9AE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6a  EQUATIONS: Transforming Form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C15B-2EEF-49FC-97D1-6AA9BE707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7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197C-1509-4E96-85FD-F7CACCB96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8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9D63-7ADD-4D05-8931-BD3BDFC5B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1a  INEQUALITIES:  Interpreting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AA41-F637-46EA-86BA-500936150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19a  TRIANGLES: Interior and Exterior Angles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17E3-7599-4CAA-8F7B-1968B00A9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0a  NUMBERS_OPERATIONS_AND_PROPERTIES_Comparing_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17B1-B594-485A-BF71-86AEB6C5F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1a  GRAPHS AND STATISTICS: Relating Graphs to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629E-2F08-4AE7-9E82-F79BF9509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2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9BB4-3DA2-4BDF-95AF-CC49E0ADF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3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3558-310E-4AFE-84D8-ECE0C44DA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4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E45D-E737-44B4-B89A-C7F0588B2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5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355A-A8F7-40C9-860A-6F086A1E3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6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893E-5827-4EE8-AA7A-3E28BE20E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7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1037-D4EE-4CB9-8293-B065EACF2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8a   ANGLES: Complementary Supplementary and Vertical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8D5E-7694-4809-A5A1-DF5EF84FC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2a  TRIANGLES: Special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A2A4-802E-4C6E-B201-59C83DE9A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29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8DC0-185F-4FC5-B323-68BFA7C12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0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B92C-6568-4426-9A92-AA17F3334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1a  RATIONALS: Solving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4E99-E1E8-4C24-A29B-31493E7F7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2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F239-069D-4E46-B036-B23ECC541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3a  CONICS: Equations of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D301-1CDB-44CA-9F51-947A3373C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4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5FE7-43D4-46D1-B0F7-A7ADED916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35a  TRIANGLES: Basic Trigonometric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036F-230D-48DE-A74E-0BD1DA1B9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3a  RADICALS: Operations with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D22B-A90E-485B-9A43-D5A35FEC0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4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67A1-1F9D-4BF4-BB33-F55400D8F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5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1CB0-3302-46A9-A20E-233CA9A0A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6a  PROBABILITY: Geometric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FF66-370F-4EF1-9341-DA2F0C6F6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7a  NUMBERS OPERATIONS AND PROPERTIES: Properties of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2FB2-8570-4C83-A106-DDAF62DCB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108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59AF-7AFC-4F75-ADB7-3525D4410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F29-8B80-4CD6-B1E0-A0F2872B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E481-81CA-45F8-823F-E31C77B0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B49-AF68-4269-8C41-C308D739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6C2-ABCF-46B1-B3AD-9D888DCC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641-909B-4A87-B05F-5BF646A4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995-E3D8-452F-9498-ECEA4907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068-66DC-4D43-911D-859C7EB4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074-56C4-4F3C-9A10-B18802A5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5A0-4802-453D-9C76-EA13D173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D53-DFF4-418F-B441-C7612B6A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518-AFCB-4D7C-8103-8758BBB7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2B8-107F-4A42-A5EC-99094D3C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F0D8-82CC-479A-AFDE-47506B1EB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jmap.org/JMAP/JMAPSolutions/RATIONALS/JMAP_SOLUTIONS_RATIONAL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jmap.org/JMAP/JMAPSolutions/FUNCTIONS/JMAP_SOLUTIONS_THREE_VIEWS_OF_A_FUNCTION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EQUATIONS/JMAP_SOLUTIONS_TRANSFORMING_FORMULA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INEQUALITIES/JMAP_SOLUTIONS_INTERPRETING_SOLU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jmap.org/JMAP/JMAPSolutions/GRAPHS_AND_STATISTICS/JMAP_SOLUTIONS_RELATING_GRAPHS_TO_EVEN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PROBABILITY/JMAP_SOLUTIONS_COMBIN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hyperlink" Target="http://www.jmap.org/JMAP/JMAPSolutions/ANGLES/JMAP_SOLUTIONS_COMPLEMENTARY_SUPPLEMENTARY_AND_VERTICAL_ANGLE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jmap.org/JMAP/JMAPSolutions/RADICALS/JMAP_SOLUTIONS_OPERATIONS_WITH_RADICAL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PROBABILITY/JMAP_SOLUTIONS_GEOMETRIC_PROBABILITY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jmap.org/JMAP/JMAPSolutions/NUMBERS_OPERATIONS_AND_PROPERTIES/JMAP_SOLUTIONS_PROPERTIES_OF_RE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1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367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76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943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24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95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0" y="0"/>
          <a:ext cx="9144000" cy="29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97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377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703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1368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31320" cy="3224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74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0" y="0"/>
            <a:ext cx="4419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science quiz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students received the following scor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 95, 95, 90, 85, 85, 85, 80, 80, 80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, 75, 75, 75, 70, 70, 65, 65, 60, 55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statistical graph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s a histogra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 stem-and-leaf plot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isplay this da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sure to title the grap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abel all axes or parts used.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495680" y="838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r type of plot requires a grid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your work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3809880" cy="38368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 flipV="1" rot="10800000">
            <a:off x="228240" y="41295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 grid is necessary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your work 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47520"/>
            <a:ext cx="91090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50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477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94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2:45:37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1 Math A Regents Exam</cp:keywords>
  <dc:language>en-US</dc:language>
  <cp:lastModifiedBy>Steve</cp:lastModifiedBy>
  <dcterms:modified xsi:type="dcterms:W3CDTF">2007-07-16T02:41:53Z</dcterms:modified>
  <cp:revision>6</cp:revision>
  <dc:subject/>
  <dc:title>JMAP 0101ExamA Slideshow</dc:title>
</cp:coreProperties>
</file>