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4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13.wmf" ContentType="image/x-wmf"/>
  <Override PartName="/ppt/media/image48.wmf" ContentType="image/x-wmf"/>
  <Override PartName="/ppt/media/image41.wmf" ContentType="image/x-wmf"/>
  <Override PartName="/ppt/media/image8.jpeg" ContentType="image/jpeg"/>
  <Override PartName="/ppt/media/image40.wmf" ContentType="image/x-wmf"/>
  <Override PartName="/ppt/media/image30.wmf" ContentType="image/x-wmf"/>
  <Override PartName="/ppt/media/image42.wmf" ContentType="image/x-wmf"/>
  <Override PartName="/ppt/media/image31.wmf" ContentType="image/x-wmf"/>
  <Override PartName="/ppt/media/image43.wmf" ContentType="image/x-wmf"/>
  <Override PartName="/ppt/media/image44.png" ContentType="image/png"/>
  <Override PartName="/ppt/media/image45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4.wmf" ContentType="image/x-wmf"/>
  <Override PartName="/ppt/media/image39.wmf" ContentType="image/x-wmf"/>
  <Override PartName="/ppt/media/image9.wmf" ContentType="image/x-wmf"/>
  <Override PartName="/ppt/media/image46.wmf" ContentType="image/x-wmf"/>
  <Override PartName="/ppt/media/image36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11.jpeg" ContentType="image/jpeg"/>
  <Override PartName="/ppt/media/image23.wmf" ContentType="image/x-wmf"/>
  <Override PartName="/ppt/media/image7.wmf" ContentType="image/x-wmf"/>
  <Override PartName="/ppt/media/image5.wmf" ContentType="image/x-wmf"/>
  <Override PartName="/ppt/media/image35.wmf" ContentType="image/x-wmf"/>
  <Override PartName="/ppt/media/image28.wmf" ContentType="image/x-wmf"/>
  <Override PartName="/ppt/media/image3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C103B-E11A-43DC-80ED-F2D9AA1B61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6E672-4238-454E-87A5-E7956F702C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09a  TRANSFORMATIONS: Trans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9BAA4-E1E0-40FF-8267-9056C36DCD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10a  TRANSFORMATIONS: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A6D6B-D1B5-47A2-9AE2-826C48B296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11a  POWERS: Zero and Negative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103C-0C19-4A92-B411-5F2AA3A4EE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12a  NUMBERS_OPERATIONS_AND_PROPERTIES_Comparing_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18553-9226-49DD-95DE-5EE54B56C6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13a  LOGIC: Contrapos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4BBA8-EDA7-47E7-9155-D2B896C99C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14a  OTHER POLYGONS: Interior and Exterior Angles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ED3E3-D73D-4754-9AE8-CC91FFF3B6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15a  PROBABILITY: Comb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326D1-E7C4-4EE8-9589-1536B9795C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16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F4A94-3D2E-4051-A9F6-73180AE0EB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17a  TRIANGLES: Perimeter and Area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A0C04-69F4-417E-B4D4-4FA315FC62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18a  NUMBERS_OPERATIONS_AND_PROPERTIES_Absolute_Val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E7D7E-25AD-409C-B782-43284725E6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01a  LOGIC: Logical Reaso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E69AE-CA2B-4C15-A738-5E27AF81CB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19a  GRAPHS AND STATISTICS: Venn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C5192-E3EC-4578-8BAB-DEB04EDCC9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20a  QUADRATICS: Solving Quadratic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9EDE0-C228-47BF-B305-69B7DBBD7F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21a  TRIANGLES: Perimeter and Area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E71F0-5CF0-454D-ADF2-444B21EC38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22a  LINEAR EQUATIONS: Parallel and Perpendicular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7E8CF-8835-4811-A4C5-77E38EB635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23a  QUADRATICS: Operations with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6B5F0-CF45-4331-B90F-776802D777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24a  TRIANGLES: D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07788-843B-41EA-AADB-E365D56700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25a  PROBABILITY: Probability of Multiple Ev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4FD33-6C6F-49D7-8FDF-A886491DF6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26a  NUMBERS_OPERATIONS_AND_PROPERTIES_Comparing_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B2883-E435-4BC6-8AFF-2339A9F382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27a  LOGIC: L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344A1-3F2C-499A-92C8-8E3056B3C2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28a  INEQUALITIES: Linear Inequalities and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9FB63-CDA0-480E-8D65-A2F5C03670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02a  ANGLES: Angles Involving Parallel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099B7-A3EF-42A1-AF85-FA28037088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29a  POWERS: Operations with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A3AEF-FFD4-4464-8EF8-B84C85BA27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30a  RADICALS: Simplifying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4B23-AE7A-496A-94B1-E6324F22BC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31a  TRIANGLES: Basic Trigonometric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75452-6D2E-442A-9E85-822D8C0247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32a  SOLIDS AND SIMILARITY: Simi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F9E0C-ABC1-4F0D-BF74-6547B5E439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33a  OTHER POLYGONS: Special Quadrilat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6B3E3-FCAF-48E9-968C-112222C377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34a  TRIANGLES: Triangl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19867-AE5A-462B-8CD1-20407CF315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35a  GRAPHS AND STATISTICS: Graphical Representations of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17BCA-2DCE-4B36-B04D-04750375C1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36a  INEQUALITIES:  Interpreting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0ABD4-B158-4E95-AA20-EE069A48C6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37a  SOLIDS AND SIMILARITY: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1EB0C-843D-4FFB-ADE1-9A250173D3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38a  TRIANGLES: Interior and Exterior Angles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B3062-4D82-4F59-97F4-6214318646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03a  PROBABILITY: Multiplication Counting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B1275-3124-4640-821A-F0C9F3247F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39a  SYSTEMS: Writing Systems of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966DE-B431-45ED-B870-2D36E046E1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04a  GRAPHS AND STATISTICS: Graphical Representations of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6C8EE-B3F6-4C06-97C6-7B32B91CB6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05a  SOLIDS AND SIMILARITY: Simi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62956-175B-45FE-ADE1-6CBA691937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06a  NUMBERS OPERATIONS AND PROPERTIES: Properties of Integ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77915-673C-4014-BA36-5B1F18A314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07a  EQUATIONS: Combin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655DD-612F-45C1-AD7E-70C464E717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508a  TRIANGLES: Pythago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E184F-299D-48DF-B5C8-6E092F2B8F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ABCA-C16C-495C-8F2B-2A715E667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49F5-6ACD-4E2A-BDC8-7E9CDEB67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A073-A785-42B9-92BF-A07DDD948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38E4-84F1-48B9-AC8C-46DF7DC99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EE08-BB82-4C36-9CA9-84ED728D4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AECE-7237-4A5F-8C8C-28D3CBC6D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1585-A76D-4365-AB8E-CAE6F2DA7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DD1B-9CC9-485E-8512-6BB6CB808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BCC0-8BB7-46D2-8636-BD7D7FCBC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282C-780E-4228-B800-F4E8F13D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2F1F-745E-4D33-8247-2244FF74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7956-BF43-4D34-84D8-39088C2E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4F1DE-3757-4FCA-B8C3-CD7DDA1200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hyperlink" Target="http://www.jmap.org/JMAP/JMAPSolutions/POWERS/JMAP_SOLUTIONS_ZERO_AND_NEGATIVE_POWERS.doc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hyperlink" Target="http://www.jmap.org/JMAP/JMAPSolutions/NUMBERS_OPERATIONS_AND_PROPERTIES/JMAP_SOLUTIONS_COMPARING_REALS.doc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hyperlink" Target="http://www.jmap.org/JMAP/JMAPSolutions/PROBABILITY/JMAP_SOLUTIONS_COMBINATIONS.doc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hyperlink" Target="http://www.jmap.org/JMAP/JMAPSolutions/NUMBERS_OPERATIONS_AND_PROPERTIES/JMAP_SOLUTIONS_PROPERTIES_OF_REAL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hyperlink" Target="http://www.jmap.org/JMAP_RESOURCES_BY_TOPIC.htm" TargetMode="External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hyperlink" Target="http://www.jmap.org/JMAP/JMAPSolutions/GRAPHS_AND_STATISTICS/JMAP_SOLUTIONS_VENN_DIAGRAMS.doc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hyperlink" Target="http://www.jmap.org/JMAP/JMAPSolutions/QUADRATICS/JMAP_SOLUTIONS_SOLVING_QUADRATICS_BY_FACTORING.doc" TargetMode="External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hyperlink" Target="http://www.jmap.org/JMAP/JMAPSolutions/LINEAR_EQUATIONS/JMAP_SOLUTIONS_PARALLEL_AND_PERPENDICULAR_LINES.doc" TargetMode="External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hyperlink" Target="http://www.jmap.org/JMAP/JMAPSolutions/QUADRATICS/JMAP_SOLUTIONS_OPERATIONS_WITH_POLYNOMIALS.doc" TargetMode="External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hyperlink" Target="http://www.jmap.org/JMAP/JMAPSolutions/PROBABILITY/JMAP_SOLUTIONS_PROBABILITY_OF_MULTIPLE_EVENTS.doc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hyperlink" Target="http://www.jmap.org/JMAP/JMAPSolutions/NUMBERS_OPERATIONS_AND_PROPERTIES/JMAP_SOLUTIONS_COMPARING_REALS.doc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hyperlink" Target="http://www.jmap.org/JMAP/JMAPSolutions/INEQUALITIES/JMAP_SOLUTIONS_LINEAR_INEQUALITIES_AND_SYSTEMS.doc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hyperlink" Target="http://www.jmap.org/JMAP/JMAPSolutions/ANGLES/JMAP_SOLUTIONS_ANGLES_INVOLVING_PARALLEL_LINES.doc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hyperlink" Target="http://www.jmap.org/JMAP/JMAPSolutions/POWERS/JMAP_SOLUTIONS_OPERATIONS_WITH_POWERS.doc" TargetMode="External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jmap.org/JMAP/JMAPSolutions/PROBABILITY/JMAP_SOLUTIONS_MULTIPLICATION_COUNTING_PRINCIPLE.doc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GRAPHS_AND_STATISTICS/JMAP_SOLUTIONS_GRAPHICAL_REPRESENTATIONS_OF_DATA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http://www.jmap.org/JMAP/JMAPSolutions/NUMBERS_OPERATIONS_AND_PROPERTIES/JMAP_SOLUTIONS_PROPERTIES_OF_INTEGERS.doc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hyperlink" Target="http://www.jmap.org/JMAP/JMAPSolutions/EQUATIONS/JMAP_SOLUTIONS_COMBINING_LIKE_TERM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hematics 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anuary 200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67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44080" y="5715000"/>
            <a:ext cx="799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023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532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1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132840" cy="1687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068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1893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886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191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064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44080" y="5715000"/>
            <a:ext cx="799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48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Object 4" descr=""/>
          <p:cNvPicPr/>
          <p:nvPr/>
        </p:nvPicPr>
        <p:blipFill>
          <a:blip r:embed="rId1"/>
          <a:stretch/>
        </p:blipFill>
        <p:spPr>
          <a:xfrm>
            <a:off x="0" y="0"/>
            <a:ext cx="9129600" cy="5629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666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86800" y="6205680"/>
            <a:ext cx="45720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124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Object 2" descr=""/>
          <p:cNvPicPr/>
          <p:nvPr/>
        </p:nvPicPr>
        <p:blipFill>
          <a:blip r:embed="rId1"/>
          <a:stretch/>
        </p:blipFill>
        <p:spPr>
          <a:xfrm>
            <a:off x="65160" y="0"/>
            <a:ext cx="9078840" cy="2046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"/>
          <p:cNvPicPr/>
          <p:nvPr/>
        </p:nvPicPr>
        <p:blipFill>
          <a:blip r:embed="rId2"/>
          <a:stretch/>
        </p:blipFill>
        <p:spPr>
          <a:xfrm>
            <a:off x="2630520" y="2362320"/>
            <a:ext cx="3236760" cy="4135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Object 2" descr=""/>
          <p:cNvPicPr/>
          <p:nvPr/>
        </p:nvPicPr>
        <p:blipFill>
          <a:blip r:embed="rId1"/>
          <a:stretch/>
        </p:blipFill>
        <p:spPr>
          <a:xfrm>
            <a:off x="0" y="11160"/>
            <a:ext cx="9090000" cy="65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767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8195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5224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32840" cy="1541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963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8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03:25:08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cp:keywords>January 2005 Math A Regents Exam</cp:keywords>
  <dc:language>en-US</dc:language>
  <cp:lastModifiedBy>Steve</cp:lastModifiedBy>
  <dcterms:modified xsi:type="dcterms:W3CDTF">2007-07-16T02:43:36Z</dcterms:modified>
  <cp:revision>6</cp:revision>
  <dc:subject/>
  <dc:title>JMAP 0105ExamA Slideshow</dc:title>
</cp:coreProperties>
</file>