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CF34-AC14-4057-8F56-5523AABCF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98FA-62DB-43D4-8121-FABFF54C2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9a 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2F7F-7A67-4891-BF08-063DAA1CF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0a 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F9DE-A3FB-43D2-9B06-BDFAF016B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1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BAC-0DC6-4DC0-8A4A-A2CE83E2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2a  IDENTIFYING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612-F8A5-4F3A-AE79-EFCBC16F0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3a 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644-AA5C-4417-8263-5A247D22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4a 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234-97E9-404D-8311-4D81D70FE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5a 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4460-3FB2-421B-9CB2-3B9292B36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6a   COMPARING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9403-A93D-4C4D-ABEC-7E455EAEB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7a 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5F18-0DDE-4D7F-8FB3-4951C3616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8a 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2B6-F730-485B-9C7F-D32ADD254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1a 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906A-4315-4ED2-8D35-5794FD9B9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19a 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4B92-1967-4120-B238-B48E1AC3D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0a 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C135-3A94-4F06-90F9-341CAB8A8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1a 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44D-45D5-411B-BF4D-DD7AA1B01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2a 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DBB-6EEC-4351-8F16-8B9EC5808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3a 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A413-0CF7-43AD-9D82-561CE6513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4a 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123-4655-44B8-B5F6-1D00951BD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5a 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6EA-DA8C-4A4E-ADE7-3D798EAA9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6a 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B8DC-4A54-47E0-A068-C9FCF9E75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7a 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F90-7347-4523-8769-EC646E26F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8a  LINEAR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555-BDF8-4BBF-9E19-E2D4BF7DE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2a 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268-22F1-4CE0-ADFD-89F345208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29a 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77F-F789-43C0-B9DE-48B713229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0a 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E56-6947-4F7B-8CC9-B1302BD1E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1a 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B91-584C-4C64-84FD-2EDA9E2E7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2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5F22-8632-4453-927D-45AFC8461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3a 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572B-3D37-45C3-988C-04E10E5D8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4a 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81A-0E8A-46C5-B55C-A8206E27F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5a 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3A39-D863-4B1B-AC6B-E10936283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6a 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FC6-2977-474B-81BD-83D0A1B7B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7a 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EB1B-0A94-4FC1-9085-CC1C92D02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8a 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33B-E5C6-4C71-A519-8197498E1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3a 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019E-CCBC-498D-A241-8BF8A7FE2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39a 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BAA-7E05-43BC-ADE1-6578C4C69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4a 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2FE-1740-4C4C-B44D-EAC3F7564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5a 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98CC-8447-46FF-BCAB-812BF81F6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6a 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674-DB68-4B0F-B4D4-3765C3170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7a 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8C0E-B442-4246-9C20-5B95BEE18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808a  SOLVING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599-024D-45FB-A745-50ED5DB02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67D-75FF-4224-9621-C4D0623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5AF-69EB-4584-9D38-6230892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C6E-D439-4744-B5D1-9F60413A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F9D-77EB-4343-AE9B-A79A318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44A-4E4C-4324-953B-9779584C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F7A-97E6-42AB-9F08-6CC5EDF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3D1-65A7-4DDE-A7C7-4E454E7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2AF-10EE-4CB3-AD82-D93D4984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48E-EC45-4A29-B059-9A0C2B8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9DE-57A6-4ADB-90FF-ACFF25A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28D-1D02-4860-94AE-7D37B1A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EB3-8A79-4160-9C59-8F4665B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FAC-E03F-4C95-8B68-E1FD4A191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map.org/JMAP/JMAPArchives/EXAMSOLUTIONS/MATHA/0108mathasol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835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89312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886200" cy="1039680"/>
          </a:xfrm>
          <a:prstGeom prst="rect">
            <a:avLst/>
          </a:prstGeom>
          <a:ln w="0">
            <a:noFill/>
          </a:ln>
        </p:spPr>
      </p:pic>
      <p:pic>
        <p:nvPicPr>
          <p:cNvPr id="67" name="Object 3" descr=""/>
          <p:cNvPicPr/>
          <p:nvPr/>
        </p:nvPicPr>
        <p:blipFill>
          <a:blip r:embed="rId3"/>
          <a:stretch/>
        </p:blipFill>
        <p:spPr>
          <a:xfrm>
            <a:off x="0" y="2514600"/>
            <a:ext cx="9128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7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048120" y="990720"/>
            <a:ext cx="3071520" cy="3151080"/>
          </a:xfrm>
          <a:prstGeom prst="rect">
            <a:avLst/>
          </a:prstGeom>
          <a:ln w="0">
            <a:noFill/>
          </a:ln>
        </p:spPr>
      </p:pic>
      <p:pic>
        <p:nvPicPr>
          <p:cNvPr id="84" name="Object 4" descr=""/>
          <p:cNvPicPr/>
          <p:nvPr/>
        </p:nvPicPr>
        <p:blipFill>
          <a:blip r:embed="rId3"/>
          <a:stretch/>
        </p:blipFill>
        <p:spPr>
          <a:xfrm>
            <a:off x="0" y="4495680"/>
            <a:ext cx="91440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9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3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3526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276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65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2886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7196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254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3800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7800" cy="6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88620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Object 4" descr=""/>
          <p:cNvPicPr/>
          <p:nvPr/>
        </p:nvPicPr>
        <p:blipFill>
          <a:blip r:embed="rId3"/>
          <a:stretch/>
        </p:blipFill>
        <p:spPr>
          <a:xfrm>
            <a:off x="0" y="3946680"/>
            <a:ext cx="91281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4:20:09Z</dcterms:created>
  <dc:creator>Steve Watson</dc:creator>
  <dc:description/>
  <dc:language>en-US</dc:language>
  <cp:lastModifiedBy>Steve</cp:lastModifiedBy>
  <dcterms:modified xsi:type="dcterms:W3CDTF">2008-04-12T21:26:49Z</dcterms:modified>
  <cp:revision>38</cp:revision>
  <dc:subject/>
  <dc:title>Slide 1</dc:title>
</cp:coreProperties>
</file>