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2.wmf" ContentType="image/x-wmf"/>
  <Override PartName="/ppt/media/image3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11.wmf" ContentType="image/x-wmf"/>
  <Override PartName="/ppt/media/image23.wmf" ContentType="image/x-wmf"/>
  <Override PartName="/ppt/media/image9.jpeg" ContentType="image/jpeg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12.jpeg" ContentType="image/jpeg"/>
  <Override PartName="/ppt/media/image34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2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BCBC-A8CB-4311-8C88-369FDC6DC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E20D-DC39-40FF-A194-290B8EC72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9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B029-F812-4CB5-988D-6F9E65165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0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8565-D879-4F0B-9770-A395587EE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1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60A0-BC1E-4A54-801C-D49269519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2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6E91-1D75-4448-BB1A-E13356EAA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3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6593-81E2-4CB6-9EC6-029A79F00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4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497E-1DD8-405D-9356-49B85ECC4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5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1873-0614-4721-8D9F-ED888A70F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6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32A3-FB09-49EC-A506-100598132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7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AF85-C7C6-45A2-B637-872107984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8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7F46-BD8F-4819-ACEB-D9882E25C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1a  SOLIDS AND SIMILARITY: Classifying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8310-6001-4AB2-9FAA-63121008E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19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0AB0-C5B1-4B69-BB43-1F5D78974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0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F94C-304A-44A9-97C7-8C22B7444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A913-32F0-4E4F-BB04-00A345B57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2a  PROBABILITY: Sampl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9CF0-8B9A-487E-869B-B165127B4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3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E8B8-6A47-4632-A774-2FE5C5048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4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5FE4-E8F6-4E32-8A32-E7E85B286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5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82C0-D093-41DF-9623-901094775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6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EEF7-2821-4D4D-91E0-FACA789C8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7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6201-FCBC-4B36-8F06-99CF53D9A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8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1BB4-3347-4099-844C-5BE83153B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2a  RADICALS: Simplify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0A7B-7932-43BC-B3A5-8A4534E09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29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C987-5AEC-46BD-B2BA-C96A15C18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0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2149-35A4-4C16-ABF8-B722DD582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1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0E0A-C87F-40FB-8683-8E15A0514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2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76E1-E37C-4664-9DCD-186BFF692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3a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725F-387D-4C3A-9E19-60632017A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4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462C-1B98-4A51-AF5B-28B0E41F0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35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7220-FC37-45F3-A369-E8AD87A0C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3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6827-3721-4076-83F4-F4BB7232B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4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3A66-1E96-406C-AF6E-7F274B29C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5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1163-D20B-420D-9553-E262142C3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6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BF34-600E-4D6C-8434-FD655C69C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7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0E41-4C4C-4BD1-A9D5-C1E202F4F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9908a  FUNCTIONS: Fahrenheit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A4DD-0321-44FF-B63F-C3611C55A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1DF-2F3B-4F14-939A-F6EF89B2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686-7214-4377-8726-0E2030BD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95E-E941-4990-8741-718466EC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AAEA-392C-4E9E-A0F8-28A0BFD9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F2B-900E-4291-876A-79347EE0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9F5-18E9-4E84-B422-32D046D8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519-99EF-4F48-9731-7AE3F9D0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922-96E7-40BB-89B2-851FBF57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D58-72D5-4149-B446-C747F441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64E-369F-4B0C-A6A9-82D96E80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8D7F-30A4-4F83-96F8-1D398ACC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148-BA80-4B5B-AD7B-C8570277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8738-E66E-4F86-90D3-8509B3E3C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INEQUALITIES/JMAP_SOLUTIONS_INTERPRETING_SOLUT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LINEAR_EQUATIONS/JMAP_SOLUTIONS_STANDARD_FORM_OF_A_LINE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PROBABILITY/JMAP_SOLUTIONS_SAMPLE_SPACE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jmap.org/JMAP/JMAPSolutions/RADICALS/JMAP_SOLUTIONS_SIMPLIFYING_RADICAL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FUNCTIONS/JMAP_SOLUTIONS_FAHRENHEIT_CONVERS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199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12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0" y="0"/>
          <a:ext cx="9144000" cy="277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12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06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914400"/>
            <a:ext cx="91090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79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9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717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781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89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419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11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25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2:13:0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1999 Math A Regents Exam</cp:keywords>
  <dc:language>en-US</dc:language>
  <cp:lastModifiedBy>Steve</cp:lastModifiedBy>
  <dcterms:modified xsi:type="dcterms:W3CDTF">2007-07-16T02:50:53Z</dcterms:modified>
  <cp:revision>4</cp:revision>
  <dc:subject/>
  <dc:title>JMAP 0899ExamA Slideshow</dc:title>
</cp:coreProperties>
</file>