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29.wmf" ContentType="image/x-wmf"/>
  <Override PartName="/ppt/media/image19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23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33.jpeg" ContentType="image/jpeg"/>
  <Override PartName="/ppt/media/image3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1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1.jpeg" ContentType="image/jpe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3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C67D-B057-43E1-87FE-45CD35B0E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9A5B-89B2-4900-8631-FF292A50B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C73-3A9D-4E51-8590-7F3AFE7D1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0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B65-D6B4-4385-845B-AF57773AB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1D6-7877-4AC1-B00A-D5CD131D3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2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77B-DBFD-4545-AE08-9A469129F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3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3A3-4F54-4997-81B0-45A33089C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4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F92E-5615-4578-949D-A910F49E5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5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746-74E2-4E71-B1F2-6290D8C23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6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B7F5-6151-4928-A3B8-83476FD60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7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13B9-1AD7-42BC-9A2F-904321C27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6642-24A5-470C-B89C-B3E263FA6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1A7-F8D2-45CB-A6D0-7F24E68E5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1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6047-0823-4D02-857F-D668DFCE2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0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8CB8-FF81-4285-8461-C56C6A5DC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1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8C5-8EAD-413A-A8C2-DD31D82C3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F22-B8B1-4167-B488-2E26D031B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3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216-DA88-4CB3-9311-5A9B1B112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4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2F9D-7AB7-4ABF-AEE4-216C7B30F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BBA-FF9C-4325-8B95-725A6DDAF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1836-03A8-4136-8BDE-5530A91DF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8F41-0655-4D8F-8860-7E8579AA4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8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037-B783-48AD-9D97-239E12BC5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2E7-BCF2-4584-8FD4-0E799E77D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29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DC8B-2ACD-46C6-A182-424117102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0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0A8-8D8E-44B8-A539-6144A024B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061C-9020-48FD-9071-828334DBF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364-697A-49B3-ADE4-A2669B1BA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3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F9F-2B60-4F32-B5C5-4F955AB0E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4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4E18-C517-4377-9F8B-4F6FEFD85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669A-5785-497F-8480-6A9F8FC90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B01-192A-4AB4-AB39-4B3592060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4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FFDE-08A9-4ADA-8025-09F7950DC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C0E3-C09A-45F4-A375-4B64C3B15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968F-50D4-4CFB-8DAD-147EB94C8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7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1930-194E-4B45-9C47-81E635185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F1B0-1392-4F8C-9634-DE1CB8E65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68C-5762-4CBD-8BF9-601EBEE7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30E-EA40-40BA-816C-66EA845C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7E3-E514-417D-B01E-32CB0BA0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3DA-AC3A-457C-9BC8-1FE30595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449-6544-4F32-BE47-670AB56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C9C-F999-4C57-B489-418C2A8B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02C-FF75-4B38-9C3E-1431FFAA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C41-4C2F-4817-AED2-8D87D41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CCF-38B0-4DB4-A92C-C72ADC1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8DF-869F-4197-AE4D-52A5785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259-29D6-4B97-97A8-0D1E041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7FB-629E-4D81-B040-03B3319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932-25B1-4D2A-9EBC-38D046BC4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03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87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7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361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417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7408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32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62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4114800" cy="410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14:5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3 Math A Regents Exam</cp:keywords>
  <dc:language>en-US</dc:language>
  <cp:lastModifiedBy>Steve</cp:lastModifiedBy>
  <dcterms:modified xsi:type="dcterms:W3CDTF">2007-07-16T02:46:42Z</dcterms:modified>
  <cp:revision>4</cp:revision>
  <dc:subject/>
  <dc:title>JMAP 0603ExamA Slideshow</dc:title>
</cp:coreProperties>
</file>