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jpeg" ContentType="image/jpeg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0.wmf" ContentType="image/x-wmf"/>
  <Override PartName="/ppt/media/image12.jpeg" ContentType="image/jpeg"/>
  <Override PartName="/ppt/media/image33.wmf" ContentType="image/x-wmf"/>
  <Override PartName="/ppt/media/image8.wmf" ContentType="image/x-wmf"/>
  <Override PartName="/ppt/media/image40.png" ContentType="image/png"/>
  <Override PartName="/ppt/media/image13.wmf" ContentType="image/x-wmf"/>
  <Override PartName="/ppt/media/image30.wmf" ContentType="image/x-wmf"/>
  <Override PartName="/ppt/media/image37.png" ContentType="image/png"/>
  <Override PartName="/ppt/media/image41.wmf" ContentType="image/x-wmf"/>
  <Override PartName="/ppt/media/image42.png" ContentType="image/png"/>
  <Override PartName="/ppt/media/image25.wmf" ContentType="image/x-wmf"/>
  <Override PartName="/ppt/media/image43.wmf" ContentType="image/x-wmf"/>
  <Override PartName="/ppt/media/image44.wmf" ContentType="image/x-wmf"/>
  <Override PartName="/ppt/media/image29.wmf" ContentType="image/x-wmf"/>
  <Override PartName="/ppt/media/image38.jpeg" ContentType="image/jpeg"/>
  <Override PartName="/ppt/media/image31.wmf" ContentType="image/x-wmf"/>
  <Override PartName="/ppt/media/image7.jpeg" ContentType="image/jpeg"/>
  <Override PartName="/ppt/media/image6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wmf" ContentType="image/x-wmf"/>
  <Override PartName="/ppt/media/image32.wmf" ContentType="image/x-wmf"/>
  <Override PartName="/ppt/media/image34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7A7C-05EC-4E15-9A86-F378980FE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3C5D-D02F-4917-BFA5-4193A11B0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9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12FC-9793-4990-AB15-1C9BED206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0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4DE8-1F92-40B4-AE2F-4F17AE7E5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1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2B19-457C-4F39-9543-2F70312CA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BA9D-3E7F-42F0-9B15-51ABB6D9D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3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06E5-933A-4F52-8968-97E4C82A8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4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3D21-84FA-41C2-977D-6F9DB144E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5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32C2-1BE6-4ECF-9B9C-311535810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6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6FAE-3A6F-417C-A81D-815AA2AD4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7b 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D136-825B-4BAC-832F-C404A9914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8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BBCC-C2F6-4A6C-8C4F-2B7CB3105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1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AD35-9347-4332-AD5E-E3CC66ADE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9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5B37-08D9-473F-A880-ABA4A7CB8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0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D222-99A5-4CB0-9D8B-292176688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1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A388-6B36-4679-8C1D-1A6895D04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B8EF-83EE-4824-B3BE-9E4B1BD60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5E52-1827-4EE8-813C-6E61D3826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4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16DC-2273-4C40-835A-48315D826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5b  FUNCTIONS: Graph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483A-4F98-474F-8386-E1FD3F75E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6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2D4B-EB01-4064-815A-64D049184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7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2B41-4F51-4AE7-B668-DB5603AD6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8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989D-FB46-4FA5-B8F8-C2B315EC6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1A60-D580-4449-8F51-CF229BDB7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9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423D-8D41-4840-B70C-A80343FC1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0b  POWERS: Graphing Logarithm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BF5F-265B-41DD-A0F6-BDCC40D00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1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4C05-BA41-4A22-B19D-621120CA2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2b  INEQUALITIES: Trigonometr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83FF-53FD-46C4-A469-50F2C8D3D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3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E8BD-E404-42AB-9EE4-B84CF0258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D52E-BF6A-4B8D-9CD2-3A42E785C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3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BEF4-C77A-40A4-8142-44474FB5F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4b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4566-ECA7-4FE4-BB3F-657DCC7CB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5b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36A8-54E3-4FE5-8E71-32B291713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6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1A88-7F4B-42B7-8FAD-9A5CDFE32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7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BCFC-E83F-4929-84AD-FFB0F3E12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8b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FCDA-61E6-40C3-BEA4-92DE64DB5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3CD-AA7B-4CF8-AA8B-726412C3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484-232B-4E3B-9FC0-81D3F738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9E5-6194-46B1-8238-AC7A7073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953-3F32-44D4-AFE2-A190B4F3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619-23A8-47B8-9F1E-95B648BF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856-2D0E-4104-8147-835262E4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648-6623-4512-9BAB-977D7EC6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48D-6302-463A-AEA9-2AC3FE67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46B-9A28-481C-827E-301B04A8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06B-4C84-4905-B103-638E5D63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C3E-2B38-49D6-8D09-4E5A2E23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C46-4884-449F-83AD-886A1A89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3A11-ECC1-4A3C-AF3D-0F01D6E29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FUNCTIONS/JMAP_SOLUTIONS_GRAPH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RADICALS/JMAP_SOLUTIONS_SOLVING_RADICAL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RATIONALS/JMAP_SOLUTIONS_SOLVING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13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34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47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35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19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0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1992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-22320" y="0"/>
            <a:ext cx="9090000" cy="3821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1440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5621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714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119160"/>
            <a:ext cx="9101160" cy="673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2598480" cy="263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717040" y="6248520"/>
            <a:ext cx="426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94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276720" cy="3270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-2209680" y="0"/>
            <a:ext cx="9078840" cy="373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4419720" y="838080"/>
            <a:ext cx="3809880" cy="3918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69400" cy="6118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56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17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00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8:32:2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5 Math A Regents Exam</cp:keywords>
  <dc:language>en-US</dc:language>
  <cp:lastModifiedBy>Steve</cp:lastModifiedBy>
  <dcterms:modified xsi:type="dcterms:W3CDTF">2007-07-16T02:58:38Z</dcterms:modified>
  <cp:revision>4</cp:revision>
  <dc:subject/>
  <dc:title>JMAP 0805ExamB Slideshow</dc:title>
</cp:coreProperties>
</file>