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23.wmf" ContentType="image/x-wmf"/>
  <Override PartName="/ppt/media/image9.jpeg" ContentType="image/jpeg"/>
  <Override PartName="/ppt/media/image35.wmf" ContentType="image/x-wmf"/>
  <Override PartName="/ppt/media/image13.wmf" ContentType="image/x-wmf"/>
  <Override PartName="/ppt/media/image33.jpeg" ContentType="image/jpeg"/>
  <Override PartName="/ppt/media/image30.wmf" ContentType="image/x-wmf"/>
  <Override PartName="/ppt/media/image37.wmf" ContentType="image/x-wmf"/>
  <Override PartName="/ppt/media/image39.wmf" ContentType="image/x-wmf"/>
  <Override PartName="/ppt/media/image41.png" ContentType="image/png"/>
  <Override PartName="/ppt/media/image40.wmf" ContentType="image/x-wmf"/>
  <Override PartName="/ppt/media/image42.wmf" ContentType="image/x-wmf"/>
  <Override PartName="/ppt/media/image43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0A3B-BE66-4B1F-9AAB-29F9A3330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D66-F0F7-42BE-8432-51786FF08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802E-D61D-446B-8A59-D79C4AB5C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C06-A125-4DF0-A0FA-F33387D58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9F4C-236B-4B2A-B89A-796A57559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8388-6C90-4409-9F25-55EF6E963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4CE-5B97-414C-BB61-7B23300EA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AFF-67DE-4D36-9333-D5AD09E36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0260-D8CC-4086-BDFA-FE60D4D6E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6AC2-6F47-4326-97E8-B0CB70032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1718-A069-4406-BFFA-10DC1B0D1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EB9D-CA8A-42E4-B8A7-147ED9F92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4AE-CD55-46A3-AD8D-966028133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b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39B-658E-4A60-97F0-22CE77B9E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EC2-531B-4BF8-9BCD-6EF66A9A2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FFD-E0F1-4656-993F-4B55EE93F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1902-EDF5-4965-86B0-81F0A82F2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FA31-D493-49C1-B02E-D26D06F5B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7FC6-1EA0-4D1D-988B-D3E70F7E6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AF67-1A31-4599-8325-399C88414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D813-9170-4E88-A6AA-0D722E80B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F38F-5932-46DF-ACAF-016ACC306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EF53-7F12-4452-A31C-C996B7FE8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A0AB-1739-4DA0-83EA-5E61FB4E6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7E97-A8E2-4E39-B049-8C01C2175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612-CD1D-4E44-99EE-0AED955DA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FB9C-6F88-4AA5-AF3D-662C257C6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768C-58F8-4D72-9DA8-AB95C6188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2D33-8E9D-4C4C-B54D-2A4391C7F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C1AA-6A22-42B6-9EA8-8A4022704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6F6E-1FDD-497A-BE69-435D23BFC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0B1A-C533-4E39-8868-16439962D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b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7ADF-5E11-4FD9-8E48-4AF35F548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E5F1-9111-4FE3-97BF-D357A8D43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8905-44A3-432C-8F58-E19DA9927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91E3-E50C-4333-882E-B65012F91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A17-D63E-4984-9F69-D3EB0F23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693-5278-4FFC-8B70-953796FA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A6B-24E3-4898-8789-F0BEBD30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8D8-A81B-4849-AE1C-CC10F3FC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2ED-1A28-462A-AB66-A3DAF650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039-7E9F-4EF7-8E85-8E51FD3D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192-21D2-4625-AF5F-39A033C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42C-FE66-4AA0-B516-4EE71EF9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F43-A5AA-4B61-AC77-CD47FE03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2F7-026D-488B-85D1-2C541A90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451-17BE-4F30-95A2-6DAF16E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71D-9CB6-4873-A0BA-D7DC0B0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C24A-B087-4814-AD6B-68B762739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EXPONENTIAL_EQUATIONS.doc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hyperlink" Target="http://www.jmap.org/JMAP/JMAPSolutions/SYSTEMS/JMAP_SOLUTIONS_SOLVING_NONLINEAR_SYSTEMS.doc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jmap.org/JMAP/JMAPSolutions/SYSTEMS/JMAP_SOLUTIONS_SOLVING_NONLINEAR_SYSTEMS.doc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533520" y="0"/>
            <a:ext cx="7619760" cy="632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28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6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8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7800" cy="16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-22320"/>
            <a:ext cx="9013680" cy="680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8862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1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0908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951000" cy="393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HP_Administrator\Pictures\My Pictures\Thomas Jeffers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763120" y="6248520"/>
            <a:ext cx="53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48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98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-1219320" y="0"/>
            <a:ext cx="9014040" cy="853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7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24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3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39:13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6 Math A Regents Exam</cp:keywords>
  <dc:language>en-US</dc:language>
  <cp:lastModifiedBy>Steve</cp:lastModifiedBy>
  <dcterms:modified xsi:type="dcterms:W3CDTF">2007-07-16T02:54:15Z</dcterms:modified>
  <cp:revision>4</cp:revision>
  <dc:subject/>
  <dc:title>JMAP 0106ExamB Slideshow</dc:title>
</cp:coreProperties>
</file>