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7.wmf" ContentType="image/x-wmf"/>
  <Override PartName="/ppt/media/image12.jpeg" ContentType="image/jpeg"/>
  <Override PartName="/ppt/media/image33.wmf" ContentType="image/x-wmf"/>
  <Override PartName="/ppt/media/image41.wmf" ContentType="image/x-wmf"/>
  <Override PartName="/ppt/media/image13.wmf" ContentType="image/x-wmf"/>
  <Override PartName="/ppt/media/image10.jpeg" ContentType="image/jpeg"/>
  <Override PartName="/ppt/media/image8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30.wmf" ContentType="image/x-wmf"/>
  <Override PartName="/ppt/media/image4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40D7-8B69-4267-91AE-15C36C192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E366-C879-4EF2-A62A-7CF891F30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9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4D05-4026-4D1B-9E55-5B78A5691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0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178-2CB9-4561-B16A-3A0306048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1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0C0A-51CB-43D0-BC69-2C72F5D5C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2206-EE8C-4E7C-B31E-D5ED5F020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3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6AED-C3DD-401F-BA93-74E546D40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4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B72A-018E-4C61-8A9E-9F8FA34EA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0A65-5E4C-4847-806B-97558CAE0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6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29A2-606E-45C2-8C49-A7CE4BFFF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7928-DB2A-4B3C-B0E9-AF8683ECA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8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A43C-6F61-440D-9644-2D9499502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DBC0-F9DC-4462-B4F4-024F9E21A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9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D414-B086-44B2-A23A-8CAC764BB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0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484F-417E-474F-B4EC-DFBDD13B1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2889-6482-4B45-AAC4-A6DDA4C8F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7FCF-DDC6-49EA-8F78-5B899746C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3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237A-A005-4914-86B7-E03606E0D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6BF6-F0AE-48A6-BC47-517E204EB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5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5AAF-7340-41B7-97F3-F39B9BDF3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9BFE-F089-46EC-87CE-6B3C80387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7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318E-7444-48E5-9249-1D684993E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8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D58F-B7BA-4F93-93E2-33D92D436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2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C0A9-B1A4-4C5A-88B5-EB29E0263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9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4CC7-B421-4D0D-B8BA-F3FE3DD96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0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CC7B-18CC-45FF-A0DC-C4EF0915B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1b  GRAPHS AND STATISTICS: Regr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F467-499A-4684-9896-915ED56FA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2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150F-DB71-4A89-B29E-DD206D466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D55B-422E-4AA8-80D5-4D35372F3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7CBF-1855-4452-9643-E912E1BC2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1312-14A0-4864-8412-1A865CE9A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4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4A00-2F7D-4C0E-8FBF-6040BB049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5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0757-68F7-4782-BC66-6FB3D27B7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6b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C85C-4D19-4BC6-BF3D-4DF0036E5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7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5C03-1866-4C83-BEE5-A31C40947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8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849A-5FB2-47A5-AE72-606E08576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94F-169E-4308-B413-228D8C32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119-CB07-4ACD-BEA8-F4CD4E04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0AF-BD43-4F59-B81B-988FC153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AB2-248E-4EEB-9379-FF64AB5C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483-F28F-455A-BB0A-0D017512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186-955F-4BC3-9E13-3003522A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221-BB44-418D-A2B8-DAAEA150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16C-EA34-4A27-880B-56A844DB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4F5-5939-424D-A7F2-BD690458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452-D649-4785-B92E-C8ACC123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FE5-8B13-4A07-8688-DFA317CD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E37-801C-48B4-A917-47D8B55B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0E8E-ACE5-4795-A054-127854A7F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RATIONALS/JMAP_SOLUTIONS_INVERSE_VARIATIO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POWERS/JMAP_SOLUTIONS_BINOMIAL_EXPANSI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1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4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0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2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3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3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84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79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6672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6064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3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3547800" cy="37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13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2976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8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2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53:0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6 Math A Regents Exam</cp:keywords>
  <dc:language>en-US</dc:language>
  <cp:lastModifiedBy>Steve</cp:lastModifiedBy>
  <dcterms:modified xsi:type="dcterms:W3CDTF">2007-07-16T02:56:36Z</dcterms:modified>
  <cp:revision>4</cp:revision>
  <dc:subject/>
  <dc:title>JMAP 0606ExamB Slideshow</dc:title>
</cp:coreProperties>
</file>