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4.png" ContentType="image/png"/>
  <Override PartName="/ppt/media/image12.wmf" ContentType="image/x-wmf"/>
  <Override PartName="/ppt/media/image36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38.wmf" ContentType="image/x-wmf"/>
  <Override PartName="/ppt/media/image4.jpeg" ContentType="image/jpeg"/>
  <Override PartName="/ppt/media/image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B3B7-12D3-44DE-A071-DA535B86F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EDB3-E6B7-474D-9AE3-E8C28395D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9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44E8-33FE-4E44-8BBB-26347C3A2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0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348E-E665-49E9-9754-7DBA7616C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1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9676-46AE-4178-BE6E-728BB71B7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2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B291-A547-47B6-B955-74B18589B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3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4417-A935-491E-B908-A447C3595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4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C76C-1856-42D4-A3F8-55497FC53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5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784A-B167-4D90-9431-4F2EA2DFC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6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E938-A724-4058-BD9B-4B142EEB5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7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17B3-1BBB-421C-87FA-EC543D7F4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8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FBD3-0D84-45F0-BB00-E494BBFA2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85F3-2990-4410-8C61-FE8247534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19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370B-7983-498E-BAEE-570EB6C01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0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B7C2-BAAB-43FA-AC4F-5E899788C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1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42CE-5316-4A4F-ACB5-9410AEB97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2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7C2E-9653-4D1E-A1AD-580D457F5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C3EC-82A4-48E0-BFC3-60303719F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4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3D5B-44D0-435E-9AD4-F6366D93B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5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2CF2-0E1D-442C-97BC-6647C86B1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C748-59EE-4892-A063-2C1C326D1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7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9BCF-98AD-4759-9E87-67C711654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8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DFB6-4EAB-451E-83A1-11EC7AAC2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1438-032D-45AB-A5B5-B041E5E8F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29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D2D8-93AF-4BB1-AA3C-96E99681B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A372-DAC6-46EB-AE63-A7622F3A2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1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C04D-7E87-46CE-8F6E-67727D90C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9A23-D9E8-4768-BB29-A71E224E8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3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0B0C-E987-4AE9-AC85-FAC7970DC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8512-77C6-4701-9384-7F26EC0F7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E4E9-2D89-4925-BD8D-D7F8611FF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BE20-970B-4507-90EF-DF6B68280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4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BBFE-6BAA-46FB-8C31-DC6C2DC17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5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1B1A-8B8E-4E71-8407-531B76813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6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13DF-4836-4AF0-938A-2AF03A55C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7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3614-EFC5-4193-83EE-C2E7737E2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10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033D-4C03-44F8-AD79-A29EEA205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FE5-C165-47C3-9EAC-C2410A79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0B1-5753-46D4-B5D2-323EC002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0D0-25CA-4501-AF3D-FC3939AD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6EA-48A6-457A-8336-51A1DCA4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08B-B1D5-4775-B5FF-62782A36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0D1-DCE4-44B5-B0D3-A146B330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114-37D0-4FDA-985D-FC2A6233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F94-DAA5-4339-8606-255B561E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927-37D1-456C-ADA2-5E9FFE01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E7C-20A3-48F2-9402-E19367A4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38A-AEC9-4683-8FC1-DEEC6E79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17D-1F14-44FF-AEFC-94493295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036-71EC-4FBE-877B-97A279CBC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TE/JMAP_SOLUTIONS_FRACTION_MADNES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DICALS/JMAP_SOLUTIONS_SIMPLIFYING_RADIC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PROBABILITY_OF_MULTIPLE_EVENT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92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2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124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1371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438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152280"/>
            <a:ext cx="9078840" cy="247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259080" cy="327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722160" y="3733920"/>
            <a:ext cx="3351240" cy="1325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18:2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1 Math A Regents Exam</cp:keywords>
  <dc:language>en-US</dc:language>
  <cp:lastModifiedBy>Steve</cp:lastModifiedBy>
  <dcterms:modified xsi:type="dcterms:W3CDTF">2007-07-16T02:49:15Z</dcterms:modified>
  <cp:revision>4</cp:revision>
  <dc:subject/>
  <dc:title>JMAP 0801ExamA Slideshow</dc:title>
</cp:coreProperties>
</file>