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38.wmf" ContentType="image/x-wmf"/>
  <Override PartName="/ppt/media/image4.jpeg" ContentType="image/jpeg"/>
  <Override PartName="/ppt/media/image4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A87-79E0-49AD-AADC-7CAA8717B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0D50-FD63-4915-A45E-B90E5B85F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22D6-08C9-4AE9-B16B-D648C9117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0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5F8-2BA9-4B6B-B4AB-BC6F3B300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9D14-4F4D-43EB-BBF8-8F7118C60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12F-2523-49AB-9D9F-F89BA72FA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3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66ED-A4CA-44BC-8E43-95609DB72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F02-F01D-40BB-A708-4190B68E0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34B-026C-4D71-96D1-00FB10142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A4C-F260-4C40-9D51-84774E52F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7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FCF-348A-41A6-8295-277ABDBFA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1CC-725D-4FBB-938B-EC81F5369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9BCB-BB5F-4D87-86CF-19F742AAC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D5AF-EC42-44FB-99F3-2CB4DEB42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0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3282-93BB-46DF-8C65-C09D0A1B2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1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E21-D348-4C93-BCC8-68772647D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A292-B8EC-4931-9CFF-4DDF61776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1C8-F7CB-4280-BC40-C94E355CB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7FE-90F9-441F-91D4-3B2136108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EE1-AE24-4D06-8828-0893B80FD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6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96F2-DFC6-4B1F-B60B-B608DB7B0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7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D6A2-82C3-4B14-86F7-7A8F3D010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671-4776-4846-9B01-DD6B32B98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2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0E76-4EC4-4C11-8359-FFBC01D30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29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C18D-D1B8-451A-B6B2-D9B4C00E7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4F3B-B63E-4138-B8B8-0926CD97F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00AC-6973-46C9-A48E-BE0DBB215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B6C-A10E-4E0D-9E0D-6C89CE886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D5E-B4E1-4CF3-B982-D7DAE4C5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D40-52ED-4ABF-BE65-C5A8A9807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202D-BC9D-45F0-BA7B-DBD0D7646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FA1-9225-471B-800C-A3459CC42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7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7E25-D959-4DAC-AB9F-FB98F53BD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AE4-815A-4964-A687-78F4F3E04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028B-2B44-498A-95EB-998C9F219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39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755-8ED2-4AD3-9C12-2520760F7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3B5-135D-404E-BA82-949ED60F3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54B-18FB-48DE-BB79-F0B0E25F9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0D7B-4B07-4454-8D02-EC65D92D6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7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D14-E717-4374-AE19-22ABB80AC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408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08F-A0C8-4E64-A2F0-E59E5F6DC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780-F9EC-4E88-9DE5-88845E84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C9D-8C22-47BD-8C8D-5C3B0E64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4DF-1FFE-46AC-868D-A04C79FB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903-D1B4-49F3-B6C9-8B463C1C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F32-017E-4534-888B-DBAE0A3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960-7B9F-48E0-8A41-4AD4278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502-9C95-4843-93D9-3633E14A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2DB-867B-4DD4-AF7B-2AE02E67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17C-ECA7-4ED2-AF76-FECC5A1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3F0-84B1-4C90-B6BD-D95476D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8EF-36D7-42AF-8AD8-99CF1D4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9DF-8BB9-4383-BD65-5BD4CF6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F7A-F114-4598-902D-C9D466557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32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6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520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87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58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152280" y="0"/>
            <a:ext cx="4148280" cy="5388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024440" cy="401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60199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5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53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582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36:4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4 Math A Regents Exam</cp:keywords>
  <dc:language>en-US</dc:language>
  <cp:lastModifiedBy>Steve</cp:lastModifiedBy>
  <dcterms:modified xsi:type="dcterms:W3CDTF">2007-07-16T02:49:53Z</dcterms:modified>
  <cp:revision>4</cp:revision>
  <dc:subject/>
  <dc:title>JMAP 0804ExamA Slideshow</dc:title>
</cp:coreProperties>
</file>