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jpeg" ContentType="image/jpeg"/>
  <Override PartName="/ppt/media/image23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41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31.wmf" ContentType="image/x-wmf"/>
  <Override PartName="/ppt/media/image33.wmf" ContentType="image/x-wmf"/>
  <Override PartName="/ppt/media/image36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AF3-1904-4AB5-AB8C-CDE7204C8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586-9376-4668-9EA0-1287E477D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9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AA3-F634-4361-8663-9CCEFC3A6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0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09DD-D17C-4292-9112-064F85CA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1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2F06-8E77-4A7E-B376-03F679063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2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CC8-9D82-44FF-842E-32E859D08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3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7A3-35DB-4FCF-BB14-B2A12BAE4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4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7B2-3EE4-4CCD-98AB-E16EC5CFF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5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BF96-A4BE-485A-BA4B-19281A808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6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325-BFEE-4104-9DA7-892E526F0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7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EBF5-F128-4C0B-A866-D9870739B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8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712-F657-4E26-B9EC-A18EAA63A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1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0FC3-D3FE-4E0A-88DF-BF0991364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D4A-6A18-4677-8494-CE3BD289C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0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EDF-DDC6-46DD-8F6C-9B342F029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1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1E3-C506-4FE6-8A7F-345910D0E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222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0BE-5D14-44C7-AC47-F34711FAA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B09-6E52-4C31-80B4-CC3D55160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5DF-231B-4C8D-9441-07A607065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5a  LINEAR EQUATIONS: Graphing and Writing Linear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045-1359-4AEC-8C72-3C76ABBC4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6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BEA-6A9B-4498-8F1D-5DF8DACB6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7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267-34EA-437C-8C4F-91E4008F2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8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F53-2B81-4201-A218-68A6CEC0F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2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7A28-4572-4621-B6DE-825D3353A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2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66C8-997B-4927-91EE-FB52576D3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0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6B49-BA47-4325-BB8B-3BC4B2787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1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57B-A444-4702-B7E6-641BBFE82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2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434-6862-47C9-8029-72F1871D5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3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5C4-716B-4A9A-95AF-1E579F810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12E-96FB-41A2-BB18-C50FF8014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35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C1C9-7F11-448E-8431-E832ABA3C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3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4AFC-2EC6-44E9-8FB1-D19E70619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D31-EC07-4DA8-9B4E-37A09A43A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7084-B191-4BDF-99C9-853DE8F40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CAF6-2E17-4921-A515-E0A506FBD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7a  SYSTEMS: Solving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7FCE-B2FA-4DB1-BC5A-EECD78F9A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60008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FA3-75C6-4CEE-8242-5EAB53A1E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537-30E5-4C5F-B00E-8C641F9F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1D8-2ABB-488C-B73E-C8762D6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749-EB56-4D47-9C41-0EA6F79A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4AE-966E-45F5-A51A-DE047A7A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356-A6B1-4E5E-994D-19C67AF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013-80C8-4895-B47D-69F0CAD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085-CC3E-4907-BB07-605AA954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81A-C343-428B-9CA3-95257DF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8B2-BF09-4D71-88A5-C24975DC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B63-4742-476E-9940-BEDA563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79E-96F6-4D14-8B49-E144E24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53B-7A62-4778-A901-3132E7C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D1FF-8F2B-4C2B-83D9-C9627A294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SYSTEMS/JMAP_SOLUTIONS_SOLVING_NON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FUNCTIONS/JMAP_SOLUTIONS_FAHRENHEIT_CONVER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LINEAR_EQUATIONS/JMAP_SOLUTIONS_GRAPHING_AND_WRITING_LINEAR_EQU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SYSTEMS/JMAP_SOLUTIONS_SOLV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ne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79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82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68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7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5343480" cy="480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5257800" y="838080"/>
            <a:ext cx="346068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4:18:3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une 2000 Math A Regents Exam</cp:keywords>
  <dc:language>en-US</dc:language>
  <cp:lastModifiedBy>Steve</cp:lastModifiedBy>
  <dcterms:modified xsi:type="dcterms:W3CDTF">2007-07-16T02:44:35Z</dcterms:modified>
  <cp:revision>5</cp:revision>
  <dc:subject/>
  <dc:title>JMAP 0600ExamA Slideshow</dc:title>
</cp:coreProperties>
</file>