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11.jpeg" ContentType="image/jpeg"/>
  <Override PartName="/ppt/media/image23.wmf" ContentType="image/x-wmf"/>
  <Override PartName="/ppt/media/image12.wmf" ContentType="image/x-wmf"/>
  <Override PartName="/ppt/media/image35.wmf" ContentType="image/x-wmf"/>
  <Override PartName="/ppt/media/image24.jpeg" ContentType="image/jpeg"/>
  <Override PartName="/ppt/media/image37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10.wmf" ContentType="image/x-wmf"/>
  <Override PartName="/ppt/media/image13.wmf" ContentType="image/x-wmf"/>
  <Override PartName="/ppt/media/image7.jpeg" ContentType="image/jpeg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wmf" ContentType="image/x-wmf"/>
  <Override PartName="/ppt/media/image3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C83C-3535-475A-A8A6-C6D9F582A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EFE1-72EB-4B7E-8E23-095E0B994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9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248F-2EF2-4885-984E-2967B4083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0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4541-921A-4C5A-A46B-C5136D116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1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DA6E-1CA1-4295-A98A-CCBD66186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6545-A710-47F7-A8F3-97DC181D4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4704-6B74-4A90-9085-FB82E2032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4B18-9C8D-4042-ABC6-F8E21C634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5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C62C-943E-4A5D-80F1-BA14F9D1D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6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E749-185E-4341-BB03-80C5856C8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1BA-C1B9-4D52-8E75-DB90ABBC8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DBE5-5825-45AA-A39B-9782155EA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1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C65E-465D-480C-82F9-B841043A8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1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B6C4-1550-419C-A7C4-17878F0B4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0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D931-4F06-45DB-9287-59C933584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1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F354-D1AF-4D37-A6C1-EEB38BB57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2a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8AD7-9243-4EA7-B37A-7B40649B2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3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AB26-A241-488A-BCB7-D48EE34B0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E01D-A968-4EF3-A971-D2BC5C292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5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0C02-4C03-4924-B964-949E6D110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73F9-4CD3-47BF-B984-1F52FCEEA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EDE0-EEC0-4298-84DE-71D04B570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8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49A4-ED20-4549-88CF-C80159A88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2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048-7E70-4596-B915-A63F975B5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29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9C05-80D6-427D-B970-A0B535064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D8C5-B987-4386-8367-AE2C0E98B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8D13-157D-41A0-8128-42A747666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E970-F4D2-4DD5-88AF-47A54993D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ABFA-CAE4-478F-8873-887E889B7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884E-290F-434B-A2EB-1720FB3F8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3C4D-1A1F-40FC-9DF0-1D0A99429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85C2-B26B-4F3B-88E4-F6F501324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5E45-D2D1-427D-8A8A-064BC91FD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8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7F57-133A-41B0-8EED-6BADCEA6D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6D5-7FDF-4581-9EBD-2E7735542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3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BCC-2541-4D37-98B5-589BBEFA6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4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0E9-2F1F-4F97-9DEC-DA7D0F408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5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A3B5-5D38-40C2-82DA-C59186756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6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E2CF-4B87-4107-AB77-4CAF3EC38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7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F8BD-BB39-4BBB-BFA0-633C0B466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508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7223-8C09-4D22-845B-04813DCD8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D60-DFED-47F9-8068-B7C5A12B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610-7925-4F8D-AA61-493C770F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992-37CC-4707-944F-F6FD471E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304-E592-4A5D-8B35-27595284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796-6099-4EF9-9236-921CC9E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66B-B531-4D8F-9DF9-CB1B7A8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8B8-E961-463D-BAA5-C4780216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6BF-F9EC-4B6C-864E-32D0C97C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978-A3BA-4E40-B3F8-5DC76D61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5EC-4299-4DA1-8701-A068653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E8A-37B8-434E-AD08-AF5A6E7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EB6-5FAD-4E1C-8C73-9C19DEF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32F9-670D-404D-BC2B-74AC579A0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_RESOURCES_BY_TOPIC.ht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0" y="0"/>
          <a:ext cx="914400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36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1560" cy="194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02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9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97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38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32:5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5 Math A Regents Exam</cp:keywords>
  <dc:language>en-US</dc:language>
  <cp:lastModifiedBy>Steve</cp:lastModifiedBy>
  <dcterms:modified xsi:type="dcterms:W3CDTF">2007-07-16T02:47:20Z</dcterms:modified>
  <cp:revision>5</cp:revision>
  <dc:subject/>
  <dc:title>JMAP 0605ExamA Slideshow</dc:title>
</cp:coreProperties>
</file>