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.wmf" ContentType="image/x-wmf"/>
  <Override PartName="/ppt/media/image32.wmf" ContentType="image/x-wmf"/>
  <Override PartName="/ppt/media/image25.png" ContentType="image/png"/>
  <Override PartName="/ppt/media/image10.wmf" ContentType="image/x-wmf"/>
  <Override PartName="/ppt/media/image45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29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9.jpeg" ContentType="image/jpeg"/>
  <Override PartName="/ppt/media/image23.wmf" ContentType="image/x-wmf"/>
  <Override PartName="/ppt/media/image13.wmf" ContentType="image/x-wmf"/>
  <Override PartName="/ppt/media/image12.wmf" ContentType="image/x-wmf"/>
  <Override PartName="/ppt/media/image37.wmf" ContentType="image/x-wmf"/>
  <Override PartName="/ppt/media/image30.jpeg" ContentType="image/jpeg"/>
  <Override PartName="/ppt/media/image7.wmf" ContentType="image/x-wmf"/>
  <Override PartName="/ppt/media/image6.wmf" ContentType="image/x-wmf"/>
  <Override PartName="/ppt/media/image36.wmf" ContentType="image/x-wmf"/>
  <Override PartName="/ppt/media/image5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4C13-4C0D-4255-8981-30E89D08B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74E6-55CF-49AC-8820-AC6E445C9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9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8124-DF32-4E89-B79B-B20CFB0F2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0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E61A-E986-4D08-99AA-B2B72960D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1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94ED-43D5-492D-929E-90EC20D47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2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4F68-0936-4193-A214-A9CAA9555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3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683F-EB74-48AE-924C-902E158D8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4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CDDC-637D-4020-ABB2-CF359DC8A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0891-A085-4D09-8313-37B5EE4D1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6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DF93-FDC9-404A-97E0-575B1ADAF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7b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5078-DB64-4223-A105-2A55D45CB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8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E646-31FA-4F32-A7C8-DA24AF3E2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D13C-0BFB-4450-9E5A-46FD3F62C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9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C62-AD22-4163-8EB2-C18D176D0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0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4890-9101-4427-AB6B-BCEF65D06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1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953A-38D1-4BBB-87A4-07E9A49DF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972B-82E5-4AAE-83A8-74A6C1BEF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3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5EB5-C3F8-45D0-A6F9-A0B6C525B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4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96BC-DD64-4FBD-9695-8C024AFBF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5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4876-C1D5-4F2B-94DE-E95EDD5B3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6b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6F80-96C5-415B-82A5-68354C24E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7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0329-A035-408C-BE78-45AB5253D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D853-453D-43B1-A332-9DB21F50F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2b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0892-912D-4EE5-9A89-7984FC133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9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30F1-DFF0-41CC-BFE6-020147A67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0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3CC-3CDE-4112-8738-ABB396EC3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1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D50E-6B1E-4989-8606-C2272B430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2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BFC1-DFBA-4FF1-BAA3-6FB3C8353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3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441B-F7F6-4400-A279-7987CFBCF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4ADB-3F0C-4F9C-8FE3-5983B1B9A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0ACD-CE47-441D-8FC0-791ED9B21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2773-41F5-4FC6-A163-A223BAE32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5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CC7B-26C6-4201-A376-AE1FEC08A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6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6A8-58FE-42A4-B294-E266F48C0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7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64DA-D9C5-4767-A644-F6B014C10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8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8F50-E906-4869-BE51-BA30FC46A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4B1-414E-4E3F-B870-7B4B58CA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355-6DDB-48F4-84CF-69EECDF3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699-11A6-45D5-8BC7-1FD8184F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B97-CB75-4959-8BE3-9A4176ED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BD8-C92E-4BE8-919C-1813767D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84B-15F9-4634-8556-D5CC8974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B5D-AA86-4F42-8D4A-8F2C990D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A22-5582-474C-9CAB-67088F94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3E7-0A05-468B-848A-E33A1857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228-4549-4D60-957B-B12FF791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79A-5C39-4ED4-AC36-AF2457F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1CA-2F65-4E48-91EA-77256D0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951D-0607-4453-8E5B-3CA1E748B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TIONALS/JMAP_SOLUTIONS_SOLVING_RATION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DICALS/JMAP_SOLUTIONS_PROPERTIES_OF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5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1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5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1981080" y="0"/>
            <a:ext cx="5181840" cy="609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239160" cy="551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6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65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5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64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865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2819520" y="35053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5105520" cy="548640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1" descr=""/>
          <p:cNvPicPr/>
          <p:nvPr/>
        </p:nvPicPr>
        <p:blipFill>
          <a:blip r:embed="rId2"/>
          <a:stretch/>
        </p:blipFill>
        <p:spPr>
          <a:xfrm>
            <a:off x="3657600" y="0"/>
            <a:ext cx="5899320" cy="1160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52280" y="0"/>
            <a:ext cx="3649680" cy="2308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685800" y="2743200"/>
            <a:ext cx="1546200" cy="1463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5"/>
          <a:stretch/>
        </p:blipFill>
        <p:spPr>
          <a:xfrm>
            <a:off x="762120" y="4724280"/>
            <a:ext cx="15778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957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3" descr=""/>
          <p:cNvPicPr/>
          <p:nvPr/>
        </p:nvPicPr>
        <p:blipFill>
          <a:blip r:embed="rId1"/>
          <a:stretch/>
        </p:blipFill>
        <p:spPr>
          <a:xfrm>
            <a:off x="-1523880" y="0"/>
            <a:ext cx="9144000" cy="601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486400" y="1295280"/>
            <a:ext cx="3489480" cy="349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6:02:4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2 Math A Regents Exam</cp:keywords>
  <dc:language>en-US</dc:language>
  <cp:lastModifiedBy>Steve</cp:lastModifiedBy>
  <dcterms:modified xsi:type="dcterms:W3CDTF">2007-07-16T02:55:08Z</dcterms:modified>
  <cp:revision>4</cp:revision>
  <dc:subject/>
  <dc:title>JMAP 0602ExamB Slideshow</dc:title>
</cp:coreProperties>
</file>