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1.wmf" ContentType="image/x-wmf"/>
  <Override PartName="/ppt/media/image29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0FF7-A7DB-4FA7-822E-1DD8A83FB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0708-400C-4D17-8175-AB26F54CC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9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380F-4B3D-429F-9230-C9D7B5553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0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1593-5C19-468A-9143-4A785AE7D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1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1B65-4AC2-4320-810E-C9139EDC2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2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ECC4-4CD2-432A-93AF-B868ECD7B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3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176F-70F9-4053-B8F7-A7960FBB7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4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3582-76AF-4EE3-8A46-9A8C12272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5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3C07-1A58-4A5D-8E9C-E9ECFEEBA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6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C46E-AD87-4B96-85A2-C7018A238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7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64EE-7A43-4CC8-986D-72366FC0A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8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C610-8C27-420E-A0C2-8B99A8B0B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6ADB-6EFD-4346-846B-CE1191FF9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19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8949-673B-461E-9376-3675D24D5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0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A7F4-FF0B-48BF-A19D-9969FC223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1a  TRANSFORMATIONS: Ro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CF26-981C-45CB-A67E-5BBFE120A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2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6358-FB15-4641-8E7F-E03889643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3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7838-849F-4973-8F7C-A8C5A3E42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4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568D-2035-49AC-8D93-0CFE36299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5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F324-2384-4F11-AADC-EB3337F78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6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805F-3A66-4FA6-9CDA-F7E6C365F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7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CB52-DDB1-432A-BF90-8E6E2BF8A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8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55F4-B13A-4C60-9721-2EF349AAB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2a  CONICS: Circle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5622-502C-429D-AFDD-EAA5DEDCE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29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6222-5DD9-4963-99C5-287A63443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0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0061-BB94-4C49-B13C-C3FB2F05E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D7CD-CBC2-43BB-8EA4-13D105F07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2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5102-22F4-4E05-83AE-3F7C71074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3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0366-AA35-476A-9328-7A59DC98D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4a  TRIANGLES: 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C5F4-8FA2-408C-8C23-FC8BF67DC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5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FC0A-0884-483E-B2F4-F886DCE34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6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CC89-4D54-4DA6-B052-FE50B5331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1661-5D63-4DC7-8549-9B3822954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3E8C-2394-45F5-A502-E6DFAE8E8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3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D614-B87C-4A2B-AE9C-1B20B22BB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39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6CD8-5A31-4FBA-8826-60F598831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4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8A62-0F47-44FE-947F-B796DBCB2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5a  POWERS: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D37C-9428-484F-883F-46970F0EA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6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EEB2-7F88-4035-9DA3-F8C32866A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7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35F9-0D9D-4EC4-922C-DFC57246F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708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D30D-E16F-4532-B351-8928D9BB0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E4C-DF92-4B13-AAD9-1012C188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D1D-1B97-43FB-831C-AC25DFB4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36C-6DB9-45A3-9929-0CE08128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B7C-AA4D-4F3E-96CF-BE151151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1AA-1E6C-490D-9502-ADF642E2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C1C-4F28-4941-8C55-6920D010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AD8-18AF-42A0-B005-328237F8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571-F65D-4E21-BDD0-F9E5E3A0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B0F-A9E6-43C6-8995-A4E995B5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234-4325-4A17-BE47-9EB17F65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76A-EC99-4DBB-A538-6260FEFF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1B6-04B1-44E0-80FB-8F478FC2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8A60-69E0-4E36-B201-069893025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Archives/EXAMSOLUTIONS/MATHA/0807mathasol.pd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0"/>
          <a:ext cx="90136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510552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0" y="0"/>
          <a:ext cx="9090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0" y="0"/>
          <a:ext cx="90136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090000" cy="37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09000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090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3"/>
          <p:cNvGraphicFramePr/>
          <p:nvPr/>
        </p:nvGraphicFramePr>
        <p:xfrm>
          <a:off x="0" y="3200400"/>
          <a:ext cx="90900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00400"/>
                    <a:ext cx="90900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5" descr=""/>
          <p:cNvPicPr/>
          <p:nvPr/>
        </p:nvPicPr>
        <p:blipFill>
          <a:blip r:embed="rId5"/>
          <a:stretch/>
        </p:blipFill>
        <p:spPr>
          <a:xfrm>
            <a:off x="2209680" y="838080"/>
            <a:ext cx="4870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0900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0136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0" y="0"/>
          <a:ext cx="90136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013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144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3"/>
          <p:cNvGraphicFramePr/>
          <p:nvPr/>
        </p:nvGraphicFramePr>
        <p:xfrm>
          <a:off x="0" y="4648320"/>
          <a:ext cx="9013680" cy="13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8320"/>
                    <a:ext cx="901368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Picture 5" descr=""/>
          <p:cNvPicPr/>
          <p:nvPr/>
        </p:nvPicPr>
        <p:blipFill>
          <a:blip r:embed="rId5"/>
          <a:stretch/>
        </p:blipFill>
        <p:spPr>
          <a:xfrm>
            <a:off x="2971800" y="2133720"/>
            <a:ext cx="3300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0" y="0"/>
          <a:ext cx="9090000" cy="34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0"/>
          <a:ext cx="901368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4"/>
          <p:cNvGraphicFramePr/>
          <p:nvPr/>
        </p:nvGraphicFramePr>
        <p:xfrm>
          <a:off x="0" y="2590920"/>
          <a:ext cx="9013680" cy="94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90136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2362320" y="3657600"/>
            <a:ext cx="3876480" cy="293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6"/>
          <a:stretch/>
        </p:blipFill>
        <p:spPr>
          <a:xfrm>
            <a:off x="4343400" y="838080"/>
            <a:ext cx="371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0" y="0"/>
          <a:ext cx="909000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42840" y="42840"/>
          <a:ext cx="9090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42840"/>
                    <a:ext cx="9090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0" y="0"/>
          <a:ext cx="90900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"/>
          <p:cNvGraphicFramePr/>
          <p:nvPr/>
        </p:nvGraphicFramePr>
        <p:xfrm>
          <a:off x="42840" y="3166920"/>
          <a:ext cx="9090000" cy="231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0" y="3166920"/>
                    <a:ext cx="90900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5" descr=""/>
          <p:cNvPicPr/>
          <p:nvPr/>
        </p:nvPicPr>
        <p:blipFill>
          <a:blip r:embed="rId5"/>
          <a:stretch/>
        </p:blipFill>
        <p:spPr>
          <a:xfrm>
            <a:off x="2438280" y="1295280"/>
            <a:ext cx="4111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0136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42840" y="42840"/>
          <a:ext cx="9090000" cy="30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42840"/>
                    <a:ext cx="9090000" cy="30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42840" y="42840"/>
          <a:ext cx="909000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42840"/>
                    <a:ext cx="90900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2"/>
          <p:cNvGraphicFramePr/>
          <p:nvPr/>
        </p:nvGraphicFramePr>
        <p:xfrm>
          <a:off x="0" y="0"/>
          <a:ext cx="9090000" cy="33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0136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4"/>
          <p:cNvGraphicFramePr/>
          <p:nvPr/>
        </p:nvGraphicFramePr>
        <p:xfrm>
          <a:off x="0" y="4724280"/>
          <a:ext cx="9090000" cy="13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909000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5" descr=""/>
          <p:cNvPicPr/>
          <p:nvPr/>
        </p:nvPicPr>
        <p:blipFill>
          <a:blip r:embed="rId5"/>
          <a:stretch/>
        </p:blipFill>
        <p:spPr>
          <a:xfrm>
            <a:off x="2286000" y="914400"/>
            <a:ext cx="3881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2"/>
          <p:cNvGraphicFramePr/>
          <p:nvPr/>
        </p:nvGraphicFramePr>
        <p:xfrm>
          <a:off x="0" y="0"/>
          <a:ext cx="9090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2"/>
          <p:cNvGraphicFramePr/>
          <p:nvPr/>
        </p:nvGraphicFramePr>
        <p:xfrm>
          <a:off x="0" y="0"/>
          <a:ext cx="9090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2"/>
          <p:cNvGraphicFramePr/>
          <p:nvPr/>
        </p:nvGraphicFramePr>
        <p:xfrm>
          <a:off x="0" y="0"/>
          <a:ext cx="90136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0900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0" y="0"/>
          <a:ext cx="9110520" cy="14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052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0" y="0"/>
          <a:ext cx="909000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2514600" y="2514600"/>
            <a:ext cx="3733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0" y="0"/>
          <a:ext cx="90900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"/>
          <p:cNvGraphicFramePr/>
          <p:nvPr/>
        </p:nvGraphicFramePr>
        <p:xfrm>
          <a:off x="0" y="0"/>
          <a:ext cx="892656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2656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0"/>
          <a:ext cx="901368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2057400" y="4114800"/>
            <a:ext cx="48988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0" y="0"/>
          <a:ext cx="9013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2057400" y="2743200"/>
            <a:ext cx="42670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0"/>
          <a:ext cx="9013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2133720" y="2666880"/>
            <a:ext cx="434340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0" y="0"/>
          <a:ext cx="9013680" cy="839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839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0" y="0"/>
          <a:ext cx="909000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0" y="4800600"/>
          <a:ext cx="90900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800600"/>
                    <a:ext cx="9090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5" descr=""/>
          <p:cNvPicPr/>
          <p:nvPr/>
        </p:nvPicPr>
        <p:blipFill>
          <a:blip r:embed="rId5"/>
          <a:stretch/>
        </p:blipFill>
        <p:spPr>
          <a:xfrm>
            <a:off x="2590920" y="838080"/>
            <a:ext cx="35812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090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0"/>
          <a:ext cx="9013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0" y="0"/>
          <a:ext cx="90900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9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4:20:09Z</dcterms:created>
  <dc:creator>Steve Watson</dc:creator>
  <dc:description/>
  <dc:language>en-US</dc:language>
  <cp:lastModifiedBy>Steve</cp:lastModifiedBy>
  <dcterms:modified xsi:type="dcterms:W3CDTF">2007-09-16T18:25:20Z</dcterms:modified>
  <cp:revision>19</cp:revision>
  <dc:subject/>
  <dc:title>Slide 1</dc:title>
</cp:coreProperties>
</file>