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30.wmf" ContentType="image/x-wmf"/>
  <Override PartName="/ppt/media/image43.png" ContentType="image/png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0CC-E44A-4FD4-BB1E-E85B3FA75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58C5-FBA6-4513-A3A5-4B6F7D4CF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AF5-80AC-4BC3-9C61-AAA8498B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b  CONICS: Equation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32BF-F935-45AC-ACF9-33408178B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BA5-4FD4-49B6-B1D0-901795A79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83F-18A8-45DB-8797-893FBEBBA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F6A2-25DD-4AD7-BA6B-6BE773B48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b  FUNCTIONS: Graph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8CCA-5D71-4DA9-A64C-D0B97C64A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C9A-8749-4400-84AC-AF1484C1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240-C87C-42EA-A166-C751B19A1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b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E38-C887-4C1B-B4DF-2147B6EB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045D-04FE-4922-B0CC-A4B0649AC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2C94-99D8-457B-8C39-67291689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581-8C34-455D-9337-1F6B267CB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b  POWERS: Graphing Logarithm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9DC-EC52-4283-A48D-E15BD4F72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b  ANGLES: Radian Mea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F018-750A-4371-8175-C5EE03242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8DE-7742-45BC-A76D-480C7017C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B009-135D-45FA-BD8C-3357C4FD6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7AD-2D8E-4F49-9AAF-004200454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F65-A921-4238-BDBE-8BCAA61C2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8C7-B858-49D5-88C0-931DA6B2A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B4B-FD36-43EE-A2EA-CCCC549E6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F91A-8667-487D-9D7C-243E7D76F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b  ANGLES: Trigonometric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78FB-67B0-4F71-AD3B-2D3C982BA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9A9-4036-4BB1-97EC-82D88E21C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b  TRIANGLES: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FEE-D6FF-445D-A027-781D55CCE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A20-FF4F-4304-AC3C-8E8583B8E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873-DCFB-49B6-A50F-81E28CFBF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67A4-4F8D-4140-8C95-87B778350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b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215-084F-4673-B3EB-2D395D90F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578-25DD-4292-A6A6-1F5297D5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DAD-75D2-427B-94F1-4FDB80885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b  RADICALS: Rationalizing Denomin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A954-E44B-47A7-84E9-CA486DF5E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b  GRAPHS AND STATISTICS: Standard Dev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1F5-96DC-49B9-BBF5-F5931A7E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67AB-A0BC-4FB1-9F58-07E39D28B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6E68-C654-440A-8093-BB4F67DF1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D85-3338-46B4-8804-EF9C0A66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4F9-62E5-4B1D-B9B6-4142744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E47-BB0D-4ABA-9B5A-BF912205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133-A0CA-49E2-8EB9-3CD3018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B80-A83E-4E04-A3C3-ACEAFE0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992-03E6-4EA6-90FC-FB9A84B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7E6-6178-47D5-A75A-C676A6B8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679-E34C-4847-BCEC-166BB3A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BD5-C8E4-40FD-AB32-865B5C0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E38-102B-4FC0-8EE6-2C79F84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A78-C3A8-4CAA-854D-33E0077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A5E-20B7-48A3-9025-9F65C92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18CC-682E-4193-ABBD-9636E3946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FUNCTIONS/JMAP_SOLUTIONS_GRAPH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GRAPHING_LOGARITHMIC_FUNCTION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RADIAN_MEASUR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TRIGONOMETRIC_IDENT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RADICALS/JMAP_SOLUTIONS_RATIONALIZING_DENOMINATO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GRAPHS_AND_STATISTICS/JMAP_SOLUTIONS_STANDARD_DEVIATION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9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71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1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26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717040" y="6248520"/>
            <a:ext cx="42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6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8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18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60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551400" cy="355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6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4462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3398760" cy="339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0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5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19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4 Math A Regents Exam</cp:keywords>
  <dc:language>en-US</dc:language>
  <cp:lastModifiedBy>Steve</cp:lastModifiedBy>
  <dcterms:modified xsi:type="dcterms:W3CDTF">2007-07-16T02:53:13Z</dcterms:modified>
  <cp:revision>4</cp:revision>
  <dc:subject/>
  <dc:title>JMAP 0104ExamB Slideshow</dc:title>
</cp:coreProperties>
</file>