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30.wmf" ContentType="image/x-wmf"/>
  <Override PartName="/ppt/media/image32.jpeg" ContentType="image/jpeg"/>
  <Override PartName="/ppt/media/image18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7.png" ContentType="image/png"/>
  <Override PartName="/ppt/media/image40.wmf" ContentType="image/x-wmf"/>
  <Override PartName="/ppt/media/image41.wmf" ContentType="image/x-wmf"/>
  <Override PartName="/ppt/media/image42.png" ContentType="image/png"/>
  <Override PartName="/ppt/media/image2.wmf" ContentType="image/x-wmf"/>
  <Override PartName="/ppt/media/image25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6.wmf" ContentType="image/x-wmf"/>
  <Override PartName="/ppt/media/image5.jpeg" ContentType="image/jpeg"/>
  <Override PartName="/ppt/media/image11.wmf" ContentType="image/x-wmf"/>
  <Override PartName="/ppt/media/image7.jpeg" ContentType="image/jpeg"/>
  <Override PartName="/ppt/media/image31.wmf" ContentType="image/x-wmf"/>
  <Override PartName="/ppt/media/image29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49C-1F55-4A7B-936B-B6BA84006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C85F-E085-4465-A0D0-17F10B555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EB8-6294-41A4-93F4-FFC5FDEB2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C23-F515-4F85-B5B0-5907922BD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EBDD-3C0E-4700-AE5A-AAEEFF778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316-DF93-4409-8C43-E211D7254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B063-86A5-4C60-9E41-07BBFF1F5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DEF-6A71-4834-B176-E3518470A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F22D-4EE6-4983-AB01-EBC944757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793-1EEF-4900-A4D3-6895B3CA6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78E-E348-47F6-B972-46C46CCE7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E60F-88E2-471B-8B6B-4809A9CB2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9BD-0011-4146-BD64-5786FDC22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B85C-8366-41F5-A3BC-71999A412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3FA5-89ED-4777-A2C1-98D10724B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E07F-00EA-4F36-8B81-BBB8DED38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603-3A6F-4C5E-8C1C-23F27B96F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EAB-E3A0-4A87-830F-39AE944B0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F25-A38E-4F8B-9B77-583931A69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610-6C7D-4A4A-ABCF-F58121DF7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8DB7-6A8D-49B1-B1A7-1342A8866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2D8-E4FA-4CDB-8B49-0BF94E21A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1F9-5D77-4D27-AE1B-1AB41271E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0E3-789B-4891-BD99-20F71E958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6C9-C036-4E46-9179-6E5224448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9A7-37E2-490C-9254-9680D4A46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2C5A-45E9-408A-9953-72CEAA76C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72A-34AD-49DC-833A-90E583C09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81EA-F0F2-4A1A-89B2-64E1A8D7D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1454-270D-4FB9-836C-5D377965D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F54-4F69-4EB3-B3AB-EECFEFD2B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964-CE46-4E28-9FAC-50F53639C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3E2-C060-404F-A995-31042074F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b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DBC-ED7D-4F8E-BF7B-7983A5AE2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291-359E-4ACF-8ACC-6E1B5ED3F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663B-72A6-4B6E-9112-066FB95EC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9B7-D913-48B8-B7AA-D96FA004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3C5-5FD1-455C-B554-EB45D2C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2DB-89C0-4815-9171-C39DB920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BC5-3561-4D92-8B6B-22C143A3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FE-4F51-4549-93E3-2C6E159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5A6-E2CC-4573-B825-7E680BF8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ACB-BB7D-40A7-B305-1D89BA6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AB2-8752-4BFB-B07D-51D986B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A45-125C-4E94-A892-96649171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82A-C5D3-464A-B7B0-7AA0EDE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6FE-76CE-4C9E-A779-E4D97DB5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5A8-2E3D-4D4C-A643-FFF10B3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4B8-AB88-4ECB-A193-6AB238269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hyperlink" Target="http://www.jmap.org/JMAP/JMAPSolutions/RADICALS/JMAP_SOLUTIONS_SOLVING_RADICALS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40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3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47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8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20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468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83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962520" y="457200"/>
            <a:ext cx="4419360" cy="44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8908920" cy="266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9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581640" cy="359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8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03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393920" cy="14317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4" descr=""/>
          <p:cNvPicPr/>
          <p:nvPr/>
        </p:nvPicPr>
        <p:blipFill>
          <a:blip r:embed="rId3"/>
          <a:stretch/>
        </p:blipFill>
        <p:spPr>
          <a:xfrm>
            <a:off x="0" y="2971800"/>
            <a:ext cx="9144000" cy="2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3124080" y="3429000"/>
            <a:ext cx="2590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33:5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4 Math A Regents Exam</cp:keywords>
  <dc:language>en-US</dc:language>
  <cp:lastModifiedBy>Steve</cp:lastModifiedBy>
  <dcterms:modified xsi:type="dcterms:W3CDTF">2007-07-16T02:55:56Z</dcterms:modified>
  <cp:revision>4</cp:revision>
  <dc:subject/>
  <dc:title>JMAP 0604ExamB Slideshow</dc:title>
</cp:coreProperties>
</file>