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3.jpeg" ContentType="image/jpeg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26.wmf" ContentType="image/x-wmf"/>
  <Override PartName="/ppt/media/image15.jpeg" ContentType="image/jpeg"/>
  <Override PartName="/ppt/media/image25.wmf" ContentType="image/x-wmf"/>
  <Override PartName="/ppt/media/image14.wmf" ContentType="image/x-wmf"/>
  <Override PartName="/ppt/media/image1.jpeg" ContentType="image/jpeg"/>
  <Override PartName="/ppt/media/image27.wmf" ContentType="image/x-wmf"/>
  <Override PartName="/ppt/media/image11.jpeg" ContentType="image/jpeg"/>
  <Override PartName="/ppt/media/image9.jpeg" ContentType="image/jpeg"/>
  <Override PartName="/ppt/media/image23.wmf" ContentType="image/x-wmf"/>
  <Override PartName="/ppt/media/image10.wmf" ContentType="image/x-wmf"/>
  <Override PartName="/ppt/media/image33.wmf" ContentType="image/x-wmf"/>
  <Override PartName="/ppt/media/image35.wmf" ContentType="image/x-wmf"/>
  <Override PartName="/ppt/media/image24.jpeg" ContentType="image/jpeg"/>
  <Override PartName="/ppt/media/image36.png" ContentType="image/png"/>
  <Override PartName="/ppt/media/image39.wmf" ContentType="image/x-wmf"/>
  <Override PartName="/ppt/media/image41.wmf" ContentType="image/x-wmf"/>
  <Override PartName="/ppt/media/image40.wmf" ContentType="image/x-wmf"/>
  <Override PartName="/ppt/media/image8.wmf" ContentType="image/x-wmf"/>
  <Override PartName="/ppt/media/image38.wmf" ContentType="image/x-wmf"/>
  <Override PartName="/ppt/media/image30.wmf" ContentType="image/x-wmf"/>
  <Override PartName="/ppt/media/image42.wmf" ContentType="image/x-wmf"/>
  <Override PartName="/ppt/media/image31.wmf" ContentType="image/x-wmf"/>
  <Override PartName="/ppt/media/image6.wmf" ContentType="image/x-wmf"/>
  <Override PartName="/ppt/media/image29.wmf" ContentType="image/x-wmf"/>
  <Override PartName="/ppt/media/image43.wmf" ContentType="image/x-wmf"/>
  <Override PartName="/ppt/media/image13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32.wmf" ContentType="image/x-wmf"/>
  <Override PartName="/ppt/media/image2.wmf" ContentType="image/x-wmf"/>
  <Override PartName="/ppt/media/image4.wmf" ContentType="image/x-wmf"/>
  <Override PartName="/ppt/media/image34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A87DD-F2C1-4401-A0F1-68FAEF8493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ED25B-4D1E-440B-AAB4-8818840066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09a  LINEAR EQUATIONS: Parallel and Perpendicular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43549-C5D2-4517-93D4-FAA7991EEC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10a  NUMBERS OPERATIONS AND PROPERTIES: Properties of 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93E1C-3D55-4920-9555-9BCF02A6C0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11a  PROBABILITY: Theoretic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DC55C-A637-469E-8AFF-43AAADE950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12a  QUADRATICS: Solving Quadratic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F9A50-93F6-4364-B67E-5EE1B68580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13a  SYSTEMS: Solving Line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817A6-E800-4F70-B88E-A5A818691B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14a  LOGIC: Converse and Biconditio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925D3-F945-4644-AE44-E06A8DB360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15a  EQUATIONS: Using the Distributive Proper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ACA94-BD1E-4CE0-B1F5-7C43CA6D04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16a  RADICALS: Operations with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BB667-82FA-43A0-A7A2-A872E6B833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17a  QUADRATICS: Quadratic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3780A-E5A9-4247-9E2C-A42B59462A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18a  TRIANGLES: Triangle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1DE1A-FA51-42EB-8B5F-A010937CB0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01a  POWERS: Operations with P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573EE-9701-4CEB-B69E-FA61E020A4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19a  RATE: Spe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693E6-7CE8-43A6-BDDF-10DFAFAB84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20a  QUADRATICS: Operations with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4CC61-C007-4784-96FB-9D3D44F695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21a  SOLIDS AND SIMILARITY: Similar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FD3BF-80B3-4D47-A868-7DA7DD4851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22a  RATIONALS: Multiplication and Division of Ratio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27ED7-5DE4-4265-B7E0-0E82383409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23a  OTHER POLYGONS: Perimeter and Area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4E1F6-5127-428C-977A-CBDD7C3642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24a  EQUATIONS: Combining 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A0E9C-3378-4255-9BD2-A2AAFBA295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25a  PROBABILITY: Combin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01D7B-25A7-49FD-87E2-F70E065288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26a  LOGIC: Logical Reaso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BD813-6C1E-45F9-8EA7-9A0B0D9A20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27a  CONICS: Circumference a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B6538-C4D0-405A-91B4-CE03EA66B9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28a  TRANSFORMATIONS: Compositions of Transfor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5AAC1-6B29-4324-B8EF-DAF26454F3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02a  RATE: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5AD68-1BB3-4EC2-BFB0-0F3476491C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29a  RATE: Fraction Mad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62A3D-40B7-4E85-9464-FF49C4129F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30a  TRIANGLES: D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9F504-432F-4040-88EB-545A9CCCC9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31a  OTHER POLYGONS: Perimeter and Area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6033B-418B-43F4-BA6A-D958F1DBB0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32a  LOGIC: Proo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DD488-90CD-4164-8EF8-9EE1C1A989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33a  TRIANGLES: Basic Trigonometric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ECAD1-E1FC-4402-963D-4C5D1116AF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34a  PROBABILITY: Permu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A17A8-040A-40F2-8E53-A3C50BEDB6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35a  OTHER POLYGONS: Perimeter and Area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BEE11-6892-4DCF-AA94-22A25756CF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03a  LOGIC: Lo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D592F-1DB5-4A6A-996A-34944915D9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04a  POWERS: Scientific No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EB806-6575-4340-A1D2-0DCA74260F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05a  LINEAR EQUATIONS: Slope and Direct Var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4DCA0-D4FF-4A58-BCA4-01CB9133E3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06a  NUMBERS_OPERATIONS_AND_PROPERTIES_Comparing_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8296E-C67B-47F2-B80F-241BCBDC7F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07a  SOLIDS AND SIMILARITY: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EC684-649E-4C74-AD93-3FD799630E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80008a  GRAPHS AND STATISTICS: Central Tend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BCCF2-8E1D-45BD-88C5-47AF3DC4B4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0358-873A-41AB-897D-29F6AC18A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F888-640C-4779-9BBE-DC73DA8C1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0950-361D-4D59-9CB9-4F1479D8F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0654-1467-4896-BED7-CDE5EB1F6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8FAF-55EB-44D9-93F5-DB6526284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1159-C2B7-4CEC-9556-22E0312B4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A856-B376-45E8-8C6E-B131BF387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D819-8AB0-414E-B814-11017F58A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1820-89E0-467C-A87C-67020DDCD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C22B-A6A4-4CF4-A7A9-7FF5BE7C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162D-FA00-4794-A118-3FEDF255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1EDA-3C7A-44F1-89DF-973DCED70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25343-6486-41AA-B9C3-B26A02197F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hyperlink" Target="http://www.jmap.org/JMAP/JMAPSolutions/LINEAR_EQUATIONS/JMAP_SOLUTIONS_PARALLEL_AND_PERPENDICULAR_LINES.doc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hyperlink" Target="http://www.jmap.org/JMAP/JMAPSolutions/NUMBERS_OPERATIONS_AND_PROPERTIES/JMAP_SOLUTIONS_PROPERTIES_OF_REAL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hyperlink" Target="http://www.jmap.org/JMAP/JMAPSolutions/PROBABILITY/JMAP_SOLUTIONS_THEORETICAL_PROBABILITY.doc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hyperlink" Target="http://www.jmap.org/JMAP/JMAPSolutions/QUADRATICS/JMAP_SOLUTIONS_SOLVING_QUADRATICS_BY_FACTORING.doc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hyperlink" Target="http://www.jmap.org/JMAP/JMAPSolutions/SYSTEMS/JMAP_SOLUTIONS_SOLVING_LINEAR_SYSTEMS.doc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hyperlink" Target="http://www.jmap.org/JMAP/JMAPSolutions/EQUATIONS/JMAP_SOLUTIONS_USING_THE_DISTRIBUTIVE_PROPERTY.doc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hyperlink" Target="http://www.jmap.org/JMAP/JMAPSolutions/RADICALS/JMAP_SOLUTIONS_OPERATIONS_WITH_RADICALS.doc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hyperlink" Target="http://www.jmap.org/JMAP/JMAPSolutions/QUADRATICS/JMAP_SOLUTIONS_QUADRATIC_FUNCTIONS.doc" TargetMode="External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POWERS/JMAP_SOLUTIONS_OPERATIONS_WITH_POWER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hyperlink" Target="http://www.jmap.org/JMAP/JMAPSolutions/RATE/JMAP_SOLUTIONS_SPEED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hyperlink" Target="http://www.jmap.org/JMAP/JMAPSolutions/QUADRATICS/JMAP_SOLUTIONS_OPERATIONS_WITH_POLYNOMIALS.doc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RATE/JMAP_SOLUTIONS_RATIO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jmap.org/JMAP/JMAPSolutions/POWERS/JMAP_SOLUTIONS_SCIENTIFIC_NOTATION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hyperlink" Target="http://www.jmap.org/JMAP/JMAPSolutions/LINEAR_EQUATIONS/JMAP_SOLUTIONS_SLOPE_AND_DIRECT_VARIATION.doc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hyperlink" Target="http://www.jmap.org/JMAP/JMAPSolutions/NUMBERS_OPERATIONS_AND_PROPERTIES/JMAP_SOLUTIONS_COMPARING_REALS.doc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hyperlink" Target="http://www.jmap.org/JMAP/JMAPSolutions/GRAPHS_AND_STATISTICS/JMAP_SOLUTIONS_CENTRAL_TENDENCY.doc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thematics 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ugust 200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1741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5877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038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557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362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104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081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789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505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86800" y="6205680"/>
            <a:ext cx="45720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743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809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116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57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025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905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124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"/>
          <p:cNvPicPr/>
          <p:nvPr/>
        </p:nvPicPr>
        <p:blipFill>
          <a:blip r:embed="rId2"/>
          <a:stretch/>
        </p:blipFill>
        <p:spPr>
          <a:xfrm>
            <a:off x="2971800" y="3276720"/>
            <a:ext cx="3048120" cy="30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419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5257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0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733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7859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4560" cy="5464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116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44080" y="5715000"/>
            <a:ext cx="799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2"/>
          <p:cNvGraphicFramePr/>
          <p:nvPr/>
        </p:nvGraphicFramePr>
        <p:xfrm>
          <a:off x="0" y="0"/>
          <a:ext cx="9144000" cy="303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30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5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4T11:07:59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cp:keywords>August 2000 Math A Regents Exam</cp:keywords>
  <dc:language>en-US</dc:language>
  <cp:lastModifiedBy>Steve</cp:lastModifiedBy>
  <dcterms:modified xsi:type="dcterms:W3CDTF">2007-07-16T02:48:48Z</dcterms:modified>
  <cp:revision>5</cp:revision>
  <dc:subject/>
  <dc:title>JMAP 0800ExamA Slideshow</dc:title>
</cp:coreProperties>
</file>