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50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15.jpeg" ContentType="image/jpeg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7.jpeg" ContentType="image/jpeg"/>
  <Override PartName="/ppt/media/image3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6.wmf" ContentType="image/x-wmf"/>
  <Override PartName="/ppt/media/image11.wmf" ContentType="image/x-wmf"/>
  <Override PartName="/ppt/media/image48.png" ContentType="image/png"/>
  <Override PartName="/ppt/media/image51.wmf" ContentType="image/x-wmf"/>
  <Override PartName="/ppt/media/image9.jpeg" ContentType="image/jpeg"/>
  <Override PartName="/ppt/media/image23.wmf" ContentType="image/x-wmf"/>
  <Override PartName="/ppt/media/image13.wmf" ContentType="image/x-wmf"/>
  <Override PartName="/ppt/media/image17.jpeg" ContentType="image/jpeg"/>
  <Override PartName="/ppt/media/image45.wmf" ContentType="image/x-wmf"/>
  <Override PartName="/ppt/media/image47.wmf" ContentType="image/x-wmf"/>
  <Override PartName="/ppt/media/image31.jpeg" ContentType="image/jpeg"/>
  <Override PartName="/ppt/media/image10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9CF0-C169-42DE-AB03-E5ACD79BFA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16ED-B85B-4E22-BE2A-1F12902969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9b  RADICALS: Rationalizing Denomin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43EF-D7DB-45A3-B37F-2FEE037F98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0b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430E-3124-4292-A752-7239640CB7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1b 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79F6-0432-4697-8583-B9AE7CC83A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2b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CF33-271D-403A-AD6B-6B208C0C4A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3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C5EF-A746-42F0-91CA-8033BDD0ED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4b 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02DA-166B-4D17-8785-C0892B42D0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5b  FUNCTIONS: Defin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8A60-5557-46B8-9701-4FF2CC9E19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6b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BBAC-C839-4CBA-80CB-1E79CB30DD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7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045E-C22E-467A-9451-13720A2A39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8b  RADICALS: Properties of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A4E4-D071-48B6-8B52-044F51E2A2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1b 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9A76-9CAA-424B-9A85-94BC1850EC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9b  QUADRATICS:  Quadratics with Noninteger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0F30-87CD-4BD0-9FC9-EBD5119C95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0b  ANGLES: Trigonometric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5573-C51B-4D5C-8066-1F8082AAF0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1b  POWERS: Exponent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C621-6E5B-4872-8DD7-AFFD81B260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2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AD9D-2935-4116-B7AA-3F8A118A97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3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A0C0-3301-4E2E-B819-864F8DCC7B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4b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2888-BB2E-4A48-9B76-27EC595B6E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5b  FUNCTIONS: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ABA5-4732-4D58-BF72-58A7FB27E9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6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DC3E-1C9A-4EE9-B58E-05AC4F43B2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7b  RATIONALS: Multiplication and Divis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E510-3583-48BA-A2A6-99F54256FD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8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0158-ECBE-4734-8473-ADC03FC665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2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4515-1627-4CCC-A245-0CB986ABD5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9b  GRAPHS AND STATISTICS: Standard Dev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6886-C42B-4947-830F-061F171336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0b   CONICS: Equations of Ellipse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788F-F739-454B-86DB-BE8BF629E3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1b  ANGLES: Solving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0E80-3B27-4BFF-9B54-F4900D038E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2b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90A2-8781-4BB7-8731-44C380909B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3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7A7D-4605-4DDF-93E6-E4B3BC30EA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4b   TRIANGLES: Vect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6843-373E-4997-AC2B-0D8CACD691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3b  QUADRATICS: Quadrat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AEA4-5E6B-47E2-9A1B-B9BA2A09A4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4b   TRIANGLES: Using Trigonometry to Fi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E0E7-A1FF-4552-B8EF-E867051DAB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5b  GRAPHS AND STATISTICS: Correlation Coeffic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9083-D264-42A7-B88B-73E8A00A78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6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4B5F-D666-44F6-AC17-7365485ACB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7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3653-37A0-4C21-9FB4-7C3D0972DC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8b  RADICALS: Exponents as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ACC6-8083-4E1F-A5F6-5E85A75927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574A-AD96-439F-B837-CA13AB086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1F6C-5CF0-49FE-A247-4E7C99F3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7DA4-E04A-48CF-962B-E81196D0B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8262-8370-4F12-BE7A-E96CB71D2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E436-1178-4A36-8743-4B91D6D1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C267-0D27-4A6D-95FB-4918096B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09CF-5CDE-4A36-A956-572D9067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04EA-7844-4508-98E5-5714BF25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015B-2094-4DEC-A1D5-03218B8A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1BE9-5D0D-4153-BFBA-308B78C3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DECD-B1CB-4D24-AE8F-CDEA91E5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749F-EBEB-4275-9BE7-EC6FE327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D8CC-7007-4148-83FD-2D3C0D91A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RADICALS/JMAP_SOLUTIONS_RATIONALIZING_DENOMINATORS.doc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RATIONALS/JMAP_SOLUTIONS_RATIONAL_EXPRESSIONS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RATIONALS/JMAP_SOLUTIONS_COMPLEX_FRACTIONS.doc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NUMBERS_OPERATIONS_AND_PROPERTIES/JMAP_SOLUTIONS_SUMMATIONS.doc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FUNCTIONS/JMAP_SOLUTIONS_DEFINING_FUNCTONS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QUADRATICS/JMAP_SOLUTIONS_USING_THE_DISCRIMINANT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hyperlink" Target="http://www.jmap.org/JMAP/JMAPSolutions/RADICALS/JMAP_SOLUTIONS_PROPERTIES_OF_RADICALS.doc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ANGLES/JMAP_SOLUTIONS_TRIGONOMETRIC_IDENTITIES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www.jmap.org/JMAP/JMAPSolutions/POWERS/JMAP_SOLUTIONS_EXPONENTIAL_FUNCTIONS.doc" TargetMode="External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GRAPHS_AND_STATISTICS/JMAP_SOLUTIONS_REGRESSION.doc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hyperlink" Target="http://www.jmap.org/JMAP/JMAPSolutions/FUNCTIONS/JMAP_SOLUTIONS_COMPOSITIONS_OF_FUNCTONS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hyperlink" Target="http://www.jmap.org/JMAP/JMAPSolutions/NUMBERS_OPERATIONS_AND_PROPERTIES/JMAP_SOLUTIONS_COMPLEX_NUMBERS.doc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PROBABILITY/JMAP_SOLUTIONS_BINOMIAL_PROBABIILITY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48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QUADRATICS/JMAP_SOLUTIONS_QUADRATIC_FUNCTION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GRAPHS_AND_STATISTICS/JMAP_SOLUTIONS_CORRELATION_COEFFICIENT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SYSTEMS/JMAP_SOLUTIONS_SOLVING_NONLINEAR_SYSTEMS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INEQUALITIES/JMAP_SOLUTIONS_ABSOLUTE_VALUE_INEQUALITIE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RADICALS/JMAP_SOLUTIONS_EXPONENTS_AS_RADICALS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une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038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4572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776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4419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886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023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971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3" descr=""/>
          <p:cNvPicPr/>
          <p:nvPr/>
        </p:nvPicPr>
        <p:blipFill>
          <a:blip r:embed="rId1"/>
          <a:stretch/>
        </p:blipFill>
        <p:spPr>
          <a:xfrm>
            <a:off x="-2208240" y="0"/>
            <a:ext cx="9132840" cy="4038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4572000" y="304920"/>
            <a:ext cx="3192480" cy="3773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438280" y="3551400"/>
            <a:ext cx="3764160" cy="3306600"/>
          </a:xfrm>
          <a:prstGeom prst="rect">
            <a:avLst/>
          </a:prstGeom>
          <a:ln w="0">
            <a:noFill/>
          </a:ln>
        </p:spPr>
      </p:pic>
      <p:pic>
        <p:nvPicPr>
          <p:cNvPr id="52" name="Object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3657600" y="838080"/>
            <a:ext cx="1828800" cy="1360440"/>
          </a:xfrm>
          <a:prstGeom prst="rect">
            <a:avLst/>
          </a:prstGeom>
          <a:ln w="0">
            <a:noFill/>
          </a:ln>
        </p:spPr>
      </p:pic>
      <p:pic>
        <p:nvPicPr>
          <p:cNvPr id="54" name="Object 7" descr=""/>
          <p:cNvPicPr/>
          <p:nvPr/>
        </p:nvPicPr>
        <p:blipFill>
          <a:blip r:embed="rId4"/>
          <a:stretch/>
        </p:blipFill>
        <p:spPr>
          <a:xfrm>
            <a:off x="0" y="2286000"/>
            <a:ext cx="9144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971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733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3581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3657600" y="1676520"/>
            <a:ext cx="4830840" cy="4663800"/>
          </a:xfrm>
          <a:prstGeom prst="rect">
            <a:avLst/>
          </a:prstGeom>
          <a:ln w="0">
            <a:noFill/>
          </a:ln>
        </p:spPr>
      </p:pic>
      <p:pic>
        <p:nvPicPr>
          <p:cNvPr id="100" name="Object 5" descr=""/>
          <p:cNvPicPr/>
          <p:nvPr/>
        </p:nvPicPr>
        <p:blipFill>
          <a:blip r:embed="rId3"/>
          <a:stretch/>
        </p:blipFill>
        <p:spPr>
          <a:xfrm>
            <a:off x="-2438280" y="3276720"/>
            <a:ext cx="9067680" cy="3581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HP_Administrator\Pictures\My Pictures\Thomas Jefferso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5410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3" descr=""/>
          <p:cNvPicPr/>
          <p:nvPr/>
        </p:nvPicPr>
        <p:blipFill>
          <a:blip r:embed="rId1"/>
          <a:stretch/>
        </p:blipFill>
        <p:spPr>
          <a:xfrm>
            <a:off x="-1676520" y="0"/>
            <a:ext cx="905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124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057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3429000" y="2286000"/>
            <a:ext cx="2214720" cy="2370240"/>
          </a:xfrm>
          <a:prstGeom prst="rect">
            <a:avLst/>
          </a:prstGeom>
          <a:ln w="0">
            <a:noFill/>
          </a:ln>
        </p:spPr>
      </p:pic>
      <p:pic>
        <p:nvPicPr>
          <p:cNvPr id="107" name="Object 5" descr=""/>
          <p:cNvPicPr/>
          <p:nvPr/>
        </p:nvPicPr>
        <p:blipFill>
          <a:blip r:embed="rId3"/>
          <a:stretch/>
        </p:blipFill>
        <p:spPr>
          <a:xfrm>
            <a:off x="0" y="4735440"/>
            <a:ext cx="9144000" cy="2122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Users\HP_Administrator\Pictures\My Pictures\Thomas Jefferson.jpg"/>
          <p:cNvPicPr/>
          <p:nvPr/>
        </p:nvPicPr>
        <p:blipFill>
          <a:blip r:embed="rId4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3" descr=""/>
          <p:cNvPicPr/>
          <p:nvPr/>
        </p:nvPicPr>
        <p:blipFill>
          <a:blip r:embed="rId1"/>
          <a:stretch/>
        </p:blipFill>
        <p:spPr>
          <a:xfrm>
            <a:off x="-2133720" y="0"/>
            <a:ext cx="8991720" cy="3505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4313160" y="152280"/>
            <a:ext cx="4830840" cy="3436920"/>
          </a:xfrm>
          <a:prstGeom prst="rect">
            <a:avLst/>
          </a:prstGeom>
          <a:ln w="0">
            <a:noFill/>
          </a:ln>
        </p:spPr>
      </p:pic>
      <p:pic>
        <p:nvPicPr>
          <p:cNvPr id="111" name="Object 5" descr=""/>
          <p:cNvPicPr/>
          <p:nvPr/>
        </p:nvPicPr>
        <p:blipFill>
          <a:blip r:embed="rId3"/>
          <a:stretch/>
        </p:blipFill>
        <p:spPr>
          <a:xfrm>
            <a:off x="0" y="3809880"/>
            <a:ext cx="91328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Object 3" descr=""/>
          <p:cNvPicPr/>
          <p:nvPr/>
        </p:nvPicPr>
        <p:blipFill>
          <a:blip r:embed="rId1"/>
          <a:stretch/>
        </p:blipFill>
        <p:spPr>
          <a:xfrm>
            <a:off x="-1905120" y="0"/>
            <a:ext cx="9079200" cy="5006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5029200" y="914400"/>
            <a:ext cx="3809880" cy="3801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Object 3" descr=""/>
          <p:cNvPicPr/>
          <p:nvPr/>
        </p:nvPicPr>
        <p:blipFill>
          <a:blip r:embed="rId1"/>
          <a:stretch/>
        </p:blipFill>
        <p:spPr>
          <a:xfrm>
            <a:off x="-2286000" y="0"/>
            <a:ext cx="9078840" cy="5791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4114800" y="609480"/>
            <a:ext cx="4199040" cy="4191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Object 3" descr=""/>
          <p:cNvPicPr/>
          <p:nvPr/>
        </p:nvPicPr>
        <p:blipFill>
          <a:blip r:embed="rId1"/>
          <a:stretch/>
        </p:blipFill>
        <p:spPr>
          <a:xfrm>
            <a:off x="-2057400" y="0"/>
            <a:ext cx="9055080" cy="4419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4724280" y="380880"/>
            <a:ext cx="41990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0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800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819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895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4038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9:19:45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une 2007 Math A Regents Exam</cp:keywords>
  <dc:language>en-US</dc:language>
  <cp:lastModifiedBy>Steve</cp:lastModifiedBy>
  <dcterms:modified xsi:type="dcterms:W3CDTF">2007-07-25T19:29:24Z</dcterms:modified>
  <cp:revision>33</cp:revision>
  <dc:subject/>
  <dc:title>JMAP 0607ExamB Slideshow</dc:title>
</cp:coreProperties>
</file>