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6.wmf" ContentType="image/x-wmf"/>
  <Override PartName="/ppt/media/image15.jpeg" ContentType="image/jpeg"/>
  <Override PartName="/ppt/media/image25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34.wmf" ContentType="image/x-wmf"/>
  <Override PartName="/ppt/media/image2.wmf" ContentType="image/x-wmf"/>
  <Override PartName="/ppt/media/image32.wmf" ContentType="image/x-wmf"/>
  <Override PartName="/ppt/media/image41.wmf" ContentType="image/x-wmf"/>
  <Override PartName="/ppt/media/image10.jpeg" ContentType="image/jpeg"/>
  <Override PartName="/ppt/media/image33.wmf" ContentType="image/x-wmf"/>
  <Override PartName="/ppt/media/image12.jpeg" ContentType="image/jpeg"/>
  <Override PartName="/ppt/media/image37.png" ContentType="image/png"/>
  <Override PartName="/ppt/media/image40.wmf" ContentType="image/x-wmf"/>
  <Override PartName="/ppt/media/image8.wmf" ContentType="image/x-wmf"/>
  <Override PartName="/ppt/media/image38.wmf" ContentType="image/x-wmf"/>
  <Override PartName="/ppt/media/image30.wmf" ContentType="image/x-wmf"/>
  <Override PartName="/ppt/media/image45.png" ContentType="image/png"/>
  <Override PartName="/ppt/media/image13.wmf" ContentType="image/x-wmf"/>
  <Override PartName="/ppt/media/image27.jpeg" ContentType="image/jpeg"/>
  <Override PartName="/ppt/media/image42.wmf" ContentType="image/x-wmf"/>
  <Override PartName="/ppt/media/image43.wmf" ContentType="image/x-wmf"/>
  <Override PartName="/ppt/media/image44.png" ContentType="image/png"/>
  <Override PartName="/ppt/media/image46.wmf" ContentType="image/x-wmf"/>
  <Override PartName="/ppt/media/image11.wmf" ContentType="image/x-wmf"/>
  <Override PartName="/ppt/media/image47.wmf" ContentType="image/x-wmf"/>
  <Override PartName="/ppt/media/image39.wmf" ContentType="image/x-wmf"/>
  <Override PartName="/ppt/media/image9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7.jpeg" ContentType="image/jpeg"/>
  <Override PartName="/ppt/media/image31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F65A-3093-4CB1-A31B-CE604DADDB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E1CB-9D2A-453D-8EDE-F5B599AB3C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9a  LINEAR EQUATIONS: Parallel and Perpendicular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C726-DA22-40BC-A3DD-83C61ADAA9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0a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D5A3-227E-434C-8C66-00E42B4EDC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1a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DDF4-DDBC-4471-9E36-A3C3FC9794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2a  INEQUALITIES: Solving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641E-E1B3-4645-B5D0-90C70CA13F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3a   ANGLES: Complementary Supplementary and Vertical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B203-A92A-407D-8E4C-CEBA391F9C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4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70FB-62D6-4A85-BACA-C0B7217227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5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A222-EFE3-4273-A718-D4D959B842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6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B335-EBB1-4D74-9F59-43908ADDBC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7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6010-2D97-4EF6-A6E6-526415943B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8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4C68-9046-4A29-91D4-272A619423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1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F5D4-E8CD-43AB-99CB-5F4AD75126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19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693B-D7F0-4D9F-80E8-4B434E8480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Calibri"/>
              </a:rPr>
              <a:t>010320a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LES: Angles Involving Paralle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1EE4-7E99-43D0-A7E6-A8D43390E6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1a  PROBABILITY: Sample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91F1-7572-4169-B488-E5F0D0F7B3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2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BB27-E292-47F1-9B65-86608389E9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3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5428-F8A5-4D23-83B5-D9EE1325E9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4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9B66-C936-4782-804E-F19FD4FDB0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5a  CONICS: Circl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DA47-737E-47A9-8919-DC6843FAEF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6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6436-8439-47DE-9366-E9464BE658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7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B6B8-7653-4FF6-89BC-C149196F34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8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5659-5B86-40B4-8852-C4991A5E88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2a  TRANSFORMATIONS: Di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99E6-081E-4B8C-A68E-3F27EEE193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29a  SYSTEMS: Break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D9CD-E7E8-422D-B5BA-9D56FDDBED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30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5483-F1E1-45FA-BDB1-8A642340FC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31a  RATE: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D06E-2697-44B2-A1A8-7F3EBB7A4D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32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B4E7-FE7B-4A71-B3E4-DD9FE42A54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33a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705A-8E6F-432E-B5C6-04869B8230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34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B9CA-5E55-4C53-94A2-7A9C1379C4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35a  TRIANGLES: Perimeter and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A781-B01C-436D-9929-7554B39873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3a  LOGIC:  In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0166-E348-4B02-8051-623C2A0329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4a  NUMBERS_OPERATIONS_AND_PROPERTIES_Comparing_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B7ED-987B-4D8E-A26E-0ABA6D71CF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5a  TRANSFORMATIONS: Identifying Trans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DBDA-6629-419D-91CA-88142B6888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6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45A8-C53E-48CE-BD69-4E40FBB0FE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7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6DFF-C740-4EA5-BEA2-F224E55162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308a  LOGIC: Contra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C3E1-7033-4274-B64C-499275EE55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9494-522A-4C16-9770-6311A9288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97E2-DB44-46CB-9B0B-CE9C92BA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C89D-CED7-4880-A6EF-05DF78416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8ED5-8050-4D96-9340-A2C84F719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918E-507F-4ED6-9F3C-9F406790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409E-F911-412C-9E32-9B207426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E91E-EFD7-41A8-8BA1-F78E6159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2CB1-0AA4-428C-BD9F-914B0638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D5D7-AC11-457B-8B4B-AF6EFD73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9D0E-E246-4EC7-BA7A-DD22C711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3200-4C67-494C-9F08-44BFB27D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E3FC-9663-45D0-A849-26816186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0B8C-0465-42D0-9DAE-52209312DE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LINEAR_EQUATIONS/JMAP_SOLUTIONS_PARALLEL_AND_PERPENDICULAR_LINES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EQUATIONS/JMAP_SOLUTIONS_TRANSFORMING_FORMULAS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RADICALS/JMAP_SOLUTIONS_OPERATIONS_WITH_RADICALS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INEQUALITIES/JMAP_SOLUTIONS_SOLVING_INEQUALITIES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ANGLES/JMAP_SOLUTIONS_COMPLEMENTARY_SUPPLEMENTARY_AND_VERTICAL_ANGL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QUADRATICS/JMAP_SOLUTIONS_FACTORING_POLYNOMI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GRAPHS_AND_STATISTICS/JMAP_SOLUTIONS_GRAPHICAL_REPRESENTATIONS_OF_DATA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http://www.jmap.org/JMAP/JMAPSolutions/POWERS/JMAP_SOLUTIONS_SCIENTIFIC_NOT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http://www.jmap.org/JMAP/JMAPSolutions/ANGLES/JMAP_SOLUTIONS_ANGLES_INVOLVING_PARALLEL_LINES.doc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www.jmap.org/JMAP/JMAPSolutions/PROBABILITY/JMAP_SOLUTIONS_SAMPLE_SPAC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RATE/JMAP_SOLUTIONS_PERCENT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PROBABILITY/JMAP_SOLUTIONS_PERMUTATIONS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hyperlink" Target="http://www.jmap.org/JMAP/JMAPSolutions/QUADRATICS/JMAP_SOLUTIONS_SOLVING_QUADRATICS_BY_FACTORING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hyperlink" Target="http://www.jmap.org/JMAP/JMAPSolutions/QUADRATICS/JMAP_SOLUTIONS_SOLVING_QUADRATICS_BY_FACTORING.doc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NUMBERS_OPERATIONS_AND_PROPERTIES/JMAP_SOLUTIONS_COMPARING_REALS.doc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POWERS/JMAP_SOLUTIONS_OPERATIONS_WITH_POWERS.doc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PROBABILITY/JMAP_SOLUTIONS_COMBINATIONS.doc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anuary 20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352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063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179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45720" cy="3886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1314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406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0" y="0"/>
          <a:ext cx="9144000" cy="209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0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981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962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243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2" descr=""/>
          <p:cNvPicPr/>
          <p:nvPr/>
        </p:nvPicPr>
        <p:blipFill>
          <a:blip r:embed="rId1"/>
          <a:stretch/>
        </p:blipFill>
        <p:spPr>
          <a:xfrm>
            <a:off x="0" y="0"/>
            <a:ext cx="8983800" cy="5154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666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05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447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2481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835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23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2"/>
          <a:stretch/>
        </p:blipFill>
        <p:spPr>
          <a:xfrm>
            <a:off x="2743200" y="2286000"/>
            <a:ext cx="3772080" cy="3772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19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657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2" descr=""/>
          <p:cNvPicPr/>
          <p:nvPr/>
        </p:nvPicPr>
        <p:blipFill>
          <a:blip r:embed="rId1"/>
          <a:stretch/>
        </p:blipFill>
        <p:spPr>
          <a:xfrm>
            <a:off x="0" y="-34920"/>
            <a:ext cx="890892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5720"/>
          </a:xfrm>
          <a:prstGeom prst="rect">
            <a:avLst/>
          </a:prstGeom>
          <a:ln w="0">
            <a:noFill/>
          </a:ln>
        </p:spPr>
      </p:pic>
      <p:pic>
        <p:nvPicPr>
          <p:cNvPr id="110" name="Object 5" descr="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3"/>
          <a:stretch/>
        </p:blipFill>
        <p:spPr>
          <a:xfrm>
            <a:off x="1066680" y="2057400"/>
            <a:ext cx="2590920" cy="1419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"/>
          <p:cNvPicPr/>
          <p:nvPr/>
        </p:nvPicPr>
        <p:blipFill>
          <a:blip r:embed="rId4"/>
          <a:stretch/>
        </p:blipFill>
        <p:spPr>
          <a:xfrm>
            <a:off x="3962520" y="1905120"/>
            <a:ext cx="3657600" cy="1850760"/>
          </a:xfrm>
          <a:prstGeom prst="rect">
            <a:avLst/>
          </a:prstGeom>
          <a:ln w="0">
            <a:noFill/>
          </a:ln>
        </p:spPr>
      </p:pic>
      <p:pic>
        <p:nvPicPr>
          <p:cNvPr id="113" name="Object 8" descr=""/>
          <p:cNvPicPr/>
          <p:nvPr/>
        </p:nvPicPr>
        <p:blipFill>
          <a:blip r:embed="rId5"/>
          <a:stretch/>
        </p:blipFill>
        <p:spPr>
          <a:xfrm>
            <a:off x="0" y="4191120"/>
            <a:ext cx="9144000" cy="293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C:\Users\HP_Administrator\Pictures\My Pictures\Thomas Jefferson.jpg"/>
          <p:cNvPicPr/>
          <p:nvPr/>
        </p:nvPicPr>
        <p:blipFill>
          <a:blip r:embed="rId6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858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801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44080" y="5715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4038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492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03:07:01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anuary 2003 Math A Regents Exam</cp:keywords>
  <dc:language>en-US</dc:language>
  <cp:lastModifiedBy>Steve</cp:lastModifiedBy>
  <dcterms:modified xsi:type="dcterms:W3CDTF">2007-07-16T02:42:41Z</dcterms:modified>
  <cp:revision>6</cp:revision>
  <dc:subject/>
  <dc:title>JMAP 0103ExamA Slideshow</dc:title>
</cp:coreProperties>
</file>