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34.jpeg" ContentType="image/jpeg"/>
  <Override PartName="/ppt/media/image40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9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9.jpeg" ContentType="image/jpeg"/>
  <Override PartName="/ppt/media/image23.wmf" ContentType="image/x-wmf"/>
  <Override PartName="/ppt/media/image12.jpeg" ContentType="image/jpeg"/>
  <Override PartName="/ppt/media/image38.wmf" ContentType="image/x-wmf"/>
  <Override PartName="/ppt/media/image4.jpeg" ContentType="image/jpeg"/>
  <Override PartName="/ppt/media/image8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7F86-B4D4-4043-B5C8-8E495EE9D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383E-B42C-444A-AB25-FDE8C99C2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9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6A60-8C9D-42FE-A0C8-5ABF3D849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C39D-C2F6-42A7-BC89-0BBD79E69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1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4999-00AA-41FD-AA64-63FFF26AB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2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F21B-24F7-45B2-BBA0-E55ACD943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4B3F-AF77-46EF-8066-CAD582B8A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4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11F-C126-46EF-AB12-1F226BA63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5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A62C-91A8-4F13-8381-953A54AE9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6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75F5-D83A-4838-970F-A33A2E2EF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DFB1-0509-4EA2-9E07-675C87720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8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6A96-0CA0-4301-8CBC-34F753F09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1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81C2-0F92-40A3-84F0-AEF613A25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19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E2E9-3B92-4DDA-93D0-972CEB886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A15E-89B5-4E14-AFEF-B7E9E071B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1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177B-6E87-44C8-A885-20A538D4E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2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9EBF-E200-4EE3-9006-32BC96170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3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C8F6-36F4-4711-9734-C0B7B6EE4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4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FFFF-6720-4E67-9C70-36F228578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5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357-0960-4B36-8D5C-D88AFFFA7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6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334F-1B2F-419C-8439-1EE93FF9C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EF4F-5905-42AE-BFC4-FF01334D4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8925-0DBD-4B1E-8D5E-EB5440C99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56A3-00B0-40BC-8E25-2B8B3E180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29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093E-6813-4563-8232-9FFE28CAF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28C8-4EE2-402F-A488-9BC306765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1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7D66-27CA-4E82-8863-82607CC81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59FE-A90F-43AC-A5C9-07352F7B4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3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5E84-7CDE-487E-B128-2F4E37F55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4a  FUNCTIONS: Fahrenheit Conver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5C39-546E-4A8B-B14B-EFC904B3B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B6F3-59B5-4E41-A463-E53B6188F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6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6FEC-1E75-47C1-9891-55F186CC9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7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F39-A17C-40FA-990A-DEB27BAB0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8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AC0A-1CFD-4619-9DD8-67E67C873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3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9413-A5E7-4976-9393-1E6AF81AC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39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FB4F-992D-4012-9226-3E4BAD136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4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F8F9-051C-4BCD-8FE2-469DA3BC4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5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618-A504-4433-98CB-C485D2CCF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6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D06B-E122-47B2-915B-57D134F7E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7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6B57-8C4F-4F3F-B8C1-3F4524683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708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0FEA-C082-41FF-8CD4-E0E5E271F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4F2-D454-4A18-A5E1-3B888573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AA0-6675-4675-937B-53BC6B35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283-5EF5-4578-90A6-4F262BDB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2E7-EBE0-4B5B-A2B7-A899B735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4C2-306A-437C-8E8D-E4EBC689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C4C-48BC-440E-B4D4-EE036840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CB2-49C4-4AF2-8778-118A5507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1BB-E14F-40C1-A9CD-A50BACA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C02-9C67-4713-BAED-D1E9B540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C98-FE7C-476D-957A-E63379E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C33-A264-4E77-98ED-7F3E6AD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67B-A931-433B-ABDF-F7797F14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4C3D-76FB-42A2-B828-6271F7AD5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LINEAR_EQUATIONS/JMAP_SOLUTIONS_MIDPOINT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EQUATIONS/JMAP_SOLUTIONS_USING_THE_DISTRIBUTIVE_PROPERTY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PROBABILITY/JMAP_SOLUTIONS_SAMPLE_SPACE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EQUATIONS/JMAP_SOLUTIONS_SOLVING_TWO_STEP_EQUATION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DICALS/JMAP_SOLUTIONS_SQUARE_ROOT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395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6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414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67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5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1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55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86760" cy="482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0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63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5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7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3740040" cy="37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71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878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765520" cy="21333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4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9129600" cy="119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HP_Administrator\Pictures\My Pictures\Thomas Jefferson.jpg"/>
          <p:cNvPicPr/>
          <p:nvPr/>
        </p:nvPicPr>
        <p:blipFill>
          <a:blip r:embed="rId5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52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46:4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7 Math A Regents Exam</cp:keywords>
  <dc:language>en-US</dc:language>
  <cp:lastModifiedBy>Steve</cp:lastModifiedBy>
  <dcterms:modified xsi:type="dcterms:W3CDTF">2007-07-16T02:44:19Z</dcterms:modified>
  <cp:revision>6</cp:revision>
  <dc:subject/>
  <dc:title>JMAP 0107ExamA Slideshow</dc:title>
</cp:coreProperties>
</file>