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3.jpeg" ContentType="image/jpeg"/>
  <Override PartName="/ppt/media/image33.jpeg" ContentType="image/jpeg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8.wmf" ContentType="image/x-wmf"/>
  <Override PartName="/ppt/media/image40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wmf" ContentType="image/x-wmf"/>
  <Override PartName="/ppt/media/image10.wmf" ContentType="image/x-wmf"/>
  <Override PartName="/ppt/media/image25.jpeg" ContentType="image/jpeg"/>
  <Override PartName="/ppt/media/image41.wmf" ContentType="image/x-wmf"/>
  <Override PartName="/ppt/media/image8.jpeg" ContentType="image/jpeg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519A-8885-4C8E-A1EE-00F490DCD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2CA1-E0A0-40AE-8B84-FDCC9B278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9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3C97-5169-44C9-A95C-B31189A6D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0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77E1-BBE6-4651-8DD0-4754E49E0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1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E4E8-6C89-43CB-8A02-0F69EDEDE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2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D108-032F-48AB-B9D2-A39229779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3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F92-3469-4876-9713-6B17D182F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4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ECAA-992B-4137-A676-F57B2132E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5a  QUADRATICS: Solving Quadratic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97A-FD96-4A53-8E8B-E12071792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6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6F8-2C4F-4FF8-90B2-5437977BB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0782-8430-48D5-B705-E98BEFC23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8a  PROBABILITY: Multiplication Counting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1C36-E958-47EA-813D-E6D8E68C5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1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1E37-5E1B-4DFB-9671-6860A8B7B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19a  NUMBERS OPERATIONS AND PROPERTIES: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91C2-6107-4ECA-8007-701515C77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0a  LOGIC: Contr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74F6-763E-472B-94E3-611EB7C5B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1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9784-4A21-4C20-92C7-CCBAD84CD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2a  RATE: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D6F3-5ADB-48A1-9D74-9210A76E8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3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5C61-68FD-471F-A571-D5D440EE3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C8E4-B51D-429F-B446-39A3FA8F7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5a  ANGLES: Co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F053-1248-4011-82AA-5D77AA16A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6a  TRIANGLES: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A5CB-B909-4E46-B5FE-5FDF34DCD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7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5906-ADEB-4090-AF12-665C3750D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8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B56-1F81-4502-AAE3-0D141AD70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2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349-A7A9-4319-B960-207CFC00E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29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BFE0-6D31-4709-ACCF-390D91EB3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0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019B-46BC-4860-98D5-B24CAF929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1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08D6-641E-4678-B996-1CFAEA4F0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02B9-5F8B-4588-BBCD-14F25AECB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3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9F5C-FA95-4DCF-B1F2-5A3015F84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4a  INEQUALITIES: Linear Progra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00D0-4C0C-4C49-8614-470AB89A4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1FE4-65CE-4E23-9747-39A76EDB9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3a  LINEAR EQUATIONS: Slope Intercept Form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6C9C-21CB-40BB-81DD-A10B9CB74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4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9CC-CA64-41B9-B356-5EDFFF15B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5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9E6-3777-49E9-A2CC-1AFA8FBEE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6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D8D1-5359-4486-BEE4-DBBF4A86E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7629-F26C-4E57-B95E-6C34E4E4D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208a  CONICS: Graphing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DC57-3E09-4EC6-9B70-3C5871B6B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D12-8C40-4783-AC18-71E6B023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264-263D-4032-9880-C908FEBB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74A-81F7-41A0-952F-80BC972E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7AA-0E0A-4BEA-9452-DAA9C973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85A-5078-4C8D-9065-83582FFC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0DA-B96E-4330-9247-8E81B028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8C6-DC37-4CDB-A459-A262A42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58B-BB0E-40FC-A515-3C6986E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995-13EF-4CCC-9BFF-D2278371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0F2-A9A0-4E1B-A52C-C01F2C7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968-BD71-493E-9A51-4C4CF2C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B2E-11AD-4AD3-9F4E-972CF68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D20D-2AFD-4B6C-8B67-72E5AD227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QUADRATICS/JMAP_SOLUTIONS_SOLVING_QUADRATICS_BY_FACTORING.doc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PROBABILITY/JMAP_SOLUTIONS_MULTIPLICATION_COUNTING_PRINCIPLE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NUMBERS_OPERATIONS_AND_PROPERTIES/JMAP_SOLUTIONS_RATIONAL_NUMBER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RATE/JMAP_SOLUTIONS_SCAL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hyperlink" Target="http://www.jmap.org/JMAP/JMAPSolutions/ANGLES/JMAP_SOLUTIONS_CONSTRUCTIONS.doc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LINEAR_EQUATIONS/JMAP_SOLUTIONS_SLOPE_INTERCEPT_FORM_OF_A_LINE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81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56480" y="601992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8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250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18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0280" y="5867280"/>
            <a:ext cx="69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34920" y="152280"/>
            <a:ext cx="910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362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318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3314880" cy="331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381880" y="5769000"/>
            <a:ext cx="7621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95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2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482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2:58:08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2 Math A Regents Exam</cp:keywords>
  <dc:language>en-US</dc:language>
  <cp:lastModifiedBy>Steve</cp:lastModifiedBy>
  <dcterms:modified xsi:type="dcterms:W3CDTF">2007-07-16T02:42:15Z</dcterms:modified>
  <cp:revision>7</cp:revision>
  <dc:subject/>
  <dc:title>JMAP 0102ExamA Slideshow</dc:title>
</cp:coreProperties>
</file>