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1.jpeg" ContentType="image/jpeg"/>
  <Override PartName="/ppt/media/image23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33.wmf" ContentType="image/x-wmf"/>
  <Override PartName="/ppt/media/image10.wmf" ContentType="image/x-wmf"/>
  <Override PartName="/ppt/media/image35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24.jpeg" ContentType="image/jpe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3F4-700A-4E7D-BBAE-4B1180130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72A-B0BB-4540-9CB6-55EA255FE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0CC-F388-49AE-A758-A8DEED9B1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A62-A426-4E5B-B891-436711855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E56-A990-4C70-B478-02807F26A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A2F-EF97-4E14-B538-E3DF6CBE9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4C6-5CFE-4D97-977C-13EF6118F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b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F436-2E9F-40D7-8C91-7BA6D0E6F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b  GRAPHS AND STATISTICS: Correlation Co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41EC-1B0B-43D6-B951-8993BEA8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4C2A-60E2-4794-B1A6-184C82E71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087-8A40-4500-8EB2-F3E9FE4EB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b  NUMBERS OPERATIONS AND PROPERTIES: 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B7F9-5C06-49E4-9AF1-1C339C64A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308-39F4-43FC-B964-121AED024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63B-AAA8-4CA3-B593-3B1502ABA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A1E2-D287-4E85-9BC9-D30659904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BFC-A45B-4426-8404-EC4DC164D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6D9-F667-411B-B94E-F532552EE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600-6728-4A87-99FF-4249D31E5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FC88-F8A2-45B9-9778-A85B2F91E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5D2-1D17-437E-8918-B1D11B638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FE3E-93B0-4A94-9C47-E23F019F9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b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7A3-65EF-4E6F-A5DC-2362FCEB3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FF56-3EDD-4DD9-9A21-DD40F69E9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9D2-5AC7-4738-ACBA-F6B1CB7ED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6BA3-4DB5-432A-8954-B61533558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937-5BC2-446F-8E7D-8CE927E5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6EB-25B1-4379-BF4A-072E98B9B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b  RADICALS: Solving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7F9-EE81-4236-9AE8-AA814FD34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FDBB-678F-45CA-A192-9FA4FAF75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A41-267A-4362-B7A0-5C496C7E0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EDE-6D7C-4401-814E-7F6FE4EEB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287-0CAE-40CD-AB8E-06FEDFF64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644B-DC3C-46CC-8755-CA18DF667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b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880E-D316-437C-8E09-5C06C8C11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7D60-A15D-44B1-AEBD-A8FC63503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D95C-6E10-40FF-891B-43969939C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379-DCC7-4675-AB8A-E8168559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F2D-0B91-4B1E-BEA8-EEC6848A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8FB-9CA9-4825-8EB9-CCF13358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147-3AF0-4644-BDFE-C5F08D88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415-72DE-4BB2-AAA5-71D5F63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249-7339-4DA0-BEC5-152BA84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704-D98F-45E0-9225-DBE62A2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74E-AD64-476A-A0D4-42C5677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7C9-F0D8-4527-838E-2E5BFFB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793-80CA-4978-A147-061EFE6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362-0F93-42DF-AC1C-11FC098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B1E-1581-4A58-A8E7-0A12B74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1B9-260C-4C35-94DC-A26A6E5FF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QUADRATIC_INEQUALITI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GRAPHS_AND_STATISTICS/JMAP_SOLUTIONS_CORRELATION_COEFFICIENT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IMAGINARY_NUMBER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6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2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14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22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45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0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4300560" cy="432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32880" cy="385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7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93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-1828800" y="0"/>
            <a:ext cx="9067680" cy="426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34750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73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31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5 Math A Regents Exam</cp:keywords>
  <dc:language>en-US</dc:language>
  <cp:lastModifiedBy>Steve</cp:lastModifiedBy>
  <dcterms:modified xsi:type="dcterms:W3CDTF">2007-07-16T02:53:58Z</dcterms:modified>
  <cp:revision>6</cp:revision>
  <dc:subject/>
  <dc:title>JMAP 0105ExamB Slideshow</dc:title>
</cp:coreProperties>
</file>