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27.wmf" ContentType="image/x-wmf"/>
  <Override PartName="/ppt/media/image10.jpeg" ContentType="image/jpeg"/>
  <Override PartName="/ppt/media/image31.wmf" ContentType="image/x-wmf"/>
  <Override PartName="/ppt/media/image33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13.jpeg" ContentType="image/jpeg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697-B727-4AC4-B116-CF664AF41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475-846B-4D61-8183-B09702547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9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D48-5782-4D32-BFDD-9FA2A2D36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0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471-A88D-4F0F-8B10-9EBDE497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1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61F-E61B-4438-AB56-0A1A6C6CC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2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2F1-97AD-4015-BCCE-CD4B93D5D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3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462-7F47-43CD-A386-2E8B7B56E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A1E-964D-4443-AF97-611BB4FA6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5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E712-711F-409F-AEDA-87BA72524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0F5-9D7C-4D7F-B349-2CB27ACC6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EE0-C424-4C23-9419-E2994934A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8a  EQUATIONS: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67C-5F56-4625-B20C-36E3D6723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17F-5F5B-4DEE-9DE1-86D58479F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19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FF3-FB3E-4BB6-BEF2-BC77109DB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0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0069-784C-4530-948A-3E648998F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FD1-032C-47DB-AAC1-FB5D57AE2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2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64DF-4359-4D3C-8B11-CEB286552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7077-5DA3-4337-8788-8474BFABC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997-9424-4810-AC9E-34004D237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5C3-3502-4A18-8D64-C44435862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7BD-FFB8-47D6-8675-69E08AA90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894-E7CE-452D-9680-48AE521C4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8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849-F7D9-4C30-BB11-E76AE4FE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2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80E-EAAB-4592-834B-8CEA79B0A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BB3B-C92D-4B18-AAB7-B0127FD1B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AB0D-F293-4CF4-A563-D6DE03DF2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1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E75-8064-43F3-ABB4-A14E15C5C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2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D27D-FB92-4AF8-B684-8F9EC3D06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730-6A65-4CCD-B271-D3A10BE2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4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4AC-1A2F-4BD2-8BE1-F5830A277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E03-01B5-44B2-A3F6-774916DF4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0A33-9380-4080-B6E8-CB65B7D5D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7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0E2-E87A-4498-8D35-30029574E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8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F307-340C-47CE-81C2-87DDBEEFE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FD2F-2FA4-4ACB-BC6C-FEC1C92B1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3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F29-BD5C-4A60-9641-BBBBED2E4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813-2D70-4A8B-8996-04C8218B5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5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085-2FE3-46A0-B18D-5A7D4583D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E54A-06D4-4AF6-ACDB-51714D65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7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4D3-70B9-427E-AE55-F67203B4A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408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798B-9F13-4F50-9427-B1B8D28A0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D98-5A08-44CB-A766-BFAE0BEE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2F1-6471-4581-853A-C70724A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68F-B4B1-4BED-9A80-E8722C4C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147-4A2E-45EA-9CCF-C0E56720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8A3-BFAE-4DE2-9320-FC5F230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7F5-67AA-4E69-A374-8BBE901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775-29AA-4CE7-8019-48153DB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335-FEA9-4176-86CB-2F364012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2AF-F8A8-4AAB-BA26-50865A6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3D3-D209-4866-B0F3-AFDA479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E9A-221B-4040-B993-C799F6AD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862-10A9-4A98-9151-740AF58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C5A-E37A-4864-A307-59108839D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3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0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612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67960" cy="334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8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3848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7662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8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8005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23:32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4 Math A Regents Exam</cp:keywords>
  <dc:language>en-US</dc:language>
  <cp:lastModifiedBy>Steve</cp:lastModifiedBy>
  <dcterms:modified xsi:type="dcterms:W3CDTF">2007-07-16T02:47:00Z</dcterms:modified>
  <cp:revision>4</cp:revision>
  <dc:subject/>
  <dc:title>JMAP 0604ExamA Slideshow</dc:title>
</cp:coreProperties>
</file>