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0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33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4.jpeg" ContentType="image/jpeg"/>
  <Override PartName="/ppt/media/image16.jpeg" ContentType="image/jpeg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E14-9ED8-4975-9549-83E200E89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2E2-3747-4904-A5D3-7EE389E44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F6A-B642-4E2A-88BD-ADB606397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52D-099D-457C-BAE8-37E630745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5765-B3BC-4973-8EFE-8691CC378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E651-9E33-4CFF-B8DA-1B9071BFA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CCE-FD6B-4DA7-96FF-34A12AF7F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8BFB-2879-4F7F-8384-1008FD1D0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7E07-6372-4E96-9750-A5048C762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D43-C215-441B-B430-CF99C5D69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4583-9293-4B8D-849E-BB2426942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D655-4C60-49A5-BE48-8738B60DC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2CB-DDD0-47E9-A50E-DF7B6836B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CD43-74ED-42EA-B4D4-F1BC04CCC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b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F11-76CC-4811-B134-23E7B2232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FE1-EC1E-4CE2-A6C0-13B0CFD96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BA6-C0A9-4BCA-B30A-CF41E464C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AA70-6C92-44E8-BFAA-445EE0343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b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748-B539-46E4-82A4-830C308FD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543-A845-4E60-ABF1-E405D08F5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35B-AA77-406B-B639-BD6A0890C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970-F8DC-4D1A-8CB8-37195ED39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FAF1-B75B-4F57-AB4A-71787AE21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EE9-2F67-4487-B533-E78E9653E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18A-1BEA-4CD6-B8CF-FE92B0263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067-DDCC-4F0A-BFF6-01CB6C1CE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FF8-0A66-4702-A347-0CEAF863A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E6E-E2A4-49F5-83C4-B52EA9524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A12A-20FA-48D5-AE12-DBCDD7E9A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CD5-54FF-4BE2-8152-9614779EE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81AE-3C5A-44F0-9BCE-95AF78922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88F-7060-4D94-8E33-7736CAC9B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7D9B-3EB3-4EC1-A1E0-82CE1FBC3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83F7-7941-4480-8DA7-F20AB99DF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DD3-754F-4C89-BBB0-81284F2F4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b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B36-8E19-4B42-BB1B-257C0456F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2D2-221B-4BF5-B2DD-3AAEECF6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82C-8DA3-4D9C-9671-A0C6908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2D9-50F2-47FF-8CC1-D4A25AD1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90E-8C2C-4755-81CC-4D787A56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0F2-869E-4789-856B-50A70E37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1AE-EAE9-4830-975D-A06816C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987-6092-47B4-95E8-581E788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595-DF6C-407E-93CB-B18B38D6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70E-1C54-43FE-AFBE-F17D841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4C1-3BA3-49CF-B034-CEAA293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322-3D6F-4A09-BEB7-847F42C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743-FE59-4626-ADF0-0A77CE5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26B-5009-4790-86FE-4C70EF88F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66880" y="0"/>
            <a:ext cx="42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7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12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5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2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4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59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1 Math A Regents Exam</cp:keywords>
  <dc:language>en-US</dc:language>
  <cp:lastModifiedBy>Steve</cp:lastModifiedBy>
  <dcterms:modified xsi:type="dcterms:W3CDTF">2007-07-16T02:57:11Z</dcterms:modified>
  <cp:revision>5</cp:revision>
  <dc:subject/>
  <dc:title>JMAP 0801ExamB Slideshow</dc:title>
</cp:coreProperties>
</file>