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1.wmf" ContentType="image/x-wmf"/>
  <Override PartName="/ppt/media/image8.jpeg" ContentType="image/jpeg"/>
  <Override PartName="/ppt/media/image13.jpeg" ContentType="image/jpeg"/>
  <Override PartName="/ppt/media/image10.wmf" ContentType="image/x-wmf"/>
  <Override PartName="/ppt/media/image31.wmf" ContentType="image/x-wmf"/>
  <Override PartName="/ppt/media/image29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39.png" ContentType="image/png"/>
  <Override PartName="/ppt/media/image42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B45E-7111-44C3-B953-08BA42A45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F909-1C5C-41FA-84FA-7F0ECA30F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9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25D7-0296-43A6-A1E0-FDD2F509E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DED4-6A1D-4CF8-8A89-B34FBACE3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1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683F-AF85-4D26-A606-5C77DE22A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2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9206-EFBB-405E-A491-8B582157F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3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7AFE-BEA8-476E-9306-F37921D45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4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32D9-6B03-4DC6-A2E9-8759557B6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5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FAC0-DA71-4826-9456-74905BF2E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6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A53B-9235-419C-96EF-0BD2C23D7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7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CAF4-70F0-46DA-8E25-B5A70F49D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8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CDBA-F2AE-499C-9F0F-CF0014FD0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EA1D-6FB8-4E52-BCB3-B63421A34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19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CCA2-6A92-4263-9F00-2F20E19BB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0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63CD-99A5-4DAF-8CEB-BE07447FA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0A67-B846-47E0-A086-248981BCA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2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77F1-7FC0-4A95-8F79-69670369D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3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31B9-30A1-41D0-B423-423EE8BF2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4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ADD4-6BE4-49BB-B1F7-3D11B0844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5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3A31-E12E-45CF-8ED9-670198C16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6b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9378-2A93-4B61-8952-89748F1A7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7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71DC-AF5B-4941-8B17-8302F31EB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8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D9AD-698E-47E1-A3BA-8438CABAD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4D95-8309-49AF-8FF2-318830AC7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29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F36B-A5D5-4DD3-A22B-425E4A32B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0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4B34-D3B5-48DA-870D-9CDB4DC08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1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4756-1585-431F-AD9F-981623ABC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2b  FUNCTIONS: Operations with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D184-3440-407E-AA4F-C1AD25119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FACF-4D99-4017-92C0-7701B72B9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34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4099-6503-45C4-A6FA-16A8F0F7C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3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1C5F-97BB-4CC1-85AF-3D3536EFE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4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1E75-BA5C-4558-8684-98CF8A67B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5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B4C8-71B5-4203-9C73-154D4545F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6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B1FE-9F00-45DD-9023-46E402A74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7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CA7B-5505-4AF9-9214-1F9661197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308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CB2B-CA65-468A-BF5A-C5DF3CBCB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549-C6A9-4D36-B95C-8B61C618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D3E-CDBD-4B10-AAD2-809E4A36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6BD-B147-4E7F-9A2F-947D3C48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566-3A79-4B48-B796-79D40A91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F43-341C-46E7-BC3E-F069D2BE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697-0EA2-4D32-92D7-DC6D91A7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847-CA48-4FE1-A4A6-47AFDF98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D3A-C017-4B55-8C05-151C69AE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572-03F0-4EDA-AB86-163B010B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FF7-593E-4017-B547-075AAFCA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6BF-FDD2-4310-89F7-5063ECE1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78A-7898-4359-BDC7-3CCA4A04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FE80-EAC5-469C-A4FB-38072D194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QUADRATICS/JMAP_SOLUTIONS_QUADRATIC_FORMULA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88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664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84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46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4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809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2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1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11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876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887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4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33040" cy="541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5029200" y="380880"/>
            <a:ext cx="351144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224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5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943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89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61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3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8:17:1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3 Math A Regents Exam</cp:keywords>
  <dc:language>en-US</dc:language>
  <cp:lastModifiedBy>Steve</cp:lastModifiedBy>
  <dcterms:modified xsi:type="dcterms:W3CDTF">2007-07-16T02:57:56Z</dcterms:modified>
  <cp:revision>4</cp:revision>
  <dc:subject/>
  <dc:title>JMAP 0803ExamB Slideshow</dc:title>
</cp:coreProperties>
</file>