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jpeg" ContentType="image/jpeg"/>
  <Override PartName="/ppt/media/image4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0.wmf" ContentType="image/x-wmf"/>
  <Override PartName="/ppt/media/image13.wmf" ContentType="image/x-wmf"/>
  <Override PartName="/ppt/media/image40.wmf" ContentType="image/x-wmf"/>
  <Override PartName="/ppt/media/image34.jpeg" ContentType="image/jpeg"/>
  <Override PartName="/ppt/media/image38.wmf" ContentType="image/x-wmf"/>
  <Override PartName="/ppt/media/image35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29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41.png" ContentType="image/png"/>
  <Override PartName="/ppt/media/image3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BB1-D5FD-4EC6-AE75-FD7573241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BB32-E2E8-4BB6-A6D8-450C748DF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9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1096-7247-4124-BDF4-015146AA5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0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E0B0-E717-428F-9109-B345EDC4B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1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A643-C32B-421A-A6CB-729F87358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A6B8-7962-4CC6-B66B-6AEA7897F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3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3DD0-9759-41AB-B26E-461B2DA89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113F-13E3-4A7C-8F13-88F15CB33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DCC0-BFD2-478E-95EE-5898BB3A9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6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B1CB-B2F7-4D7E-A093-A19CF7355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7a  NUMBERS OPERATIONS AND PROPERTIES:  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20C2-5C0B-4BE0-96B6-8B74E1821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8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AB42-9851-43F4-8918-6623741E5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0C5F-B68B-4F9C-BFDD-83AB72EB5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19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BD8C-F215-4C0A-8B84-82862AAB6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0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7B10-06D9-483F-9D1F-404BFC623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05D3-62F5-4CFE-BF7A-E7CF60B02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C690-5308-4552-8052-645568FCC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3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B2EA-C6DA-4C61-8AF2-259C763BE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27FB-E7B1-49B0-A7DA-E49B39F8B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5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4B3F-FFDD-4944-8070-C2C4A3D42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6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8DB7-B217-4D8E-AC3A-F6461C889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7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AEEC-5CC1-4C96-92D8-153FCDD7A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8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3457-2837-4CC2-9879-AA3282024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2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188A-3933-4464-8A74-3D516958C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9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A08B-DF97-4EB9-8DC2-8E3493382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0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EB93-1994-492C-A952-B9D84B3A5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34B5-D160-40C1-92A5-0B7D4BA68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2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EFCA-FFBA-4F3B-8D7F-850794569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1E36-A936-4845-901E-948EA1DBE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395-4797-4DD0-86BA-8C0EFA6C8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35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CFEF-744E-42E3-A330-BA7FA990B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3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9A82-E712-415E-9010-B2F3DA152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4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A7A7-7708-44C8-9B93-1FBE8722A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5a  LINEAR EQUATIONS: Standard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7777-2662-4A62-81CE-56F2A5088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6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4CE9-7E6C-45D0-B4C4-0EBACC761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7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8828-EAB5-4188-B09F-ED246C897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08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5C49-C8A7-4F1D-855A-26B7FF394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F56-694D-44DC-9023-2044BE04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8A8-C550-43A3-862C-EB5FF453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A42-842C-470F-B113-8F7AE492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EE7-00EF-4217-BA1D-EBB22B93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5DB-16B3-482D-BCFB-D12F50D3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826-BD80-4EA2-A01B-4CE2B0B7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1AE-158B-42A2-A943-64080CAE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95D-02E5-4577-AB86-EA6FB1F2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CCE-3383-49A4-862A-8E02802D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C2F-7BDE-4113-B2B9-29FE3FF7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494-C295-4CA4-A153-67158C19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200-447A-4B21-9488-5B77380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1731-9C3D-4205-93FE-617CC4E59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ORDER_OF_OPER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hyperlink" Target="http://www.jmap.org/JMAP/JMAPSolutions/GRAPHS_AND_STATISTICS/JMAP_SOLUTIONS_VENN_DIAGRAMS.doc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LINEAR_EQUATIONS/JMAP_SOLUTIONS_STANDARD_FORM_OF_A_LINE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24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38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2427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44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28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68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856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341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06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5410080" y="304920"/>
            <a:ext cx="3272040" cy="566892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5" descr=""/>
          <p:cNvPicPr/>
          <p:nvPr/>
        </p:nvPicPr>
        <p:blipFill>
          <a:blip r:embed="rId3"/>
          <a:stretch/>
        </p:blipFill>
        <p:spPr>
          <a:xfrm>
            <a:off x="0" y="2994120"/>
            <a:ext cx="9090000" cy="376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HP_Administrator\Pictures\My Pictures\Thomas Jefferson.jpg"/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7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2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2743200" y="3330720"/>
            <a:ext cx="3375000" cy="352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-2209680" y="1066680"/>
            <a:ext cx="9055080" cy="4326120"/>
          </a:xfrm>
          <a:prstGeom prst="rect">
            <a:avLst/>
          </a:prstGeom>
          <a:ln w="0">
            <a:noFill/>
          </a:ln>
        </p:spPr>
      </p:pic>
      <p:pic>
        <p:nvPicPr>
          <p:cNvPr id="56" name="Object 3" descr=""/>
          <p:cNvPicPr/>
          <p:nvPr/>
        </p:nvPicPr>
        <p:blipFill>
          <a:blip r:embed="rId2"/>
          <a:stretch/>
        </p:blipFill>
        <p:spPr>
          <a:xfrm>
            <a:off x="0" y="3733920"/>
            <a:ext cx="9121680" cy="233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4648320" y="0"/>
            <a:ext cx="3646440" cy="333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2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5:07:5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2 Math A Regents Exam</cp:keywords>
  <dc:language>en-US</dc:language>
  <cp:lastModifiedBy>Steve</cp:lastModifiedBy>
  <dcterms:modified xsi:type="dcterms:W3CDTF">2007-07-16T02:45:39Z</dcterms:modified>
  <cp:revision>5</cp:revision>
  <dc:subject/>
  <dc:title>JMAP 0602ExamA Slideshow</dc:title>
</cp:coreProperties>
</file>