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jpeg" ContentType="image/jpeg"/>
  <Override PartName="/ppt/media/image26.jpeg" ContentType="image/jpeg"/>
  <Override PartName="/ppt/media/image20.wmf" ContentType="image/x-wmf"/>
  <Override PartName="/ppt/media/image12.wmf" ContentType="image/x-wmf"/>
  <Override PartName="/ppt/media/image35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48.png" ContentType="image/png"/>
  <Override PartName="/ppt/media/image9.jpeg" ContentType="image/jpeg"/>
  <Override PartName="/ppt/media/image11.jpeg" ContentType="image/jpeg"/>
  <Override PartName="/ppt/media/image13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jpeg" ContentType="image/jpeg"/>
  <Override PartName="/ppt/media/image1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C324-9899-4E90-B650-83431EC03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D873-C747-426E-918E-B29F2643C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9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E066-6960-40A6-AA7F-4CD969E36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0a  SOLIDS AND SIMILARITY: 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880A-FFDB-4824-8BEA-B8DD2108B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1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C36F-3F59-432B-9FD8-5311D8D9B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2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BAB3-E81B-462B-988F-E0539B99C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3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3F9A-D4EB-4DDE-893E-8958298F7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F64-1A97-46ED-A14F-A3101939D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5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9090-9F91-43EC-ACA1-0ABF5501B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6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53E8-4886-4B70-AAF1-7DF405FCB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7a  SOLIDS AND SIMILARITY: Classifying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8FEE-EFE5-4D38-8EFF-59F5FB995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8a  TRANSFORMATIONS: Ro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98B-39EC-4A27-B528-A02568D35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676B-21E4-4BBE-B881-7034FBDF5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19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F995-D861-4291-A41F-EE4BC0D36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0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159E-0D14-48D8-A26D-39BCE89C8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1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60AB-8854-49BD-B6F3-F80D7800A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2a  RADICALS: Simplify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BF5-F134-4577-A0EB-DCED84DD8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3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85AF-13FE-4D14-9452-F8EEE13F3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124-DFA4-4AD9-A1C5-F1BE06A10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5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1A7D-7206-422E-B85A-3A3766361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6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608A-3DBC-4A53-B33D-FA60B3FAA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7a  RATE: Modeling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5919-0178-40DC-B8F5-FAA639079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8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B913-59C0-49F5-8BE8-D2ED24311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2a  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0480-0EA0-41A3-966B-D31AC3888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2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D337-7806-418E-A989-FEF725721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0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70D6-BBFA-4034-A37F-01527B220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A4BF-9570-4333-8130-7F707EE8A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2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17F-1AE8-462C-913B-C92AA6346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3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C64E-81FF-4E4D-A28E-9FEE10824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4a  GRAPHS AND STATISTICS: Venn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FF4-0376-4751-A165-948D7A197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5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07CB-3C6C-467E-BF24-7ADDF481F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6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8B5-8CA7-41E7-8D3F-37647363E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7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C07A-0824-462A-9122-6DBA64711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8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89B6-17CD-47F9-A58E-BAD4C1487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3a  NUMBERS OPERATIONS AND PROPERTIES: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DB0F-39A0-4DCE-86E8-70DF4650C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39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65DC-26AE-4669-B39B-BCEC1EF46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4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29D3-9B3F-4A0A-9A99-EDC582EB4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5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46C3-6439-4730-83E9-614BA6240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6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ACB1-8500-4B47-BC16-A170EE049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7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39E7-6E33-4EAF-A000-8E81664BB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408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41D6-CD03-494F-89B1-24C5EECAB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C7B-041C-46D1-8C86-E8070E8C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FD2-486D-42C7-BE2D-2DF7D781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DCB-576E-4697-BA51-F0DCBA5B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6AF-9096-4F16-B5B0-2A5F89D1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1F4-687D-4FF5-B4B1-24B7C6A4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328-9EA9-4F10-B94E-0C68672B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3CF-8991-4229-97D8-C979FB0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C50-20B8-4A88-AAF5-24B97123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72A-468C-4F59-AB1B-B6EF4714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4E3-A3A4-4273-95F8-0B505AA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359-AA94-4A95-A310-1C91737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92B-41E5-498D-9D98-36AA378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AA1E-C218-43B4-988C-45DF39BEE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DICALS/JMAP_SOLUTIONS_SIMPLIFYING_RADIC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RATE/JMAP_SOLUTIONS_MODELING_RAT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22320"/>
            <a:ext cx="91105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9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6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13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548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9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12" descr=""/>
          <p:cNvPicPr/>
          <p:nvPr/>
        </p:nvPicPr>
        <p:blipFill>
          <a:blip r:embed="rId1"/>
          <a:stretch/>
        </p:blipFill>
        <p:spPr>
          <a:xfrm>
            <a:off x="0" y="0"/>
            <a:ext cx="8886960" cy="512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25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809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0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724280" y="871560"/>
            <a:ext cx="3413160" cy="5197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16:20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4 Math A Regents Exam</cp:keywords>
  <dc:language>en-US</dc:language>
  <cp:lastModifiedBy>Steve</cp:lastModifiedBy>
  <dcterms:modified xsi:type="dcterms:W3CDTF">2007-07-16T02:43:12Z</dcterms:modified>
  <cp:revision>5</cp:revision>
  <dc:subject/>
  <dc:title>JMAP 0104ExamA Slideshow</dc:title>
</cp:coreProperties>
</file>