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41.wmf" ContentType="image/x-wmf"/>
  <Override PartName="/ppt/media/image10.jpeg" ContentType="image/jpeg"/>
  <Override PartName="/ppt/media/image13.wmf" ContentType="image/x-wmf"/>
  <Override PartName="/ppt/media/image37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12.jpeg" ContentType="image/jpeg"/>
  <Override PartName="/ppt/media/image45.wmf" ContentType="image/x-wmf"/>
  <Override PartName="/ppt/media/image46.wmf" ContentType="image/x-wmf"/>
  <Override PartName="/ppt/media/image11.wmf" ContentType="image/x-wmf"/>
  <Override PartName="/ppt/media/image39.wmf" ContentType="image/x-wmf"/>
  <Override PartName="/ppt/media/image9.wmf" ContentType="image/x-wmf"/>
  <Override PartName="/ppt/media/image36.wmf" ContentType="image/x-wmf"/>
  <Override PartName="/ppt/media/image6.wmf" ContentType="image/x-wmf"/>
  <Override PartName="/ppt/media/image19.jpeg" ContentType="image/jpeg"/>
  <Override PartName="/ppt/media/image29.wmf" ContentType="image/x-wmf"/>
  <Override PartName="/ppt/media/image7.jpeg" ContentType="image/jpeg"/>
  <Override PartName="/ppt/media/image31.wmf" ContentType="image/x-wmf"/>
  <Override PartName="/ppt/media/image28.wmf" ContentType="image/x-wmf"/>
  <Override PartName="/ppt/media/image3.jpeg" ContentType="image/jpeg"/>
  <Override PartName="/ppt/media/image32.wmf" ContentType="image/x-wmf"/>
  <Override PartName="/ppt/media/image2.wmf" ContentType="image/x-wmf"/>
  <Override PartName="/ppt/media/image2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1F5E-0900-4650-A9B8-F9347AAB0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AF4B-ED52-400A-8570-BACDA3903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9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9B8A-821B-44C1-A8D5-6142547CB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0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3260-49B4-4C6F-929E-8C0FE2C96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1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5494-DD5A-4582-A5E2-6A41C2326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2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6AE5-92B3-481E-85D5-735BE677F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3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C321-AD88-473A-BF4B-4978ADC23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4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84F0-3A98-4990-9390-B22EE22A9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5a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D7F9-0F0F-450A-8E9F-7D7333283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6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E040-B646-4AB6-ADC7-33DB779BA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7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0F91-5B45-434D-9A7C-A640235E4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8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40CD-BE7C-4F5B-B613-50C633E21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A495-E265-490D-9D09-481E8AB77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19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AE28-5316-4F35-944C-9ED9D5C17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0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0B99-1A83-40FE-B9D9-5CEE3F0B9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1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E939-CC87-4186-9400-3BA8F6CCD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2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C175-2102-4B33-8969-93A6D7179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3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7049-8F1B-4B63-AE5A-785F2C7F6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4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C295-6B40-48F3-8EC0-C8A49B76D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5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97F3-85EE-46A1-83B9-60CB847E4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6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C762-6331-4571-9B5E-CA60B79B8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7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CCF6-2D1B-4496-86BB-F538CF4B58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8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A375-9A14-4507-B0F8-B9FFFEB4E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2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11E0-035B-466B-B4B0-07EFAF4FF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29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4B24-7340-4509-BC69-A3D36F954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0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1E57-05E0-40EB-8899-9A1E7E7B5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1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367A-1688-42D0-9C80-0F109F04D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2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C189-3B40-4394-90EE-93E655B6A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3a  CONICS: Graphing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0BA0-0679-4C6C-A783-358A946BC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4a  PROBABILITY: Geometric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6811-075D-4F89-A5C3-5A579EDC1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5a  EQUATIONS: Using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EA44-8DA1-4DCA-8CB0-7E2DE3F5C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6a  EQUATIONS: Solving Two Step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7AA3-C510-437F-871E-BCB7E1AD5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7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EED4-583A-4D9D-9BA7-6DB0EADF9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8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BE68-4DC0-4940-923C-B56DA43A9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3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EF81-5398-48A3-A97B-5A75333E3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39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C09E-07BA-407D-9CF9-634B0D8AE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4a  FUNCTIONS: Modeling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D3DF-8E1C-4A05-AF64-1399461F7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5a  LINEAR EQUATIONS: Slope Intercept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33BC-7091-43E5-88D5-011027570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6a  QUADRATICS: Quadra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930E-11E0-47A3-9D73-105C82D85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7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4574-AF85-4765-A65A-92F5E5F58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608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A78B-B27B-4E9C-B575-D741272BA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751-C920-427D-B98E-15FA2D2A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752B-4760-47A4-811F-03F96D6D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1B0-C6B6-458D-A90A-84DB0AC4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A4E3-DAA1-4DAC-9B00-9C594898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C39-43EF-49B2-82B9-A1D2624A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85AB-C440-4DC5-92B4-39F26BCF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C8B-3EFC-4357-A366-579C3A93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D06-A283-4A94-97F8-7656D8AF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587-09F3-4D53-9E16-C74E6FFD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C92D-7216-490F-B474-FBFC2011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C88-F671-476C-8CCD-E43EE388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783-C71B-4824-88EB-CF77D087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AD4E-5D33-4FDA-BDE6-28DF469B9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INEQUALITIES/JMAP_SOLUTIONS_SOLVING_INEQUALITIES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hyperlink" Target="http://www.jmap.org/JMAP/JMAPSolutions/INEQUALITIES/JMAP_SOLUTIONS_LINEAR_INEQUALITIES_AND_SYSTEM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hyperlink" Target="http://www.jmap.org/JMAP/JMAPSolutions/PROBABILITY/JMAP_SOLUTIONS_GEOMETRIC_PROBABILITY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FUNCTIONS/JMAP_SOLUTIONS_MODELING_RELATIONSHIP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LINEAR_EQUATIONS/JMAP_SOLUTIONS_SLOPE_INTERCEPT_FORM_OF_A_LIN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QUADRATICS/JMAP_SOLUTIONS_QUADRATIC_FUNCTION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0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324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5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0" y="0"/>
          <a:ext cx="9144000" cy="21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3962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79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72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1157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66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70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95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35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7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73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56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80560" cy="2109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08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34920" y="228600"/>
            <a:ext cx="910908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11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527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97720" y="5791320"/>
            <a:ext cx="746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737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3:37:5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6 Math A Regents Exam</cp:keywords>
  <dc:language>en-US</dc:language>
  <cp:lastModifiedBy>Steve</cp:lastModifiedBy>
  <dcterms:modified xsi:type="dcterms:W3CDTF">2007-07-16T02:44:01Z</dcterms:modified>
  <cp:revision>5</cp:revision>
  <dc:subject/>
  <dc:title>JMAP 0106ExamA Slideshow</dc:title>
</cp:coreProperties>
</file>