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0.jpeg" ContentType="image/jpeg"/>
  <Override PartName="/ppt/media/image8.jpeg" ContentType="image/jpeg"/>
  <Override PartName="/ppt/media/image41.wmf" ContentType="image/x-wmf"/>
  <Override PartName="/ppt/media/image11.wmf" ContentType="image/x-wmf"/>
  <Override PartName="/ppt/media/image31.wmf" ContentType="image/x-wmf"/>
  <Override PartName="/ppt/media/image33.wmf" ContentType="image/x-wmf"/>
  <Override PartName="/ppt/media/image35.png" ContentType="image/png"/>
  <Override PartName="/ppt/media/image36.wmf" ContentType="image/x-wmf"/>
  <Override PartName="/ppt/media/image37.png" ContentType="image/png"/>
  <Override PartName="/ppt/media/image40.wmf" ContentType="image/x-wmf"/>
  <Override PartName="/ppt/media/image38.wmf" ContentType="image/x-wmf"/>
  <Override PartName="/ppt/media/image30.wmf" ContentType="image/x-wmf"/>
  <Override PartName="/ppt/media/image5.wmf" ContentType="image/x-wmf"/>
  <Override PartName="/ppt/media/image42.wmf" ContentType="image/x-wmf"/>
  <Override PartName="/ppt/media/image39.wmf" ContentType="image/x-wmf"/>
  <Override PartName="/ppt/media/image9.wmf" ContentType="image/x-wmf"/>
  <Override PartName="/ppt/media/image13.jpeg" ContentType="image/jpeg"/>
  <Override PartName="/ppt/media/image12.wmf" ContentType="image/x-wmf"/>
  <Override PartName="/ppt/media/image7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4B02-9CF2-46B9-8194-4C91AFBA1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144-4007-4A16-92E1-C41C132EF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4574-C3F9-4271-AF43-C047DF573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43C-87B7-4520-B2CD-9317E1F16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E008-D474-45AB-B557-0D4D483FE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b  ANGLES: Double Angle and Angle Sum and Difference Ident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33A9-DB6E-4EE1-B22E-104E6D160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74D-4EC6-4F79-961B-ABA172A1B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b  FUNCTIONS: Graph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C3A-C4D6-4A31-964B-A8F0374AC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DE39-0C22-4F3A-995D-03A2F148B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DF65-1F8E-4E77-BADF-023CF2029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7D84-D488-44C7-9B01-ADA93924A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F96D-58DC-4FFE-B3A8-F7B17FDD5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E664-923E-43E5-AAB4-FDE01565D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0F6F-AEA6-4200-A503-FF17A053B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920-E010-4E3D-A3C4-2C3DAF7E5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78A5-D06C-4996-BB0F-53BB0103E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2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D37F-8E9E-42C4-BDC3-43BA87348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B1FB-4AD2-4B49-AC95-EE30D5507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5C6-6FDB-463B-AFFB-A323DFE82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2CCC-290D-444F-A13B-6798058FF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529B-07CF-41EA-844B-3B2AB5E20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585A-A874-499F-920F-956DC57AA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F27-3511-4E38-A51B-AC1028603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49E4-BF96-4425-B075-172307A8E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1BC-E3E1-4F9E-89D2-47878DCBE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7674-CB53-4219-93EA-186B13892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F63B-EA5E-4348-9D7B-FD251E8EB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8AB-664B-4060-A4FC-20383DCBB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F24-F7D9-40DB-BCCA-2EE250FF3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93F8-D566-4ED6-B160-91C76135A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B55-319C-4A08-8E60-7C6B07A1C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7CD1-C2CB-4C27-B911-D5A143923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26ED-15D6-4E74-95F0-1CE2026CD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b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475C-0F58-4298-AA09-FFA2CF7D6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7232-00D7-49D4-A25F-8232B90CD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b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DB9-5DF9-4519-B7EE-B169B16BB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DBB-3E3F-4A7D-AA81-77F4CABD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393-FE0A-4602-BE23-564DC287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C3A-E819-412F-9030-255DB405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692-2F00-4E7F-85EE-9D9D0B38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159-1610-40F8-A53D-59F7CF2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AC7-DA61-47EA-AC8C-9A53300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EC4-817B-4AF9-9F99-0738B858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A22-E069-40A9-BB15-CE417CCA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BDC-4296-41DB-AE2E-FB8E4BE3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89C-81A9-4136-BD58-10555B4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587-4095-47F8-8635-520BBA7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996-D5F8-4BE8-A015-235253D6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B92-18D2-41DC-8719-147FE9CC8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FUNCTIONS/JMAP_SOLUTIONS_GRAPHING_FUNCT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4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5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5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9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81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58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971800" y="3643200"/>
            <a:ext cx="2895480" cy="290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35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895480" y="3430440"/>
            <a:ext cx="3276720" cy="328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1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27:0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3 Math A Regents Exam</cp:keywords>
  <dc:language>en-US</dc:language>
  <cp:lastModifiedBy>Steve</cp:lastModifiedBy>
  <dcterms:modified xsi:type="dcterms:W3CDTF">2007-07-16T02:55:24Z</dcterms:modified>
  <cp:revision>4</cp:revision>
  <dc:subject/>
  <dc:title>JMAP 0603ExamB Slideshow</dc:title>
</cp:coreProperties>
</file>