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4.wmf" ContentType="image/x-wmf"/>
  <Override PartName="/ppt/media/image22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media/image33.wmf" ContentType="image/x-wmf"/>
  <Override PartName="/ppt/media/image23.wmf" ContentType="image/x-wmf"/>
  <Override PartName="/ppt/media/image9.jpeg" ContentType="image/jpeg"/>
  <Override PartName="/ppt/media/image35.wmf" ContentType="image/x-wmf"/>
  <Override PartName="/ppt/media/image37.png" ContentType="image/png"/>
  <Override PartName="/ppt/media/image40.wmf" ContentType="image/x-wmf"/>
  <Override PartName="/ppt/media/image8.wmf" ContentType="image/x-wmf"/>
  <Override PartName="/ppt/media/image38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43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6363-66BF-4BF7-B465-09C29A6BA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6FAC-CFBF-4E15-B8BD-D42552865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9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783D-4BD7-4E53-BD6F-516C2BE10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0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7CBC-6A86-46FC-A63A-DED4AD0E7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1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3E9F-9364-4E8C-9614-63D981327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2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9A4C-4D65-4AD7-8C1F-AC6824555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3b  FUNCTIONS: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9C0F-F2D9-41F5-AF04-5E183BFAD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4b  GRAPHS AND STATISTICS: Relating Graphs to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C848-29AB-474A-89EC-0E216E2B1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5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4784-FA30-4C74-B69A-503D13DB6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6b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09FC-D997-417B-918F-0DE7B250A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7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6112-4996-4414-A483-11635CCAC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8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4893-0D26-4224-A81F-0899DFF30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1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09D7-A310-4F75-B527-1F231EC3B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9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44FD-35C5-4140-8DB5-816439825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0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7304-7331-4739-986A-0856634B8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1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237F-303E-4BC5-B242-88D9FDAB2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0109-427B-4D7F-9416-E15F0800C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3b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6165-0938-43F6-BE5E-C45FAE45A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4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F94B-B634-4574-A468-E9EAE199C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5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1A8A-27B1-41F9-BADD-3E0FE566B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6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8533-E495-4A9D-9790-66C5BF515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7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FE61-2022-4C39-9341-B085A1E0F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8b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1B81-7FCA-41F3-878A-6C30F74C2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2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A99B-F0CC-4CDD-BF0A-83A06C422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9b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1BB0-DEE1-4E76-BFBE-F583B028B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0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C66F-F880-40C9-882C-95F1F023C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1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BF08-D894-4242-8B5E-1FCFF2C11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2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1450-8C21-40F0-B694-B566E88A7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9304-98B7-4D2A-94BE-BA635A528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4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2588-A3AB-493A-BEB4-7E166C522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18DE-BDDC-4EB3-86CF-AF359460E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4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910C-57C0-4A54-B53B-C63F0A1E1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5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DF52-804E-4372-A858-7448FB5AA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6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850C-DAF7-444A-AE70-4CB57BF7E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7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5E06-7F3A-4949-9E4E-345F97FE5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8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09D1-8123-47D3-8659-C72403905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F91-4F89-4DD6-BB4C-2A2BF071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85C-EAF0-4690-9FD0-767F07D1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89D-6D04-4BDE-ABCE-665A5DE7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11F-160B-4155-98CF-4D1BDCE9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F68-8777-4479-BE22-E200935D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506-781F-4E33-B37E-F24D6D5B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C20-FC08-43EC-B5CB-568767A1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2D5-834D-450E-9069-440585E4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966-C5F1-4DAA-90B3-EB3B3041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5C4-D2E1-4039-8793-88CDBB56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924-246F-4887-850C-3CC0FA58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54E-7857-447C-95FA-8F35B251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8D91-B510-4A76-B1EF-E655B9FFD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GRAPHS_AND_STATISTICS/JMAP_SOLUTIONS_CORRELATION_COEFFICIENT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FUNCTIONS/JMAP_SOLUTIONS_MODELING_RELATIONSHIPS.doc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hyperlink" Target="http://www.jmap.org/JMAP/JMAPSolutions/GRAPHS_AND_STATISTICS/JMAP_SOLUTIONS_RELATING_GRAPHS_TO_EVENTS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QUADRATICS/JMAP_SOLUTIONS_MINIMUM_AND_MAXIMUM_OF_QUADRATIC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RATIONALS/JMAP_SOLUTIONS_MULTIPLICATION_AND_DIVISION_OF_RATIONAL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OWERS/JMAP_SOLUTIONS_LOGARITHMIC_EQU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POWERS/JMAP_SOLUTIONS_LOGARITHMIC_EQU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39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9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57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38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97720" y="5791320"/>
            <a:ext cx="746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-2133720" y="0"/>
            <a:ext cx="8991720" cy="511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2930400" cy="27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3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2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1617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590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5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3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556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06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914400" y="25560"/>
            <a:ext cx="7315200" cy="680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990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19112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3" descr=""/>
          <p:cNvPicPr/>
          <p:nvPr/>
        </p:nvPicPr>
        <p:blipFill>
          <a:blip r:embed="rId2"/>
          <a:stretch/>
        </p:blipFill>
        <p:spPr>
          <a:xfrm>
            <a:off x="0" y="4419720"/>
            <a:ext cx="914400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26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89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07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-33480"/>
            <a:ext cx="9013680" cy="6869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5:55:2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1 Math B Regents Exam</cp:keywords>
  <dc:language>en-US</dc:language>
  <cp:lastModifiedBy>Steve</cp:lastModifiedBy>
  <dcterms:modified xsi:type="dcterms:W3CDTF">2007-07-16T02:54:50Z</dcterms:modified>
  <cp:revision>4</cp:revision>
  <dc:subject/>
  <dc:title>JMAP 0601ExamB Slideshow</dc:title>
</cp:coreProperties>
</file>