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.wmf" ContentType="image/x-wmf"/>
  <Override PartName="/ppt/media/image32.wmf" ContentType="image/x-wmf"/>
  <Override PartName="/ppt/media/image3.jpeg" ContentType="image/jpeg"/>
  <Override PartName="/ppt/media/image20.wmf" ContentType="image/x-wmf"/>
  <Override PartName="/ppt/media/image18.wmf" ContentType="image/x-wmf"/>
  <Override PartName="/ppt/media/image12.wmf" ContentType="image/x-wmf"/>
  <Override PartName="/ppt/media/image35.wmf" ContentType="image/x-wmf"/>
  <Override PartName="/ppt/media/image37.png" ContentType="image/png"/>
  <Override PartName="/ppt/media/image40.wmf" ContentType="image/x-wmf"/>
  <Override PartName="/ppt/media/image38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13.jpeg" ContentType="image/jpeg"/>
  <Override PartName="/ppt/media/image44.wmf" ContentType="image/x-wmf"/>
  <Override PartName="/ppt/media/image33.wmf" ContentType="image/x-wmf"/>
  <Override PartName="/ppt/media/image45.wmf" ContentType="image/x-wmf"/>
  <Override PartName="/ppt/media/image47.wmf" ContentType="image/x-wmf"/>
  <Override PartName="/ppt/media/image10.wmf" ContentType="image/x-wmf"/>
  <Override PartName="/ppt/media/image25.jpeg" ContentType="image/jpeg"/>
  <Override PartName="/ppt/media/image46.wmf" ContentType="image/x-wmf"/>
  <Override PartName="/ppt/media/image41.wmf" ContentType="image/x-wmf"/>
  <Override PartName="/ppt/media/image8.jpeg" ContentType="image/jpeg"/>
  <Override PartName="/ppt/media/image28.png" ContentType="image/png"/>
  <Override PartName="/ppt/media/image31.wmf" ContentType="image/x-wmf"/>
  <Override PartName="/ppt/media/image29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39.wmf" ContentType="image/x-wmf"/>
  <Override PartName="/ppt/media/image9.wmf" ContentType="image/x-wmf"/>
  <Override PartName="/ppt/media/image11.wmf" ContentType="image/x-wmf"/>
  <Override PartName="/ppt/media/image48.wmf" ContentType="image/x-wmf"/>
  <Override PartName="/ppt/media/image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D128-B4B6-481E-9577-B07C6A54D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F08D-A6DE-4043-8E16-E3D21AA3D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9a  RATE: Per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0E15-AA57-479D-B1AC-98C41D019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0a  TRIANGLES: Triangle Inequ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4EC4-DD83-40E6-BD34-EDF655A03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1a  EQUATIONS: Combin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9D42-ACD5-4E31-8A93-CC7CF6A1C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2a  CONICS: Circumference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00C6-400B-455E-AA6E-7A7485205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3a  PROBABILITY: Permu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4395-41A7-4116-846A-3D9DFF2DC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4a  RATE: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1018-CAB8-4996-BBBB-5E6BDFB4E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5a  NUMBERS OPERATIONS AND PROPERTIE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ng Variable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5876-514A-4E4F-9E2E-68853894F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6a  RATIONALS: Addition and Subtraction of Ra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CB6E-1333-48BA-8B87-D7FC72C7F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7a  PROBABILITY: Theoretical Prob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6659-CE8A-4B2C-9618-0B48E3839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8a  POWERS: Scientific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BDD5-B028-4006-8604-0CEB782BA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1a  RADICALS: Square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5C3B-8EB4-4BAF-BE8D-AB9F33DE8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19a  QUADRATICS: Operations with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3950-0EE0-4684-80B4-58FDB0781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0a  LOGIC: L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9F41-06A3-4E50-949E-B6FBEF1ED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1a  LINEAR EQUATIONS: Mi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E947-72C1-47C4-A760-AE72F382F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2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76FD-3C06-4AC2-AD04-6B2A6ACD8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3a  TRIANGLES: 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A087-C638-425E-9F60-DC7FF7E1B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4a  LINEAR EQUATIONS: Slope and Direct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8009-31DB-4A8C-9E8B-0B215CC6F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5a  OTHER POLYGONS: Special Quadrilat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ECE9-388B-4AF1-9AEB-A453E8F57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6a  GRAPHS AND STATISTICS: Average Known with Miss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5115-39BA-404E-94D5-6B8E22BD9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7a  RATE: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770A-3D35-4CC9-AFDD-F09A758A9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8a  OTHER POLYGONS: Perimeter and Area of Other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4CC0-6CE0-4666-9C99-CBEF5CA5B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2a   NUMBERS_OPERATIONS_AND_PROPERTIES_Comparing_Re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68ED-BF4F-4104-B148-2B46F4D28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29a  SYSTEMS: Solving Non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92B3-B0EA-4A16-A09E-840A9AB5A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0a  SOLIDS AND SIMILARITY: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6DF9-142D-44D9-9996-2B198D624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1a  QUADRATICS: Minimum and Maximum of Quadr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2B80-1D7C-42C9-9F4C-16DD8F23D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2a  GRAPHS AND STATISTICS: Graphical Representation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E7A7-B853-4F1D-B899-592031A57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3a  SYSTEMS: Writing Systems of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91E9-CEFE-4B33-B2C2-EA9FAA280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4a  PROBABILITY: Comb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64A4-0043-4801-88D2-41BA58DA8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35a  SYSTEMS: Break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500D-2311-4448-AE1B-A2AEB259D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3a  LOGIC: Logical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F075-4105-4E46-A3F9-14E799235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4a  QUADRATICS: 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1364-59D4-4F9A-9FBC-53B87CAF1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5a  GRAPHS AND STATISTICS: Central Ten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3D44-8C9F-4F58-91F1-DD00A8624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6a  NUMBERS OPERATIONS AND PROPERTIES: Properties of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9A66-C6E5-45C3-B027-47D3C9078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7a  TRANSFORMATIONS: Ref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16D5-1C0B-45C8-801A-757078A8C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10008a  POWERS: Operations with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3747-5148-492A-B254-208A28922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10D-CB7E-4D27-8EFC-796CA6BD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1DF-E59C-4CD2-A9D6-2F7DB558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7BD8-8A54-4B79-A655-5A7A2DFA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0AC-0A53-4457-AA36-868D79EA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23C-8423-44B0-8BD1-0E602DA4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A252-7DA6-4EB9-97EC-1F6D7A5F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5699-E13D-437D-BBB5-4579AA00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422-0CF5-4677-80D5-30203221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2DC-7AC0-46C8-80BC-B0E6FCE2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08FD-AF5A-411A-97D5-A1B9B613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1AB-1CD2-460B-9B6A-B07306A0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B74-AE48-4650-A3D0-65F0C4EC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67EC-F5CA-4C07-B847-F8AC8B070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jmap.org/JMAP/JMAPSolutions/RATE/JMAP_SOLUTIONS_PERCENT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hyperlink" Target="http://www.jmap.org/JMAP/JMAPSolutions/EQUATIONS/JMAP_SOLUTIONS_COMBINING_LIKE_TERMS.doc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jmap.org/JMAP/JMAPSolutions/EQUATIONS/JMAP_SOLUTIONS_COMBINING_LIKE_TERMS.doc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jmap.org/JMAP/JMAPSolutions/PROBABILITY/JMAP_SOLUTIONS_PERMUTAT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www.jmap.org/JMAP/JMAPSolutions/RATE/JMAP_SOLUTIONS_RATIO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http://www.jmap.org/JMAP/JMAPSolutions/NUMBERS_OPERATIONS_AND_PROPERTIES/JMAP_SOLUTIONS_EVALUATING_VARIABLE_EXPRESSION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jmap.org/JMAP/JMAPSolutions/RATIONALS/JMAP_SOLUTIONS_ADDITION_AND_SUBTRACTION_OF_RATIONAL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www.jmap.org/JMAP/JMAPSolutions/PROBABILITY/JMAP_SOLUTIONS_THEORETICAL_PROBABILITY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hyperlink" Target="http://www.jmap.org/JMAP/JMAPSolutions/POWERS/JMAP_SOLUTIONS_SCIENTIFIC_NOTATION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jmap.org/JMAP/JMAPSolutions/RADICALS/JMAP_SOLUTIONS_SQUARE_ROOT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jmap.org/JMAP/JMAPSolutions/QUADRATICS/JMAP_SOLUTIONS_OPERATIONS_WITH_POLYNOMIALS.doc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hyperlink" Target="http://www.jmap.org/JMAP/JMAPSolutions/LINEAR_EQUATIONS/JMAP_SOLUTIONS_MIDPOINT.doc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www.jmap.org/JMAP/JMAPSolutions/SYSTEMS/JMAP_SOLUTIONS_WRITING_LINEAR_SYSTEM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hyperlink" Target="http://www.jmap.org/JMAP/JMAPSolutions/LINEAR_EQUATIONS/JMAP_SOLUTIONS_SLOPE_AND_DIRECT_VARIATION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hyperlink" Target="http://www.jmap.org/JMAP/JMAPSolutions/GRAPHS_AND_STATISTICS/JMAP_SOLUTIONS_AVERAGE_KNOWN_WITH_MISSING_DATA.doc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www.jmap.org/JMAP/JMAPSolutions/RATE/JMAP_SOLUTIONS_SPEED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jmap.org/JMAP/JMAPSolutions/NUMBERS_OPERATIONS_AND_PROPERTIES/JMAP_SOLUTIONS_COMPARING_REALS.doc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hyperlink" Target="http://www.jmap.org/JMAP/JMAPSolutions/SYSTEMS/JMAP_SOLUTIONS_SOLVING_NONLINEAR_SYSTEMS.doc" TargetMode="External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hyperlink" Target="http://www.jmap.org/JMAP/JMAPSolutions/QUADRATICS/JMAP_SOLUTIONS_MINIMUM_AND_MAXIMUM_OF_QUADRATIC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jmap.org/JMAP/JMAPSolutions/QUADRATICS/JMAP_SOLUTIONS_FACTORING_POLYNOMIALS.doc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hyperlink" Target="http://www.jmap.org/JMAP/JMAPSolutions/GRAPHS_AND_STATISTICS/JMAP_SOLUTIONS_CENTRAL_TENDENCY.doc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jmap.org/JMAP/JMAPSolutions/NUMBERS_OPERATIONS_AND_PROPERTIES/JMAP_SOLUTIONS_PROPERTIES_OF_INTEGERS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jmap.org/JMAP/JMAPSolutions/POWERS/JMAP_SOLUTIONS_OPERATIONS_WITH_POWERS.doc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nuary 2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2355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86800" y="613872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48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97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152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9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5181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0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657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410508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0" y="0"/>
          <a:ext cx="9144000" cy="18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0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44080" y="5715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1600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2895480" y="1600200"/>
            <a:ext cx="3657600" cy="366876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5" descr=""/>
          <p:cNvPicPr/>
          <p:nvPr/>
        </p:nvPicPr>
        <p:blipFill>
          <a:blip r:embed="rId3"/>
          <a:stretch/>
        </p:blipFill>
        <p:spPr>
          <a:xfrm>
            <a:off x="0" y="5486400"/>
            <a:ext cx="9090000" cy="5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Users\HP_Administrator\Pictures\My Pictures\Thomas Jeffers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6716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57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1066680" y="1066680"/>
            <a:ext cx="2210040" cy="2210040"/>
          </a:xfrm>
          <a:prstGeom prst="rect">
            <a:avLst/>
          </a:prstGeom>
          <a:ln w="0">
            <a:noFill/>
          </a:ln>
        </p:spPr>
      </p:pic>
      <p:pic>
        <p:nvPicPr>
          <p:cNvPr id="112" name="Object 3" descr=""/>
          <p:cNvPicPr/>
          <p:nvPr/>
        </p:nvPicPr>
        <p:blipFill>
          <a:blip r:embed="rId3"/>
          <a:stretch/>
        </p:blipFill>
        <p:spPr>
          <a:xfrm>
            <a:off x="2133720" y="1066680"/>
            <a:ext cx="9055080" cy="858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4"/>
          <a:stretch/>
        </p:blipFill>
        <p:spPr>
          <a:xfrm>
            <a:off x="4876920" y="2362320"/>
            <a:ext cx="3039840" cy="2492280"/>
          </a:xfrm>
          <a:prstGeom prst="rect">
            <a:avLst/>
          </a:prstGeom>
          <a:ln w="0">
            <a:noFill/>
          </a:ln>
        </p:spPr>
      </p:pic>
      <p:pic>
        <p:nvPicPr>
          <p:cNvPr id="114" name="Object 5" descr=""/>
          <p:cNvPicPr/>
          <p:nvPr/>
        </p:nvPicPr>
        <p:blipFill>
          <a:blip r:embed="rId5"/>
          <a:stretch/>
        </p:blipFill>
        <p:spPr>
          <a:xfrm>
            <a:off x="-914400" y="3962520"/>
            <a:ext cx="9132840" cy="868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Users\HP_Administrator\Pictures\My Pictures\Thomas Jefferson.jpg"/>
          <p:cNvPicPr/>
          <p:nvPr/>
        </p:nvPicPr>
        <p:blipFill>
          <a:blip r:embed="rId6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3962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457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5562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09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5986440"/>
            <a:ext cx="6094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0"/>
          <a:ext cx="9144000" cy="55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5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2" descr="C:\Users\HP_Administrator\Pictures\My Pictures\Thomas Jeffers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1565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58200" y="5878440"/>
            <a:ext cx="685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81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HP_Administrator\Pictures\My Pictures\Thomas Jeffer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86800" y="6205680"/>
            <a:ext cx="457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22:59:01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January 2000 Math A Regents Exam</cp:keywords>
  <dc:language>en-US</dc:language>
  <cp:lastModifiedBy>Steve</cp:lastModifiedBy>
  <dcterms:modified xsi:type="dcterms:W3CDTF">2007-07-16T02:41:20Z</dcterms:modified>
  <cp:revision>9</cp:revision>
  <dc:subject/>
  <dc:title>JMAP 0100ExamA Slideshow</dc:title>
</cp:coreProperties>
</file>