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jpeg" ContentType="image/jpeg"/>
  <Override PartName="/ppt/media/image35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29.jpeg" ContentType="image/jpeg"/>
  <Override PartName="/ppt/media/image3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3663-274F-4736-B585-76CCDF9CC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B640-514B-4557-B429-BC45488F7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CA6B-7B84-446A-B3FE-25BCE8BFD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0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98A4-279E-41CC-81CA-A7B3AC5E7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1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7215-57B1-4119-845D-5B7A392DC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2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4AFE-4EFE-445B-B170-711779B23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3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C73D-E21B-4FDE-873C-C5020A611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B8F5-CAC5-43CF-82A0-573AB3B14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5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2CA0-E8D6-4CD3-B28E-4008474A8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6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D9D1-CF09-4D77-8EB3-3FEF597F2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7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03B9-E7CB-4600-9B53-F5F40053F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8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6E56-DFE5-4808-A281-13E68BE3C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1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5F1D-91CF-439E-BF56-E101EA056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19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CC56-BCA1-4766-A211-E7E0F519D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0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3335-190A-4658-9E38-B069DEE63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1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A82E-7A06-44DF-890A-D378A85CB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2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AF41-E956-491E-ACD9-7EC891C9D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E5D-2CDE-4AFB-A450-550DF1329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4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858D-CB93-49A5-9A24-D47579418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8375-78B6-4648-8CFD-5A0AFD968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72F6-8F75-45B1-9A7D-4B70EADC1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971D-896F-450D-A6AC-DE676F4C2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8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11B1-E810-472C-AB38-A07BBC284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2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327-BA9D-479C-9ABD-61C5E1BF9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29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96B9-3C89-402F-BAB2-959330404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F27A-0385-4368-8876-5DA19D72A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77F6-3E73-43C8-8B06-6BD08CA65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2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642-8BDB-403B-B7FB-0BE02CCAE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3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CD83-F1BF-4207-86FF-726E0517F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4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7254-916B-49D7-9C9E-A8A1F6361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5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EF10-5C1B-4030-9B7A-6540C1E5A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6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3596-DD6B-42C8-8308-6B070CE9B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7E82-A7AC-4EE0-81D5-2EFF52B6A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8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6EE2-40A2-4BE0-AD44-D016A3A35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3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23D1-EF28-4261-9068-4D364FE19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39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9DAC-65FE-4788-B634-FC5DC0664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4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0862-94F0-47B8-97D9-2775D6DFC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CAB0-F148-458D-9E1D-91FA85A6E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D370-6630-4C3E-8171-51989395F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7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8346-A6E8-47C3-AA8A-2CF8CF263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60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3F68-9897-4A4C-A62B-AC3232513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881-FFE9-4D55-B719-2D9D8870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8CA-AC9C-45BA-AB78-D40F1D42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ADF-B635-49E1-904E-E70B6AEB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405-ADAF-4201-8FFD-677D9EDD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00B-2771-4730-8D57-7E15EF16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125-EDC4-472A-8E34-93CAAB83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786-DF8F-42A7-9BF0-E96F430B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8EF-C7CC-4FFB-AB3D-A81CCC4A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8AE-431F-4EE7-B5E5-B4CB1774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17B-45D5-45C2-84AB-CFC1923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FDD-D3D5-416E-B28F-C46DA8AC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37A-0871-4209-B50B-F0087182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7498-FBDA-4738-80EB-7DA546202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2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4886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0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17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5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8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87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9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0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5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895480" y="3276720"/>
            <a:ext cx="3276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ject 3" descr=""/>
          <p:cNvPicPr/>
          <p:nvPr/>
        </p:nvPicPr>
        <p:blipFill>
          <a:blip r:embed="rId1"/>
          <a:stretch/>
        </p:blipFill>
        <p:spPr>
          <a:xfrm>
            <a:off x="-2438280" y="0"/>
            <a:ext cx="9090000" cy="296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83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028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58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54:14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6 Math A Regents Exam</cp:keywords>
  <dc:language>en-US</dc:language>
  <cp:lastModifiedBy>Steve</cp:lastModifiedBy>
  <dcterms:modified xsi:type="dcterms:W3CDTF">2007-07-16T02:50:31Z</dcterms:modified>
  <cp:revision>5</cp:revision>
  <dc:subject/>
  <dc:title>JMAP 0806ExamA Slideshow</dc:title>
</cp:coreProperties>
</file>