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10.jpeg" ContentType="image/jpeg"/>
  <Override PartName="/ppt/media/image41.wmf" ContentType="image/x-wmf"/>
  <Override PartName="/ppt/media/image8.jpeg" ContentType="image/jpeg"/>
  <Override PartName="/ppt/media/image36.wmf" ContentType="image/x-wmf"/>
  <Override PartName="/ppt/media/image38.wmf" ContentType="image/x-wmf"/>
  <Override PartName="/ppt/media/image40.png" ContentType="image/png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png" ContentType="image/png"/>
  <Override PartName="/ppt/media/image27.wmf" ContentType="image/x-wmf"/>
  <Override PartName="/ppt/media/image33.wmf" ContentType="image/x-wmf"/>
  <Override PartName="/ppt/media/image45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2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97D4-A738-4812-91E0-6EEA7E6A7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CCD1-3043-4E68-9508-1B1C54463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9b  FUNCTIONS: Inverse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C587-3CDF-47EF-BEE5-7FBFD23B1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0b  TRANSFORMATIONS: Isome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6961-7A4D-44A2-9C94-CF8D74393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1b  FUNCTIONS: Defining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73C9-8E8A-491E-9A18-0D673411D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2b  TRIANGLES: Law of 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DBBB-6B91-4F1B-8C84-117BBF5F2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3b  CONICS: Chords, Secants and Tan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FF13-7900-40C1-B408-1C27D20DF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4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7862-DF1E-4829-9643-7B962EC21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5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B29A-BEF2-4EFC-B334-93C3E6F0C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6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7386-7B8D-4F06-82FC-B48EC7FF4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7b  RADICALS: Exponents as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B1CC-4390-4654-AA87-30693D7E0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8b  RADICALS: Properties of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4B44-D40F-45BE-B709-6BFFC5923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1b  QUADRATICS: Using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611D-A595-45C2-AB2A-BC5407E68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9b  NUMBERS OPERATIONS AND PROPERTIES: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243E-0C5D-453A-B9F7-736B81FB8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0b  FUNCTIONS: Operations with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B95D-C091-481E-86F2-3F2BE45A4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1b  RATIONALS: Inverse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7DCF-A9C3-4281-9D85-92BFD11C7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2b  QUADRATICS: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0B2C-1470-46CA-A37D-BF284E95B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3b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35FB-E2C4-4AD6-B694-726AEE3B2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4b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4D31-85AA-4D9F-8528-B05E0C254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5b  TRIANGLES: Using Trigonometry to Fi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1851-F2E7-4CFB-B231-44F4DB90A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6b  PROBABILITY: Norm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13C1-8DFA-4E0F-9559-8E30F6112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7b  TRIANGLES: Law of Cos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D653-C58F-4544-99F5-3611ED193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8b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DFD8-71DC-483D-BB55-2BD9CB226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2b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5DCD-D1E2-4A3A-A281-65CD660A0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9b  PROBABILITY: Binomi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A2B7-1419-40A8-A692-7ED7FDDF4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0b  POWERS: Expon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0313-2F07-4648-82F7-37037DDCE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1b  INEQUALITIES: Quadratic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B7BB-EDD9-4084-8304-0F4C4323D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2b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B4C1-5AEC-4AAF-B26F-6D4AB5CA4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3b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0B92-C002-41F1-95D8-EFF86D7D3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4b  GRAPHS AND STATISTICS: 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73CD-1F1F-4E7F-AC58-1932F439E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3b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15A0-9481-4EEE-BA76-D1E9A69C9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4b  ANGLES: Trigonometr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8D50-C55F-4F9A-8C6C-85B9F3868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5b  ANGLES:  Unit_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E780-0EF9-4039-B2B1-D63D5413D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6b  RATIONALS: Complex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04A5-EF90-4A30-8304-DF2B9816A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7b  FUNCTIONS: Compositions of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EC40-B044-4E94-8280-2383E376D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8b  POWERS: Properties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EBEB-671E-4507-9977-065FEB173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333-802C-4D13-8944-BA828A90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58F-DC53-48F2-BB88-75626441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B37-2B67-4318-9440-E4E47EBB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0B6-61EC-4670-9C88-586605BD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294-8AD0-42F2-8078-C7F3F31A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0C3-BAAA-43C6-9641-B511B8F4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21C-AD96-4A7A-8F0C-F4C329DC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CDE-CD03-4B4A-A869-19169C24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479-9CCF-4B70-825B-3FA40743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63B-C0FD-40B8-8CA4-735C522A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B6A-5383-470A-8270-1C177736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590-610B-48B7-AE1B-F2508D9C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523C-1D38-46C4-A436-C1D11FB7D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FUNCTIONS/JMAP_SOLUTIONS_INVERSE_OF_FUNCT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FUNCTIONS/JMAP_SOLUTIONS_DEFINING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RADICALS/JMAP_SOLUTIONS_EXPONENTS_AS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RADICALS/JMAP_SOLUTIONS_PROPERTIES_OF_RADIC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QUADRATICS/JMAP_SOLUTIONS_USING_THE_DISCRIMINA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NUMBERS_OPERATIONS_AND_PROPERTIES/JMAP_SOLUTIONS_COMPLEX_NUMBER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FUNCTIONS/JMAP_SOLUTIONS_OPERATIONS_WITH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RATIONALS/JMAP_SOLUTIONS_INVERSE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QUADRATICS/JMAP_SOLUTIONS_QUADRATIC_FORMULA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TIONALS/JMAP_SOLUTIONS_SOLVING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ROBABILITY/JMAP_SOLUTIONS_NORMAL_PROBABIILITY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POWERS/JMAP_SOLUTIONS_EXPONENTIAL_FUNC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ANGLES/JMAP_SOLUTIONS_TRIGONOMETRIC_GRAPH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ANGLES/JMAP_SOLUTIONS_UNIT_CIRCLE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RATIONALS/JMAP_SOLUTIONS_COMPLEX_FRAC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FUNCTIONS/JMAP_SOLUTIONS_COMPOSITIONS_OF_FUNCT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POWERS/JMAP_SOLUTIONS_PROPERTIES_OF_LOGARITHM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78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00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3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25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24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00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33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733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195912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4" descr=""/>
          <p:cNvPicPr/>
          <p:nvPr/>
        </p:nvPicPr>
        <p:blipFill>
          <a:blip r:embed="rId2"/>
          <a:stretch/>
        </p:blipFill>
        <p:spPr>
          <a:xfrm>
            <a:off x="0" y="1828800"/>
            <a:ext cx="907884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3352680" y="28195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6" descr=""/>
          <p:cNvPicPr/>
          <p:nvPr/>
        </p:nvPicPr>
        <p:blipFill>
          <a:blip r:embed="rId4"/>
          <a:stretch/>
        </p:blipFill>
        <p:spPr>
          <a:xfrm>
            <a:off x="0" y="541008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Users\HP_Administrator\Pictures\My Pictures\Thomas Jefferson.jpg"/>
          <p:cNvPicPr/>
          <p:nvPr/>
        </p:nvPicPr>
        <p:blipFill>
          <a:blip r:embed="rId5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95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002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97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5:02:0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2 Math B Regents Exam</cp:keywords>
  <dc:language>en-US</dc:language>
  <cp:lastModifiedBy>Steve</cp:lastModifiedBy>
  <dcterms:modified xsi:type="dcterms:W3CDTF">2007-07-16T02:51:47Z</dcterms:modified>
  <cp:revision>4</cp:revision>
  <dc:subject/>
  <dc:title>JMAP 0102ExamB Slideshow</dc:title>
</cp:coreProperties>
</file>