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jpeg" ContentType="image/jpeg"/>
  <Override PartName="/ppt/media/image15.wmf" ContentType="image/x-wmf"/>
  <Override PartName="/ppt/media/image11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12.wmf" ContentType="image/x-wmf"/>
  <Override PartName="/ppt/media/image30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13.wmf" ContentType="image/x-wmf"/>
  <Override PartName="/ppt/media/image37.wmf" ContentType="image/x-wmf"/>
  <Override PartName="/ppt/media/image42.png" ContentType="image/png"/>
  <Override PartName="/ppt/media/image23.jpeg" ContentType="image/jpeg"/>
  <Override PartName="/ppt/media/image25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7.jpeg" ContentType="image/jpeg"/>
  <Override PartName="/ppt/media/image31.wmf" ContentType="image/x-wmf"/>
  <Override PartName="/ppt/media/image10.wmf" ContentType="image/x-wmf"/>
  <Override PartName="/ppt/media/image28.wmf" ContentType="image/x-wmf"/>
  <Override PartName="/ppt/media/image3.jpeg" ContentType="image/jpeg"/>
  <Override PartName="/ppt/media/image2.wmf" ContentType="image/x-wmf"/>
  <Override PartName="/ppt/media/image32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CB52-1965-4AF5-BDF6-66D2AD9A2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C75E-924A-4DEB-9AA3-AA2DB2740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9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4C17-6F83-47A1-A68D-C139149C1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0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86B1-3620-48E1-8D84-4F10DC0BA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1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354D-731B-453F-AB49-CF133AD8F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2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1D7F-87F2-46F2-9ECD-720FA252B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3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4EC1-C4B6-48D4-AA03-913E4292A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4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FD47-1A38-4149-BE24-BB1766BBA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5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BCBA-CE6D-4F32-BF31-8BA1012E1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6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010E-BDD7-4DC2-B8C5-3A2AD483E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7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B1AA-EAD5-4DE6-B8EE-B07456CCF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8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0194-72F7-45B7-B689-839A76F75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1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B927-910D-48C6-A55D-92431FDA8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19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A526-AF07-4CB0-9A60-E3A2D98BD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0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C9E7-C2EF-4E65-A77D-3314F700A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1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408E-D4B3-43B8-AE26-CD4BE0A6C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2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89DC-A4E9-4638-B6E7-D0CB7159F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2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00A9-44C6-44A0-A414-18EBBEAE2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4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65D0-33BD-447C-99D8-43400230D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5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B6CA-1129-4607-ADE6-DFAD3FB23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6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C3DF-496E-4E59-956F-0FFC03EC7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D052-62EC-479C-8071-56F9C846B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8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A39B-3853-4CDB-B4C6-34B93378F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2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39C9-1921-49A9-8E5F-9DBAC5B2E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29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DA06-9AEF-4FA0-8BA3-0322D9907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0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47C4-99A6-495B-B120-494686B5D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1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8E81-D190-4A91-B8E5-65BC28884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2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344E-23C0-4820-9AED-8490CE9D6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3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7650-333A-4FA6-A0BE-C305FBCAD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4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BA01-796E-4315-A856-ABDEB2FB6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35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3F6C-6BCD-4715-ABBE-472F5CE0F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3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6DC6-4AEC-498A-AB1D-08C700F12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4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6BB4-4388-485A-881B-0F900A807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5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FEFA-64E8-4BBB-A809-446D3E2B7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6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A010-979C-4CF3-A06D-7B9600D66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7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DF23-9AE7-4A93-9EDE-2B9AE3AB0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9908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35CB-003A-4CE0-927E-FAD42FE49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1EE-E71E-4B5F-92DD-CC9E11B0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3C1-E6AC-4FB2-86A6-18EEE0C0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FE2-8730-42A9-9CC9-D16686B3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D7E-D40B-4EEA-8A2E-766E7055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2F3-29E4-4C78-BA8A-698193AC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2E83-3DD3-49BC-A8BE-DB735C27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80C-1F19-4C58-85C5-7DACD5CA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249-A6E7-478C-B1F8-0340531B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73A-60E0-4E74-9BED-05E9BAA7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758-F1B6-4E80-A074-56F139AF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F18-9AE2-4CE0-B18E-2188EFE7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923-C049-495F-8EBB-EFA0B8A0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C424-02B4-48C7-A4B1-0256DAFDF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jmap.org/JMAP/JMAPSolutions/EQUATIONS/JMAP_SOLUTIONS_TRANSFORMING_FORMULAS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RATIONALS/JMAP_SOLUTIONS_ADDITION_AND_SUBTRACTION_OF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199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92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48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343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41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25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48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10480" y="6031080"/>
            <a:ext cx="6858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8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308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95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276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2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6:08:5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1999 Math A Regents Exam</cp:keywords>
  <dc:language>en-US</dc:language>
  <cp:lastModifiedBy>Steve</cp:lastModifiedBy>
  <dcterms:modified xsi:type="dcterms:W3CDTF">2007-07-16T02:48:22Z</dcterms:modified>
  <cp:revision>4</cp:revision>
  <dc:subject/>
  <dc:title>JMAP 0699ExamA Slideshow</dc:title>
</cp:coreProperties>
</file>