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28.wmf" ContentType="image/x-wmf"/>
  <Override PartName="/ppt/media/image23.jpeg" ContentType="image/jpeg"/>
  <Override PartName="/ppt/media/image12.png" ContentType="image/png"/>
  <Override PartName="/ppt/media/image2.wmf" ContentType="image/x-wmf"/>
  <Override PartName="/ppt/media/image32.wmf" ContentType="image/x-wmf"/>
  <Override PartName="/ppt/media/image38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0.jpeg" ContentType="image/jpeg"/>
  <Override PartName="/ppt/media/image45.wmf" ContentType="image/x-wmf"/>
  <Override PartName="/ppt/media/image35.wmf" ContentType="image/x-wmf"/>
  <Override PartName="/ppt/media/image47.wmf" ContentType="image/x-wmf"/>
  <Override PartName="/ppt/media/image13.wmf" ContentType="image/x-wmf"/>
  <Override PartName="/ppt/media/image8.jpeg" ContentType="image/jpeg"/>
  <Override PartName="/ppt/media/image41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0A68-5D97-4075-B81D-38E90473F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E2D4-E0E1-49C5-92AE-E0BE28DDC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D0A8-FC97-4730-9747-66DE36620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23C-E52B-4FAA-B8E8-35E5BFBAB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1E3F-E5C5-41F7-9C8B-A396CD751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02D-24E6-40D6-A8C3-1EB25BDBD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39A-F0CE-4779-9CAF-7B5885F65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5A42-1F3D-4BD5-9ECE-7EFF867BB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8A4-41AF-4D4F-B31A-F32BAF7BE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534-8E76-4634-BBC9-58E5D33E9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426-9472-4A7E-8C0A-06714683F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B92C-47CF-4B8B-8738-98C5CF138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D009-F055-4F00-8A59-7E9DAF3AD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CE2-E059-4F23-87D5-4D2923AEB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DE5F-4748-4B25-9F96-A6CB743E8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071-E7D7-4D19-B575-84260ACF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156-AF9E-42E7-A7BD-2C88F220E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819-9E21-4923-AF47-D15B74167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E17-7578-405F-BFA1-27042919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858-57E1-4590-BD87-6E0FFD2C6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2A71-CC70-4707-BB67-0846D646C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C05-4D4B-47BB-B4A0-57B74E7D3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775-A768-4585-8804-3B25A9D9D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B0D9-2574-4969-89E2-2ED7A2B1B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651-E54B-44D9-A206-3B6A6B04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A48-1AA2-4FA3-9BA2-44B07360E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74F-286C-40ED-8CDA-BB1246AA5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186-8277-449F-B77F-6DF6CCE27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8C82-F9DB-4E21-9C0F-C77FA4141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7B86-B8D2-4FE9-8D9B-B35649F53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41C7-6B0E-4D39-A2AC-F32660A72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3EC-70DE-4ED3-B32F-2ACB52EFE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9EC-BFE4-4B0D-8243-7C6177828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02A-7824-4608-AC3D-AADC38FD9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D8B-2790-410C-A4FF-B57617FF2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1A1-1A3A-4E4C-9E81-A49E257FA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A70-532D-4C91-8C82-03EFB4FF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736-EEE1-4107-9CC2-8B88A842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DD9-1152-43F3-916C-9C71152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E11-9DCA-43CE-A927-BB83EA07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241-4D68-4587-8686-744DB06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A09-4A92-409E-8E90-FB53066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325-E3E1-4924-8A80-92C1BDA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F6B-5E07-475C-A3AF-BADCCF5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103-3B7A-4B52-BF95-A786CC5C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043-FCAC-4A1F-9F8F-0094099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C7D-9E60-4CF3-9D8D-D020E2A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435-8BB9-4F91-8B19-9BCEBF49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F11-8A9D-42FA-91AD-8A3727F09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hyperlink" Target="http://www.jmap.org/JMAP/JMAPSolutions/INEQUALITIES/JMAP_SOLUTIONS_QUADRATIC_INEQUALITIES.doc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hyperlink" Target="http://www.jmap.org/JMAP/JMAPSolutions/POWERS/JMAP_SOLUTIONS_EXPONENTIAL_EQUATIONS.doc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1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6800" cy="202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5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504960" cy="349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14040" cy="8958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213080" cy="419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881520" y="380880"/>
            <a:ext cx="16286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Object 5" descr=""/>
          <p:cNvPicPr/>
          <p:nvPr/>
        </p:nvPicPr>
        <p:blipFill>
          <a:blip r:embed="rId3"/>
          <a:stretch/>
        </p:blipFill>
        <p:spPr>
          <a:xfrm>
            <a:off x="0" y="236232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33624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1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25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4 Math A Regents Exam</cp:keywords>
  <dc:language>en-US</dc:language>
  <cp:lastModifiedBy>Steve</cp:lastModifiedBy>
  <dcterms:modified xsi:type="dcterms:W3CDTF">2007-07-16T02:58:15Z</dcterms:modified>
  <cp:revision>4</cp:revision>
  <dc:subject/>
  <dc:title>JMAP 0804ExamB Slideshow</dc:title>
</cp:coreProperties>
</file>