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4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3.jpeg" ContentType="image/jpeg"/>
  <Override PartName="/ppt/media/image13.wmf" ContentType="image/x-wmf"/>
  <Override PartName="/ppt/media/image37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28.jpeg" ContentType="image/jpeg"/>
  <Override PartName="/ppt/media/image9.jpeg" ContentType="image/jpeg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12.jpeg" ContentType="image/jpeg"/>
  <Override PartName="/ppt/media/image45.wmf" ContentType="image/x-wmf"/>
  <Override PartName="/ppt/media/image46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10.wmf" ContentType="image/x-wmf"/>
  <Override PartName="/ppt/media/image47.wmf" ContentType="image/x-wmf"/>
  <Override PartName="/ppt/media/image5.wmf" ContentType="image/x-wmf"/>
  <Override PartName="/ppt/media/image35.wmf" ContentType="image/x-wmf"/>
  <Override PartName="/ppt/media/image3.jpeg" ContentType="image/jpeg"/>
  <Override PartName="/ppt/media/image2.wmf" ContentType="image/x-wmf"/>
  <Override PartName="/ppt/media/image3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D820-091C-4765-BBC1-0C6C100DE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563B-9D5C-4B79-A5B4-C5E439F71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9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D96F-7AEF-40B5-8545-9A2670224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0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A15D-E91E-45DE-8736-04154500B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1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04D4-C554-4B56-AB81-F0CD9DE31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2a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756C-CFAA-4CE4-BCA3-C1BB2AE97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3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24C3-3956-45BB-8815-E5A605A55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4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4DC3-16EE-416E-9B5A-ADF27A5D0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5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6EAA-D2CF-437A-AA60-528801974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6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07A7-1CFD-4AFA-A80E-601C52A76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7a 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C6BB-0140-435C-9A41-875BECC1A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8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86EF-28EC-464B-8BC2-1BB2A6A9E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1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CA6D-0F9F-40C1-9D0A-9264E81F9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19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2D8E-C330-438C-B855-8B7F599E6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0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E730-24AC-4485-9B30-608AB2509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1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A06A-DAC7-4D82-8995-ED4F82CD5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2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822B-2A03-4EEA-849A-1EB00DD33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3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3E84-2880-4A0D-BCB8-6A124C3E8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8D71-CD22-428B-B7F2-240F0BD21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5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3617-DEED-409B-B8D1-2D71A5DBC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80BA-1D57-49E8-B106-8793B39D6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7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BD1B-BB64-45C7-A2C6-247767C34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8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0212-C712-4C12-8A47-C465288E6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2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1792-C40E-4E6D-B01A-7E8243D35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29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EF36-A465-44E1-BC7A-7E80F1CA4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0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04BB-340A-4C7B-888D-73F3DF09A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1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0041-C694-496A-B08A-D1342E0BC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2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C511-288B-4881-9A2F-0DF173319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3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4CE8-C060-41A6-98A3-E47CBC88E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2560-A1CB-4AF4-807A-AF4B7F44D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5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16FC-ACA8-4BF0-979B-99DD3412B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6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B063-613E-4688-AA9D-3B0141E46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7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C418-88AB-48BE-BDF0-F18955137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8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31E7-D8F5-434C-BB5B-F11E75843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3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701E-BFE3-4E47-85EE-5AF0709F5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39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DEC3-4E9A-4815-880E-B2542EEEF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4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161E-2344-4BF7-A539-06F35BA20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5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D122-2AD3-450D-B4AE-4DD418AC1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6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50CC-C3EF-4D2A-9E9D-157648764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7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8C71-303C-479A-A56F-342D0B5FB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608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9A2C-1235-400E-B87D-F5D8BC9A8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836-07A5-4988-8180-842171E1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D00-F671-41B4-A6DC-6C334D95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CDA-9157-4FE9-A97E-C4171B39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5E1-B75C-4EF9-99C5-2FD58331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43E-42C4-487D-B1AE-ABA14901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6FF-4BF6-4BED-95BE-9F6A83E7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843C-9D92-4EDA-807F-00EA011D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300-6907-4CF7-9A71-9D1CE75A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620D-8C30-4C7B-B68A-F86F9BA1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824-7B81-43E9-9CD9-6F7B6E4B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AF3-FCEA-438E-9E47-749D4E4C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472-4CEB-47C7-B3F9-CDC8FCEC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1365-F80C-4C57-B4DC-FD8E238D9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GRAPHS_AND_STATISTICS/JMAP_SOLUTIONS_GRAPHICAL_REPRESENTATIONS_OF_DAT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RATIONALS/JMAP_SOLUTIONS_SOLVING_RATIONAL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LINEAR_EQUATIONS/JMAP_SOLUTIONS_GRAPHING_AND_WRITING_LINEAR_EQUA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INEQUALITIES/JMAP_SOLUTIONS_LINEAR_INEQUALITIES_AND_SYSTEMS.doc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62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69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6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0" y="0"/>
            <a:ext cx="8815320" cy="304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45720" cy="5105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1500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2462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2813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25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3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116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79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7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0" y="0"/>
          <a:ext cx="9144000" cy="25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26560" cy="144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62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5:58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6 Math A Regents Exam</cp:keywords>
  <dc:language>en-US</dc:language>
  <cp:lastModifiedBy>Steve</cp:lastModifiedBy>
  <dcterms:modified xsi:type="dcterms:W3CDTF">2007-07-16T02:47:37Z</dcterms:modified>
  <cp:revision>4</cp:revision>
  <dc:subject/>
  <dc:title>JMAP 0606ExamA Slideshow</dc:title>
</cp:coreProperties>
</file>