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1.jpeg" ContentType="image/jpeg"/>
  <Override PartName="/ppt/media/image12.wmf" ContentType="image/x-wmf"/>
  <Override PartName="/ppt/media/image33.wmf" ContentType="image/x-wmf"/>
  <Override PartName="/ppt/media/image13.wmf" ContentType="image/x-wmf"/>
  <Override PartName="/ppt/media/image37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23.wmf" ContentType="image/x-wmf"/>
  <Override PartName="/ppt/media/image28.jpeg" ContentType="image/jpeg"/>
  <Override PartName="/ppt/media/image30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332-E904-4A56-BF01-D3DD1B423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83D0-9851-4138-BE31-4BECF15C0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A7B5-B4CB-4D19-ABCB-3E16864DC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81C3-C284-4280-B7F2-9133936AC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1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9661-8013-42E5-ACE0-1FF1556EB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2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8F4-8668-48DA-B22F-B3977D279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6817-0FD4-4F07-BD4F-942583861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5DF-F257-47E8-9AD3-7625C7C25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5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C572-8DEE-4949-93CF-11415D9CA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64C9-C0FA-4039-8EC0-004E89EE7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7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2847-06EC-4E49-8BB1-C6DFBA571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8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82A1-E3DA-44E5-B2D5-0BA0D3B0C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1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5A39-5475-4638-B171-A4AD95372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FEA-6F37-4B45-B89F-79336B7BB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ECC-533F-4E62-8AD2-39B65ADEA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1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0138-B170-493F-9D44-943EB08D5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BC9-5A45-4C9F-89E2-B88CF9D6D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3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1D2A-1194-4A30-A601-0FC785077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4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A156-954A-4EC5-BAB1-A2D6F2A4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5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3DE-C15D-4EF5-834B-1A473D352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F313-FF31-4EB9-8FA0-A0C00119F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9A8-D6B8-4F19-BE3D-ABD98C4E8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B82-C1DD-4B54-B159-434CEA92C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2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9183-DC9D-42F9-B88F-B16D1D9A6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F49F-BCF2-429E-BECB-297D4D5E6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0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3C3-917C-40B7-9FA3-C38E35D28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30D-9A92-454A-9340-3BDDF9E39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D2EC-95CA-4BB2-9042-757A124DD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DEA1-3D01-424B-BE64-59BE311CE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F7A7-FED0-4364-BD9B-7B53BEE04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35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6B42-C724-4315-8ED2-32ABE317B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EF18-268A-4959-9427-BD7F84ED2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4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E9B0-9D02-42EA-A1FE-6F310FC6D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7BB-BB66-4B80-822B-CDD1EACEA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2AB6-B763-4487-877F-0AEEF0EF0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3C4-B23B-4068-A1ED-F0C2F57A7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208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2C6-8BC0-46B1-9682-9B376F86E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D44-23E8-48E9-892D-F6108F8E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22C-A0E7-44A2-91FA-5F64DB4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A40-11D2-413F-BD08-1AA33D74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5A6-D3BB-4C91-AF98-1F3B55D9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033-484A-4F82-AFDB-C2B2E94F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E25-9C5B-4E3A-84CB-8B25534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4E6-ACF7-47BB-8F82-9A62088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1E4-31D8-43F7-9DCE-08C0D814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963-04F1-4257-8B4E-EABB519F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052-4FD9-419D-9175-4292ECA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046-3967-432B-952D-808399C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29A-DE96-4E2E-9BBE-D913754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B56-0297-476D-9C20-997AEB68E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4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-236232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4487760"/>
          </a:xfrm>
          <a:prstGeom prst="rect">
            <a:avLst/>
          </a:prstGeom>
          <a:ln w="0">
            <a:noFill/>
          </a:ln>
        </p:spPr>
      </p:pic>
      <p:pic>
        <p:nvPicPr>
          <p:cNvPr id="69" name="Object 4" descr=""/>
          <p:cNvPicPr/>
          <p:nvPr/>
        </p:nvPicPr>
        <p:blipFill>
          <a:blip r:embed="rId3"/>
          <a:stretch/>
        </p:blipFill>
        <p:spPr>
          <a:xfrm>
            <a:off x="0" y="3429000"/>
            <a:ext cx="9066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09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1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174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7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0"/>
          <a:ext cx="9144000" cy="31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1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1786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77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9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28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2 Math A Regents Exam</cp:keywords>
  <dc:language>en-US</dc:language>
  <cp:lastModifiedBy>Steve</cp:lastModifiedBy>
  <dcterms:modified xsi:type="dcterms:W3CDTF">2007-07-16T02:49:33Z</dcterms:modified>
  <cp:revision>4</cp:revision>
  <dc:subject/>
  <dc:title>JMAP 0802ExamA Slideshow</dc:title>
</cp:coreProperties>
</file>