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1.wmf" ContentType="image/x-wmf"/>
  <Override PartName="/ppt/media/image41.wmf" ContentType="image/x-wmf"/>
  <Override PartName="/ppt/media/image8.jpeg" ContentType="image/jpeg"/>
  <Override PartName="/ppt/media/image13.wmf" ContentType="image/x-wmf"/>
  <Override PartName="/ppt/media/image10.jpeg" ContentType="image/jpeg"/>
  <Override PartName="/ppt/media/image30.wmf" ContentType="image/x-wmf"/>
  <Override PartName="/ppt/media/image31.wmf" ContentType="image/x-wmf"/>
  <Override PartName="/ppt/media/image33.wmf" ContentType="image/x-wmf"/>
  <Override PartName="/ppt/media/image12.jpeg" ContentType="image/jpeg"/>
  <Override PartName="/ppt/media/image36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40.wmf" ContentType="image/x-wmf"/>
  <Override PartName="/ppt/media/image37.wmf" ContentType="image/x-wmf"/>
  <Override PartName="/ppt/media/image7.wmf" ContentType="image/x-wmf"/>
  <Override PartName="/ppt/media/image28.wmf" ContentType="image/x-wmf"/>
  <Override PartName="/ppt/media/image3.jpeg" ContentType="image/jpeg"/>
  <Override PartName="/ppt/media/image16.jpeg" ContentType="image/jpeg"/>
  <Override PartName="/ppt/media/image5.wmf" ContentType="image/x-wmf"/>
  <Override PartName="/ppt/media/image35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EBEA-41D9-4B37-8791-617103C3AB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5AFA-BF15-44FB-92E5-2AE6A447DE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9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2C68-6168-43CA-9059-093A27D9F2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0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24F1-A973-414E-A76C-236ACC9920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1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1FED-3673-4605-899E-704154726C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2b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BE3C-E6AF-4F2C-90A0-68DE4A52BF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3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A52F-2DA6-4065-AA0C-A0BD44BA1F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4b  QUADRATICS: Quadratic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EC2A-7DB1-4637-AE0A-6C8D3A1D7F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5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C47C-146E-4D14-88EE-11E976475C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6b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0302-2576-4383-8C12-590EA7A6C0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7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C4EF-A1A1-4C73-86E5-AB748C5196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8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43DC-9D0C-4CF7-8E62-32BD3BBEB1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1b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457C-D976-4726-9D11-923E0ABAB0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9b  TRANSFORMATIONS: Di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781E-1E6B-4855-B055-7059B3E699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0b  TRIANGLES: Using Trigonometry to Solve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2B45-F433-4500-951D-FF48B77271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1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3C10-ED53-47B0-B918-E5EB2DE6C1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2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1B6A-28C1-4392-8A14-C5B5C0DC28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3b  TRIANGLES: Using Trigonometry to Fi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7708-37F6-4026-A594-F4CC88376C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4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92F3-B6F7-420A-BECD-62A8B7E050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5b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F7ED-2D4A-4536-B4EA-9ED17096A0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6b  POWERS: Binomial Expa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B72F-6840-490A-ABA9-C3FAC3FE2D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7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D66D-C0AC-4FB9-8051-3E7CDB8309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8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C67E-9CAA-4ABD-A2B1-2E536AC7CC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2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4B90-E6D6-463A-9E76-7C6FC992CB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9b  QUADRATICS: Quadratic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9426-F9FB-427E-823D-E47A33A09E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0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5D5B-4007-4EB0-979A-D04C9EE4AF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1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B33E-23AE-4442-B593-DDB0868B5E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2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BBD0-AF5F-4F43-AF7B-8EA3EDBD9B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3b  RATIONALS: Multiplication and Divis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6018-AD74-42DB-8226-D9C86DF4A4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4b  TRIANGLES: V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B0AB-A600-4649-B730-23170F39F1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3b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9F2E-DC94-4870-832D-7CAC4C8EEC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4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6DAA-6BFD-4DCD-97D1-5F3E6C3F33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5b  NUMBERS OPERATIONS AND PROPERTIES: 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D1D2-9952-4190-B3E9-5E096594D9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6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617C-0DD5-44EF-B930-34A80D8179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7b  GRAPHS AND STATISTICS: Standar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D2B1-1BAD-4B1B-8318-957BC14651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8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CC68-8C87-4CD6-A2DD-0C8F13A6E3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CDB1-75D8-4DC7-B302-1CB0DDDE7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02D9-F86F-4304-91DA-35661283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D031-0557-4B09-BA62-F4280586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7AE0-2C9D-4E3F-B9AF-506E25815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210C-475D-46C5-8234-90F68BE4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AD2D-8F80-4EA3-A41B-CA2A536D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6D44-63F9-4BFA-BE42-878AFA9A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2D77-2355-4FAE-8183-4CE0984E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42A6-78FA-4439-986F-19B5FAD5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553F-E399-4495-BB44-731374FF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759A-582B-4785-9ADF-EBB02DEB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D826-5EE0-400B-A806-DEC2CE61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F04F-AEFB-438B-9D78-941FA6607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INEQUALITIES/JMAP_SOLUTIONS_ABSOLUTE_VALUE_INEQUALITIE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QUADRATICS/JMAP_SOLUTIONS_USING_THE_DISCRIMINANT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QUADRATICS/JMAP_SOLUTIONS_QUADRATIC_FORMULA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POWERS/JMAP_SOLUTIONS_PROPERTIES_OF_LOGARITHM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POWERS/JMAP_SOLUTIONS_EXPONENTIAL_FUNC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http://www.jmap.org/JMAP/JMAPSolutions/POWERS/JMAP_SOLUTIONS_BINOMIAL_EXPANSION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www.jmap.org/JMAP/JMAPSolutions/ANGLES/JMAP_SOLUTIONS_SOLVING_TRIGONOMETRIC_EQUATION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SYSTEMS/JMAP_SOLUTIONS_SOLVING_NONLINEAR_SYSTEM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NUMBERS_OPERATIONS_AND_PROPERTIES/JMAP_SOLUTIONS_IMAGINARY_NUMBER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RATIONALS/JMAP_SOLUTIONS_COMPLEX_FRACTION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GRAPHS_AND_STATISTICS/JMAP_SOLUTIONS_STANDARD_DEVIATION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RADICALS/JMAP_SOLUTIONS_RATIONALIZING_DENOMINATOR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anuary 200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124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209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14400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438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5627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049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14" descr=""/>
          <p:cNvPicPr/>
          <p:nvPr/>
        </p:nvPicPr>
        <p:blipFill>
          <a:blip r:embed="rId1"/>
          <a:stretch/>
        </p:blipFill>
        <p:spPr>
          <a:xfrm>
            <a:off x="0" y="163440"/>
            <a:ext cx="9109080" cy="6507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48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69400" cy="6662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52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119160"/>
            <a:ext cx="9013680" cy="6705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4114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943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400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116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57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95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1371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060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5181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5:47:2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anuary 2007 Math A Regents Exam</cp:keywords>
  <dc:language>en-US</dc:language>
  <cp:lastModifiedBy>Steve</cp:lastModifiedBy>
  <dcterms:modified xsi:type="dcterms:W3CDTF">2007-07-16T02:54:31Z</dcterms:modified>
  <cp:revision>4</cp:revision>
  <dc:subject/>
  <dc:title>JMAP 0107ExamB Slideshow</dc:title>
</cp:coreProperties>
</file>