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9.jpeg" ContentType="image/jpeg"/>
  <Override PartName="/ppt/media/image38.wmf" ContentType="image/x-wmf"/>
  <Override PartName="/ppt/media/image40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0.wmf" ContentType="image/x-wmf"/>
  <Override PartName="/ppt/media/image31.wmf" ContentType="image/x-wmf"/>
  <Override PartName="/ppt/media/image29.wmf" ContentType="image/x-wmf"/>
  <Override PartName="/ppt/media/image35.wmf" ContentType="image/x-wmf"/>
  <Override PartName="/ppt/media/image3.jpeg" ContentType="image/jpeg"/>
  <Override PartName="/ppt/media/image39.wmf" ContentType="image/x-wmf"/>
  <Override PartName="/ppt/media/image41.wmf" ContentType="image/x-wmf"/>
  <Override PartName="/ppt/media/image42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AED-DBC6-4E56-91E3-BC62FF840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3D6-95AC-48CF-A719-521AB4C16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BE2-4BCD-473A-BC0A-6F326C555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CEB9-4004-4DF4-8C0A-611C42B8D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BA9-503C-4C44-8BB8-DDD88E1B9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3FB-892A-4D3A-BB79-1C944EEE7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BF0C-FBE3-424F-8708-C951ACE09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A04-6CD2-44E2-BB09-3E2652820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BD24-0CA8-4BB3-A0CF-ABC8A34D2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3EE-E92D-41FD-B0F0-0A1D1CC04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9A2-7E1F-4515-925D-61C0395EA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64B-0EDF-4DFB-937F-0FE227B3F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06A-D9BE-4549-95D8-360DD1F12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D053-B51A-4DD2-A34D-E0FFE5D84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A95-3488-4E04-B88F-C0083DF12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1034-8D97-441C-A579-E9D56ADEF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FB1-8D0E-4DC9-9104-BD0F3223A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518-F64E-4B49-A05B-1A445A44D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7773-51F4-4CB6-A585-EA7816EF4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BFEB-7690-421F-ADD6-F5250ACB9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211E-0841-4817-8729-68C5A772B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2555-FF3D-4401-8057-C54946A3C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854D-D940-4FE6-99E4-9F26229DF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0B16-6E4F-4651-88A5-C3CB5DBB4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5F52-0E47-4616-BA6F-CEE02E70D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CA53-08ED-4BF4-A056-5EEC13FF9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6FD-EA8F-4A6E-9679-8CC6A9967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F0E4-6CF3-4B32-8A2D-A6C6EB6AB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1FE1-7AF5-4675-A36E-409EA9184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BD9-7957-4A3D-B5C1-287381AA6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B6B-8C87-478C-A981-67D835A59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747-4273-4BCA-8976-2010DF53E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3A3-E198-43AC-8F54-7150D7FAC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9366-D727-45E4-A831-2E156E8F4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D7F-6200-4616-A4E8-E1E12E7C0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798A-C277-4FDC-B8C2-C25F90386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505-982D-42E7-96ED-A873F459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F07-0F08-449C-B3D8-2A5D4389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0CF-189E-4963-AAB9-DA335A42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BA3-3D50-4D07-A415-D7445EA1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BCC-17F1-4889-92A5-3EB3445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EA2-7DC1-48EC-8CE1-6E2C773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A49-6862-478A-B393-FF8591E5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A4E-D0E4-4CFE-A035-75068663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002-B3AE-49A5-83A5-F8869CA5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3E5-6674-46B1-A956-0702B01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2BF-599C-4F8A-A832-E76A588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CA8-434D-4E9E-994A-91245AF9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02F-F7F1-4B56-B9F1-7EAA81525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RATIONALS/JMAP_SOLUTIONS_INVERSE_VARIATION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8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09080" cy="641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1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5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565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6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1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26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0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366408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03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84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46:0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5 Math A Regents Exam</cp:keywords>
  <dc:language>en-US</dc:language>
  <cp:lastModifiedBy>Steve</cp:lastModifiedBy>
  <dcterms:modified xsi:type="dcterms:W3CDTF">2007-07-16T02:56:18Z</dcterms:modified>
  <cp:revision>4</cp:revision>
  <dc:subject/>
  <dc:title>JMAP 0605ExamB Slideshow</dc:title>
</cp:coreProperties>
</file>