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3.jpeg" ContentType="image/jpeg"/>
  <Override PartName="/ppt/media/image2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13.jpeg" ContentType="image/jpeg"/>
  <Override PartName="/ppt/media/image44.wmf" ContentType="image/x-wmf"/>
  <Override PartName="/ppt/media/image33.wmf" ContentType="image/x-wmf"/>
  <Override PartName="/ppt/media/image48.png" ContentType="image/png"/>
  <Override PartName="/ppt/media/image45.wmf" ContentType="image/x-wmf"/>
  <Override PartName="/ppt/media/image46.wmf" ContentType="image/x-wmf"/>
  <Override PartName="/ppt/media/image10.wmf" ContentType="image/x-wmf"/>
  <Override PartName="/ppt/media/image47.wmf" ContentType="image/x-wmf"/>
  <Override PartName="/ppt/media/image41.wmf" ContentType="image/x-wmf"/>
  <Override PartName="/ppt/media/image8.jpeg" ContentType="image/jpeg"/>
  <Override PartName="/ppt/media/image12.wmf" ContentType="image/x-wmf"/>
  <Override PartName="/ppt/media/image49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E8E9-4BEF-402F-86C2-B9461F3F1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8D76-FFB9-4372-9B6A-BC261AC81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9a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A4AB-8AF9-4ED4-B41C-B986B74CA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0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02B1-697A-4DDA-87E3-FED84C476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1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A760-778E-4F61-A87E-8F3DF5B13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C2C2-64A0-46CA-8832-FFB4D4680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3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E32B-6DE3-4CF7-8030-FC10EAA31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7081-2778-4167-8F56-48D960E04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5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2F66-B5C5-451E-99F6-40FB0ED8A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6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46C9-0D8F-467D-BFB8-75AE65990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7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DB38-0E0E-48E2-8264-D3C57475A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8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BEEE-328E-4B52-AD29-7691B0AC2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1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73ED-2B62-4FDC-8196-643FF3E36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19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59B1-9A07-498C-855C-ACA9A892E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0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0539-E04C-45B6-B17A-E69218C43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1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4F1B-C568-4756-B0EE-3E51D6AD6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2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405C-7C15-4A4C-B946-56D58E9CE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3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8AAE-43D2-4E65-83A2-A2158C5EA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4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5FFF-5158-4185-B51C-D9DD59AAB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5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B877-0CF4-44FC-9886-EF161FC95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6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5EF0-31D6-4668-BC75-97DEBB39D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7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ACFE-F303-4679-BF09-56C559B3F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8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1CB6-7083-45E7-816F-1099CCA97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2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A49F-FFAE-478A-9D24-3F06C6147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29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2BC8-A975-41A8-A21E-A5C62F8EF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D0D8-DD72-4CC7-BE5A-92A40C001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1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7765-6D7A-4639-A56F-0061548BD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2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AC61-5316-43F2-A84F-1EA17DB4D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3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03F9-4B9A-4852-8E6F-A367C98FB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4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4D90-5162-4B48-A61C-FD829A462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5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DF9B-BE7D-40BE-B515-C4370D86A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6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8DC9-E7B7-4955-AC1D-2C07A6D37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7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EEB8-89FF-404C-880C-F97B6FDF4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8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E610-DF96-4A6C-A25D-9946B2D3C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3EBC-C7F2-4054-A1DC-586C17D70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39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703E-FAF8-4DF9-8148-0B11CC889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0EBF-0AA8-431E-8093-F89B829F4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5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D1E5-48E2-4B98-BBE5-7895582FD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6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307D-F19E-4CE2-85A5-EF1E1328A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7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E29F-C039-4EC3-9CF0-AE4273C85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508a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4E11-495B-44CA-B601-1365CCBB3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7F8-EF26-423F-A2D1-224BBD8C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366-2ED6-4088-A9A3-B5E6DA2A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35D-9459-4BB3-A3BF-AAF64695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7C4-3752-4934-ABEB-7038E287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7D6-1064-4D0B-B2E6-EEFD2D99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CB9-2BCB-4882-8282-BC4E1B32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44A-E7BA-4753-99E0-37220FB3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112-50A8-4C65-9C2A-47230ED2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0DC-31E5-4E59-8BD6-B1ACED38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6A8-472F-4FCA-9E3A-AB61E27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065-34BD-42FF-A255-8FE6E606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100-F63F-45BA-8ACA-EBF6EBD2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3C61-EA2D-47E8-8D4B-756244031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FUNCTIONS/JMAP_SOLUTIONS_MODELING_RELATIONSHIP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INEQUALITIES/JMAP_SOLUTIONS_LINEAR_INEQUALITIES_AND_SYSTEM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93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4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0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95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9144000" cy="258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5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55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74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73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9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2"/>
          <p:cNvGraphicFramePr/>
          <p:nvPr/>
        </p:nvGraphicFramePr>
        <p:xfrm>
          <a:off x="0" y="0"/>
          <a:ext cx="914400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657600" cy="3679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76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505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45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5 Math A Regents Exam</cp:keywords>
  <dc:language>en-US</dc:language>
  <cp:lastModifiedBy>Steve</cp:lastModifiedBy>
  <dcterms:modified xsi:type="dcterms:W3CDTF">2007-07-16T02:50:12Z</dcterms:modified>
  <cp:revision>4</cp:revision>
  <dc:subject/>
  <dc:title>JMAP 0805ExamA Slideshow</dc:title>
</cp:coreProperties>
</file>