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34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3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B730-9954-425C-93A0-574E8B2DB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omas Jefferson’s portrait to hyperlink to solutions at the Jefferson Math Project webs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617-F032-4ACC-96B3-67BD195D2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38C-0273-4A53-A296-43397226B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2ED-DD0C-4A14-8A11-F218930C4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4E09-B033-419A-88A4-E1CD448CA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7BA-6F19-4074-9DA2-A01EF0910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3C94-3DEF-47BB-A5DC-909F0E48B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F90-19A6-400F-BBAA-85568AA06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832-E226-4FDC-A862-36F1FC706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154D-637A-4D69-AE9B-BEC81D25A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3D4-59FD-4713-B140-8A7204FC8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F88E-5411-48FC-806A-3DF8FD412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1A7-A27C-4730-9518-CC5BF009D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1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38E-C5B9-4EAD-8BA2-79E43BCC9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E66D-BD02-4F93-AC9D-09610D411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90D-2DA5-45A3-911D-6D68F10CB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A7E8-EB87-4F2B-8CCF-165BDDCD9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F55-84B1-4B93-B7FC-3E7CED051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026-3DB3-4251-AC31-485166D69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DF3-17F1-4771-B120-16CA1CDC3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63E-05EE-4652-9E20-7A7C80965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ECE-49F8-4E4D-93AC-77388ECA5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CBC-1B43-4787-AC2B-B4F492D9A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73D4-0608-45D7-9044-1CB25D2CF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2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D17F-5D09-4F03-94BE-A1D8A6ADD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0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D60-2900-4990-B1C7-57810EA5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1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EDF-57CE-4D00-B9FE-5CBA244B0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2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767C-9500-4F0C-8742-A4617DEC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CCBA-109C-4DAC-A7EE-18C9ECB3F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54B2-40EA-4F69-ACDF-ABAF9AADF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96BA-372C-40D1-A34F-0580BCEF5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42D8-9ED0-4058-8FA5-0C630AB93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16C-0562-4830-995B-E29AD3ADE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640-0A88-40E6-A381-C6DFC5B4C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3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7DC4-DCA8-43D1-B492-7B3916D6F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39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283-04A0-4A15-A980-91B21FA08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4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27E-68CA-4605-805A-AC4AA89B8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5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B11-4E16-491A-9767-2D12A58D7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6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619-E590-4445-8706-847179A30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7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C90-ABC7-4417-9696-F292AD3A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90708IA  Fall 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987B-FCBC-4F53-8C79-26E818681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711-62C6-4B10-8C08-787B2CBA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EA5-5977-4880-9CCC-F44D736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B3E-56D9-45DE-8301-C1393E19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BED-7829-4E7E-8799-B7F26F6C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945-955B-4647-B8C5-43A1B7FC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8CB-927E-4514-B999-581388DE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363-3848-4C59-A86B-225FD24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686-A309-4C28-87F7-91DB649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5DF-3203-4D7D-9441-2086584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2A2-0DA1-4744-9E07-F020CFC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B2A-1269-48DD-9251-20551D8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A4C-2563-4B7C-B186-645FD973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89A3-7E13-4736-994E-D75121247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P_Administrator\Pictures\My Pictures\Thomas Jefferson.jpg"/>
          <p:cNvPicPr/>
          <p:nvPr/>
        </p:nvPicPr>
        <p:blipFill>
          <a:blip r:embed="rId1"/>
          <a:stretch/>
        </p:blipFill>
        <p:spPr>
          <a:xfrm>
            <a:off x="3505320" y="1371600"/>
            <a:ext cx="213336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668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efferson Mat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jmap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hematics 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st Sampler - Fall 200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1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3786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1"/>
          <p:cNvGraphicFramePr/>
          <p:nvPr/>
        </p:nvGraphicFramePr>
        <p:xfrm>
          <a:off x="0" y="0"/>
          <a:ext cx="911376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0" y="0"/>
          <a:ext cx="90378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3352680" cy="33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4"/>
          <p:cNvGraphicFramePr/>
          <p:nvPr/>
        </p:nvGraphicFramePr>
        <p:xfrm>
          <a:off x="0" y="4876920"/>
          <a:ext cx="9144000" cy="192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76920"/>
                    <a:ext cx="9144000" cy="19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"/>
          <p:cNvGraphicFramePr/>
          <p:nvPr/>
        </p:nvGraphicFramePr>
        <p:xfrm>
          <a:off x="0" y="0"/>
          <a:ext cx="911376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13228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3"/>
          <p:cNvGraphicFramePr/>
          <p:nvPr/>
        </p:nvGraphicFramePr>
        <p:xfrm>
          <a:off x="0" y="4038480"/>
          <a:ext cx="9144000" cy="173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038480"/>
                    <a:ext cx="914400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1"/>
          <p:cNvGraphicFramePr/>
          <p:nvPr/>
        </p:nvGraphicFramePr>
        <p:xfrm>
          <a:off x="0" y="0"/>
          <a:ext cx="912816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1"/>
          <p:cNvGraphicFramePr/>
          <p:nvPr/>
        </p:nvGraphicFramePr>
        <p:xfrm>
          <a:off x="0" y="0"/>
          <a:ext cx="90216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216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1"/>
          <p:cNvGraphicFramePr/>
          <p:nvPr/>
        </p:nvGraphicFramePr>
        <p:xfrm>
          <a:off x="0" y="0"/>
          <a:ext cx="91137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1"/>
          <p:cNvGraphicFramePr/>
          <p:nvPr/>
        </p:nvGraphicFramePr>
        <p:xfrm>
          <a:off x="0" y="0"/>
          <a:ext cx="90378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3048120" y="609480"/>
            <a:ext cx="378756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3"/>
          <p:cNvGraphicFramePr/>
          <p:nvPr/>
        </p:nvGraphicFramePr>
        <p:xfrm>
          <a:off x="0" y="4800600"/>
          <a:ext cx="912816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00600"/>
                    <a:ext cx="91281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1"/>
          <p:cNvGraphicFramePr/>
          <p:nvPr/>
        </p:nvGraphicFramePr>
        <p:xfrm>
          <a:off x="0" y="0"/>
          <a:ext cx="912816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0" y="0"/>
          <a:ext cx="894564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56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387036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6"/>
          <p:cNvGraphicFramePr/>
          <p:nvPr/>
        </p:nvGraphicFramePr>
        <p:xfrm>
          <a:off x="15840" y="3809880"/>
          <a:ext cx="912816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809880"/>
                    <a:ext cx="91281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1"/>
          <p:cNvGraphicFramePr/>
          <p:nvPr/>
        </p:nvGraphicFramePr>
        <p:xfrm>
          <a:off x="0" y="0"/>
          <a:ext cx="9128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2971800" y="457200"/>
            <a:ext cx="426708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3"/>
          <p:cNvGraphicFramePr/>
          <p:nvPr/>
        </p:nvGraphicFramePr>
        <p:xfrm>
          <a:off x="0" y="4800600"/>
          <a:ext cx="912816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800600"/>
                    <a:ext cx="9128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0"/>
          <a:ext cx="91281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1"/>
          <p:cNvGraphicFramePr/>
          <p:nvPr/>
        </p:nvGraphicFramePr>
        <p:xfrm>
          <a:off x="0" y="0"/>
          <a:ext cx="911376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2220840" cy="221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4981680" cy="554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8"/>
          <p:cNvGraphicFramePr/>
          <p:nvPr/>
        </p:nvGraphicFramePr>
        <p:xfrm>
          <a:off x="0" y="4038480"/>
          <a:ext cx="9128160" cy="105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38480"/>
                    <a:ext cx="91281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"/>
          <p:cNvGraphicFramePr/>
          <p:nvPr/>
        </p:nvGraphicFramePr>
        <p:xfrm>
          <a:off x="0" y="0"/>
          <a:ext cx="91281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0" y="0"/>
          <a:ext cx="91281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1"/>
          <p:cNvGraphicFramePr/>
          <p:nvPr/>
        </p:nvGraphicFramePr>
        <p:xfrm>
          <a:off x="0" y="0"/>
          <a:ext cx="90378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1"/>
          <p:cNvGraphicFramePr/>
          <p:nvPr/>
        </p:nvGraphicFramePr>
        <p:xfrm>
          <a:off x="0" y="0"/>
          <a:ext cx="91281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"/>
          <p:cNvGraphicFramePr/>
          <p:nvPr/>
        </p:nvGraphicFramePr>
        <p:xfrm>
          <a:off x="0" y="0"/>
          <a:ext cx="9113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1"/>
          <p:cNvGraphicFramePr/>
          <p:nvPr/>
        </p:nvGraphicFramePr>
        <p:xfrm>
          <a:off x="0" y="0"/>
          <a:ext cx="91281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9"/>
          <p:cNvGraphicFramePr/>
          <p:nvPr/>
        </p:nvGraphicFramePr>
        <p:xfrm>
          <a:off x="0" y="0"/>
          <a:ext cx="91281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"/>
          <p:cNvGraphicFramePr/>
          <p:nvPr/>
        </p:nvGraphicFramePr>
        <p:xfrm>
          <a:off x="0" y="0"/>
          <a:ext cx="9128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"/>
          <p:cNvGraphicFramePr/>
          <p:nvPr/>
        </p:nvGraphicFramePr>
        <p:xfrm>
          <a:off x="0" y="0"/>
          <a:ext cx="91281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057400" y="609480"/>
            <a:ext cx="47242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0"/>
          <a:ext cx="903780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78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1"/>
          <p:cNvGraphicFramePr/>
          <p:nvPr/>
        </p:nvGraphicFramePr>
        <p:xfrm>
          <a:off x="0" y="0"/>
          <a:ext cx="91281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3276720" y="2514600"/>
            <a:ext cx="2133360" cy="319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3"/>
          <p:cNvGraphicFramePr/>
          <p:nvPr/>
        </p:nvGraphicFramePr>
        <p:xfrm>
          <a:off x="0" y="5943600"/>
          <a:ext cx="914400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43600"/>
                    <a:ext cx="9144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1"/>
          <p:cNvGraphicFramePr/>
          <p:nvPr/>
        </p:nvGraphicFramePr>
        <p:xfrm>
          <a:off x="0" y="0"/>
          <a:ext cx="91281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1"/>
          <p:cNvGraphicFramePr/>
          <p:nvPr/>
        </p:nvGraphicFramePr>
        <p:xfrm>
          <a:off x="0" y="0"/>
          <a:ext cx="9113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"/>
          <p:cNvGraphicFramePr/>
          <p:nvPr/>
        </p:nvGraphicFramePr>
        <p:xfrm>
          <a:off x="0" y="0"/>
          <a:ext cx="912816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00400" y="990720"/>
            <a:ext cx="2666880" cy="23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3"/>
          <p:cNvGraphicFramePr/>
          <p:nvPr/>
        </p:nvGraphicFramePr>
        <p:xfrm>
          <a:off x="0" y="3657600"/>
          <a:ext cx="9128160" cy="28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657600"/>
                    <a:ext cx="91281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"/>
          <p:cNvGraphicFramePr/>
          <p:nvPr/>
        </p:nvGraphicFramePr>
        <p:xfrm>
          <a:off x="0" y="0"/>
          <a:ext cx="91281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447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1"/>
          <p:cNvGraphicFramePr/>
          <p:nvPr/>
        </p:nvGraphicFramePr>
        <p:xfrm>
          <a:off x="0" y="0"/>
          <a:ext cx="911376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137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1"/>
          <p:cNvGraphicFramePr/>
          <p:nvPr/>
        </p:nvGraphicFramePr>
        <p:xfrm>
          <a:off x="0" y="0"/>
          <a:ext cx="9128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"/>
          <p:cNvGraphicFramePr/>
          <p:nvPr/>
        </p:nvGraphicFramePr>
        <p:xfrm>
          <a:off x="0" y="0"/>
          <a:ext cx="912816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"/>
          <p:cNvGraphicFramePr/>
          <p:nvPr/>
        </p:nvGraphicFramePr>
        <p:xfrm>
          <a:off x="0" y="0"/>
          <a:ext cx="9128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"/>
          <p:cNvGraphicFramePr/>
          <p:nvPr/>
        </p:nvGraphicFramePr>
        <p:xfrm>
          <a:off x="0" y="0"/>
          <a:ext cx="91281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"/>
          <p:cNvGraphicFramePr/>
          <p:nvPr/>
        </p:nvGraphicFramePr>
        <p:xfrm>
          <a:off x="0" y="0"/>
          <a:ext cx="91281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"/>
          <p:cNvGraphicFramePr/>
          <p:nvPr/>
        </p:nvGraphicFramePr>
        <p:xfrm>
          <a:off x="0" y="0"/>
          <a:ext cx="912816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2816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1:07:59Z</dcterms:created>
  <dc:creator>Steve Watson</dc:creator>
  <dc:description>Copyright 2007 The Jefferson Math Project (JMAP) 
Permission is granted to teachers, researchers, students, and others to duplicate, distribute and modify for non-profit educational purposes.</dc:description>
  <cp:keywords>August 2000 Math A Regents Exam</cp:keywords>
  <dc:language>en-US</dc:language>
  <cp:lastModifiedBy>Steve</cp:lastModifiedBy>
  <dcterms:modified xsi:type="dcterms:W3CDTF">2007-11-16T10:21:59Z</dcterms:modified>
  <cp:revision>21</cp:revision>
  <dc:subject/>
  <dc:title>JMAP 0800ExamA Slideshow</dc:title>
</cp:coreProperties>
</file>