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jpeg" ContentType="image/jpeg"/>
  <Override PartName="/ppt/media/image1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7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3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3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8.jpeg" ContentType="image/jpeg"/>
  <Override PartName="/ppt/media/image41.wmf" ContentType="image/x-wmf"/>
  <Override PartName="/ppt/media/image42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39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36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53EF-8641-468D-9471-FF43C1154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4761-B1B5-417E-98F0-1CEF79383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9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E0D6-20F4-4573-8432-129CF92A1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0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7605-49EF-4089-9160-283B4CC5D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92F3-3B29-4BFD-B89E-DE87A82D0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2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F569-3E4F-469D-8FC9-0F0222D6C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3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6C69-0066-417E-8888-DD7AED8D2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549D-1C8C-4107-BC64-2B421717C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5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B50C-B02A-48F8-85E9-D746724E8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6a  RATE: Fraction Ma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2BF1-2849-4E05-AA1E-8EC38BD2A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7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2259-3AF4-40D3-AA6E-9C0AE52EC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8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22D1-9996-4EC4-B20E-A17FB80A3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1a  RATE: Modeling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6CBC-9670-4FAD-A405-4DE501F42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19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4916-CB1C-449F-8C5B-3360AF3F1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0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4117-8BE8-444B-B961-C52F1D8D2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1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21B6-BE56-4759-AB3F-0F93736AC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2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15F5-0774-4FDB-BEB3-1915DE60D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3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338D-B54D-405A-B16F-B2C666B8A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4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F02A-1774-4909-8175-A029420D4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5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D25B-4592-4515-BCCC-E2312E624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2936-F804-40B4-833D-1353DDC3C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7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7E4C-E5B1-4096-A615-3C0863407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8a  FUNCTIONS: Fahrenheit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A2F9-F708-4439-ACDC-C8C29E1DE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2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811E-84F1-4EB5-824D-5DB72F764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29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802A-20A1-4582-A2F1-59CE62CF5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0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4DEC-133E-4716-80E7-FC9D9F31D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1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89D0-D31C-4807-B61A-774D702D6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2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20E8-FFD3-4DE9-B57B-B3EFF706B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3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D851-1E79-452A-B984-A27F06D3E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4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06F4-7816-429E-85CA-43D80A1F8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35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1D74-330B-4E6E-BB5E-A200FFE91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3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122E-2891-4B92-9BD2-19C406AF6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4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E8FD-3F7F-4C34-A454-B224E366D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5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C60C-D8FD-4AE1-8930-D543A6133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6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BA40-23EE-4AB3-90A7-D9607693C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7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C686-9B5E-4FFF-B9E2-E68EACF2B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108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BFA3-BBD5-43E8-A430-C4B9155A9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159-3E2B-4BB2-940F-0AB84984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C2E-7930-400A-835B-8171ED41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EEE-B503-411E-9BFF-852BD1C6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91A-89C0-407E-82E0-2C2038E9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B8B-4591-4F15-AF39-5BF39FB3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61E-BB06-450F-A90E-6B7734AD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9F4-1318-42ED-A5D6-75D5F129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D67-1CDF-47AC-9021-4699041F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4E7-06D5-4DD8-99CB-CF07F850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364-718B-4AAB-B4B3-0FCE1D27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071-2F01-48F2-8CE1-9343AEC2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877-1333-4BD9-B8D8-32ED124A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AE74-CD25-428E-BFA0-89DC747F3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RATE/JMAP_SOLUTIONS_FRACTION_MADNES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SYSTEMS/JMAP_SOLUTIONS_BREAK_EVEN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INEQUALITIES/JMAP_SOLUTIONS_INTERPRETING_SOLU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TE/JMAP_SOLUTIONS_MODELING_RAT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23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85320" cy="389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8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05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41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28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14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370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57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777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19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-2514600" y="0"/>
            <a:ext cx="9013680" cy="670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4840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36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36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3135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4:59:36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1 Math A Regents Exam</cp:keywords>
  <dc:language>en-US</dc:language>
  <cp:lastModifiedBy>Steve</cp:lastModifiedBy>
  <dcterms:modified xsi:type="dcterms:W3CDTF">2007-07-16T02:44:55Z</dcterms:modified>
  <cp:revision>5</cp:revision>
  <dc:subject/>
  <dc:title>JMAP 0601ExamA Slideshow</dc:title>
</cp:coreProperties>
</file>