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2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13.wmf" ContentType="image/x-wmf"/>
  <Override PartName="/ppt/media/image41.wmf" ContentType="image/x-wmf"/>
  <Override PartName="/ppt/media/image8.jpeg" ContentType="image/jpeg"/>
  <Override PartName="/ppt/media/image30.wmf" ContentType="image/x-wmf"/>
  <Override PartName="/ppt/media/image28.wmf" ContentType="image/x-wmf"/>
  <Override PartName="/ppt/media/image31.wmf" ContentType="image/x-wmf"/>
  <Override PartName="/ppt/media/image33.png" ContentType="image/png"/>
  <Override PartName="/ppt/media/image11.wmf" ContentType="image/x-wmf"/>
  <Override PartName="/ppt/media/image36.png" ContentType="image/png"/>
  <Override PartName="/ppt/media/image40.wmf" ContentType="image/x-wmf"/>
  <Override PartName="/ppt/media/image37.wmf" ContentType="image/x-wmf"/>
  <Override PartName="/ppt/media/image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38.wmf" ContentType="image/x-wmf"/>
  <Override PartName="/ppt/media/image4.jpeg" ContentType="image/jpeg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15.jpeg" ContentType="image/jpeg"/>
  <Override PartName="/ppt/media/image25.wmf" ContentType="image/x-wmf"/>
  <Override PartName="/ppt/media/image1.jpeg" ContentType="image/jpeg"/>
  <Override PartName="/ppt/media/image1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867F-709D-41BB-834B-98ADD736CD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4B81-423A-48A0-83B3-694237240A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9b  TRIANGLES: Using Trigonometry to Solve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4F61-47CE-4BF8-A88D-98082D4B7B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0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53CF-EDBD-4650-AA46-567FCD991D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1b  TRANSFORMATIONS: Di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A3AB-7A0A-4514-8F2A-730CCA740A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2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1692-AF93-461E-8349-3A8E9BAA5E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3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3722-8BB4-411A-A283-7654E6F19F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4b  RATIONALS: Ration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A26D-CADD-4B71-95FF-B60BE4AA1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5b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F1A2-4E70-46EA-B3CB-2D0CFFABF1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6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DB7C-3617-4EB6-BA09-97848A1164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7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8376-C3A8-4EBE-B433-4A1A97DC9A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8b  INEQUALITIES: Quadratic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04C9-F43C-4D2B-AF4E-317721FE77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1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86C6-324F-4EC8-B610-EE92120E48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9b  ANGLES: Double Angle and Angle Sum and Difference Ident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5E3C-0154-419E-A572-A44A1A8D91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0b  ANGLES: Solving Trigonometr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6271-1D50-40FF-BCFA-82426FB681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1b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A119-854F-4FC4-8AC0-1F1C4893F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2b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1633-D57E-4326-B03C-7BD67352B7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3b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2F33-A06A-4EEF-8CB5-213EA93045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4b  POWERS: Logarithmic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5989-F5DF-4F74-98A2-C63B02C96A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5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A903-CC96-4690-BE8C-D61EEF3E06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6b  INEQUALITIES: Absolute Valu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9BD1-D5CC-4EC1-80BC-27B9C08154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7b  PROBABILITY: Norm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75A0-E381-45D3-B71E-98383816F9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8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EC29-99B0-45D3-A951-B167B84399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2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FBDD-F734-4343-A4AC-5FB4A28C2E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9b  INEQUALITIES: Trigonometric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0348-8269-41E8-9C61-0E323F5D4C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0b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11D6-9F0B-4CE4-AED8-7C4D73B5EA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1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3CA4-404A-46B5-89F4-19BBA246C2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2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61D2-FAEB-4274-86F8-59860A5B1B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3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E012-01F4-47AB-93D7-7863A6E085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4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ABAD-EB8A-42BC-95C0-BF1D8742CE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3b  QUADRATICS: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B07B-DB85-420B-871B-9EE1CF14BE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4b  NUMBERS OPERATIONS AND PROPERTIES: Sum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C6D8-2D76-41CA-A7A7-7C3E5DFF33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5b  RADICALS: Solv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1F4D-0C51-4B11-BFEE-8BAEFF3FCC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6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2BA9-93FF-41E2-937F-D52CC70C1F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7b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8F00-F581-4E15-ABCE-5BA8B16D3B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8b  GRAPHS AND STATISTICS: Normal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7EB7-D29F-411A-97CB-85D4FDE1AA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A9CC-F7A5-4DE1-8521-E176A412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4F5A-A79E-4547-B542-7DD2463D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3B9A-6529-495E-B0FC-C3335DDE5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16FA-F24B-4BE7-85E3-B44681EB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166F-2D91-4E39-8992-7FD1D61A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3177-5F2F-4448-95A8-76F98724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CA95-B88B-4642-BD05-18B3D49D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322E-5A82-45D4-9E03-9623CCBF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9E5B-97E6-4C1C-BC38-071BA9A5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C6D1-986F-448D-8CBF-2429B8EC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4072-7B5C-4A30-86C2-A843530D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D627-EA5E-406A-BA6B-2C8531E2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DB2D-DE28-4692-B602-73C28AD735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RATIONALS/JMAP_SOLUTIONS_INVERSE_VARIATION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RATIONALS/JMAP_SOLUTIONS_COMPLEX_FRACTION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QUADRATICS/JMAP_SOLUTIONS_USING_THE_DISCRIMINANT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RATIONALS/JMAP_SOLUTIONS_RATIONAL_FUNCTION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RATIONALS/JMAP_SOLUTIONS_ADDITION_AND_SUBTRACTION_OF_RATIONALS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POWERS/JMAP_SOLUTIONS_PROPERTIES_OF_LOGARITHM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ANGLES/JMAP_SOLUTIONS_SOLVING_TRIGONOMETRIC_EQUATIONS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INEQUALITIES/JMAP_SOLUTIONS_QUADRATIC_INEQUALITIE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ANGLES/JMAP_SOLUTIONS_DOUBLE_ANGLE_AND_ANGLE_SUM_AND_DIFFERENCE_IDENTITIES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ANGLES/JMAP_SOLUTIONS_SOLVING_TRIGONOMETRIC_EQUATIONS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QUADRATICS/JMAP_SOLUTIONS_MINIMUM_AND_MAXIMUM_OF_QUADRATICS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RADICALS/JMAP_SOLUTIONS_SOLVING_RADICAL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POWERS/JMAP_SOLUTIONS_LOGARITHMIC_EQUATION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INEQUALITIES/JMAP_SOLUTIONS_ABSOLUTE_VALUE_INEQUALITIE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PROBABILITY/JMAP_SOLUTIONS_NORMAL_PROBABIILITY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www.jmap.org/JMAP/JMAPSolutions/PROBABILITY/JMAP_SOLUTIONS_BINOMIAL_PROBABIILITY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QUADRATICS/JMAP_SOLUTIONS_QUADRATIC_FUNCTION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NUMBERS_OPERATIONS_AND_PROPERTIES/JMAP_SOLUTIONS_SUMMATION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RADICALS/JMAP_SOLUTIONS_SOLVING_RADICAL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GRAPHS_AND_STATISTICS/JMAP_SOLUTIONS_NORMAL_DISTRIBUTION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anuary 20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179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257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971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429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00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4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125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7640" cy="2295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098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2"/>
          <p:cNvGraphicFramePr/>
          <p:nvPr/>
        </p:nvGraphicFramePr>
        <p:xfrm>
          <a:off x="0" y="0"/>
          <a:ext cx="9144000" cy="238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352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486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00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3178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362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267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257800" y="380880"/>
            <a:ext cx="2868480" cy="3733920"/>
          </a:xfrm>
          <a:prstGeom prst="rect">
            <a:avLst/>
          </a:prstGeom>
          <a:ln w="0">
            <a:noFill/>
          </a:ln>
        </p:spPr>
      </p:pic>
      <p:pic>
        <p:nvPicPr>
          <p:cNvPr id="102" name="Object 3" descr=""/>
          <p:cNvPicPr/>
          <p:nvPr/>
        </p:nvPicPr>
        <p:blipFill>
          <a:blip r:embed="rId2"/>
          <a:stretch/>
        </p:blipFill>
        <p:spPr>
          <a:xfrm>
            <a:off x="-1751040" y="0"/>
            <a:ext cx="8966160" cy="6032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30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-2057400" y="0"/>
            <a:ext cx="9078840" cy="4430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4800600" y="609480"/>
            <a:ext cx="3962520" cy="5295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57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3270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21680" cy="82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268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714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438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317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5:09:1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anuary 2003 Math B Regents Exam</cp:keywords>
  <dc:language>en-US</dc:language>
  <cp:lastModifiedBy>Steve</cp:lastModifiedBy>
  <dcterms:modified xsi:type="dcterms:W3CDTF">2007-07-16T02:52:58Z</dcterms:modified>
  <cp:revision>4</cp:revision>
  <dc:subject/>
  <dc:title>JMAP 0103ExamB Slideshow</dc:title>
</cp:coreProperties>
</file>