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2.wmf" ContentType="image/x-wmf"/>
  <Override PartName="/ppt/media/image40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5.wmf" ContentType="image/x-wmf"/>
  <Override PartName="/ppt/media/image27.wmf" ContentType="image/x-wmf"/>
  <Override PartName="/ppt/media/image39.jpeg" ContentType="image/jpeg"/>
  <Override PartName="/ppt/media/image41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0D43-C03D-4BDF-A50D-05780CF1B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BCA-881F-4CBC-90FE-FF6D5C5ED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4841-B3F5-46F4-B9B7-BCE085332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B520-62CD-409F-A1EA-59F6897D5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80E-6044-4F04-83A6-9DAD007EC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EE4F-7414-406E-9601-A44D533FE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438-C3E8-4570-AB77-8A16939CC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39B-C7C0-4FFF-A314-90E894A8E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86F-3B32-4B71-9B65-E8E2C1F39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b  EQUATIONS: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A38-A123-45C8-B8D9-0D77F58FA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BB4-FC5C-40D1-84F5-1B05BA164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9209-6475-4141-A292-C0994D916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53C8-E864-4412-A746-374D733FE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36A-D9B4-45CE-B6D6-7DB6D2E7A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9AA-ACF1-4B9D-8711-4FD0F40F7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C3D-8209-461F-9E9D-68DC0CE2C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3319-AED3-4A2C-9C58-DF639C565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D246-49F5-4A40-BF71-C1A136A6B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6D1D-7CB8-486C-B183-D4252FEC8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D2A6-271F-42F4-AFF4-D43720A5B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232-841E-4E91-A992-1969A467F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44A-BD7F-4D49-8F0B-1681B6627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26B-3B73-4D2F-B2A3-4047480AC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C194-543E-45C7-89DD-462D84A2F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C88-B139-429F-B7ED-7F5712C3D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AC0E-C7AE-486D-93F7-882F4064F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31CF-9BE3-4E8A-B23E-2A37DE145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B7FA-55A9-4716-87E3-D72854637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49B4-37B3-431B-9CC3-892B75B7E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384-9D1D-4839-9B61-B3702238C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7E0-50E9-4025-8F03-46B857B6D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4B55-AC65-4019-856A-65DB07E46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7C8-9C0C-410F-885F-5ACBDC632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9CA-0980-4B0C-9905-2D4428794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975C-CC14-43B2-BC98-9D69DD07A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C2D7-254E-4B69-895D-CBE879DBB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258-CE60-49C7-9521-C3760CF1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443-A40F-4A2F-9194-B208FDA2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110-81AC-4878-95C7-297F68CF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DBD-838C-472C-B7BB-A80DF16A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417-93A1-475D-87FE-0E8772E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9FA-1FB5-4223-B9D4-032C9B61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8FF-BE92-4F5F-872A-2ABCFB8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700-4C84-4F93-B1D8-7CCDE56C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738-A371-4640-8958-EBC47136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4F8-BE8E-40F4-8523-60C0D27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6D5-AB25-4FC0-A0D5-A2D5710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AF7-2FDB-4131-AB02-4AB7A71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D8F-EC8F-4A71-ADF6-C958700BB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ABSOLUTE_VALUE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6640" cy="558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2298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8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3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6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720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44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1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39:3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6 Math A Regents Exam</cp:keywords>
  <dc:language>en-US</dc:language>
  <cp:lastModifiedBy>Steve</cp:lastModifiedBy>
  <dcterms:modified xsi:type="dcterms:W3CDTF">2007-07-16T02:58:57Z</dcterms:modified>
  <cp:revision>4</cp:revision>
  <dc:subject/>
  <dc:title>JMAP 0806ExamB Slideshow</dc:title>
</cp:coreProperties>
</file>