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2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666C-3EE8-46B2-BA80-6B0262448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A44-4C2C-4970-88D2-B6C1510E5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9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5F6B-8B50-4027-A01D-D1086EC15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0a  TRIANGLES: Pythag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20A-1B8E-4D0A-B4A8-3F77E15C2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1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23A-F438-4191-B7C4-0A7436F83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466-3B51-4E6E-A5CF-5DE1C1C36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36D4-3D7D-415B-BF6E-06E6433FB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824A-A349-419D-B334-9064DFEB1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D7AD-E2D8-4611-906D-B0CDF06AD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6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E596-4D71-421F-8964-9D5A2B5D8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EA0-3066-46D1-B721-2D73A5CA4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8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40A-78BC-4DD2-9BDE-9CEDD7130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7D25-FCDE-4001-8805-7E5CA15FD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13F-2B47-40F7-8751-B138FB82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0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950-B20F-4C82-A49C-3628A7860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1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E0BA-4259-4BFC-A6F8-BDB75AED2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9EB-C8CC-4916-A050-BD297542E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942-B79A-4CA2-9BAB-9B3A8024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4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2F83-07C7-415A-81E3-F885E5C94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9648-E0A1-4124-8CE0-E5323A708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C168-DCBD-4375-B741-8EEA083B5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7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6F0-31F1-4BDE-AC79-EA5E73459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528-F471-49DB-8843-ABDE2346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2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9BFC-A7BB-45DD-A833-198B957A1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2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174-C402-41C3-9F9A-2468A8BA6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0a  LOGIC: Converse and Biconditiona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CBD4-A31C-4664-B985-6BEC04184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1a  RATE: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D4A-473A-4896-B91B-F13A43D14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2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E4A-05FC-45C7-AE6F-8F1C3BE29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6483-0679-4837-BF4D-278E486E5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4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2987-D715-443D-B16F-0E7FBEA63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4257-7BAB-41C6-85CB-9A637D1E4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DCA-7BEE-40B6-8AB3-2A5AF5235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0178-B748-4263-9389-492ED4D01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68C-6DDA-4A06-A265-77EDA1740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3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EA6-F304-4D91-A7E2-DB4DB7E5F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39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336-084C-453B-A4D4-D32444F06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2D2-5DE8-4E9C-B2C2-BD57EEB58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30D6-8C3B-462A-9456-D64AD9532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6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462D-93F4-49B0-BD50-3F35C2169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7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71A7-2C62-4FF4-9A6F-C012E2B0A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7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7F7-C58F-45B3-911B-77452DA4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B30-9870-4471-9EA1-4FEF148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6E0-304E-4DC5-BBF8-ADAB2F2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E32-7573-4917-98E6-20B14EDC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0E7-5D3A-4F42-85B2-11BB133A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237-C3F2-4590-8858-3BF9951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262-90C8-41A2-BE33-A621E262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876-9A23-4902-9FD8-8EC3335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E2F-0090-4B3C-B63E-87A2D6D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EF7-85C8-4809-8F30-35558F70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8F6-CC54-4E50-92CD-43FA51C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D2E-EB10-429C-84F6-750EC82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3F6-E1AE-43CF-9B0E-94E97239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7FA-EE88-47C4-A165-385150CC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GRAPHS_AND_STATISTICS/JMAP_SOLUTIONS_AVERAGE_KNOWN_WITH_MISSING_DATA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19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-175248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429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9:19:45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7 Math A Regents Exam</cp:keywords>
  <dc:language>en-US</dc:language>
  <cp:lastModifiedBy>Steve</cp:lastModifiedBy>
  <dcterms:modified xsi:type="dcterms:W3CDTF">2007-07-16T20:18:40Z</dcterms:modified>
  <cp:revision>27</cp:revision>
  <dc:subject/>
  <dc:title>JMAP 0607ExamA Slieshow</dc:title>
</cp:coreProperties>
</file>