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26.png" ContentType="image/png"/>
  <Override PartName="/ppt/media/image11.wmf" ContentType="image/x-wmf"/>
  <Override PartName="/ppt/media/image30.wmf" ContentType="image/x-wmf"/>
  <Override PartName="/ppt/media/image33.wmf" ContentType="image/x-wmf"/>
  <Override PartName="/ppt/media/image36.wmf" ContentType="image/x-wmf"/>
  <Override PartName="/ppt/media/image37.png" ContentType="image/png"/>
  <Override PartName="/ppt/media/image10.jpeg" ContentType="image/jpeg"/>
  <Override PartName="/ppt/media/image38.wmf" ContentType="image/x-wmf"/>
  <Override PartName="/ppt/media/image40.png" ContentType="image/png"/>
  <Override PartName="/ppt/media/image42.png" ContentType="image/png"/>
  <Override PartName="/ppt/media/image25.wmf" ContentType="image/x-wmf"/>
  <Override PartName="/ppt/media/image31.wmf" ContentType="image/x-wmf"/>
  <Override PartName="/ppt/media/image43.wmf" ContentType="image/x-wmf"/>
  <Override PartName="/ppt/media/image13.jpeg" ContentType="image/jpeg"/>
  <Override PartName="/ppt/media/image44.wmf" ContentType="image/x-wmf"/>
  <Override PartName="/ppt/media/image8.jpeg" ContentType="image/jpeg"/>
  <Override PartName="/ppt/media/image41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2.wmf" ContentType="image/x-wmf"/>
  <Override PartName="/ppt/media/image32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34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8984-2721-4F44-B824-60ABB1A6B8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80D7-36EA-4682-BE71-9B8B6045D9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9b  POWERS: Logarithm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B597-0118-4F9A-8D53-20042A7FB1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0b  RADICALS: Rationalizing Denomin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3D5E-1EF1-4C6C-A1EF-09264B3885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1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3775-5AD8-4626-8F6E-FAFE6F41A2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2b  POWERS: Logarithm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8BDD-7CAE-45BA-A787-DDC47CB087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3b  NUMBERS OPERATIONS AND PROPERTIES: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6658-C683-4254-AAE6-67E3E8D7CD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4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9E13-0DBA-45EF-8184-8F13ABB8BF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5b  NUMBERS OPERATIONS AND PROPERTIES:  Imaginary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4BDB-9D5E-445D-8E3B-8F33BCAE88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6b  FUNCTIONS: Inverse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D346-E066-4151-B6C7-BCD6CD35F6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7b  QUADRATICS: Quadratic Form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3B4C-95FA-42D5-8A36-7DDFE6EBE6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8b  RADICALS: Exponents as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AC56-4093-413D-AE31-2DD88A0FC3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1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B1D9-33A4-42E5-AC97-B868C2F4EF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9b  TRANSFORMATIONS: Compositions of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8E7D-766A-418D-941C-E643411A24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0b  RATIONALS: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33DF-32FF-4020-AD63-6E992C73F8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1b  POWERS: Exponent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3D3F-3E4B-4EBD-BACF-24A5A6DB3A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2b  PROBABILITY: Norm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3CCE-011A-4E6B-8096-AE3867A2FF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3b  ANGLES: Radian Mea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7A14-0FBD-4E9C-AF95-3326EC4341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4b  POWERS: Exponent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7894-27A7-4D39-9411-C8AA79F8E6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5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E23B-D6EE-4E6A-B368-F7E1A16654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6b  TRIANGLES: Using Trigonometry to Fi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361E-A846-4F0D-A8D8-7FCDD38932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7b  FUNCTIONS: Operations with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CF44-8E75-49B0-8AB6-3CDE2889A2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8b  TRIANGLES: Vec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CC38-9F60-4852-9324-F85416AA23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2b  GRAPHS AND STATISTICS: Normal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8B5C-B533-4FE8-8A9E-BFD4D3B59C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9b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61D2-DC60-4582-AEE0-61D3ACCF14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30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017E-6AD8-43EA-B314-E93EB4AA4A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31b  TRANSFORMATIONS: Compositions of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48C4-A754-44DB-85F8-DF051527B6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32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AF8C-BDB5-438A-897E-B64FAEC2F9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33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008C-0611-4D71-A919-D6F91C61E5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34b  RATIONALS: Solving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71E6-33D3-4723-B849-D5FD64C883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3b  INEQUALITIES: Absolute Valu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1739-A5ED-4553-847A-58E2F4EB74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4b  POWERS: Exponent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3334-D8A4-43F4-BF28-18F96C7B05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5b  FUNCTIONS: Inverse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13BF-0B7F-47F2-B866-F6F618E444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6b  CONICS: Equations of 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0C7A-DBFE-4000-9CBE-BFFBA0D92D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7b  RATIONALS: Inverse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3030-FCF2-451C-8136-ED596ED0A2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8b  POWERS: Binomial Expa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1531-90F7-4C00-8389-0FDDE0801C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E240-8697-43F3-9458-565BF8D1A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2586-DB73-4E67-921F-8B4A9799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73A9-7182-447F-8406-97FA980B9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7B10-C1B1-4A1D-A208-125545DE3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AE64-BA44-423A-8C1F-867DF243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6DE1-27C9-497D-8861-AD0D7D14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1D3E-6810-421D-BE5E-0B7D06D1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211B-9D4A-498D-B3C3-52B02011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D97F-7CF8-4E8B-8A63-6354EDDA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A08B-209F-4DA5-A638-F30C6695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8050-53DB-449C-B9E9-5FB0A9D9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8D74-8196-464E-B679-6144F2F4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3A58-7E24-4695-B7AF-E2E891045B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http://www.jmap.org/JMAP/JMAPSolutions/POWERS/JMAP_SOLUTIONS_LOGARITHMIC_EQUATION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RADICALS/JMAP_SOLUTIONS_RATIONALIZING_DENOMINATORS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QUADRATICS/JMAP_SOLUTIONS_USING_THE_DISCRIMINANT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hyperlink" Target="http://www.jmap.org/JMAP/JMAPSolutions/POWERS/JMAP_SOLUTIONS_LOGARITHMIC_EQUATIONS.doc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NUMBERS_OPERATIONS_AND_PROPERTIES/JMAP_SOLUTIONS_SUMMATIONS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NUMBERS_OPERATIONS_AND_PROPERTIES/JMAP_SOLUTIONS_IMAGINARY_NUMBER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http://www.jmap.org/JMAP/JMAPSolutions/FUNCTIONS/JMAP_SOLUTIONS_INVERSE_OF_FUNCTONS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QUADRATICS/JMAP_SOLUTIONS_QUADRATIC_FORMULA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RADICALS/JMAP_SOLUTIONS_EXPONENTS_AS_RADICALS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PROBABILITY/JMAP_SOLUTIONS_BINOMIAL_PROBABIILITY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RATIONALS/JMAP_SOLUTIONS_COMPLEX_FRACTIONS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hyperlink" Target="http://www.jmap.org/JMAP/JMAPSolutions/POWERS/JMAP_SOLUTIONS_EXPONENTIAL_FUNCTION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PROBABILITY/JMAP_SOLUTIONS_NORMAL_PROBABIILITY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hyperlink" Target="http://www.jmap.org/JMAP/JMAPSolutions/ANGLES/JMAP_SOLUTIONS_RADIAN_MEASURE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POWERS/JMAP_SOLUTIONS_EXPONENTIAL_FUNCTION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GRAPHS_AND_STATISTICS/JMAP_SOLUTIONS_NORMAL_DISTRIBU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INEQUALITIES/JMAP_SOLUTIONS_ABSOLUTE_VALUE_INEQUALITIE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POWERS/JMAP_SOLUTIONS_EXPONENTIAL_FUNCTION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FUNCTIONS/JMAP_SOLUTIONS_INVERSE_OF_FUNCTONS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RATIONALS/JMAP_SOLUTIONS_INVERSE_VARIATION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POWERS/JMAP_SOLUTIONS_BINOMIAL_EXPANS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gust 20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144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81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523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320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Object 3"/>
          <p:cNvGraphicFramePr/>
          <p:nvPr/>
        </p:nvGraphicFramePr>
        <p:xfrm>
          <a:off x="0" y="0"/>
          <a:ext cx="914400" cy="17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" name="Picture 3" descr="C:\Users\HP_Administrator\Pictures\My Pictures\Thomas Jefferso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790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52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90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81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19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48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2514600" y="79200"/>
            <a:ext cx="4435560" cy="67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809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286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2743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981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334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237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200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824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3733560" cy="3740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981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2286000" y="2057400"/>
            <a:ext cx="445788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2" descr=""/>
          <p:cNvPicPr/>
          <p:nvPr/>
        </p:nvPicPr>
        <p:blipFill>
          <a:blip r:embed="rId1"/>
          <a:stretch/>
        </p:blipFill>
        <p:spPr>
          <a:xfrm>
            <a:off x="-1066680" y="0"/>
            <a:ext cx="8966160" cy="4973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5715000" y="762120"/>
            <a:ext cx="2946240" cy="2963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553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981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05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521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224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666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8:09:15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August 2002 Math A Regents Exam</cp:keywords>
  <dc:language>en-US</dc:language>
  <cp:lastModifiedBy>Steve</cp:lastModifiedBy>
  <dcterms:modified xsi:type="dcterms:W3CDTF">2007-07-16T02:57:38Z</dcterms:modified>
  <cp:revision>5</cp:revision>
  <dc:subject/>
  <dc:title>JMAP 0802ExamB Slideshow</dc:title>
</cp:coreProperties>
</file>