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E35-F3FD-4F33-946F-1430192AC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2CF-F34D-450E-8338-F531E3376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F8F-6A20-4D10-9CD6-CE1F23589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4385-C26B-4626-8F4D-2158E87AD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5777-F1C3-40C1-B758-3D299D325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74D9-5E44-416A-BD0C-04B646AAD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780A-E21B-44EA-8E28-263BCBF14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D033-87B1-4FF6-80AA-DA33F2EE7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1002-B931-4661-B101-121F36DCB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91E-812E-4102-9343-EA9D1010E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9E0D-713B-4559-BA12-4F726F61E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8B3-9BD7-4415-B666-4A7FF2AC8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6FA6-2E37-411A-9B59-4E5F45273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AD29-8E29-4FED-B8DF-4C6757C1C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D8E1-D391-4AF8-B72C-371B52F85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6C6-BE5B-4AB0-B1F5-DB860D9B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DF8-07DB-437E-9603-9D3E3D42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85D-8A87-4FCA-B378-3BCA404F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62F-F6F9-4FB0-8BA0-CB4C3A19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E9D-13F3-45D6-B6E0-5D6913AA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B0C-0C1B-4E1E-A227-A2B80D47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746-97FA-433E-AC57-9ABE79CC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B39-4864-43B2-94C2-EF2971A1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CE1-E32C-4B42-860C-8A5069E6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9A3-CF04-4E69-BA10-8424321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62E-C2A7-45B4-AD7F-1D3321D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CAD-B599-4BEA-ADF1-9631E37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6E9E-BF89-401A-BFA1-B5FB99AE1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RATIONAL_NUMB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NUMBERS_OPERATIONS_AND_PROPERTIES/JMAP_SOLUTIONS_RATIONAL_NUMB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13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8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67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4:00:4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25:46Z</dcterms:modified>
  <cp:revision>12</cp:revision>
  <dc:subject/>
  <dc:title> NUMBER OPERATIONS AND PROPERTIES:    Rational Numbers </dc:title>
</cp:coreProperties>
</file>