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jpeg" ContentType="image/jpeg"/>
  <Override PartName="/ppt/media/image18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BA5E-B109-40A5-8B4E-3D401B141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851B-6F94-4038-8C83-88B10D165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BE30-CE79-46B9-A4D9-79C0BC2AA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4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6C5B-6F08-469D-B066-917CFF0EC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61E5-7C62-4558-969D-EA9757D75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F4B2-1545-4C25-8997-8A668B294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2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AF75-B8CC-456F-87C3-C5BA3A641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2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C8BB-94FA-4584-B423-7766311EA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60DC-5F9C-4C55-97C3-B55B6E3D1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3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9AF9-D3F5-4B93-863E-636DA0C15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C730-5A91-40F5-84A7-15D9BB8DB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26DA-F6B1-442D-8425-B7BCB99BA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7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58E5-9D78-44A0-A4C7-605AD7292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EADA-20C9-442E-B847-4E525A95A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583D-9686-4648-A5EB-85216CEED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F61F-2D75-4BD4-B5F9-58CA963DF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3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1864-A9B1-4356-8B40-33765EA05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62E-E5CB-4584-927E-912B1655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471-78FB-4696-8B69-0B3ECA08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48A-DEA6-4DCD-A2A7-7A1BC365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588-2EB1-41D3-AB29-F0AE13EE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445-3ED1-4C11-8ECE-3944B4C7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81C-673F-4863-95A4-E89440F8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9B5-CA85-4695-A2A1-3E4218C9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101-B955-4DEC-8A9A-38D7E02F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DD5-3997-490D-BB6A-AEDBFD99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71B-6D08-4280-9E6E-D2636DED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D0C-84A5-493E-A239-A4375EC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FFD-5570-4E9F-9955-EB4ED941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2931-15C2-428B-B895-3C8FF4EF9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VENN_DIAGRA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hyperlink" Target="http://www.jmap.org/JMAP/JMAPSolutions/GRAPHS_AND_STATISTICS/JMAP_SOLUTIONS_VENN_DIAGRAMS.doc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GRAPHS_AND_STATISTICS/JMAP_SOLUTIONS_VENN_DIAGRAMS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GRAPHS_AND_STATISTICS/JMAP_SOLUTIONS_VENN_DIAGRAMS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GRAPHS_AND_STATISTICS/JMAP_SOLUTIONS_VENN_DIAGRAMS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nn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51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724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79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-2209680" y="1066680"/>
            <a:ext cx="9055080" cy="4326120"/>
          </a:xfrm>
          <a:prstGeom prst="rect">
            <a:avLst/>
          </a:prstGeom>
          <a:ln w="0">
            <a:noFill/>
          </a:ln>
        </p:spPr>
      </p:pic>
      <p:pic>
        <p:nvPicPr>
          <p:cNvPr id="52" name="Object 3" descr=""/>
          <p:cNvPicPr/>
          <p:nvPr/>
        </p:nvPicPr>
        <p:blipFill>
          <a:blip r:embed="rId2"/>
          <a:stretch/>
        </p:blipFill>
        <p:spPr>
          <a:xfrm>
            <a:off x="0" y="3733920"/>
            <a:ext cx="9121680" cy="233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4648320" y="0"/>
            <a:ext cx="3646440" cy="333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113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137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97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4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4:41:3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41:59Z</dcterms:modified>
  <cp:revision>14</cp:revision>
  <dc:subject/>
  <dc:title> GRAPHS AND STATISTICS:  Venn Diagrams </dc:title>
</cp:coreProperties>
</file>