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B1A3-A74C-46E0-B566-FADB08A58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BF22-4449-4D6C-8AC8-7F4538E2A9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0b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8BE0-0FB3-4C33-B212-E91E63C725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4a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12C5-75F9-45F7-8300-CCB07ADD54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8a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C935-A38F-43E1-81CF-E49BAE577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0a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91FD-4C16-43F2-B034-5EA83C21D3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5a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709E-25F6-41E0-9BCF-3103E6267C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5a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0995-206F-42AA-8512-DFCFCC468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5a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B135-A5AE-4ABD-9693-C580D2402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0a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E587-5885-42FB-92C7-9BAA56175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4a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9D42-4CDC-4B85-BFC7-4A5927E1A5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ED64-33EC-425D-983E-6701D673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659F-413B-4C71-B2AF-270A27C8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1185-D786-4883-98BD-37651A796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2C54-597A-42AD-A6A0-B9DA7132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6699-0F37-40B4-9DEA-1BF6C2D9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F2E7-6CF7-451B-8DF9-437624CA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C457-1137-4499-B4B1-9AAB8365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AC68-78E3-4095-A025-2E7BF865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BA16-5834-4306-99B4-38F98526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B50-8CE9-4929-BE91-6C01D23B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FFE3-E91E-4FA5-9D22-6CB4AD07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59B0-A249-4853-9097-C94B094A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E7C0-936F-4842-B4BE-E3B4DD551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ANGL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angle Inequa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0:00:12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7:25:01Z</dcterms:modified>
  <cp:revision>9</cp:revision>
  <dc:subject/>
  <dc:title> TRIANGLES:  Triangle Inequalities </dc:title>
</cp:coreProperties>
</file>