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8B3A-F55C-44B9-9402-2EE183B9D7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8E3C-B1FD-4E73-B30B-EFD24E26E2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03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2406-FE8E-4CF7-A8DC-1250B140D9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1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3506-F57B-42BD-992A-6D4CEA8679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29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5D65-E59C-4D12-94C9-0E5726F501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2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8001-AC01-4948-897C-9AF1625871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7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C690-3673-4EA4-84C7-3D555A4D1E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02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0732-2280-4C63-AA13-FFF15DB733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7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A8EC-30D4-4373-B322-C814333F45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4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5176-4E16-4172-8629-FDD495A0E7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0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9EDF-BA85-4AA8-B617-302812E871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4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D380-BF80-46F1-9A5D-650B214A04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0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83DE-B60D-4B44-BD16-9BA866494F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26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E48A-23BF-4BE4-A9DF-A5BB75C9AB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1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4F83-7E58-43D0-AD6D-4EA067C0B1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1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FD54-976A-4311-9D10-3C3C4BE38A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1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13A0-1039-4394-9360-23A146B800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6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37AD-074A-42C7-A721-9771328B28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6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26F3-7389-4C0D-AE1D-B6A732B087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28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3846-E4DD-446A-8C1E-F980EEB7C2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5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AD85-FAD9-4B11-85E1-692188A463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1EF9-5C49-471C-91F8-00F9D61C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27E9-96A7-415E-A588-EB01E8DD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4076-5628-4BD0-95DE-5F1A09CC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9F75-6C44-4688-BE49-1B00EA6FF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5F0F-AD2B-46E3-8FB9-E08DEF0A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FDE1-48C3-4788-8C34-2A711BFF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ECAC-1816-4C11-BDD6-187530F4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5FC7-2CAA-48EC-87A0-72D37422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0373-E67F-4F46-BE76-5783202B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A05C-2D48-4B4F-A1B2-124B2562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BE7E-A62F-4560-8BB5-D37B60D9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A166-307D-4BC9-8D1A-2D2298F7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F7D7-3C92-4DB9-83BC-CD77322332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OGIC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ogical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0" y="0"/>
          <a:ext cx="90900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11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23:18:05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10:07:09Z</dcterms:modified>
  <cp:revision>8</cp:revision>
  <dc:subject/>
  <dc:title> LOGIC:  Logical Reasoning </dc:title>
</cp:coreProperties>
</file>