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E1B6-EB93-478A-B3D1-95FB8964D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66B-1388-400E-BA8C-55DDDBDA7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2E57-6D4A-4B1E-A754-B5FD95FB4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E509-705B-4B7C-B839-214BEF783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1DD-740E-4E25-8E6C-0FD235B91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061-FBBD-435F-AD56-46C1A9C78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6110-4A57-4089-B140-E28105291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3E68-7AA6-4C85-8CD9-ED29685A3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EB58-1D88-453F-A537-72232B30A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5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AD38-FF56-4891-9A03-55B101161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B213-BF62-42CE-9F89-1769212F9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3766-71A4-4C96-8459-23D6A78B0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F985-88ED-48B2-A5C2-79AA25804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DBBA-03FD-4677-A44A-78792FADF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CCB-48E9-409D-A833-F523C6F32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5A7-0EAD-4C1F-AE4C-D280F6AD2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629-817D-444C-9ED2-1930B8487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439-2A38-4081-B2AC-0ED502273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4BE-43EF-42D5-A9AB-D100E2649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CE15-CAFA-4B60-9CB3-8A0064C8F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47DA-6067-46EF-9B85-D8544DBAF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3C6-CB0E-4880-910F-AEA9B160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275-844D-4515-9760-2E92586D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586-2691-4851-BB0D-5F3F2551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037-D04D-4ECB-9B74-38BFDB6D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4C4-CA27-4455-B167-1B009A50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899-CEDD-4FF2-A8D4-A9887269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5A4-D6A9-4931-B328-033C2E65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367-F625-4E01-86E4-9A2C5D6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A8C-6C6D-41F1-A3F6-2DFE06B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6E0-3132-4024-9EE9-9530760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35C-2D74-4977-A0CC-DA94715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19A-EA1C-4F75-999B-2B0F6E6A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209-C01E-4339-B078-2103194B1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OPERATIONS_WITH_POLYNOMI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OPERATIONS_WITH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28160" cy="41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21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0378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2816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1:57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15:33Z</dcterms:modified>
  <cp:revision>14</cp:revision>
  <dc:subject/>
  <dc:title> QUADRATICS:  Operations with Polynomials </dc:title>
</cp:coreProperties>
</file>