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F17-3978-4840-B0A6-42C0E8A3A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2C9-AF88-4954-96D8-339951517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46D-B255-4263-A09C-2E4440AB3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D282-57D0-49CC-A4F2-446E31878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7A5-F152-4A2D-931B-5A52A6524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5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11EB-2F75-4785-B036-ED0CE1CA2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913A-9A13-4803-8777-5CE9C146C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33D2-3C4A-40F0-9FEE-A317CFFB7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6965-E3BD-42E2-9048-6FF55DBE0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DE6C-0D4B-49FE-A234-5E27AE01A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B4FE-B136-41DE-9B9C-9F28297B2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F809-E8B4-48F1-9641-4D29F3422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51E6-C492-4A94-A402-A57909266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DCF0-6778-4398-8796-AD495B810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279-2D07-4A66-8165-C8A7BCA3B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97DC-D9BA-4AEC-9B70-86BFD15BB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0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D76-B1E8-47CD-82F6-52BC5F4BD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4A97-99CF-4DB5-B63C-49C749DFD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76C-12AD-411B-8BD3-01578821A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259-1707-4F43-AB9F-7ECE8B6A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024-ABC0-432B-91E8-960B660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B38-FEA4-4725-885C-ABFA353C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0A8-4AB7-412C-9478-F30D2705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DA6-EC97-4333-B1E5-5452E25F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F1C-8819-4095-A4E6-DF4CD157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854-EA51-4656-AF74-CD12A5E2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6B7-2D7E-4712-BEAB-C0DC23A8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23A-3BF0-451E-8B83-43A66F70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613-CC04-40A2-8B10-CF14EC9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07C-446E-4804-9113-699FDAB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A58-F74B-44D9-B109-70AA26C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20B7-9E0F-4FD0-A98E-2FA388756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895480" y="3276720"/>
            <a:ext cx="3276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1368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2057400" y="4114800"/>
            <a:ext cx="48988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5:05:3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10:09:12Z</dcterms:modified>
  <cp:revision>11</cp:revision>
  <dc:subject/>
  <dc:title> LOGIC:  Locus </dc:title>
</cp:coreProperties>
</file>