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CAF8-8CBC-48E8-BF4D-AA7049E05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0854-808C-43E5-A9DA-D2531FBE9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20A0-34A9-4501-BB2B-AA711BB14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472-319D-43F0-91F5-C668D2E5A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68A4-8E1E-4C5C-B539-29A959B23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3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441C-E3E6-4627-9201-AA07CD2F4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D144-2A90-4BB5-B1E3-7400B40D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0AB-444A-4C40-8937-B2FFE2058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ABA9-4CBB-4BAD-AABF-94F02A0D0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9799-E1A2-46D5-B6A4-5B82DB9F3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9F8E-DDBE-405A-8AD4-F484AC94F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208-8D5D-4407-B623-8A2E65F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AA4-A90D-4D36-AB09-2955CD31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271-D39D-451D-86D6-06B1CEE7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415-53CD-4B9B-8D5D-8E208E0D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F80-A002-4E88-8E08-E104057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7EC-2E54-4BF8-AF1B-F40CEBA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CC5-3C55-4604-8137-28318B1B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8F7-4AC2-42C3-AAC3-D8D62F9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9FE-7CA7-41C8-83B0-8B92ED5F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446-663D-400E-BEDD-DF58808F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4E6-836D-4BB8-AA1A-C404D8DF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342-446F-475F-86AF-26F18242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091-8CAA-4ABD-A77F-7300CFE7E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THREE_VIEWS_OF_A_FUNC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FUNCTIONS/JMAP_SOLUTIONS_THREE_VIEWS_OF_A_FUNC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FUNCTIONS/JMAP_SOLUTIONS_THREE_VIEWS_OF_A_FUNC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Views of a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144000" cy="48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6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144000" cy="565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4572000"/>
          <a:ext cx="909000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90900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1828800" y="1143000"/>
            <a:ext cx="5410080" cy="3273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2:19:0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21:22Z</dcterms:modified>
  <cp:revision>9</cp:revision>
  <dc:subject/>
  <dc:title> FUNCTIONS:  Three Views of a Function </dc:title>
</cp:coreProperties>
</file>