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96CB-490C-4B79-B185-15D79979B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BC3B-86BD-4319-A294-06A730874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8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3F5D-9DF0-45CB-9849-D1ED97976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6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90D6-B689-490D-AECB-F5B030096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7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9628-9D4F-438A-AA06-C78F3F391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0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C769-86E0-45B7-A2DB-47CA2E9C8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1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3F0B-8C3E-4FD0-9206-41DEFC739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3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C651-B326-4749-AEBA-120EF9C8B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C5E4-5112-432A-AC3F-D13E882F1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6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A15D-9B46-4339-86AF-C64041F5B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3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64DA-F0C1-4F2D-A75F-9EF218428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3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4035-5D39-45AA-8CE8-4F0E07548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1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ABA6-874A-4F69-B9E6-A6DF758B0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0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6944-1D57-41A0-AF42-04FC93573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7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35A1-0031-4FFD-A736-1EAD76397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3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5D8F-F9BB-49AB-ACBE-E7C027F26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6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95A4-86DA-4AB3-AC36-3234FEFCB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3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BF76-6138-4EF1-9078-80D8056E2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9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AE55-6EDC-4219-9C15-D9AD3A4BC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4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2F5C-E294-4BD1-9018-6358FF87F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1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50D7-0818-4E40-B987-D11300BB6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EDEF-73D1-4205-98C6-C459F3A0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574-D7B8-42CC-B2BD-D7B272EF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6E4-0741-468A-868E-82BE2128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61C-8FAE-4E36-82B0-89F5736E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5D6-3BFF-45E7-BCDC-09EFD3F5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4BB0-9FF9-4CB1-9A88-B9DAFFCA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0E5-6314-408B-8FF1-6FE7668E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F963-F5DB-4265-9EF9-BBA69A7D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0C5C-7EFD-4D94-B605-E66CD461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791F-3C6F-4A11-BC45-FC37D803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8AAD-012C-4B41-A066-5270073F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B5D-C687-4C9F-9610-FEF8F24F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57EE-50EB-41DE-8F3D-7B72FB23B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QUADRATICS/JMAP_SOLUTIONS_USING_THE_DISCRIMINANT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QUADRATICS/JMAP_SOLUTIONS_USING_THE_DISCRIMINANT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DRA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ing the Discrimin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900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-15840" y="0"/>
          <a:ext cx="903744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840" y="0"/>
                    <a:ext cx="90374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378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885492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549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0378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0378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0" y="0"/>
          <a:ext cx="9037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0" y="0"/>
          <a:ext cx="903780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2"/>
          <p:cNvGraphicFramePr/>
          <p:nvPr/>
        </p:nvGraphicFramePr>
        <p:xfrm>
          <a:off x="0" y="0"/>
          <a:ext cx="90378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1281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0" y="0"/>
          <a:ext cx="9128160" cy="668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668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216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37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89456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51840" cy="33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5184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3:41:2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0:30:45Z</dcterms:modified>
  <cp:revision>11</cp:revision>
  <dc:subject/>
  <dc:title> QUADRATICS:  Using the Discriminant </dc:title>
</cp:coreProperties>
</file>