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358D-487E-4300-B189-E7A993BDB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AC6C-16AC-4069-92DC-7E1F90D35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5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6ACD-BE7D-4EF3-99CF-75A9E266B4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7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2271-DF24-41AD-B7AA-79BC395437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7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F10B-9453-4C48-A922-08B46AF11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6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B212-1156-4F86-8AE8-1949335589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1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BB4D-BC5B-4B9C-A6C0-BD185D4E4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7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0399-24F1-45AF-A0FD-A0A9964D9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7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C933-86DF-4D97-806D-1AC694373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2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2DB1-DE4C-4239-AAFD-E9110FCE72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8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DDBF-09A2-4D48-AFD4-F422E86D6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3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FD2A-1D06-4105-B909-46CDB05D40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9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9197-E8C4-4773-8031-4D7A4483F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0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DA60-47F8-4E4E-B755-1AC53447E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0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054D-FC4E-4619-8B64-999C11C03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3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80D4-1911-48A0-AC46-8C894C3304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4DD4-EC41-4BE9-BD4E-7B0193F9B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DAF3-5B53-4733-8423-EEAD6A2A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D7A5-4FFC-4FFF-9496-4E0366E4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2E92-AEFD-43FF-87F3-1E7DE317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88C-23AA-48E3-9998-4627FE65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D3E7-A5DA-45CF-BF1C-BEEDC782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D04A-9F75-40CB-84FE-76216040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F671-9C7C-4FFC-9DDE-1E3C2F24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B838-9CE5-4425-A326-200B7E00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1AE2-E48B-40DC-96F0-39D9E61F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D29D-B04C-4DD7-ABCB-1468D7FA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7BE2-11E0-4E59-B987-41B7A4A7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6D5F-4588-46B2-98C1-9FA45D841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INEQUALITIES/JMAP_SOLUTIONS_ABSOLUTE_VALUE_INEQUALITIE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INEQUALITIES/JMAP_SOLUTIONS_ABSOLUTE_VALUE_INEQUAL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INEQUALITIES/JMAP_SOLUTIONS_ABSOLUTE_VALUE_INEQUAL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INEQUALITIES/JMAP_SOLUTIONS_ABSOLUTE_VALUE_INEQUAL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INEQUALITIES/JMAP_SOLUTIONS_ABSOLUTE_VALUE_INEQUAL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INEQUALITIES/JMAP_SOLUTIONS_ABSOLUTE_VALUE_INEQUAL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INEQUALITIES/JMAP_SOLUTIONS_ABSOLUTE_VALUE_INEQUAL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INEQUALITIES/JMAP_SOLUTIONS_ABSOLUTE_VALUE_INEQUAL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INEQUALITIES/JMAP_SOLUTIONS_ABSOLUTE_VALUE_INEQUAL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INEQUALITIES/JMAP_SOLUTIONS_ABSOLUTE_VALUE_INEQUAL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INEQUALITIES/JMAP_SOLUTIONS_ABSOLUTE_VALUE_INEQUAL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INEQUALITIES/JMAP_SOLUTIONS_ABSOLUTE_VALUE_INEQUAL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EQUALITI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bsolute Value Inequa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0" y="0"/>
          <a:ext cx="898056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8056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0" y="0"/>
          <a:ext cx="90788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788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0" y="0"/>
          <a:ext cx="911376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62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0"/>
          <a:ext cx="902160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0216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2160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0" y="0"/>
          <a:ext cx="902160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893124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3124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0" y="0"/>
          <a:ext cx="9021600" cy="20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0216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09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0" y="0"/>
          <a:ext cx="9021600" cy="35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35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5:15:2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5T21:58:06Z</dcterms:modified>
  <cp:revision>10</cp:revision>
  <dc:subject/>
  <dc:title> INEQUALITIES:  Absolute Value Inequalities </dc:title>
</cp:coreProperties>
</file>