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52B9-A3F1-4416-8B38-83A794142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F558-54E9-49A8-9326-9FDABBB1C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7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59D1-FAEF-4AAC-B14C-B6BD49B6C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0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EA70-0F9B-4C59-B05B-C20214F9F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0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5768-64EC-4114-98D0-C281CE4E4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6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5E3C-00FD-451E-B229-6D36F3A0B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5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3E3C-4C6D-4187-9FDA-759116A8C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4986-71CD-495C-AB60-5A38ACE48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D04C-7F65-4509-A9CD-336DF3073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2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1234-D9C8-4678-BDCB-5BE9730F5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7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BF5E-01B3-4DD5-BBCC-D9B480426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5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B1CE-D1C8-4758-805F-5B9B68BEF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001E-9E5E-4047-9AD6-4ED1A31A5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3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9820-58D7-4468-B93D-F0EBA0095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8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43CC-4460-44E2-9B6C-6C5EAE326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E96-FB2B-4966-9C5A-E246E878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519-0703-469D-BFF0-5A3921A1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29B-3C0D-40E3-9026-668EF20E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B18-997C-441F-A500-9EFBE445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1B1-7CB4-4B0B-A1DD-AC3A77FA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A34-993C-4403-8979-9D629CD3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4C2-B5A6-4676-8734-70F57243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83D-2B25-4746-81DF-5EE2C739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29C-3769-4FAA-883B-5F10454D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A9D-0606-4B22-A3A1-E1078A43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B53-5C6C-49E8-85B8-18C8C4D3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FA9-AF11-4BD3-9668-1BA3928E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3768-F6E1-492C-A17B-84F188D00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FUNCTIONS/JMAP_SOLUTIONS_COMPOSITIONS_OF_FUNCT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FUNCTIONS/JMAP_SOLUTIONS_COMPOSITIONS_OF_FUNCT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ositions of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5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5621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2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82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4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9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1440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84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8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0:07:4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11:18:27Z</dcterms:modified>
  <cp:revision>14</cp:revision>
  <dc:subject/>
  <dc:title> FUNCTIONS:  Compositions of Functions</dc:title>
</cp:coreProperties>
</file>