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C20D-CEB0-456E-A7A8-10B480F43C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2367-E82C-4112-AB0F-1FD18A470F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8a  TRANSFORMATIONS: Ro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05E5-CED4-4E3F-9FC1-2814CD2F5D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1a  TRANSFORMATIONS: Ro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0BF5-5DAC-45D9-8D57-9741CEA37A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7b  TRANSFORMATIONS: Ro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E0D0-889B-4401-9B15-956CA06B2D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A8FD-F633-4B38-8C02-520C7359F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AD09-10E9-4311-A362-EF679BDB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3AB6-D5D3-4058-8507-058679072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32E9-1336-4CB9-9849-385091803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F16B-48F6-41FF-B0E6-7334BE2F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C97C-67E7-4D78-BAC3-561841CF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6580-3B27-4D34-B230-3614D8DA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1CDF-6C84-4B5B-9877-4B45D73B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8B89-C531-460B-9149-3D1D3C11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360C-3732-4802-8284-D1EFA7AB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CBC1-9495-4D22-9BCE-ED358846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0B2C-A2AC-4607-AB49-07CAF0EB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EF88-23B4-44D0-AC3F-8FB3CCF3CD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NSFORMATI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o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0" y="0"/>
          <a:ext cx="9013680" cy="66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4"/>
          <p:cNvGraphicFramePr/>
          <p:nvPr/>
        </p:nvGraphicFramePr>
        <p:xfrm>
          <a:off x="0" y="2590920"/>
          <a:ext cx="9013680" cy="94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590920"/>
                    <a:ext cx="901368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6" descr=""/>
          <p:cNvPicPr/>
          <p:nvPr/>
        </p:nvPicPr>
        <p:blipFill>
          <a:blip r:embed="rId5"/>
          <a:stretch/>
        </p:blipFill>
        <p:spPr>
          <a:xfrm>
            <a:off x="2362320" y="3657600"/>
            <a:ext cx="3876480" cy="2933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6"/>
          <a:stretch/>
        </p:blipFill>
        <p:spPr>
          <a:xfrm>
            <a:off x="4343400" y="838080"/>
            <a:ext cx="3715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2T11:43:21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9:50:29Z</dcterms:modified>
  <cp:revision>6</cp:revision>
  <dc:subject/>
  <dc:title> TRANSFORMATIONS:  Rotations</dc:title>
</cp:coreProperties>
</file>