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jpeg" ContentType="image/jpeg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4211C-AD3A-41E0-B822-ADE77CD75D1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on Thomas Jefferson’s portrait to hyperlink to solutions at the Jefferson Math Project websit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4AA73-1E65-426A-8DF5-9A42205FFDA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220a  INEQUALITIES: Linear Inequalities and Syste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36A78-3425-471E-863C-7E7A217A2EF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513a  INEQUALITIES: Linear Inequalities and Syste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3DD2E-1738-4CD3-BCED-3445D9249F5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629a  INEQUALITIES: Linear Inequalities and Syste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0AF81-CD89-42D0-BF8D-5B472CEA71C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615a  INEQUALITIES: Linear Inequalities and Syste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2CB3A-F3E2-4BAE-989E-0BCF7D55C51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528a  INEQUALITIES: Linear Inequalities and Syste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29059-B327-4103-B130-347CBC731A5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620a  INEQUALITIES: Linear Inequalities and Syste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6F082-28CC-4788-BE7D-779CEE7853E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738a  INEQUALITIES: Linear Inequalities and Syste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E5F7A-A380-4CB6-B3D6-88ABDAF99DB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0EC1F-0B69-4FA2-8233-AFA22F91F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93B58-6D13-47E9-961A-68E764D0B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4E89B-C930-48A3-B779-544A2DE1C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4191E-3D22-49E1-A686-2E38F6E17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9B82A-0B5E-46FB-9D83-F12CEE87B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89FE3-B389-4F5E-B86D-00094B86F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8469E-AB12-4256-B082-384EAFDA8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2CC10-9B6A-4AC3-869A-BA858B3BD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B0F68-F5C0-438C-AC5D-8ADDCB790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A15A2-BE9B-4476-903C-6649A3155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7B5E3-7F6D-496A-BF59-79FF7B515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3D0F2-3889-4C7B-B21C-C44316EED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D990D-8464-4617-9C39-1C62DE8C44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jmap.org/JMAP/JMAPSolutions/INEQUALITIES/JMAP_SOLUTIONS_LINEAR_INEQUALITIES_AND_SYSTEMS.doc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hyperlink" Target="http://www.jmap.org/JMAP/JMAPSolutions/INEQUALITIES/JMAP_SOLUTIONS_LINEAR_INEQUALITIES_AND_SYSTEMS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hyperlink" Target="http://www.jmap.org/JMAP/JMAPSolutions/INEQUALITIES/JMAP_SOLUTIONS_LINEAR_INEQUALITIES_AND_SYSTEMS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hyperlink" Target="http://www.jmap.org/JMAP/JMAPSolutions/INEQUALITIES/JMAP_SOLUTIONS_LINEAR_INEQUALITIES_AND_SYSTEMS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hyperlink" Target="http://www.jmap.org/JMAP/JMAPSolutions/INEQUALITIES/JMAP_SOLUTIONS_LINEAR_INEQUALITIES_AND_SYSTEMS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Users\HP_Administrator\Pictures\My Pictures\Thomas Jefferson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505320" y="1371600"/>
            <a:ext cx="2133360" cy="3048120"/>
          </a:xfrm>
          <a:prstGeom prst="rect">
            <a:avLst/>
          </a:prstGeom>
          <a:ln w="0">
            <a:noFill/>
          </a:ln>
        </p:spPr>
      </p:pic>
      <p:sp>
        <p:nvSpPr>
          <p:cNvPr id="49" name="TextBox 4"/>
          <p:cNvSpPr/>
          <p:nvPr/>
        </p:nvSpPr>
        <p:spPr>
          <a:xfrm>
            <a:off x="2666880" y="45720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Jefferson Math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jmap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6"/>
          <p:cNvSpPr/>
          <p:nvPr/>
        </p:nvSpPr>
        <p:spPr>
          <a:xfrm>
            <a:off x="0" y="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NEQUALITIES: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Linear Inequalities and Syste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Object 2"/>
          <p:cNvGraphicFramePr/>
          <p:nvPr/>
        </p:nvGraphicFramePr>
        <p:xfrm>
          <a:off x="0" y="0"/>
          <a:ext cx="9113760" cy="2073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13760" cy="207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3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381880" y="5769000"/>
            <a:ext cx="762120" cy="10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Object 2"/>
          <p:cNvGraphicFramePr/>
          <p:nvPr/>
        </p:nvGraphicFramePr>
        <p:xfrm>
          <a:off x="0" y="0"/>
          <a:ext cx="9113760" cy="204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13760" cy="204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6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381880" y="5769000"/>
            <a:ext cx="762120" cy="10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Object 2"/>
          <p:cNvGraphicFramePr/>
          <p:nvPr/>
        </p:nvGraphicFramePr>
        <p:xfrm>
          <a:off x="0" y="0"/>
          <a:ext cx="9113760" cy="441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13760" cy="441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9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381880" y="5769000"/>
            <a:ext cx="762120" cy="10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Object 2"/>
          <p:cNvGraphicFramePr/>
          <p:nvPr/>
        </p:nvGraphicFramePr>
        <p:xfrm>
          <a:off x="0" y="0"/>
          <a:ext cx="9021600" cy="623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21600" cy="623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2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381880" y="5769000"/>
            <a:ext cx="762120" cy="10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Object 2"/>
          <p:cNvGraphicFramePr/>
          <p:nvPr/>
        </p:nvGraphicFramePr>
        <p:xfrm>
          <a:off x="0" y="0"/>
          <a:ext cx="9113760" cy="6416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13760" cy="641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5" name="Picture 2" descr="C:\Users\HP_Administrator\Pictures\My Pictures\Thomas Jefferson.jpg"/>
          <p:cNvPicPr/>
          <p:nvPr/>
        </p:nvPicPr>
        <p:blipFill>
          <a:blip r:embed="rId3"/>
          <a:stretch/>
        </p:blipFill>
        <p:spPr>
          <a:xfrm>
            <a:off x="8381880" y="5769000"/>
            <a:ext cx="762120" cy="10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Object 2"/>
          <p:cNvGraphicFramePr/>
          <p:nvPr/>
        </p:nvGraphicFramePr>
        <p:xfrm>
          <a:off x="0" y="0"/>
          <a:ext cx="8991720" cy="4846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991720" cy="484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8" name="Picture 2" descr="C:\Users\HP_Administrator\Pictures\My Pictures\Thomas Jefferson.jpg"/>
          <p:cNvPicPr/>
          <p:nvPr/>
        </p:nvPicPr>
        <p:blipFill>
          <a:blip r:embed="rId3"/>
          <a:stretch/>
        </p:blipFill>
        <p:spPr>
          <a:xfrm>
            <a:off x="8381880" y="5769000"/>
            <a:ext cx="762120" cy="10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Object 3"/>
          <p:cNvGraphicFramePr/>
          <p:nvPr/>
        </p:nvGraphicFramePr>
        <p:xfrm>
          <a:off x="0" y="0"/>
          <a:ext cx="9113760" cy="275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13760" cy="275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1" name="Picture 4" descr=""/>
          <p:cNvPicPr/>
          <p:nvPr/>
        </p:nvPicPr>
        <p:blipFill>
          <a:blip r:embed="rId3"/>
          <a:stretch/>
        </p:blipFill>
        <p:spPr>
          <a:xfrm>
            <a:off x="2514600" y="2819520"/>
            <a:ext cx="3740040" cy="37875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3" descr="C:\Users\HP_Administrator\Pictures\My Pictures\Thomas Jefferson.jpg"/>
          <p:cNvPicPr/>
          <p:nvPr/>
        </p:nvPicPr>
        <p:blipFill>
          <a:blip r:embed="rId4"/>
          <a:stretch/>
        </p:blipFill>
        <p:spPr>
          <a:xfrm>
            <a:off x="8381880" y="5769000"/>
            <a:ext cx="762120" cy="10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24T15:55:56Z</dcterms:created>
  <dc:creator>Steve Watson</dc:creator>
  <dc:description>Copyright 2007 The Jefferson Math Project (JMAP) 
Permission is granted to teachers, researchers, students, and others to duplicate, distribute and modify for non-profit educational purposes.</dc:description>
  <dc:language>en-US</dc:language>
  <cp:lastModifiedBy>Steve</cp:lastModifiedBy>
  <dcterms:modified xsi:type="dcterms:W3CDTF">2007-10-25T21:50:18Z</dcterms:modified>
  <cp:revision>7</cp:revision>
  <dc:subject/>
  <dc:title> INEQUALITIES:  Linear Inequalities and Systems </dc:title>
</cp:coreProperties>
</file>