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3483-F51F-46C2-915F-37ED8CD09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DD29-1E8E-43DA-AEF0-FE014471D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1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86DB-5B54-447B-ACB7-90834D8E2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5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7696-C6F3-4277-A63E-2C5886A32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1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8744-B3A1-4244-BFCF-08FC13498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9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5FF8-753F-4A7C-9733-FDB330AAA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3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8B0E-09B0-41DF-A2C4-68820EE02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3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7741-3447-4804-8EE0-B0E4CA1A1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4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6D7D-E2FC-4453-994A-99A6DC2C1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1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FAB9-586D-45EB-A731-4C06CA958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8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1A78-B569-41C5-994E-2A5EB1394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4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4DC3-41AB-4033-8EA3-BBFE767A1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6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C831-8F0F-4C79-A317-4B7BF30A3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8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50F4-4BF5-452C-B198-2819CB2D4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3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61B5-797E-427D-99F4-52340BE77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5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20C6-DB01-4275-B336-ED316C35C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4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DE08-B1C9-4E58-9E59-F93038CCB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3B9F-1B93-437A-94F3-E3D31C6D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D14-8E7F-40D2-A79A-B11904F3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616A-9DB0-4368-8041-86BB0841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DD1-2C6F-4BB7-9D41-49FDCE67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9772-5DB9-4D26-BC35-381F5DE0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71C-B6BF-41F9-8605-1149AA42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77F-75B2-4417-A2CE-D2AA3327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F0D-005D-40AE-93BB-7B75C94D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E80-472F-486D-A0AC-58226136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39FE-4FCC-45C2-A571-04FE3132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83E-FB18-436E-9A08-F3304EEB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098-564D-46D4-A23E-7261FAF4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75F4-AD8A-4089-9927-4D8FE045F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QUADRATICS/JMAP_SOLUTIONS_FACTORING_POLYNOMI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QUADRATICS/JMAP_SOLUTIONS_FACTORING_POLYNOMI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DRA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ctoring Polynom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8854920" cy="36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5492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037800" cy="26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136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037800" cy="21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037800" cy="37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037800" cy="10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0" y="0"/>
          <a:ext cx="9037800" cy="10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8945640" cy="41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12816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30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37800" cy="10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04:5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5T22:36:00Z</dcterms:modified>
  <cp:revision>12</cp:revision>
  <dc:subject/>
  <dc:title> QUADRATICS:  Factoring Polynomials </dc:title>
</cp:coreProperties>
</file>