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39DC-2552-4F9E-B494-5363012EC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D808-56EF-4AA3-9981-3006FAD74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4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A14A-0A77-4B35-86BD-AA97F4BA9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2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0899-BCA1-4C2C-8937-0A77DB769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5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4AF1-4D61-4ECD-AEC2-DBC895DFB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4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160E-81D7-4CDC-B2DF-6823A5372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9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B152-1325-4D44-8D83-57460D4BE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5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08C8-914E-4398-BC7B-6827813C2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2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4BFD-4A95-4168-BB48-CA2DF5021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2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18DA-0075-4F5D-A438-D5EBB964E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9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1A2E-8CCC-4CAF-B64A-282517E03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0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5324-6BB0-4EB4-B39E-2F7E7E6A9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7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F25C-D79E-4D06-AF6F-5E0017D41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6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788E-7602-48FB-AB93-B203A9B0B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9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C464-F601-444F-BBAC-6DF8A4D0E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2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37F1-68A7-4752-AB94-1D0698ACF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1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548B-E7FD-4520-A9D0-2BF73430F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36B-C5BE-4856-9D01-6E477F76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052-784B-4AB4-AF53-4DAF10AD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9F3-18A8-4E3F-9023-1FDE7CA8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314-DB17-4C48-8685-4178BC1D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7C2-0035-4336-9391-78600D1B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A4B-20A9-4677-BEA3-25A6C240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26B-62CC-49FC-BEE1-9F6AE0A3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0EC-4D95-472E-8FCC-BC4F5F47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BA2-35D2-4868-9F0B-1716BF5A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68A-4487-45D0-BC2B-7C4F7C5F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8EC-4F30-406A-90A8-FDCC1B0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B19-F71C-4BE4-9B0C-EA62D325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1EEF-B462-42FF-8B89-0A255B11A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RATIONAL_EXPRESS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TIONALS/JMAP_SOLUTIONS_RATIONAL_EXPRES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12816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3"/>
          <p:cNvGraphicFramePr/>
          <p:nvPr/>
        </p:nvGraphicFramePr>
        <p:xfrm>
          <a:off x="0" y="0"/>
          <a:ext cx="90216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89456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41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128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0378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5184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518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7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28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2:25:2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41:05Z</dcterms:modified>
  <cp:revision>10</cp:revision>
  <dc:subject/>
  <dc:title> RATIONALS:  Rational Expressions </dc:title>
</cp:coreProperties>
</file>