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70AB-61B1-48F2-95CA-522E61A9E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56F5-2596-44AE-BEAA-1CA6134C8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0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C28B-C193-4472-94ED-5CC9B82C7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4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D01F-7E99-4256-A0B8-4FD6368A6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9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45B0-E615-40A1-AB32-AEBAF1D4E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1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DB88-80D9-4BF6-A81D-B4FE09CFA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6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E879-E84B-4368-B4D8-9104936F9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0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D2D0-7664-480D-B3C1-E5433E727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6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0A31-0905-4D79-A4E6-43588EB2A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9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A598-07FF-4AEC-8C5F-EE04EA9CE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9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1827-1CE0-4887-A9D9-74D59F9D0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2F5-D63C-4ABD-9CBB-B8D97F2A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4EC-72FF-456E-8A2B-98FF1072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E90-DFB9-47B7-9E06-24B14FF3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7E1-C592-4EB3-A839-0AF8ABD5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0EE-0A2C-4929-82BF-FF826660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451-0695-4B3A-985A-EF8982E8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A56-CE0B-47D4-84EB-65027E9B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20A-3007-4802-B4DA-C9952DBC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F7AE-8089-4101-B463-41C7A4BE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1B9-2D1F-438E-A749-451DE86E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3FC1-3385-49C7-96C9-CCC92C2D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6A2-A1C8-43C9-A8E7-2ADAF786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45FB-9B95-4BF1-B7DC-B716027EC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Using Trigonometry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ve Triangle Inequ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0:29:0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3:07:58Z</dcterms:modified>
  <cp:revision>11</cp:revision>
  <dc:subject/>
  <dc:title> TRIANGLES:  Using Trigonometry to Solve Triangle Inequalities </dc:title>
</cp:coreProperties>
</file>