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146A-4EA1-44EC-98E8-11888FD604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B220-A706-4A26-8958-6C21533E04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2b  QUADRATICS: Quadrat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555D-E9E5-4524-A60E-CF84135710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1b  QUADRATICS: Quadrat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B0B7-208C-4E95-BF2E-9394D59B21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8a  QUADRATICS: Quadrat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ECF0-567A-4F74-B3C0-3D79DDF10A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6a  QUADRATICS: Quadrat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28D4-6A80-4A0E-A2FE-AB1247E5B6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17a  QUADRATICS: Quadrat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0DA4-02E6-4837-B72B-EC6F6B6A66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4b  QUADRATICS: Quadrat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5E33-3888-42C1-948A-C2C0A17322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3b  QUADRATICS: Quadrat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E6C6-A0CB-469E-9016-6E5760F7AE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3b  QUADRATICS: Quadrat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FFC0-663A-4267-8F8B-6922964403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4b  QUADRATICS: Quadrat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94B2-D6FB-4E52-850B-F432ECBFEA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1b  QUADRATICS: Quadrat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1735-025B-4197-A5DA-F3681004FF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A441-D9DC-47FD-AE7F-8828840AA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9768-8AA5-435B-AF66-2962DD3A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0D32-C621-437B-98FC-ABAAB83E0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9803-BF8D-4902-B568-2E57BC6A1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A852-0A92-406B-A8DF-4F7447C2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4492-35F7-4890-8D9D-29B52333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D54B-BECB-4657-B587-C18ABBF5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BE28-D41B-43A0-8770-16C66222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1820-A237-4D6B-94EC-6AA2E1B9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5166-6A2C-4B10-98FE-BDD21DE4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889B-FC9B-4ADB-A554-756E80A7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D319-17B0-4B7C-AC75-DC690A6C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3A7D-9282-4D0E-AB4A-63D8D88CA2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QUADRATICS/JMAP_SOLUTIONS_QUADRATIC_FUNCTION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QUADRATICS/JMAP_SOLUTIONS_QUADRATIC_FUN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QUADRATICS/JMAP_SOLUTIONS_QUADRATIC_FUN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QUADRATICS/JMAP_SOLUTIONS_QUADRATIC_FUN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QUADRATICS/JMAP_SOLUTIONS_QUADRATIC_FUN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QUADRATICS/JMAP_SOLUTIONS_QUADRATIC_FUN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QUADRATICS/JMAP_SOLUTIONS_QUADRATIC_FUN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QUADRATICS/JMAP_SOLUTIONS_QUADRATIC_FUN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ADRATIC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adratic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0" y="0"/>
          <a:ext cx="8945640" cy="33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33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3"/>
          <p:cNvGraphicFramePr/>
          <p:nvPr/>
        </p:nvGraphicFramePr>
        <p:xfrm>
          <a:off x="2819520" y="3521160"/>
          <a:ext cx="3184560" cy="323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521160"/>
                    <a:ext cx="3184560" cy="32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" name="Picture 3" descr="C:\Users\HP_Administrator\Pictures\My Pictures\Thomas Jefferson.jpg"/>
          <p:cNvPicPr/>
          <p:nvPr/>
        </p:nvPicPr>
        <p:blipFill>
          <a:blip r:embed="rId5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0" y="0"/>
          <a:ext cx="8945640" cy="33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33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2743200" y="347508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C:\Users\HP_Administrator\Pictures\My Pictures\Thomas Jefferson.jpg"/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894564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37800" cy="603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37800" cy="49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3780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378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91440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89456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037800" cy="47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7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12:42:3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5T23:58:37Z</dcterms:modified>
  <cp:revision>12</cp:revision>
  <dc:subject/>
  <dc:title> QUADRATICS:  Quadratic Functions </dc:title>
</cp:coreProperties>
</file>