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78E-151F-4E7D-95C5-191EE828A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7E8-CA0B-4137-AE63-9C38DB8B8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1FF-A981-4589-AB10-296E6E4F0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94FB-30F9-4C3B-9757-902F0DDE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06D-80ED-4775-B53F-7CE72712C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E72F-FBF0-404C-A709-EA45643CB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21D-D2A2-4490-8D44-C0B4D7714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E9BE-A037-4949-B0E8-7D5BD8825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8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CE5-4565-4FF7-B443-AE7C5A29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B841-4600-42BB-93DE-0A38CB084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6CB-D6EA-4E84-A3A5-8F96A1D01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F9D-1D0C-4D38-B4E9-91F0C5F93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A36-8E00-4E05-8261-023ACCBE4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B0D-D86B-47DC-A32C-78DF57576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7A98-F1AF-45E9-8D90-CF9CF084E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5685-8EAF-4923-A612-31DD296FE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62E-A768-4A49-B018-637BF3E99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C7D-5DF1-463B-A8C7-13D4FD667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8A6-FBC5-4B89-BB1D-36229C4AF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9B2-1BE4-445C-AD5B-DCF6A70E2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6DF-45B0-43D7-AD4E-34F329A4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F43-41EC-4789-9D33-D1F16C1E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C80-D8EC-4395-8B7A-F4BDE632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B5D-1DAE-42CC-93E5-C760BABB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70B-03BC-45D5-82DB-87852BF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C3D-A5C6-46E2-8E6D-C9B497CA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D57-5E14-4ED5-B349-613ED04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A90-6AA3-4A72-841B-47669F80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30A-E5E3-4A54-A7DD-F7ED65C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5B3-0ED8-4F89-9527-2EEAC7D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F9D-FD8A-44F3-AB35-EC30F45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FF5-9A5A-4442-93DD-B26CF90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A30D-B8B0-465B-B64C-418A1CB20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11160"/>
            <a:ext cx="9090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60199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5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1:32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9:32:33Z</dcterms:modified>
  <cp:revision>14</cp:revision>
  <dc:subject/>
  <dc:title> SOLIDS AND SIMILARITY:  Volume</dc:title>
</cp:coreProperties>
</file>