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A526-D691-4E4C-ADAA-0977BAD13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738-AE03-4EC7-8D70-45F001DAA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391-8CC8-4F93-A4EB-D8D2A4114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9585-36FD-4D6C-9313-9914B98D2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D9BF-0B7C-46BE-A97C-157677AA7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b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1C7-219F-4871-8D41-F460B5F1D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B87-7656-445A-8533-79B84129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1BB-30F4-44C5-8DE0-24238E7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34E-1C04-471F-8976-D53ED97B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228-64A8-4790-A01A-E46F02C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39D-2DE9-46C6-A27B-202AD2FE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28C-73B4-40B6-9F7A-71BAD75F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C98-77ED-4DF7-A3CB-95862E6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9B0-0D32-42BD-990D-4E46C59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5BA-9A57-4B80-8865-9CCEA0E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B33-AE39-42BB-8F65-BEE9248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1AF-6A8C-41B7-83BD-835F4B1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DC8-E8D2-419C-8A0D-34FDE7C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3B1-7E7D-48EB-9402-67EEBCB97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MODELING_RELATIONSHIP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8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1:58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30:48Z</dcterms:modified>
  <cp:revision>10</cp:revision>
  <dc:subject/>
  <dc:title> FUNCTIONS:  Modeling Relationships </dc:title>
</cp:coreProperties>
</file>