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DC25-3B87-4D95-8ABE-B23C33908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5C8F-E18B-4215-9452-76246B757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4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010B-2DDE-4BF0-9334-297E4A63C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6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D9F3-4AB8-4A53-BC73-5C3EFF5A1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4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17C7-30F7-4B31-B154-C8DD41FD6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4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D9E9-30D6-4FEB-BF51-A48779554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6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E6B9-D4C8-48BD-9531-F2CB1CF64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0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7024-AD60-487C-B856-165940A2D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4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B7AE-E356-4AF8-99E5-5FCF0AA6A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5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CAFE-E311-4252-8113-204C04F93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8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3B75-2839-4884-92F9-9C5E99B31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6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85CD-AEC8-4F3B-9181-BACE76329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8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CBE3-E10B-4B6A-845B-7E19510FE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3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EE80-6105-424E-AF33-EEFAFEB04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3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CB9A-75D8-4BC2-8208-33F8F1430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0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7557-436C-40E9-A8B2-66FD71B7E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E2A-A1CB-48F4-93C5-FE6ABF52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FE8-5C57-498E-B7A7-B9303314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239-65E1-490B-91EA-176C7718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AB5-F787-438A-AAB4-9BCBBE09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072-794C-4814-B92B-CE2CBAFB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B17-82B3-458D-B307-3F5253B1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AD1-805B-4D98-9120-8AE5FC0B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F8B-80EC-4293-AD32-619CA77F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74D-6D60-4274-8A9A-525AFD93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DBF-564F-4E20-9076-42620F6F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02A-0566-429C-BC78-0A352567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F15E-CF9A-47E6-B08E-6661D078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25D2-AA55-4014-829F-34F50752E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tions of Cir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91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42840" y="42840"/>
          <a:ext cx="9090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42840"/>
                    <a:ext cx="9090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47520"/>
            <a:ext cx="91090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5:23:0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19:15Z</dcterms:modified>
  <cp:revision>13</cp:revision>
  <dc:subject/>
  <dc:title> CONICS:  Equations of Circles</dc:title>
</cp:coreProperties>
</file>