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48C3-21AC-47BF-8452-397529152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8FDF-327F-405B-872C-9C185E834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0AA-712A-4412-A359-C2CAA3570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8D9F-B1C4-41D8-999B-C1C6D8F33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D447-DE4B-4ACE-AD05-391632066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4BD-7AE1-480B-9CDC-41DDA63B3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FBC-0CCB-4A44-9779-9B9D5ECC0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5CC8-7A4B-4E4E-9DEA-774854F75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507-A469-403F-A5F9-197AC7211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9249-17A0-4B91-91AB-98BD4771A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9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B91E-6D32-4925-A702-549676654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B6B9-9A15-43FC-8E8F-BB3F73356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215-CE9C-494E-8E0F-9BD77BEB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D69-1E1F-4D74-8CA8-E8CD650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9EE-137F-4498-BC96-E43E1B48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238-A0C4-4C9E-B6D5-A63074D9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20E-E3A7-4E19-A7C8-46B2452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983-8E91-41B6-9A28-0EC9EB6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F59-A441-4A75-A1EF-694AE6C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319-07E0-43A5-A86D-4E36EF6E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AFA-DD36-416B-8031-AF77899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089-07FD-4840-B7CC-E66C8FB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A43-1C9C-4BD5-8FBF-EC210CA7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3EF-D627-4BC7-B373-11E2181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078-9D81-4874-81DD-191CCA45A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RADIAN_MEASUR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ANGLES/JMAP_SOLUTIONS_RADIAN_MEASUR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an Mea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1376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216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216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216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21600" cy="62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62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5:38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8:19:14Z</dcterms:modified>
  <cp:revision>13</cp:revision>
  <dc:subject/>
  <dc:title> ANGLES:  Radian Measure</dc:title>
</cp:coreProperties>
</file>