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43A1-39B2-4C20-8C87-53E9B8631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7856-F9A7-4A8A-91C4-C0C7B8DA0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8b  TRIANGLES: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0701-6A52-4DA8-BC44-4D829AF31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0b  TRIANGLES: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CD7F-17FD-4C8E-BAE5-36A693177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8b  TRIANGLES: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DD5A-8572-4B83-9919-BD32A590C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4b  TRIANGLES: Vec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35EE-A53D-4102-8116-B64F7FB65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4b  TRIANGLES: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3DD5-23D1-4F17-AE64-9C2D4F76D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746-46E0-40C6-B9AE-C9332BFE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21B-AA43-4FE7-A5B2-0CC67FFF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D19-1804-4638-B1F0-A10A0A78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A049-BFC6-43EC-87CB-8EFC1540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0F0-C1E9-4182-9D3F-1E821505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2C1-6767-4583-ADA0-7A72D2EC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D82A-99EB-41C4-846B-B208D177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2EB-1BC9-46D4-B580-F90535D4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A09-F811-4E4C-A729-177C2CD6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F8F-10C8-408E-9CD8-0127F419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607-1B8E-4A58-9A61-C5362326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632-3EF0-491C-A047-D6EE3EA9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E397-4C02-4A35-ADC2-0F519DEB6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0:49:5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3:09:10Z</dcterms:modified>
  <cp:revision>10</cp:revision>
  <dc:subject/>
  <dc:title> TRIANGLES:  Vectors </dc:title>
</cp:coreProperties>
</file>