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7EB5-41BC-4AA6-B228-511BCB637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5B4-EB24-4507-98A7-EE04C9A29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5F4-3C53-4CB1-B26A-9C81F3765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EF6A-EE0E-4A06-ACC1-60B782CBC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2772-ABB8-4450-9714-E29776839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0624-E2F9-4C7B-ADC6-341B76713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DE9-5B9B-47F3-9870-00CB3A5C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B81-85EB-4FAF-A786-E693945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DA-7CA8-4225-871F-0DBFB64E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396-D2CD-4B33-BDB3-2E94D7B9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02E-6820-4228-9AFB-56FB2ABB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E1B-5CE7-44B7-A739-572472F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513-B8D2-4FEE-AA73-7230C7F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B9B-39C9-447F-AE21-8C1AFFC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ABC-7352-48D9-9A62-43EAA17F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1CF-7C21-47C3-969C-CEB8CE4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6C7-FACC-402B-8239-CC08BFF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3F9-C574-4E9D-B440-94ECAE8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D38-3EBA-452C-9DFA-948730B6B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PROPERTIES_OF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PROPERTIES_OF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-2206800" y="0"/>
          <a:ext cx="906480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06800" y="0"/>
                    <a:ext cx="90648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192480" cy="377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12816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33:1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9:55Z</dcterms:modified>
  <cp:revision>11</cp:revision>
  <dc:subject/>
  <dc:title> RADICALS:  Properties of Radicals </dc:title>
</cp:coreProperties>
</file>