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EDF0-4793-42B2-BF04-98CA51BB0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3B15-6064-43FB-AC8B-F3CB0FAE7F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07a  SYSTEMS: Solving 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773C-25D8-4448-AFD8-FF367ED6D4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9a  SYSTEMS: Solving 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E99D-8FEC-4B28-B684-E499D8B495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6a  SYSTEMS: Solving 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AB92-F57F-43E5-A95B-7ECBEA1D90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13a  SYSTEMS: Solving 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D364-F0DE-4B13-A869-A2DFCEA847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6a  SYSTEMS: Solving 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9A42-0EBD-4855-9796-1CD8595911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9a  SYSTEMS: Solving 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8061-A4CB-4BC5-B941-65DD4A6C18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7B43-E1FF-408F-B648-C30F0419A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F75F-89E7-4900-B651-3E83941A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7FD1-6C59-4D05-B2C0-2CDA1004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306A-D867-4F7D-8FBD-79580BAF0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CCC6-24FF-4EED-9C0C-A0EE9E0D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93B9-D61B-497C-B7B2-DDF004F2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3892-FF89-4DEC-85A8-D89CC780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4EA5-0401-401C-A192-6CB3FAA2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1B4D-B9DC-4B5A-8DFC-9019E410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6702-0191-4092-809A-73E4553C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65F3-D9E2-4A81-B757-699819E9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BCCB-8F9C-4702-A083-F5EAFB48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9FB6-69FE-4E98-9DE4-938E3472C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SYSTEMS/JMAP_SOLUTIONS_SOLVING_LINEAR_SYSTEM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SYSTEMS/JMAP_SOLUTIONS_SOLV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SYSTEMS/JMAP_SOLUTIONS_SOLV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SYSTEMS/JMAP_SOLUTIONS_SOLV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YSTEM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lving Linear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19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95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95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362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0"/>
          <a:ext cx="9090000" cy="27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495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13:10:03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2T05:58:28Z</dcterms:modified>
  <cp:revision>10</cp:revision>
  <dc:subject/>
  <dc:title> SYSTEMS:  Solving Linear Systems </dc:title>
</cp:coreProperties>
</file>