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png" ContentType="image/png"/>
  <Override PartName="/ppt/media/image24.wmf" ContentType="image/x-wmf"/>
  <Override PartName="/ppt/media/image23.wmf" ContentType="image/x-wmf"/>
  <Override PartName="/ppt/media/image5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13.png" ContentType="image/png"/>
  <Override PartName="/ppt/media/image8.wmf" ContentType="image/x-wmf"/>
  <Override PartName="/ppt/media/image33.wmf" ContentType="image/x-wmf"/>
  <Override PartName="/ppt/media/image9.wmf" ContentType="image/x-wmf"/>
  <Override PartName="/ppt/media/image28.wmf" ContentType="image/x-wmf"/>
  <Override PartName="/ppt/media/image30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13FD-6C74-4221-A18C-836A80D89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4E94-91ED-4120-8F72-07B3D6355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F23-21EE-4050-B65E-6F056101C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01F3-C183-44F8-93A8-75D61BA03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1b  GRAPHS AND STATISTICS: Regr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B337-FE07-4F6F-90FB-8E620E43D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5a  GRAPHS AND STATISTICS: Regr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39D9-381E-475F-95F1-DA80FAAC0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9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A62B-5B31-4954-B6E0-50A7C979E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2FE1-7A2F-4D60-965A-3CF9D1270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2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FC6B-57BA-4512-BE94-25A0966AF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C5C9-DA98-4450-99F1-BAB45FF0B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1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D0F1-AA3D-4628-9BC9-9A8A8214C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9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94D4-C9A0-4315-913A-D4234FF01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2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8FD1-24CC-4087-803F-1DD68FEDC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0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FF6E-74DE-408F-BFE6-D09C73992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F3C8-F003-435D-A8AE-E627E33F0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0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F560-A4C4-424C-B00C-F60AC78C8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8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1647-3462-4751-B360-AB9926EC2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0EEF-85A7-4892-9CFC-DB1F8189C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C775-153C-4557-82A8-2FD005A41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8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6C38-A06D-4593-8369-9DE515B30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1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5C4F-1185-4644-B019-7BCD44DDF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933-9A4C-4B7A-A095-7C746609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93E-E4F3-4E35-BEB2-03B3D339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656-3188-4233-9673-D10E6573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5F1-0D76-483C-B7E6-8AFBAF3A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3D5-C6A4-4F8B-99D3-63786836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A55-CECB-44F5-A7CA-04E8B370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80B-800C-4D62-AA30-8B804F14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CD6-28EF-4AE1-A6C0-81951D3C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EDF-4B73-44C7-850B-CE967D9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BFB-84A1-4EFF-B7A3-CE786D32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058-05EC-46A8-880A-A63213C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4A8-0532-4A63-A9D6-98C11D15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167B-BC69-41DB-B56A-CD47BF027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REGRESS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hyperlink" Target="http://www.jmap.org/JMAP/JMAPSolutions/GRAPHS_AND_STATISTICS/JMAP_SOLUTIONS_REGRESSION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hyperlink" Target="http://www.jmap.org/JMAP/JMAPSolutions/GRAPHS_AND_STATISTICS/JMAP_SOLUTIONS_REGRESSION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hyperlink" Target="http://www.jmap.org/JMAP/JMAPSolutions/GRAPHS_AND_STATISTICS/JMAP_SOLUTIONS_REGRESS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hyperlink" Target="http://www.jmap.org/JMAP/JMAPSolutions/GRAPHS_AND_STATISTICS/JMAP_SOLUTIONS_REGRESS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hyperlink" Target="http://www.jmap.org/JMAP/JMAPSolutions/GRAPHS_AND_STATISTICS/JMAP_SOLUTIONS_REGRESS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GRAPHS_AND_STATISTICS/JMAP_SOLUTIONS_REGRESS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hyperlink" Target="http://www.jmap.org/JMAP/JMAPSolutions/GRAPHS_AND_STATISTICS/JMAP_SOLUTIONS_REGRESS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1959120"/>
          </a:xfrm>
          <a:prstGeom prst="rect">
            <a:avLst/>
          </a:prstGeom>
          <a:ln w="0">
            <a:noFill/>
          </a:ln>
        </p:spPr>
      </p:pic>
      <p:pic>
        <p:nvPicPr>
          <p:cNvPr id="73" name="Object 4" descr=""/>
          <p:cNvPicPr/>
          <p:nvPr/>
        </p:nvPicPr>
        <p:blipFill>
          <a:blip r:embed="rId2"/>
          <a:stretch/>
        </p:blipFill>
        <p:spPr>
          <a:xfrm>
            <a:off x="0" y="1828800"/>
            <a:ext cx="907884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Object 6" descr=""/>
          <p:cNvPicPr/>
          <p:nvPr/>
        </p:nvPicPr>
        <p:blipFill>
          <a:blip r:embed="rId4"/>
          <a:stretch/>
        </p:blipFill>
        <p:spPr>
          <a:xfrm>
            <a:off x="0" y="541008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07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6672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4"/>
          <p:cNvGraphicFramePr/>
          <p:nvPr/>
        </p:nvGraphicFramePr>
        <p:xfrm>
          <a:off x="0" y="4800600"/>
          <a:ext cx="90900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800600"/>
                    <a:ext cx="9090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5" descr=""/>
          <p:cNvPicPr/>
          <p:nvPr/>
        </p:nvPicPr>
        <p:blipFill>
          <a:blip r:embed="rId5"/>
          <a:stretch/>
        </p:blipFill>
        <p:spPr>
          <a:xfrm>
            <a:off x="2590920" y="838080"/>
            <a:ext cx="3581280" cy="3919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81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1523880" y="0"/>
            <a:ext cx="9144000" cy="6010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3489480" cy="3497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-1066680" y="0"/>
            <a:ext cx="8966160" cy="4973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2946240" cy="296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6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344628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4800600" y="3276720"/>
            <a:ext cx="3398760" cy="339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7205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26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93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3505320" y="4464000"/>
            <a:ext cx="1904760" cy="239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70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9400" cy="6118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286848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Object 3" descr=""/>
          <p:cNvPicPr/>
          <p:nvPr/>
        </p:nvPicPr>
        <p:blipFill>
          <a:blip r:embed="rId2"/>
          <a:stretch/>
        </p:blipFill>
        <p:spPr>
          <a:xfrm>
            <a:off x="-1751040" y="0"/>
            <a:ext cx="8966160" cy="603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5652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652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029200" y="380880"/>
            <a:ext cx="351144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5:09:3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3:24:46Z</dcterms:modified>
  <cp:revision>19</cp:revision>
  <dc:subject/>
  <dc:title> GRAPHS AND STATISTICS:  Regression</dc:title>
</cp:coreProperties>
</file>