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ADC-20B1-4437-AB1D-4DB295B94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1C3-6CCD-4D3B-A79F-B7B0BB9B0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C8E-3BE2-4F6B-9D8D-92D43BBD2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5CEA-E4CC-4DF6-AA7B-7E803C93B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518-DB47-4488-90C4-76729910E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2928-8639-4C28-A064-E72958349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322D-30B4-4E99-9A92-DBF56A47B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7592-3272-4580-9CC6-0C4CC113A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0B38-8101-4881-A82C-7E70D8991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9A26-6595-4671-AD2D-3896D01E9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403D-1A1C-4D24-AC95-FD9E95771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D2EA-788B-40BF-B445-1DEFCEAB8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739-4676-4807-888E-A0B1E1104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FC2-3FF1-49A2-819D-04BC8EB90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778A-F616-44BC-88AB-2517B93A0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A37D-E1BA-425F-82C5-498024523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8692-F643-4882-A174-FEDCBEB30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F329-C906-4039-BC01-851A88299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3B56-AFAC-4E54-8132-FC2ACE752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DF6-728C-46F4-A9F3-AF6F5125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29B-EA66-4B44-A21C-D8F21BC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7BC-5826-42BB-984F-8BD99B03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E93-00C3-49C7-983C-5541B6C7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665-07C7-4F30-B660-BA6E92E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357-BA26-4E78-83F1-AB849CD3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59B-77BA-4420-B2A6-D3525FF6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643-25F1-4873-BF96-DBF03C5F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B86-0682-43F9-B7E7-9008A61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D2D-0415-4C58-9108-127666C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E64-47D0-417B-AFFC-DB9DBDB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1A3-404E-40B5-99A5-1D45174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8FC7-757C-4EBC-B45E-296D0884F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PERMUT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PERMUT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ut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128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894564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8945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090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894564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37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216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2840" y="42840"/>
          <a:ext cx="909000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0:2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14:54Z</dcterms:modified>
  <cp:revision>10</cp:revision>
  <dc:subject/>
  <dc:title> PROBABILITY:  Permutations </dc:title>
</cp:coreProperties>
</file>