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6A1B-91CD-41B6-A038-1FA9B754D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F910-4382-41A6-B75F-3AE3BE68E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8a  LINEAR EQUATIONS: Slope Intercept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4782-90FE-4121-8EAB-CC3B270A6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3a  LINEAR EQUATIONS: Slope Intercept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8645-C8FA-440E-AE75-87EBDF68AE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5a  LINEAR EQUATIONS: Slope Intercept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0CFA-C8DB-4BDD-8B90-436047227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1a  LINEAR EQUATIONS: Slope Intercept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3460-8B2A-4C85-9A4B-8BBAD00700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432-7E4A-4418-887A-561EBBCB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6C53-FF64-4419-B31E-AB1088FE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15D1-748B-44D6-8756-2C841D0C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AF05-32D4-4897-BDF6-8D587F01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530B-B3DA-402D-8249-4E21799A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0024-651E-4A33-A30D-0C6BA57F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CE63-4AE8-4667-87EC-C79910DE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646C-D7F1-48C3-B37E-96618DEC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8ADC-2A55-4FC4-B265-2D8DB3F2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681-FAF6-4C38-A82B-E415EDFE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E95-4F39-424F-A2F3-DB666DEC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C7D-82ED-46BB-8385-01073194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D1CA-E84B-4C44-8A41-A01FAE2E7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LINEAR_EQUATIONS/JMAP_SOLUTIONS_SLOPE_INTERCEPT_FORM_OF_A_LINE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LINEAR_EQUATIONS/JMAP_SOLUTIONS_SLOPE_INTERCEPT_FORM_OF_A_LIN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LINEAR_EQUATIONS/JMAP_SOLUTIONS_SLOPE_INTERCEPT_FORM_OF_A_LIN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EAR EQU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lope Intercept Form of a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90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8:47:4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0:59:07Z</dcterms:modified>
  <cp:revision>5</cp:revision>
  <dc:subject/>
  <dc:title> LINEAR EQUATIONS:  Slope Intercept Form of a Line </dc:title>
</cp:coreProperties>
</file>