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E2F-3B34-48B4-B7BD-2F0ABBE23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9AC7-CAD8-46B7-A4DF-CED6531FA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64C-44B6-44A6-8B1E-6E4863E34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a 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C5D-DC54-4EC9-A1F5-E2A74FD34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D3A-48A7-46AD-A871-7105C318D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53BD-AFDE-422F-B829-DB3BA5FEE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03EC-3493-4E78-8AA9-79D1812DA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8A65-533A-439E-BF84-0B1FFDAF0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9D0-44D0-4267-95C2-D1CAAE94D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2C1-3816-415F-84B1-B929D9997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6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7D75-0CED-46B7-B69C-8881E86A2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4622-F20E-4810-AE4A-A961AD55A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9113-D04B-4AA6-AA89-44F624BF0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545E-6B70-4A34-ACEE-CF3331CF1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4745-5F71-4A67-8C5F-A1E681D20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423-7928-41FE-872D-830DCC180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EA44-5C13-4163-BD75-B5B2D8450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9C7-A877-4531-AD4F-3383DBD9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C81-70C6-4B29-942F-FACEE99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296-4273-4910-ABB0-078A8297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290-44F0-4D32-BFAA-25BE108A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AA8-12AF-4DA3-8202-C3E543C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328-20FF-4F10-8738-BBCC9030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B82-CA23-42B8-A090-5302490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607-AF99-404A-BABA-414C6C4F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083-FE9F-4B6B-A23C-8E47A72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63C-0B87-431E-91BD-7E273DCD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57E-7F2F-4F75-A7DA-4E2FC91F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A5E-6CD4-4D1F-B0D1-ED0CD48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9DBF-D5BD-46C4-B9E9-0A48E76E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TRANSFORMING_FORMULA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TRANSFORMING_FORMULA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EQUATIONS/JMAP_SOLUTIONS_TRANSFORMING_FORMULA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ing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6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951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8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1368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514600" cy="265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1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4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1:54:4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58:06Z</dcterms:modified>
  <cp:revision>16</cp:revision>
  <dc:subject/>
  <dc:title> EQUATIONS:  Transforming Formulas </dc:title>
</cp:coreProperties>
</file>