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E4D8-E253-460B-8806-E3DFA4B49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BDBE-A285-49E8-BD10-00DDE602C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8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028B-CF22-4E2A-8282-76B1E6939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9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9544-AC67-4C3D-B1C8-21DF59ABC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5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9760-602E-4BDD-AFE1-75A2CB5F6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9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B3E5-A347-4E7D-B47F-198B28A77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8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2073-85F2-4B7F-B1C6-6A925170A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1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BBA7-BB95-4431-AEC8-A7793248A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234-E59F-453F-98AA-E38D447E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C16-FEA2-42FA-B10F-F62631B5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BE3-BA5C-4A33-AFAC-7B4A7CC0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4AB-F83D-4942-AF6A-6F9836A4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50C-1758-4B66-9F59-53BA773A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877-698F-4DEF-9818-C0843727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0CA-24AC-45ED-8AF0-99E0CE4B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19C-CFE0-4C7F-AB1D-BB0E3F46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524-BC62-4169-8D80-A99CF42B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349-80C2-4913-83EC-1F8E8BDE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F8C-25B8-426B-A18A-C609E882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698-E58D-485F-AD11-BA75C150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F509-1465-4FBD-B7F0-DB995B49A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LINEAR_EQUATIONS/JMAP_SOLUTIONS_STANDARD_FORM_OF_A_LIN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 Form of a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02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8:55:3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8:19:56Z</dcterms:modified>
  <cp:revision>6</cp:revision>
  <dc:subject/>
  <dc:title> LINEAR EQUATIONS:  Standard Form of a Line </dc:title>
</cp:coreProperties>
</file>