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C9DB-1623-46CA-BF0D-1808E3DAB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26F-6FAC-41B1-AE83-711298633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2AF-B02D-4420-B5E0-777DF1D75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3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819-4379-4918-9E44-BDE5D19C5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A887-961E-405F-91F3-78B7EA8F1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475-276E-445C-B2A8-31C0BB415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b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CAED-C3BD-466C-8594-4CDB73758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46E-460B-43E6-8B38-1C9C6AB73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976-370C-4ED5-B406-C95A55549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0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024-43D5-4DD9-96B8-819C1CC0F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F1E-C4BF-4F83-8726-2293DEED8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4A6-683C-469D-AE18-0DD0149A8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17A0-6D86-4AFA-8086-946D4DF03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9B7-291F-49C4-8FC0-AA0C116F9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36C-C32D-41DA-980D-4B70909C2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2B6-8E2E-4D1A-B709-A938A16F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05F-1657-4666-858D-3D2DB88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597-F9FC-4076-8582-3C892295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326-0AB1-43F9-A9C4-59FC0F9D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364-3C7B-43B5-8664-7E13FCE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2B1-A1C1-41FC-A3FC-125E37B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058-3FD5-4F6D-842D-A1307389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C00-934C-4DDD-A67C-FD1C098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185-84D6-44E0-86B3-B934A68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99E-ABF3-4590-9C4A-FCC8EA7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A41-2E1B-4BD1-9735-3FE1790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C02-F659-4F9B-B15E-08ED94D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F2F6-E85B-4456-9509-D770571F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OPERATIONS_WITH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OPERATIONS_WITH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136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835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4:48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52:50Z</dcterms:modified>
  <cp:revision>21</cp:revision>
  <dc:subject/>
  <dc:title> RADICALS:  Operations with Radicals </dc:title>
</cp:coreProperties>
</file>