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D470-0183-43A3-9051-A959FEB9E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6C9-EF3D-441A-A6E5-99A1242C1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982-BC49-48BC-BDC7-E9A11271E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6B7-E70A-43F0-9DAA-7A0B3E89F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633-1DEA-4179-B027-4C9AEB14F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ABB5-B948-40D3-B0BE-AA6AB5359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8BE-7616-4E29-8E24-DD80C9044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D82-B847-49B0-85FE-C17977F8C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844-84BE-4A5B-9F72-1C8D59009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709-ED68-4B9A-806A-566F36F02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B9F-B4D3-425D-98EE-F10CA649D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9B2-AEA6-46C6-9918-7C7F08294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DCDA-6F49-431A-B107-1FBEEE96F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E92-EA0D-43B0-A879-AF29BE5EE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4DCB-7C77-479A-8A1D-A0174CB68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D2B-E197-4DEA-AE56-00491DD99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DC1-B702-4A64-B680-EA2080CC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F2A-88B3-4ADA-9862-4F3FC118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8FB-2098-441B-B2C4-16403E4A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E1F-A3A7-497D-8B93-6D5FEE61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C53-FA11-41A0-A92B-B8FB9C37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2AA-C437-466A-B1E0-D6CA2FA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A7E-E01A-46E1-9199-35FE88F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B25-6DD5-4F84-BFA5-DD76334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764-2792-4E54-A37F-8C676403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19B-9F8C-41D0-A553-C07F03DD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8ED-AF5C-4A7F-9ACB-9085F0B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240-80C0-42FD-8D01-75125FC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825-EBFA-48C9-BBFE-E241CC74B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COMPLEX_FRA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COMPLEX_FRA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lex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9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281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037800" cy="33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037800" cy="66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0" y="0"/>
          <a:ext cx="899172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19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0:43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53:14Z</dcterms:modified>
  <cp:revision>10</cp:revision>
  <dc:subject/>
  <dc:title> RATIONALS:  Complex Fractions </dc:title>
</cp:coreProperties>
</file>