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BA77-BA37-4B6E-9F55-83A20871E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2F43-C517-40E7-9ADD-E7522DB8E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1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ACEC-F828-4574-8A0D-5BF3E97E0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1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A23F-18DC-4585-863E-728C134D9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2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555B-5980-435E-8296-F1FEBA60D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3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D898-4999-4BC5-98A2-E6356D8E9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7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63F6-F37D-4884-8F7C-F429714B7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5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79F5-9CA9-455C-B11A-746A68B4E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3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E011-FAE0-49B9-927F-2FE130099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5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86BE-8B95-40FE-A380-9BA4C287D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4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0DBC-D6F9-45C4-8F64-9EF5280A8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0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A14A-BEFD-47ED-B0F9-C28223056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6A0-FBE2-4C18-9578-16A230BD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CAA1-0C6E-4B3A-B5BD-F147E2DA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36B-76FC-4B3C-AB36-51092432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54A2-9B11-488C-BAF8-1ACA870E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AD1-BD54-4E1D-AAE1-B72946D5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221-5F9E-4132-9121-C2BDA05D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5CE-AD38-40B3-8C90-2A6D936F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3320-6A06-4803-98A7-4A25398D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873-5682-4B2A-BEF0-76A0B8F1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A05-386F-491F-93E4-6234E58E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963-5608-423B-8D25-2BEA56EA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0F4-7D63-45B9-8DEF-DE903207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6729-6841-4AEB-A52D-C063780F1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E/JMAP_SOLUTIONS_RATIO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E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1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0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9:23:3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4T03:35:24Z</dcterms:modified>
  <cp:revision>11</cp:revision>
  <dc:subject/>
  <dc:title> RATE:  Ratios </dc:title>
</cp:coreProperties>
</file>