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E982-CD12-44EC-A723-4039CA580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1E8C-A80C-4565-A122-F1C17B7B3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4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E1B0-31A8-40AE-B51C-8671630F2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7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559D-3331-4180-8356-6DA5C70AE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8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21E8-5289-41F4-9902-6DCCBBA9B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5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F8EB-EE89-419B-9A89-BB3D7B91B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4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4440-D933-4AC2-8E81-1C2EE1282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1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8F44-E013-4691-B634-92E3E45FD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DE47-004B-489C-8379-65D78F67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2CC-10CD-4008-9DD4-D2B0A574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393-5701-4043-871D-826821F3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458-E7CA-4161-83CE-0C22F6AE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A16-C6F1-4416-AE51-52BAE41D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94B-332A-4611-A0A6-B732E3C4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E9E-9BA0-4CFC-AAF1-D9CB7D1A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6BA-3717-47B6-9810-8FC2A9C9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5C1-BF61-4DA4-A10E-DE567501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CEB-22EE-418D-8B49-849F4FC8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CBD-4B84-450B-B96A-CEA55336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C9F-BB5B-4BA8-ABBA-AAF5C06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1406-964D-4476-A737-DF783C677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LINEAR_EQUATIONS/JMAP_SOLUTIONS_MIDPOINT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d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9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514600" y="1828800"/>
            <a:ext cx="4038480" cy="404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410508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7:46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11:41:22Z</dcterms:modified>
  <cp:revision>6</cp:revision>
  <dc:subject/>
  <dc:title> LINEAR EQUATIONS:  Midpoint </dc:title>
</cp:coreProperties>
</file>