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B1B0-F9EA-4354-B6AC-0819038E8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E456-58A7-403A-933A-1E4822537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5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C9DD-8147-47F8-876C-D7F81024D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5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260A-5BD0-46A1-98A8-54B248730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8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A6DA-3427-47A8-842E-3087686DE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9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8214-072C-477E-BF47-08A631708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279F-330E-41AB-A76E-D0B23DCFC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0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F4EB-1367-4459-9BF0-E37FB1188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9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9F2D-691A-4E09-ABA5-707635101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0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D2F1-AFA6-4B56-BB1B-E4CB95C29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8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EBC4-805D-478B-A760-BEC727D20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49D6-6995-42AD-A639-65AF6A223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44A0-33B4-4326-A2D1-458C522F6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4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428C-0961-4AD8-BAB7-D13A30A8F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E405-799D-47D5-9E38-083636051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6F9-7B47-4BF2-BD62-4406B5946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4E6D-9F2A-43A1-B947-2218CFFCD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A141-B92E-4C52-A24C-B29CE9717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3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1CFA-558A-496A-927C-2F189FD0D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4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460A-EA45-4ACA-AE58-8E4D42C3C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0A2-5DB1-4AA8-A083-17E315AB2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33E-EB6A-4216-935B-D70EFD06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F75-41FC-47EA-AA9A-C7D0368A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22C-183E-4054-A366-14FBC51D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3AA-3DC2-48D8-8E75-76807888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08E-E89D-42FA-A81A-22FA83C9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CB4-2D50-4DCD-A9E9-9E734B5F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277-E0D8-4BEF-9CC4-CED96A70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92C-171C-412B-B8F6-F3CA080F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40A-6C71-43C3-9DAE-C4E2CF79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BBA-392D-4EB7-A459-8514233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E35-0AB2-4512-8F03-050512D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B19-B089-4446-88E4-9F333A1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C07A-7E3E-4854-8135-D9F82DA55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ROBABILITY/JMAP_SOLUTIONS_BINOMIAL_PROBABIILITY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ROBABILITY/JMAP_SOLUTIONS_BINOMIAL_PROBABIILIT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nomial Prob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12816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8945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8945640" cy="46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037800" cy="60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1376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894564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05:4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12T04:44:28Z</dcterms:modified>
  <cp:revision>13</cp:revision>
  <dc:subject/>
  <dc:title> PROBABILITY:  Binomial Probability </dc:title>
</cp:coreProperties>
</file>