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35E1-EF8C-4A4E-B8EC-1E5DFC0D6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E0D0-E6EC-466A-BF3D-8B9DA312C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3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A626-E594-46B9-BBAB-1DAF74F29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8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7CA6-3D6A-4A4D-BC5F-6D6FAB6E2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7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205B-A256-4DDF-BBAB-CD4ACC041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8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0AAD-FDE2-4884-A752-DB497EC2D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9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C482-D0C4-4E4E-8A24-A293293E4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3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CE06-3A54-4FDD-977A-C618C41B1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2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3DF3-2438-43EE-8B1B-01E9BF30C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204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F90C-4BD8-4C8C-96FA-86585645B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0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9907-4079-4FA6-A84E-AE3835B77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0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B14F-3533-4F96-96DE-848D15A62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7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1FDD-B011-4D4F-83EA-BCA3D345B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6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7390-C91A-4AB6-A0C8-82E058078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90D-B23E-4BD9-A006-A7A282A4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FC54-3490-41F5-92AE-9734E200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697-E48C-4E16-AAE0-74F08EA8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0C6-E7D0-4F68-ADBA-567D8E45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310-250C-415E-A091-9293BF09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7B3D-6138-4876-947B-4C0F1238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9D1-45BE-4838-9BFA-27DD7248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B75-D680-4FA0-BB2E-5B9BF287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F1E-E05E-44BD-975A-20A1DD18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0A3-1470-4506-A241-F76DB256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81A-A40D-4F34-99B0-885D7709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10F-0D65-4BAE-9A44-C8890D34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5449-A163-4150-B211-A0A45C2B1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GRAPHS_AND_STATISTICS/JMAP_SOLUTIONS_AVERAGE_KNOWN_WITH_MISSING_DATA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GRAPHS_AND_STATISTICS/JMAP_SOLUTIONS_AVERAGE_KNOWN_WITH_MISSING_DATA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S AND STATIST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verage Known with Missing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0" y="0"/>
          <a:ext cx="914400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0" y="0"/>
          <a:ext cx="9144000" cy="316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1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144000" cy="276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7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144000" cy="277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44000" cy="250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14400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4400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144000" cy="293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144000" cy="237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144000" cy="18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07:31:3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4T02:04:12Z</dcterms:modified>
  <cp:revision>13</cp:revision>
  <dc:subject/>
  <dc:title> GRAPHS AND STATISTICS:  Average Known with Missing Data</dc:title>
</cp:coreProperties>
</file>