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0F9E-E425-42B6-850D-033912D7C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F4EA-E2FE-4DFF-BD40-5C5DC6FFD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5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6446-CFC8-49F4-9D0B-2EC9582EC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1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357F-A4E7-4BE4-91A8-A77B3F953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4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6D7D-D40A-4C10-B1FB-86C3EA7A2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1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B5E2-61B0-4B99-9BBF-DF5DD6EF5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4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D2BB-CBFF-43DB-B2F7-10DC6B291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1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2E35-0171-4712-B02C-F2A401A61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7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402E-7753-46F8-8056-12AED72AC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3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FFAE-9C46-4E72-94F2-9E1F51D414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0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4E62-61C0-4538-AB52-3DAF1E9F0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4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3F70-BE38-4654-99F1-612EE918F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1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6D1B-754A-4539-8108-18F5B2002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8C4-EE70-444B-9E5C-F10081F0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1CF-FF06-4D56-9FF0-3F822AAB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7F6-0F00-4BD1-BBAB-EC4548D5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EADC-BEF0-4005-8E51-803CDD62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5F5B-8644-4893-8DED-3535B404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A45-1A22-458F-97AD-B0F48B59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CB4C-AD39-44BC-A200-94C62B1A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585-A683-40CD-BCEC-5B2C6D85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7CD-4037-4E40-961F-53596662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2BE-5406-4D11-837D-6F99381C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5595-977B-4FD9-8B2D-45A23E98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9220-AE6D-4C9A-8487-6F6B934A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8A63-343E-4AA3-BCAB-068FEF990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OWERS/JMAP_SOLUTIONS_EXPONENTIAL_FUNC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POWERS/JMAP_SOLUTIONS_EXPONENTIAL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POWERS/JMAP_SOLUTIONS_EXPONENTIAL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jmap.org/JMAP/JMAPSolutions/POWERS/JMAP_SOLUTIONS_EXPONENTIAL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www.jmap.org/JMAP/JMAPSolutions/POWERS/JMAP_SOLUTIONS_EXPONENTIAL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http://www.jmap.org/JMAP/JMAPSolutions/POWERS/JMAP_SOLUTIONS_EXPONENTIAL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hyperlink" Target="http://www.jmap.org/JMAP/JMAPSolutions/POWERS/JMAP_SOLUTIONS_EXPONENTIAL_FUNCTIONS.doc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POWERS/JMAP_SOLUTIONS_EXPONENTIAL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POWERS/JMAP_SOLUTIONS_EXPONENTIAL_FUNC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onenti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12816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12816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0"/>
          <a:ext cx="9037800" cy="534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53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894564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128160" cy="17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"/>
          <p:cNvGraphicFramePr/>
          <p:nvPr/>
        </p:nvGraphicFramePr>
        <p:xfrm>
          <a:off x="0" y="0"/>
          <a:ext cx="911376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0378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3780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09000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4"/>
          <p:cNvGraphicFramePr/>
          <p:nvPr/>
        </p:nvGraphicFramePr>
        <p:xfrm>
          <a:off x="0" y="3733920"/>
          <a:ext cx="9090000" cy="67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33920"/>
                    <a:ext cx="90900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5" descr=""/>
          <p:cNvPicPr/>
          <p:nvPr/>
        </p:nvPicPr>
        <p:blipFill>
          <a:blip r:embed="rId5"/>
          <a:stretch/>
        </p:blipFill>
        <p:spPr>
          <a:xfrm>
            <a:off x="2209680" y="838080"/>
            <a:ext cx="4191120" cy="2687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37800" cy="577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57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12816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23:33:3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26:54Z</dcterms:modified>
  <cp:revision>12</cp:revision>
  <dc:subject/>
  <dc:title> POWERS:  Exponential Functions </dc:title>
</cp:coreProperties>
</file>