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4.png" ContentType="image/png"/>
  <Override PartName="/ppt/media/image12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838F-196B-47E5-AEC0-F3B7BC6242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1D48-BF20-409B-9FC9-9109E6EF2D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4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2573-C147-432C-952A-FFC7F43B3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4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DF25-6FFA-40B6-93F9-958BC751EC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0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5BAB-9E49-48FC-886C-01FD4CB40A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0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437E-F3A9-4560-95A9-CCFE63773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0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E393-7D9C-4D5A-87CE-D23628F28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1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97CB-DB11-435A-BAF3-504D75C90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6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9D20-5A64-43A6-8CE7-54932AA23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1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B869-A523-4603-9017-F875BD75E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4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974E-0118-4D21-9A00-68CB7CEE8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7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7FA9-7E15-4037-91AF-1749E527F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32a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CD63-0BC0-44AA-AE39-F40EF460F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9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5920-3428-4C35-94B0-E7D07571EC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2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F1B0-7B0D-4F0D-89B7-40DBA47DA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3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EB19-AB92-4D01-9FB9-FA940A384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3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2347-B80B-4F82-8A1C-E502D4C403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8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E3C7-DF9C-42B7-BB6B-AD398F7B2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0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6212-4740-472F-9758-DA4127503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3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89AF-51A4-4181-BFD2-29E0AD228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5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0108-A5FA-4D2A-8E7B-D0108B0F5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2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4821-762B-437B-B2AC-7A054F988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3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2613-0C2C-4F36-83CF-502E3E843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3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403A-3AEB-481A-8FAB-7C7F086A8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7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0FF9-3307-4045-900F-901FAF917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3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A3E2-6C7F-4603-9017-C4646FFCB6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4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E284-E419-453F-B56C-2EC0EEC1B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3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E0AF-9560-45CD-B1A3-BA94778D1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4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7665-AF52-464A-859A-52080B215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0941-F945-476B-B86D-DB00F5B4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27F1-575A-4FE6-8146-8152AC85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7CFD-907C-490A-A3C1-89768117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64D5-1445-4BD8-968E-93809BCF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6AFA-9244-43AF-93A2-B02157F9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5C4F-4966-4D98-A56F-26735077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7C71-2FF1-4EE0-BBA9-DB0D96CC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4ACD-3B54-4B41-B339-41D46A51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0986-851B-4DB1-8135-0DEA2DF3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BA4F-CFAF-478D-B966-A7673119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0C4B-4A1E-47E6-8350-D7C654B6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29F0-8C8D-4274-ACB7-7969FCFC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AA22-FE42-474F-A1C3-008352CCA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GIC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o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664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0" y="0"/>
          <a:ext cx="91440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4"/>
          <p:cNvGraphicFramePr/>
          <p:nvPr/>
        </p:nvGraphicFramePr>
        <p:xfrm>
          <a:off x="0" y="4114800"/>
          <a:ext cx="9144000" cy="29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114800"/>
                    <a:ext cx="91440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5" descr=""/>
          <p:cNvPicPr/>
          <p:nvPr/>
        </p:nvPicPr>
        <p:blipFill>
          <a:blip r:embed="rId5"/>
          <a:stretch/>
        </p:blipFill>
        <p:spPr>
          <a:xfrm>
            <a:off x="3048120" y="2057400"/>
            <a:ext cx="3133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5105520" cy="5486400"/>
          </a:xfrm>
          <a:prstGeom prst="rect">
            <a:avLst/>
          </a:prstGeom>
          <a:ln w="0">
            <a:noFill/>
          </a:ln>
        </p:spPr>
      </p:pic>
      <p:pic>
        <p:nvPicPr>
          <p:cNvPr id="75" name="Object 1" descr=""/>
          <p:cNvPicPr/>
          <p:nvPr/>
        </p:nvPicPr>
        <p:blipFill>
          <a:blip r:embed="rId2"/>
          <a:stretch/>
        </p:blipFill>
        <p:spPr>
          <a:xfrm>
            <a:off x="-380880" y="0"/>
            <a:ext cx="5715000" cy="1160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3"/>
          <a:stretch/>
        </p:blipFill>
        <p:spPr>
          <a:xfrm>
            <a:off x="5181480" y="228600"/>
            <a:ext cx="3649680" cy="2308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4"/>
          <a:stretch/>
        </p:blipFill>
        <p:spPr>
          <a:xfrm>
            <a:off x="6324480" y="2819520"/>
            <a:ext cx="1546200" cy="1463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5"/>
          <a:stretch/>
        </p:blipFill>
        <p:spPr>
          <a:xfrm>
            <a:off x="6324480" y="4800600"/>
            <a:ext cx="157824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191120"/>
          </a:xfrm>
          <a:prstGeom prst="rect">
            <a:avLst/>
          </a:prstGeom>
          <a:ln w="0">
            <a:noFill/>
          </a:ln>
        </p:spPr>
      </p:pic>
      <p:pic>
        <p:nvPicPr>
          <p:cNvPr id="81" name="Object 3" descr=""/>
          <p:cNvPicPr/>
          <p:nvPr/>
        </p:nvPicPr>
        <p:blipFill>
          <a:blip r:embed="rId2"/>
          <a:stretch/>
        </p:blipFill>
        <p:spPr>
          <a:xfrm>
            <a:off x="0" y="4419720"/>
            <a:ext cx="9144000" cy="2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3" descr=""/>
          <p:cNvPicPr/>
          <p:nvPr/>
        </p:nvPicPr>
        <p:blipFill>
          <a:blip r:embed="rId1"/>
          <a:stretch/>
        </p:blipFill>
        <p:spPr>
          <a:xfrm>
            <a:off x="-2057400" y="0"/>
            <a:ext cx="9055080" cy="441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4199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813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0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21680" cy="82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1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05:47:58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10:05:48Z</dcterms:modified>
  <cp:revision>38</cp:revision>
  <dc:subject/>
  <dc:title> LOGIC:  Proofs </dc:title>
</cp:coreProperties>
</file>