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C583-F207-462D-BA12-7EADE7478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690A-246B-45FE-B118-B0BCB4FA9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2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1738-D49E-45C2-A6FF-08CFC3581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6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66AD-88A1-4A93-A2CA-213EDF8A5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5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056D-EB5F-4FAD-B33D-37AAE2BF7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9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F947-08FC-4FA3-9782-88F20F467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5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4FDD-115A-4325-A621-D67C32711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9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EC91-4C4A-4FA5-AE02-2B35501A0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2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E8AC-5E30-4485-A7B3-2D8A7B372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6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7B09-4A64-419D-8DB0-548D80045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0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BADC-07F7-41B8-8A2C-1C1BF8209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0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0F59-7304-48D6-B6FD-1B84FB497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1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E31E-2340-4FE0-AC0F-7E03061DC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25AD-DCA8-46A9-B092-B94FE736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9E35-2DD1-47A1-9BA5-E09F35FA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4726-1168-43CD-A56F-FC8CD9C5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1615-C00C-4DFC-9D4A-87645150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404-2244-4BD2-BC74-C11306F5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ABCA-1B99-4BCC-9246-E679AF9B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FA9C-005C-47CD-A697-FAEE2AC1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2110-5951-4C06-BD46-0E064DD6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237-D5B2-4750-878F-B2DEFCC0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EFBD-AABF-4369-AFE7-57A24A70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D146-BB33-40D2-94C5-7AC5AA21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CCEA-EF34-43A9-875B-A3189E66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7B85-B0F5-4647-9DCF-CCE392D40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FUNCTIONS/JMAP_SOLUTIONS_INVERSE_OF_FUNCT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UNC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rse of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-22320" y="0"/>
          <a:ext cx="9090000" cy="33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320" y="0"/>
                    <a:ext cx="90900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2971800" y="838080"/>
            <a:ext cx="3581280" cy="3934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63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33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97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2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311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270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6239160" cy="5519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914400" y="25560"/>
            <a:ext cx="7315200" cy="6805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45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07:33:1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5:34:50Z</dcterms:modified>
  <cp:revision>8</cp:revision>
  <dc:subject/>
  <dc:title> FUNCTIONS:  Inverse of Functions </dc:title>
</cp:coreProperties>
</file>