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7A78-1F33-4B00-906D-3404932D9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B162-AE1E-4163-827C-8C8591489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1BC-F273-422C-A591-68534B94F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17B-FC88-45B2-A71B-61F3B490A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EEBB-71C8-43A6-8909-D0A6F004A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B9A-4CC6-4985-B114-23B2A79B9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86F-8FDC-459E-92F7-610422F75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3BB5-D538-4F54-B30C-E25A84CB0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5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0076-BCE4-4191-A1D7-8BF175225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662-5C84-40F4-A59A-7073C4F1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2C2-3371-4477-9480-AE3FD172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746-0A18-422D-B694-C99B17A0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9BC-40DB-4D8F-BEDD-CDFD3A4B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C10-A656-40E1-B223-C3CB276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E4F-C7D2-4CAD-81E9-FD1EA7E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977-DE43-4881-B1D0-70A4AAC1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0AC-4F86-46E7-AC1E-A226330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680-984A-4444-BD07-E9356ED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98B-020E-4EDA-99CF-CE07551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FD3-2343-452E-A273-0A4A7E49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C62-5933-4939-B9B1-A9D78C4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76A-D99F-4D2A-AE55-16215E19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2840" y="42840"/>
          <a:ext cx="9090000" cy="30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79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34920" y="152280"/>
            <a:ext cx="910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7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43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53:36Z</dcterms:modified>
  <cp:revision>12</cp:revision>
  <dc:subject/>
  <dc:title> TRIANGLES:  Distance </dc:title>
</cp:coreProperties>
</file>