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9E79-284D-4387-8FCB-7F23B073F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83D5-A6B9-46A9-A3E0-5BC29BB42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5814-2B2F-4541-A147-5D2D7CE29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9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BE68-D8E9-4546-B13D-2C5409735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5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D42D-4EF1-4D74-85EC-8B049B093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2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853B-C24B-4ECA-B813-62918CBA4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1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A0DD-B031-4F3D-9FDF-72FB9F3C2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9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FD39-6EAB-43EB-B20C-F32A5B349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5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D1B5-FB86-4141-8A98-4027B212E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7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9B63-EA46-4CF0-A06A-F7C68E378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3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179B-F892-419A-AB62-724685821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36AB-24BF-407B-A4F6-F1D179827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BCD6-0D55-40AB-ACAF-3CC4E27D4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4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2AEB-6E7C-4BFC-9E34-C55D7B14F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1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F926-3E1E-4959-A414-3F2D1FA34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5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FC43-E39A-4337-9BD0-A7CF69935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468E-2096-4B91-B399-348F4A299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086-E868-4DDF-8518-DF1A843D8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4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6191-DDF5-4985-B559-805420A7C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6ACE-7AB5-4CD9-B3BF-78F6D12AD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C3F4-8C9B-49E9-BD14-0E5C576C1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2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E898-60C4-4EC6-8075-965FC6AF0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5A76-62F1-417A-9511-22DC68555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834F-D2FC-403D-BD34-CBF6457B1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C8AF-B4C1-41DC-8BE4-1C0F0E9B2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268-B1BB-4430-90C1-0AABDA13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1CA-FC38-42A6-88D3-20889665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57E-A9A3-43E5-A857-EB7509FD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353-433B-4108-B3AC-D50EB459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440-5FB6-490D-B150-3642212E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4A2-E872-4357-B2B0-60771526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065-91B8-41E6-88E5-211B2F14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BF8-D2E0-4FD2-AAB9-A20457E3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DB8-DBA3-48E2-90C8-10C7395D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8FE-3921-4E04-A10C-7BC352F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B9A-AE24-496A-907F-860B02E6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28C4-4DAB-4BD1-8A0C-F8866FFF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3BFD-7AE1-4AAE-8231-359E50C1B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rcumference and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7:32:3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56:17Z</dcterms:modified>
  <cp:revision>16</cp:revision>
  <dc:subject/>
  <dc:title> CONICS:  Circumference and Area </dc:title>
</cp:coreProperties>
</file>