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4.wmf" ContentType="image/x-wmf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AF95-DEA4-4518-BC17-328676BF1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152A-4743-4DDC-8B94-3C3AC5C30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32CF-06B2-4DF5-BAE9-BF11ACE26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485D-F3A6-4065-9171-51A24258B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9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6869-8AD9-4674-90E5-42F1FD4F2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6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5335-54D0-49AA-A120-D3B0D4319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0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7FDA-92D0-40F1-B90E-7D954AA95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3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0B5C-C6C4-4016-9A84-6539454B5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4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02AE-6583-45C4-962F-E2E59ADA5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1b 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A2B5-75C6-4960-86CE-452AF960C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6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92FB-538A-44EE-BA5E-4987CE7A0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1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6E1C-98EC-41D0-B2B8-D4CE302E7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8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832B-5F63-4B11-815D-EB44A73CE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8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0B7E-FB28-49DF-8099-E600209E8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2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09CA-869E-4B2A-BFF6-D6C1F1F4C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2FE6-5600-4A4E-8939-D50D663F1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3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578C-2F93-456D-AB24-6BB65B84D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1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D83E-723F-4999-9FFF-1A141AA27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4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2D6A-5016-45F1-95AF-B57258E0D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5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EDC5-9189-42DD-BA1A-2D95337D5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4BE-C7D6-4F56-945E-71F021AE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553-B45D-44FE-B133-5F903ACE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EEF-E442-4160-84D9-C86C0180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501-4D07-4B26-A12D-BE43263C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A0C-2FED-44D2-8037-EC372699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2CF-EC8C-4B70-884A-F1D5350E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7CB-C35A-4C9E-A98C-914E1D24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DFD-573A-4A97-97C2-CDFC1E88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2A2-1326-4714-AAC5-0FCADECC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74B-A226-457F-A5E7-9CF1D9BE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4A9-2B30-4684-8BB3-EBC8FB4E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193-25F2-473B-A6DB-DDE50D4C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5E41-FBA9-4DB8-8CE9-732B0F281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f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3" descr=""/>
          <p:cNvPicPr/>
          <p:nvPr/>
        </p:nvPicPr>
        <p:blipFill>
          <a:blip r:embed="rId1"/>
          <a:stretch/>
        </p:blipFill>
        <p:spPr>
          <a:xfrm>
            <a:off x="-2438280" y="0"/>
            <a:ext cx="9090000" cy="296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114800" y="380880"/>
            <a:ext cx="483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-1752480" y="0"/>
          <a:ext cx="90788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52480" y="0"/>
                    <a:ext cx="90788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5257800" y="304920"/>
            <a:ext cx="34290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438280" y="3551400"/>
            <a:ext cx="3764160" cy="3306600"/>
          </a:xfrm>
          <a:prstGeom prst="rect">
            <a:avLst/>
          </a:prstGeom>
          <a:ln w="0">
            <a:noFill/>
          </a:ln>
        </p:spPr>
      </p:pic>
      <p:pic>
        <p:nvPicPr>
          <p:cNvPr id="72" name="Object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657600" y="838080"/>
            <a:ext cx="1828800" cy="1360440"/>
          </a:xfrm>
          <a:prstGeom prst="rect">
            <a:avLst/>
          </a:prstGeom>
          <a:ln w="0">
            <a:noFill/>
          </a:ln>
        </p:spPr>
      </p:pic>
      <p:pic>
        <p:nvPicPr>
          <p:cNvPr id="74" name="Object 7" descr=""/>
          <p:cNvPicPr/>
          <p:nvPr/>
        </p:nvPicPr>
        <p:blipFill>
          <a:blip r:embed="rId4"/>
          <a:stretch/>
        </p:blipFill>
        <p:spPr>
          <a:xfrm>
            <a:off x="0" y="2286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881520" y="380880"/>
            <a:ext cx="162864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Object 5" descr=""/>
          <p:cNvPicPr/>
          <p:nvPr/>
        </p:nvPicPr>
        <p:blipFill>
          <a:blip r:embed="rId3"/>
          <a:stretch/>
        </p:blipFill>
        <p:spPr>
          <a:xfrm>
            <a:off x="0" y="236232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2895480" y="2895480"/>
            <a:ext cx="33624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9000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2743200" y="3048120"/>
            <a:ext cx="342900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0"/>
          <a:ext cx="909000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-2514600" y="0"/>
            <a:ext cx="9013680" cy="670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4840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05:3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56:16Z</dcterms:modified>
  <cp:revision>14</cp:revision>
  <dc:subject/>
  <dc:title> TRANSFORMATIONS:  Reflections </dc:title>
</cp:coreProperties>
</file>