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64F0-EA57-4456-80AC-F50899B05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515E-E90A-4DE8-A8F1-7D23390CF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6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44A9-24A0-4B9F-8686-34AE97AC8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2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B619-B38D-4D96-9DA0-7AD9B0164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1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03D2-6EC1-4233-A940-1C16D0BD3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6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B5E7-A995-4410-9388-A389E97B0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1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63A0-47C7-444D-BA1A-681BD84E2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6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08F8-C6DD-4452-9C36-E4442B485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8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41FB-928E-46E6-8926-87BB05BE8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9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5C64-3125-426C-97D3-DB095F585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9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62C7-70F4-4742-8D4D-3943AB694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249-7804-4746-A2E1-9A18556A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973-F579-4067-A847-FB400EDF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9C6-3EAC-418E-8C7F-96FD2767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5F7F-EEFE-40AD-A27E-9E32414D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440-E626-4994-A608-42C480F9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0A0-A569-4E54-8694-D5CD2130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039-71DE-4D62-97BC-EE908F63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167-387B-43F7-9C8E-2067337A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7EE-A601-4C06-9184-C74B0D32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943-87B2-4537-9FFD-F8845301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B98-E685-4A30-AB4A-A151EA35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B1C-F05E-4294-A66F-BD1C43AB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0692-FFEE-4778-B9DA-862FE20BF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Interior and Exterior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ngles of Triang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9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1:59:4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7:27:53Z</dcterms:modified>
  <cp:revision>11</cp:revision>
  <dc:subject/>
  <dc:title> TRIANGLES:  Interior and Exterior Angles of Triangles </dc:title>
</cp:coreProperties>
</file>