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54B-3D08-45E5-BA66-5FEC76604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4AC3-CA11-4527-9737-34D358B6F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E3D-CA6E-4128-BE6F-3DC6AC16C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E57D-9B2D-4A77-BE3D-0748BDDA6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7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92EE-1AB1-4176-AA32-D6697572B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18B-EFA2-4D2E-B8CA-7D1884540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B61-B3B0-4447-8083-97711B6AC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2D2-C41D-4A68-8B80-1BAD3840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B121-ABD3-4A77-BFEA-D7FCD00DB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68E-290D-4F10-8F08-83C1B44BD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FDD-025B-4328-ADA0-08A55F7E9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25C8-B36E-45C7-AB5D-95A5C9145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0AE-B146-4A2E-92F5-B37698A0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076-7B62-483D-8936-D1A7569B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9FB-1071-4934-B2AC-AE0901AD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1E4-114A-4508-ADF0-49CC70F1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6E4-94F5-4557-BA9D-70C29B22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AAF-9D9D-4F8A-AFCB-876CEC1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5AB-21CF-46EC-B20C-5209C98D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9DC-B5C1-4C52-87B5-124D0A8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F9A-B6FB-4636-8F2C-56BDEE12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090-25D5-4F9B-9203-DC50C265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A99-B14E-4322-995E-138CA37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033-F340-431C-AA93-A33FCB7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1A8-B53A-482C-B0DC-FD9DE0D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97C2-6FC6-446E-8544-F63C2149F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THEORETICAL_PROBAB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oretic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37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2:35:06Z</dcterms:modified>
  <cp:revision>11</cp:revision>
  <dc:subject/>
  <dc:title> PROBABILITY:  Theoretical Probability </dc:title>
</cp:coreProperties>
</file>