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345-FD24-41AA-AF19-990CCE9D2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C0C7-8577-498F-9C47-A3326A258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6E9-6132-4EC9-B826-AD70A38B6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4E75-8A5F-4EEF-9675-40AEF530D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1E73-0802-4A4D-B1B2-2F0BFB35A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A224-D9ED-4C83-95C1-C1BB809B7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549-EBD0-41BB-9D6A-B72189EE3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b 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C6EC-1E70-411C-854A-84926D9D2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AF06-7D03-4D1F-9DF4-333D9099E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48C-02FF-45F7-B3B4-B81909BDA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BE45-0EE3-429B-9D6D-F0AB6A17D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BBA-7B90-4F4D-9EAE-906C7960E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5A29-FEFC-4520-81E9-197C42DEE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B69-0DC8-4685-B960-CC2A8FD4B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5AD-C4D9-4B62-B919-36C8101C5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A20-C9B2-4823-B55A-9CCC744CC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F92-FECF-4EAD-9FA1-DCD36DA7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3A4-FBA4-402B-A89D-7737965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246-E8D3-4CDA-B3F3-365BF1F9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7C9-AA79-4DB4-84F9-A4E87221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6B9-6510-4232-BF84-DA880C28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765-CEB0-4E76-A31E-E3B61B40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D36-7EFF-46AF-935E-689C4863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66C-B471-49D4-BC58-2A42C03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E8D-2077-4FD8-AEBF-B7C65BF1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FC2-4101-479A-9852-47E9084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1CE-357F-4F76-9CF9-027FCF5C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60A-5C56-4806-9395-74AEADF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6613-B1B0-47CF-843F-DE044157A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SUMM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NUMBERS_OPERATIONS_AND_PROPERTIES/JMAP_SOLUTIONS_SUMM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90000" cy="17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9000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9000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152280"/>
          <a:ext cx="9144000" cy="60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5652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652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1368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136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1368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85024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5024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1368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900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4:24:3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 Watson</cp:lastModifiedBy>
  <dcterms:modified xsi:type="dcterms:W3CDTF">2007-08-12T10:15:10Z</dcterms:modified>
  <cp:revision>14</cp:revision>
  <dc:subject/>
  <dc:title> NUMBER OPERATIONS AND PROPERTIES:  Summations</dc:title>
</cp:coreProperties>
</file>