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D81F-FA7D-4BB8-8EC6-53FA0D877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F31-3CE8-4B18-942D-BAF41805F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747-638B-43E5-8601-352783A58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9F8-37BA-4FC3-8E49-9F9DAD41B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54A-A49D-476A-A156-33A2289C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1D5-F430-48EF-AED4-7824E2D34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B5BC-D686-42BF-A3EE-149F6953D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968-50B4-4485-977F-C2C13916B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B5C-28F2-45FB-AE4E-C78F2FB8E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84A-7EFD-4120-BD48-83D9AE83C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E4F6-A8F8-4BD2-8D28-9005A7D49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C7F6-963E-4CDB-A64E-01667C23E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95E-88C5-4263-9169-0029FAE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6DB-9205-4983-AA89-0504F2E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9BF-FAFF-4E3A-A71B-F8ADE2E5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52C-CCAC-49E2-A471-1E87789A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2D4-921C-4DFC-8820-C9B6386A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F99-3ECD-41D8-BBEA-BFCB11D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0F1-A176-4B39-AF3B-0A2067F8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94A-1806-413C-9F14-B617376F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8A1-8B3F-48A8-8BAC-577DF5C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24F-D119-470A-A18A-6BFFA53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235-BE8A-4CF6-85AE-50F6D3C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98B-0D1E-4D8E-A852-23D74E4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FB6D-56D0-4B3A-A777-CFCFE83D6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PARALLEL_AND_PERPENDICULAR_LIN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allel and Perpendicula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9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58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38:25Z</dcterms:modified>
  <cp:revision>13</cp:revision>
  <dc:subject/>
  <dc:title> LINEAR EQUATIONS:  Parallel and Perpendicular Lines </dc:title>
</cp:coreProperties>
</file>