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18C-1835-43D7-8AC1-6182DE6C1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BF9-3DE3-49F3-81F6-9CFD4E2E0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2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8AFB-337A-4F7F-BA2B-B349267C4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8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187-735F-4BEF-98A9-975E92AE2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2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DEFF-682B-44B5-8671-D11C6B9C2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7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31D-1093-4472-AF40-59BD0632C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2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23EE-3444-49A0-939A-581B28E4E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8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0734-E8C8-4A9C-AF17-2C90533DD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4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1A65-133C-4A7D-AE76-DCF74BA6F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9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31BA-483D-490D-846E-CF43B31CA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4a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3656-75F9-4ABC-A3A9-BEE76E0DE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9a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80E-FABA-4722-A3D0-C496499D1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2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83FF-DF14-4193-937E-BE7230DF3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7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BA26-34F3-45D3-8709-9D961D31C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4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089D-1A70-4D03-83F7-1F8719F5A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9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CE6-EDB4-4236-B97D-8AFA491F3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7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E5E6-679F-444E-902C-079043D9E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b  QUADRATICS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s with Non-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428F-2DC8-4609-B18D-CB2CF3964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A71-DAD6-4204-AF66-5A8C955D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F61-157D-47BA-97B5-3A2107B7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64F-DF1F-49E0-AB02-C7166FEA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8D8-8780-4C04-968D-829F8870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580-957F-4A31-BA52-0547BDA5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3CC-AB24-4F2B-A00C-090C7B73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5A5-1978-4FB2-AF7A-501AC834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7F4-DD33-4E69-BC52-E0922B40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7B6-F2B5-40B1-9CD2-CB1FA499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B62-4A5D-4435-95EA-FA9C308C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05C-D94C-4EF1-9ADD-038E595C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443-F57F-4F3B-B08E-906E502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12E4-5637-4E8D-B741-62F4C2D1B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SOLVING_QUADRATICS_BY_FACTORING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 with Noninteger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144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28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03780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21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900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3"/>
          <p:cNvGraphicFramePr/>
          <p:nvPr/>
        </p:nvGraphicFramePr>
        <p:xfrm>
          <a:off x="0" y="0"/>
          <a:ext cx="902160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3780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21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9456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378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89456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9000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88390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0:59:00Z</dcterms:created>
  <dc:creator>Steve</dc:creator>
  <dc:description/>
  <dc:language>en-US</dc:language>
  <cp:lastModifiedBy>Steve</cp:lastModifiedBy>
  <dcterms:modified xsi:type="dcterms:W3CDTF">2007-10-26T00:21:59Z</dcterms:modified>
  <cp:revision>5</cp:revision>
  <dc:subject/>
  <dc:title>Slide 1</dc:title>
</cp:coreProperties>
</file>