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BC8E-0B44-46ED-ACC8-951A5EA8E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68CF-99B9-4138-86ED-24F5A1747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6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D240-5B9F-455A-B164-7EC69ACFF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8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06B6-5197-409E-BEAD-6E8CB1B65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9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8372-0F55-4C9D-81AB-FB5B6FDCA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9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0D88-6211-43DF-87D7-1C0F8A593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3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1AE3-5BC7-4AA9-B91E-E3405890E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9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07C2-339C-41F4-8710-5B516B085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3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46C1-88A6-4C09-953B-F5958C46E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3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04DF-BE7B-4D30-B4C8-18F71B34F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BD9-FB82-4635-B90F-0AD7DFB8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165-410A-4B32-9474-2E909CFD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70E-853A-41CF-A8EA-A955F26E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4A0-408F-46D9-952E-60553FD9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D2C-6425-49BC-A624-8B93FBA4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8449-0C37-47D0-AEE5-37DEEB1A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5B07-0F13-48F8-B47F-C68B6E85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4B5-6FD3-4EF5-AE2C-673401EE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EA8-0F6D-498F-82C7-538CEC39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9A67-B325-4287-B0AA-06BE575B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811-B656-497F-B978-FD477A1B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4517-C026-418D-8A5B-74DBF7F8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25C2-5A97-4332-BA87-49FC741E2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EQUATIONS/JMAP_SOLUTIONS_SOLVING_TWO_STEP_EQUA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EQUATIONS/JMAP_SOLUTIONS_SOLVING_TWO_STEP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EQUATIONS/JMAP_SOLUTIONS_SOLVING_TWO_STEP_EQU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EQUATIONS/JMAP_SOLUTIONS_SOLVING_TWO_STEP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EQUATIONS/JMAP_SOLUTIONS_SOLVING_TWO_STEP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EQUATIONS/JMAP_SOLUTIONS_SOLVING_TWO_STEP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QU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ving Two Step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08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0900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174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1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27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2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971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90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21:41:0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4:49:25Z</dcterms:modified>
  <cp:revision>9</cp:revision>
  <dc:subject/>
  <dc:title> EQUATIONS:  Solving Two Step Equations </dc:title>
</cp:coreProperties>
</file>