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CF9B-A183-42DE-A29C-67ACF3168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5E21-7FB9-41A5-9F0A-1317FB9CA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1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8523-1DC6-44AF-A01E-FFED7BE09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6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7853-0975-4088-8F27-3B1C0AC2A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4067-8BA1-4F95-8224-4A89AD799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3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FB7C-BE77-4BBB-94E8-B6FB2A30A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1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66EE-080D-445B-A300-1DE97F793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8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AA47-FF87-475F-8E39-ADA271528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7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48B9-F486-4D2F-85C2-E28C03805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BE0-FBD9-4306-BAB6-5033BADCD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1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05FA-36A1-4978-B9B3-DFC5E5D8B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8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94BE-8E6D-4DD8-98FA-7E7BC87CC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4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EE82-0D86-4A7E-9E2F-A9539D7BC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9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AA74-969F-41E3-B9F7-EE8ABBA83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3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3E01-2078-4E1D-B5AB-22F90BE5E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9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4ED3-7E1C-4691-BE09-23E146A1E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8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DD26-1BEB-4E45-9F88-AB48019AC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6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EA60-9FC8-4C72-B2B7-18811D7E2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9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AD79-395E-4EC9-85A3-68B19B3E9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0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3D43-2BD8-40E6-8F25-B821B8429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4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0F84-6DBE-40B3-8448-B43587D99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4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E65D-89E2-42DE-8BCF-4BB767B77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DC57-DD09-4B66-83F9-275C8EC94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4F65-874C-4047-B836-1CA23FF79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480-58E4-45A5-AC19-5723641D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2DD-138F-4C29-B8B0-0F567C0F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F95-7026-4CE2-8C22-990FA61A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927-3F3E-4F19-8C1A-0E35D9F7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332-410F-44BF-9F8D-D04918D5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A4E-FC0A-4A36-B56E-77E23251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B8B-70B5-45F3-8209-BFC1A8C3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8C8-72E8-4681-B73A-6E26AA3A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473-95E2-4EEF-AE70-41F159CD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C63-8A57-4971-A49E-2C246023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060-27CC-4C40-A3FB-815E16F3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A61-D892-488C-A7F5-BDA28701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A036-69D0-43D9-A730-9B19D3E27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ic Trigonometric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34920" y="228600"/>
            <a:ext cx="910908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09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0"/>
          <a:ext cx="909000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42840" y="3166920"/>
          <a:ext cx="9090000" cy="231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0" y="3166920"/>
                    <a:ext cx="90900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5" descr=""/>
          <p:cNvPicPr/>
          <p:nvPr/>
        </p:nvPicPr>
        <p:blipFill>
          <a:blip r:embed="rId5"/>
          <a:stretch/>
        </p:blipFill>
        <p:spPr>
          <a:xfrm>
            <a:off x="2438280" y="1295280"/>
            <a:ext cx="4111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1:02:5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02:17Z</dcterms:modified>
  <cp:revision>15</cp:revision>
  <dc:subject/>
  <dc:title> TRIANGLES:  Basic Trigonometric Ratios </dc:title>
</cp:coreProperties>
</file>