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4A20-A60C-484D-8D56-F7F4C6CCB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35FC-AD0E-4CD7-8198-C9C8CA4F6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3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BD30-1FD2-4692-99F4-2FDEDE344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9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677E-1B11-44F2-BB89-09FE19CF9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7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5424-040C-4598-BD02-79FFE3964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0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04DC-9C74-4BFB-8A1A-1F1CAACFC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5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595C-1AE3-45F6-ABD3-ECFF3D065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6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CCAB-7CA5-45F3-A9A4-1BA1FAB4A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6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91B6-7444-4DA8-BC94-A738430E5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5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85D4-E428-4C7B-8D16-36A90E9C5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6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594D-69F5-46AD-AD3F-9B343259E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6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194A-4706-4151-BAA1-0D07D356A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8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4F00-1491-4100-B281-050BA22CF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0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F621-2A1B-446F-8978-53B5CA04E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D1F-716C-44D7-99DD-3CC9FDEE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1A1-B75D-44B7-92A7-A9AB00A5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550-E485-48DD-8998-94482A0E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EDF-A21E-44F6-9B3A-4A0F22B5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3AD-98EE-4DD0-BF17-BDCCB584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397-07C0-4549-890F-C40BD973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B41-C015-40B5-B0FA-0EEA7FB2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C1B-CE9E-4C00-9DC9-D5FBB018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F62-D819-4C47-BC5C-9FD19D30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DA3-2548-41E0-BCA2-BF35D821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0F7-E8E6-4CC5-97AF-BC8C937A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469-9042-43FD-9B01-AEC5E5D0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78FD-E4B0-4F2E-A436-CF4F79420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DICALS/JMAP_SOLUTIONS_RATIONALIZING_DENOMINATOR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RADICALS/JMAP_SOLUTIONS_RATIONALIZING_DENOMINATO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DICALS/JMAP_SOLUTIONS_RATIONALIZING_DENOMINATO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DICALS/JMAP_SOLUTIONS_RATIONALIZING_DENOMINATO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DICALS/JMAP_SOLUTIONS_RATIONALIZING_DENOMINATO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DICALS/JMAP_SOLUTIONS_RATIONALIZING_DENOMINATO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DICALS/JMAP_SOLUTIONS_RATIONALIZING_DENOMINATO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DICALS/JMAP_SOLUTIONS_RATIONALIZING_DENOMINATO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RADICALS/JMAP_SOLUTIONS_RATIONALIZING_DENOMINATO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tionalizing Denomin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0"/>
          <a:ext cx="9037800" cy="37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0" y="0"/>
          <a:ext cx="9021600" cy="37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0" y="0"/>
          <a:ext cx="903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0" y="0"/>
          <a:ext cx="9037800" cy="41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28160" cy="17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037800" cy="37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0" y="0"/>
          <a:ext cx="91281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0378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37800" cy="37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037800" cy="37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7:41:3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57:54Z</dcterms:modified>
  <cp:revision>15</cp:revision>
  <dc:subject/>
  <dc:title> RADICALS:  Rationalizing Denominators </dc:title>
</cp:coreProperties>
</file>