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350-A7AC-48AC-B61A-030369B57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BD1-51EB-4502-A1AE-F810EEDED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B23C-1C7B-4DB7-B904-7E6E12D5F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EB8-9C1C-4659-8EF4-0D8530518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17C5-83EE-443C-AF87-B3AC22F6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B61-7C4C-4141-BEF1-042A8D3D2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4DC4-9270-41B9-9C3D-295F9E7F4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47C-1DB9-42F7-A013-91D7CC5C1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F55C-70D0-4A87-BB67-5C5959AF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E686-76E8-42CB-B1A8-01A38A31F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EC8-2694-420F-9B1A-EEF6A37D9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FB8-6A01-4819-8D25-29F3C31FA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1B6-9E26-4A47-94E9-A84EF9A5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F92-28DF-4451-A2F9-550D859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D3F-EB7F-4A57-830A-67CED77A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E69-0D42-41CB-BC8B-3C87A503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E60-DC26-4BB4-819B-95D8D17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D58-79A2-4F6C-9658-E12AFD3D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C75-47DC-4652-91BE-A59079D1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D67-9FA6-4265-9D47-38EBFBE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CA6-E252-4C7C-B6D1-C604143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C69-ED5A-453F-8C95-77AA46A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652-BAE3-4C7D-BB85-1162AC8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FE2-834B-45C7-B623-9B04E82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BF0B-972E-44C7-B2F9-F3C4A0CE1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COMPLEMENTARY_SUPPLEMENTARY_AND_VERTICAL_ANGL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:  Complement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lementary and Vertical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87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8815320" cy="30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362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1320" cy="32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5:37:3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50:27Z</dcterms:modified>
  <cp:revision>16</cp:revision>
  <dc:subject/>
  <dc:title> ANGLES:  Complementary Supplementary and Vertical Angles</dc:title>
</cp:coreProperties>
</file>