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315-29B4-47B4-9487-7DE2717F4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CB57-E346-4DFE-A706-B39BB3384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5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59F-BB35-429D-8997-9A65AFE5D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0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5D15-3602-432F-A7D5-C4052CE4A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5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4F99-6C3E-49EC-9D32-D7C12E59B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63CD-0C2A-48CE-8466-9E0844FA3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6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E27D-A530-4AD3-B220-D96A648ED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1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CDD-F63A-4E1E-AD32-562CB2DA9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1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A42-A506-431A-B38A-AC068371E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0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33FD-54DB-4EA3-BE2F-F256E0643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6E9-00DD-412E-BED8-A3A1E86E7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1688-2A1D-4F7F-A742-6168DAEBB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497-0BF5-4EC8-B4EC-F60A66B8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A9E-1406-4D4A-8565-249067B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A5C-1654-4CB7-B13D-48A6D0BA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8A9-3936-44D5-900E-654F5EB0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0A2-A7C6-4B92-BDB6-DF5E5BCB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ADA-7DE3-4602-9408-893BA4E0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4FF-C976-48B7-9E92-C012C50C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75B-5133-4262-817C-84FEF0D1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E40-B334-40E7-B93D-678E5CB7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D6A-AE28-4A59-A152-FFFD05A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269-EB4B-4D5B-9EA8-1395B492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0AC-4A43-4BCE-BF13-F2D7018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F705-4177-4BA4-8785-0E6670973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SOLVING_INEQUAL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SOLVING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SOLVING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INEQUALITIES/JMAP_SOLUTIONS_SOLVING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9078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0216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0"/>
          <a:ext cx="911376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32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889956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995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7:01:4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38:07Z</dcterms:modified>
  <cp:revision>6</cp:revision>
  <dc:subject/>
  <dc:title> INEQUALITIES:  Solving Inequalities </dc:title>
</cp:coreProperties>
</file>