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AA8B-A126-498E-9EAB-FD0F3212B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993C-0E5E-4BE7-A5A8-7132BC50A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1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9A5-059B-43F0-8992-DB24411D3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4DA5-72D2-4C7D-B2FD-4398B085E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2D5-5A8B-4382-A9E7-061BC899D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28E-FC78-4A4D-877D-F632EA7DD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46B-5B1A-49FF-9474-8829D4AB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110-2AF9-4926-90DD-242BB14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BAB-EF41-4DDC-BA9D-A537C760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CF-9D9A-4C0B-82FB-DCCD344E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EC0-D680-4B35-8E99-56168F6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B8D-8443-424F-812C-C5606419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A81-3405-4131-9C06-034C214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83D-0DD9-4160-BBDD-52999F1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C1C-CAC1-4498-A1D4-6A104D5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2FB-A763-4429-9D67-9E99F7D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67B-FFD6-475F-A102-7770979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7CD-42DF-4502-8D6C-090C8C4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8D53-605F-46BA-9E4B-32B6C945B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QUARE_ROO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QUARE_ROO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quare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216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22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4:53Z</dcterms:modified>
  <cp:revision>14</cp:revision>
  <dc:subject/>
  <dc:title> RADICALS:  Square Roots </dc:title>
</cp:coreProperties>
</file>