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7AEF-EAE0-47D4-AA73-74E977227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1440-4F82-4AC5-BD1D-9E7BAAEB0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8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14DA-2DC5-4E51-B1F7-E0B638F9D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2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7704-ECE4-48AA-BBFA-AA76AD985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1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36DD-4192-44CC-8645-7EB9AC288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6666-2406-47CC-936F-E885B8AF4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2a  CONICS: Circle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A324-6F0C-4031-85D2-6E043ED78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BC05-1218-4DB3-82B1-237626FC1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4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4588-B175-4CE4-A132-DED7EEE3F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4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3A73-3420-4FC0-BF82-7A25DB750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8346-9BE0-44F8-9D1E-FB5D34014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75D-BB05-4738-98E6-040B7F2B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943-0F29-4BFE-AFFC-6BF5CFFC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2DD-27F8-4640-A842-F23E46CA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055-BC6A-4EA5-A66C-7CC34CFD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A71-392C-4A4F-A67C-0FA8139F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4AB-3CFE-4500-871C-3017C32D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BC3-B7BE-404F-A0FD-1C80AB2F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460-3C02-4E23-B204-1E73E9BA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C11-B055-4BC6-A22D-929010E4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F29-9920-4E90-99B6-B5B14E5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3AB-8AAF-4A9C-A360-58893DBB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9F3-A632-444F-B63F-712894E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5C7D-CE6C-4438-AAA4-9A8A45585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rcle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136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4"/>
          <p:cNvGraphicFramePr/>
          <p:nvPr/>
        </p:nvGraphicFramePr>
        <p:xfrm>
          <a:off x="0" y="4724280"/>
          <a:ext cx="909000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90900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2286000" y="914400"/>
            <a:ext cx="388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6:00:5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16:04Z</dcterms:modified>
  <cp:revision>10</cp:revision>
  <dc:subject/>
  <dc:title> CONICS:  Circle Graphs </dc:title>
</cp:coreProperties>
</file>