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53B6-CA8C-4A32-AA09-9F452E929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866C-CB5B-402A-8D0A-96FF5EC3E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1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A9D1-62DF-48BD-9327-394FD50D6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1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432C-539E-4D66-A96C-E68D81816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4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56AF-B018-4DE6-9E9C-062282EA8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5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D766-A38F-4422-AC9F-611E670E7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0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38CE-E27A-42E4-B6C0-AC99F5449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9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07BD-E3EA-4CBC-A510-238D9D07B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2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9555-3F97-4AC0-95ED-C4293F97D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1a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646D-83C9-4504-9951-6D49FD88A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3a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988D-ADE6-4127-8237-1B1897BD2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9a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DDD8-0E2C-41DB-A845-83F21899D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3a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53C1-4882-4033-BD3B-1718808D7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1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9F57-F0E7-4B0B-988E-C9E8019AC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3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F537-064A-44CD-B563-62D3F49EF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1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B39A-5642-4BA8-A04A-2AD467ECF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2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E82F-A219-43C3-8F0F-B35DB9449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E55-AF51-4105-96A9-08BD46CC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251-DA32-4515-91A4-7EB7DA5B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96A-6B89-4F8F-A641-258F861C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BDC-69BB-4D9B-8D9B-BC7D7746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138-50F6-431B-9793-1DFC3090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6948-658F-490B-8BF1-2D4C889B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87C2-6800-4015-AE5E-A03A55EB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5C0-152D-40E5-8271-AAF48C62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5B4-06B4-44C0-BE68-4AB3F915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DE7-B06F-47C4-8B34-5A1E7FCA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F2E-75E4-4BC6-A2AA-BB8581E4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E0E-3C07-47CE-96FE-8B7EE096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A9C5-C129-4E4E-8E58-43D80AD12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QUADRATICS/JMAP_SOLUTIONS_MINIMUM_AND_MAXIMUM_OF_QUADRATIC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hyperlink" Target="http://www.jmap.org/JMAP/JMAPSolutions/QUADRATICS/JMAP_SOLUTIONS_MINIMUM_AND_MAXIMUM_OF_QUADRATIC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QUADRATICS/JMAP_SOLUTIONS_MINIMUM_AND_MAXIMUM_OF_QUADRATIC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Minimum and Maximum of Quadrat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0" y="0"/>
          <a:ext cx="90378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0" y="0"/>
          <a:ext cx="90378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894564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0"/>
          <a:ext cx="8945640" cy="60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6031080" y="1523880"/>
            <a:ext cx="2732040" cy="2743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894564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5719680" y="1447920"/>
            <a:ext cx="3119400" cy="3124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-2286000" y="0"/>
          <a:ext cx="9064800" cy="61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0" y="0"/>
                    <a:ext cx="9064800" cy="61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4267080" y="609480"/>
            <a:ext cx="4046760" cy="403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667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885492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549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5181480" y="990720"/>
            <a:ext cx="3413160" cy="519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0" y="0"/>
          <a:ext cx="8854920" cy="704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54920" cy="70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0" y="0"/>
          <a:ext cx="90378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0" y="0"/>
          <a:ext cx="903780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0" y="0"/>
          <a:ext cx="89456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0" y="0"/>
          <a:ext cx="90378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8:5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0:09:04Z</dcterms:modified>
  <cp:revision>11</cp:revision>
  <dc:subject/>
  <dc:title> QUADRATICS:  Minimum and Maximum of Quadratics </dc:title>
</cp:coreProperties>
</file>