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29EE-E5F0-42C7-84BB-B2B7D7522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3FC9-AFC9-4F3F-BBE2-11621AA5A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5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16F9-3E9C-47EE-838D-CD62F8EDE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7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F6CE-7EFD-4DE1-B4E0-B473B2460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6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D7BD-553C-46F9-AAEE-96BB7608F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4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BE6F-8252-40EB-833A-00CA4DF1A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9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8419-2874-45D2-BC6E-47160B08E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8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59CF-EFF6-4AAA-A6E8-83870AB10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7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FBD2-FAE8-4B5F-8A25-6C803E9C9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9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EFE9-BDFF-48B4-B7AD-0B5861415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8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BB8D-CE79-49B9-873A-43385AAA8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9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DA74-4670-43DF-AA15-95C3AE954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4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E17C-B739-406C-B182-E00CD383A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1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E0B6-C1D8-4D9E-B4DC-965B38F30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4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6571-F08B-44B4-916C-BBACEF7FE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1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22B3-3E66-46FD-93C9-1A1F826AA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4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D41F-B2BF-458C-B8FC-D5AF23735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0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FFE2-222A-4AEC-81BC-174144C40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0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B17E-EB85-4B19-ADC3-63DF37089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1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82BF-1EAF-4517-A6D6-BDF40E193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F4C2-05BD-4C62-BB14-EA62607C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1B3-B288-4150-8679-CD49273B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708-9B74-40AB-AE33-356D3BBE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6C8-026C-4F81-BDBE-7F8B9753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3F44-6AF4-4F5E-8115-D6394D48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5BC6-4050-4512-B293-10591CCA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BA1-FD21-46C0-8D9C-DCA8243C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AA9C-B50C-4632-9FDE-87F6C6ED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607E-2858-44CE-B6D0-1579F361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BA1A-3CF6-4F86-A2D7-80007D6C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E31-A15F-4E2E-9E8D-143E674A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69F-0B99-4C51-8927-2C24D022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ED13-497C-4497-9A04-284AE5DF0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OWERS/JMAP_SOLUTIONS_SCIENTIFIC_NOTATION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POWERS/JMAP_SOLUTIONS_SCIENTIFIC_NOTATION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ientific 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9000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083520" cy="25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352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83520" cy="24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352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144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083520" cy="30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352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090000" cy="25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5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0" y="0"/>
          <a:ext cx="9090000" cy="25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5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0" y="0"/>
          <a:ext cx="9090000" cy="22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090000" cy="30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0" y="0"/>
          <a:ext cx="90900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83520" cy="21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3520" cy="21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83520" cy="21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352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83520" cy="22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352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83520" cy="22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352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83520" cy="23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352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8352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352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144000" cy="24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83520" cy="31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352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09:42:1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20:05Z</dcterms:modified>
  <cp:revision>13</cp:revision>
  <dc:subject/>
  <dc:title> POWERS:  Scientific Notation </dc:title>
</cp:coreProperties>
</file>