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8.wmf" ContentType="image/x-wmf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062D-0D06-40BF-904D-0E150219D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5AA8-EDF4-49EF-8D37-213EB0688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2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6AD4-CF49-403B-BE1D-23033A1A8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1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4831-FAAB-4C16-A356-BC106B742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7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46C2-D7D8-4067-9DEB-A2DB60BC5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6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DCAF-BA4D-4335-92DF-7473A466D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8a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5C1D-C413-43BF-A390-7F157DEED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0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060F-BD37-48E6-A024-2AB920CE1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5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7303-0624-40C4-B7DF-AB350EB0E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3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95D6-9A7F-4341-878B-32246221F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8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265B-39D9-4412-9DD6-B84537411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9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A6AE-58A5-4D07-9D6C-1EC7EF36F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5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B44A-0A09-4D9A-A5F7-F5F742170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9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B1B9-D69E-427A-994C-FD7E6A00E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A5E-F87F-420C-A601-6C869352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8CC-99A9-4E87-9648-DD3A74CF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441-8074-4E3A-AD44-4DCE37CD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0F0-EB95-498E-873A-4D26B51D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407-F0BE-430A-A179-46A486E7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746-8607-43B5-80A8-0964FCB4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E0B-6325-4F02-BDA5-64DF8ACD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C54-F63E-45A4-94A6-6A75A97A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4DF-BF72-4F0C-B138-89D7BAD1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64A-82D4-4A92-A12B-22B47EED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D75-3DE8-4D1C-8005-F598E508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63D-3B09-4BBD-9BC5-4F1C8500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7697-FFB0-4130-ACC4-4E53E8234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ositions of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733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44578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30481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90000" cy="34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66880" y="0"/>
            <a:ext cx="42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514600" y="79200"/>
            <a:ext cx="443556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23:10:3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58:51Z</dcterms:modified>
  <cp:revision>9</cp:revision>
  <dc:subject/>
  <dc:title> TRANSFORMATIONS:  Compositions of Transformations </dc:title>
</cp:coreProperties>
</file>