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jpeg" ContentType="image/jpeg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CCEC-6289-4D21-A21F-153C7340E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8FB5-0229-4115-A56D-C236B912C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3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339C-9A58-4836-B53E-AC56DB633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7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BE0C-F41E-4908-803C-79B6F7A32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48BF-FCA8-4DC2-86FA-510A9D69C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3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E51D-17F9-4165-85FD-30394197E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6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A656-3516-4F0B-A0A6-6DCDE64D2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1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1DC2-8322-4E86-AB41-0E105756D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4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0CBC-3FC8-417A-BEDD-2D3D98D51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0D2B-EA8D-4773-8068-335BE5C54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9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A7DC-9076-4E12-88F5-189423AE8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1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2CC3-7A45-44D2-B60C-3E6BFD65E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3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5FEC-78AD-4603-9181-9F34E1627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8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7C56-2D0A-467E-A23D-647189A7E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B823-A6D7-4C0D-A8FD-29005D677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4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8D4D-E604-4E09-8A7D-888952FB9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1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E4BE-639C-4919-8A85-CB718D8FB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8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4322-CEC0-4BDF-AFD7-C04724966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8b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3190-D9EE-46FD-A2D9-BEC9CBF0C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3b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0B4D-5998-49AB-B858-DE0F7008D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78F8-7CE4-4388-AD36-E98BF7342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760D-B238-4B0B-8365-D572CDE18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3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EEDC-7C9B-4E63-89E7-A58C008BE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4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3099-D720-4217-B98C-1F81CFD45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6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7130-722B-4F70-8CE4-26A839444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6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D441-E8B5-4BEB-84DD-C3C9717C1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6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A58B-17ED-4FDD-98AC-0CCEE93E5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615-6AF6-45A5-B0F8-2E3F349F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CCA-2D05-42F7-BFC4-E62A11AC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E85-DF5B-45C6-84C1-407295ED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120-9125-43A8-BBDC-A1D86231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B8A-24E4-4CCF-A3A1-E1A48D09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A7A-5911-4DE4-91A1-60AD9984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C5E-DB21-4029-8E4D-8F1B49D0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725-121A-4A44-A0EB-6AF2ED82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5DB-20AB-4893-86D4-128CDB56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D70-1585-470B-85E5-908E129B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A3B-AEA7-4DF4-9220-319D9049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E29-835F-48E2-A3F8-B4B9F20A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18A8-E155-47FA-AEA8-6ACF97508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SYSTEMS/JMAP_SOLUTIONS_WRITING_LINEAR_SYSTEM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STEM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ing Linea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73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26560" cy="1447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4:00:0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6:01:38Z</dcterms:modified>
  <cp:revision>10</cp:revision>
  <dc:subject/>
  <dc:title> SYSTEMS:  Writing Linear Systems </dc:title>
</cp:coreProperties>
</file>