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62FD-3375-4927-BA17-591A68E1D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5B64-933F-41BE-9776-97CA05F9D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8a  CONICS: Graphing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F6E8-46F6-466C-88BE-FF995F5B8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3a  CONICS: Graphing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9233-A527-49F6-B273-1DAF3684A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6a  CONICS: Graphing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3178-3D5F-47AC-8E5B-5458C1BD0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0a  CONICS: Graphing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9A5D-FE0B-4619-A11D-5FFCDDBC9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2F4-AAC0-4733-8809-6DC0E75D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A36B-EF42-4D26-AEF0-1E8AA02C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115-81BE-47A1-8827-974D24EC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2D2-0849-49D3-B30D-DECE14C4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278D-DE97-4321-9F41-A914D78C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FDA-0B4D-43C9-BE87-9491F35E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940C-8FCD-4873-B910-FCA13F6A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498-3992-4442-B783-A36686EE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D8D-4F57-43EC-9915-6C9696C1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733-04EA-4EF9-A1C7-300A7310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CE6-D93A-4A47-A779-03C9EF7F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FD3-4CDC-4EE1-B7E0-94DC6FBC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70D8-E746-4179-BE34-F4E9F6C9D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ing Cir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73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26560" cy="73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6:13:2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0:21:01Z</dcterms:modified>
  <cp:revision>6</cp:revision>
  <dc:subject/>
  <dc:title> CONICS:  Graphing Circles</dc:title>
</cp:coreProperties>
</file>