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94DA-970F-4423-9CBE-F2E86DF3BE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F7FC-8CA5-416E-B4C7-485829B65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1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A2DE-EF37-48D3-8CA1-19B8804C48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7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87F0-35E1-4AB6-B5ED-C21EF5291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5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55E9-EE50-4750-A171-95D56C3CB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8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B39B-7A73-41A4-8B6F-EE7D2156BE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2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58BA-E4A8-49DA-8B49-788E07092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8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3E06-A010-405B-89EE-1BF3930D98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4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F5B9-E13F-40C1-B914-D0E5380DA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5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279C-D5A0-4DA1-83EF-2A56008B4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8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B88B-0177-416A-BD46-57BFCAF9C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A15C-C4E8-4752-805A-7FB211E3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64EF-318B-4883-8701-9EC0A1A8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5029-C111-4E0E-B188-A2E3A9CC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C6DE-0745-4948-BD1A-2A9DA8CF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20F2-222C-4028-BE8C-E0FE8EA0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512B-D061-46D9-8FB0-D6F34D76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E9B6-5C8A-4C94-A86D-FA24BB9A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0A7D-83DB-469D-9EBB-C4FE10E6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CD54-E6C5-4500-B9BF-0E8821CB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BA0A-B536-4E61-9844-217DD7FA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5A8D-BEDF-4400-9BA6-C6E3AC1B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BDC9-E286-40A9-9526-2A6B5D73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FB54-FB55-4AF1-9004-A92B558AD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LINEAR_EQUATIONS/JMAP_SOLUTIONS_SLOPE_AND_DIRECT_VARIATION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LINEAR_EQUATIONS/JMAP_SOLUTIONS_SLOPE_AND_DIRECT_VAR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LINEAR_EQUATIONS/JMAP_SOLUTIONS_SLOPE_AND_DIRECT_VAR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LINEAR_EQUATIONS/JMAP_SOLUTIONS_SLOPE_AND_DIRECT_VAR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LINEAR_EQUATIONS/JMAP_SOLUTIONS_SLOPE_AND_DIRECT_VAR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LINEAR_EQUATIONS/JMAP_SOLUTIONS_SLOPE_AND_DIRECT_VAR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LINEAR_EQUATIONS/JMAP_SOLUTIONS_SLOPE_AND_DIRECT_VAR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EAR EQU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lope and Direct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512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943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486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29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4560" cy="5464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048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8:27:2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0:59:36Z</dcterms:modified>
  <cp:revision>6</cp:revision>
  <dc:subject/>
  <dc:title> LINEAR EQUATIONS:  Slope and Direct Variation </dc:title>
</cp:coreProperties>
</file>