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A27A-B380-4F5E-93A7-D80C997F5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7BC3-609B-400B-B998-09A5BCE70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6672-1FF3-4982-9AEC-48163D1B9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5AAE-0DCB-484B-BD3A-4585F89A7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47A1-8187-4C4B-B133-F9D74641D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EE75-2FCF-470F-BB8C-2783DD8E3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1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494-8B45-4149-968B-785B88335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327A-6D61-4635-92AB-1D6917B7D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682-587A-4DB2-BA00-ADDEC9AE5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C7CA-43B2-459C-A412-41E89077A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55EC-4C42-4EC5-9CB6-81996E5C8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53B-A6DB-44FE-890E-8C9B74562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65E6-F72E-47C7-9C7F-15EFDD60D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3A0-577F-4CF1-9893-5BFEE50A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A8E-60E9-4117-A713-CD2F1B6B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BD7-211A-4B2D-8583-FFA1BF88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29F-44E9-4DBF-86DE-C47B92AB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4E3-845D-4378-8AEA-C75923A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8C7-5945-4AD5-96C1-041E446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84D-4C83-488C-A315-68FCADED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421-6FDE-43A4-8BBF-B9AF42C8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614-EB3F-482E-B0EE-85C2BFA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54E-B69F-41F5-B904-084540D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942-6205-40C3-B3C6-5C9E2601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260-50F0-4ADE-AC88-23B3A85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98A-6210-4B4E-BCB0-5AA95CBDF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IONALS/JMAP_SOLUTIONS_ADDITION_AND_SUBTRACTION_OF_RATION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TIONALS/JMAP_SOLUTIONS_ADDITION_AND_SUBTRACTION_OF_RATION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tion and Subtraction of Rat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3"/>
          <p:cNvGraphicFramePr/>
          <p:nvPr/>
        </p:nvGraphicFramePr>
        <p:xfrm>
          <a:off x="0" y="0"/>
          <a:ext cx="90378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3"/>
          <p:cNvGraphicFramePr/>
          <p:nvPr/>
        </p:nvGraphicFramePr>
        <p:xfrm>
          <a:off x="0" y="0"/>
          <a:ext cx="9037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2816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2:17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27:24Z</dcterms:modified>
  <cp:revision>12</cp:revision>
  <dc:subject/>
  <dc:title> RATIONALS:  Addition and Subtraction of Rationals </dc:title>
</cp:coreProperties>
</file>