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4E84-B1FC-4722-BA40-8D4E5A0D3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1580-2850-4005-A0EF-624F38D26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5748-73C9-4090-B57C-C7E633B58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7FC0-CEC0-4494-AF1D-751BB74F0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D631-AA76-4387-8F59-F3923F212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64E2-ADC4-4AFE-937A-A9FE077F2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4E16-3427-46BB-AD8D-15A6422AC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D59-D2DB-456B-8228-40C48F018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2C5-99EE-4A74-A121-58EFC565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081-F10E-4CFF-97C8-D4E2FE5E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18D-7697-4739-BEB0-F0092A16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79B-7D0B-47C1-AD5C-E3A9185E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D81-D831-4C41-92E7-64A230A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0A8-5D10-4E8D-9DCB-6B031ED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DDD-E20A-45EE-B454-E5EBB9A8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FD3-03C3-4F5C-8B95-5723EC9B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1F7-F12B-4C6D-AEB8-8289E31A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E54-AE6D-4346-B09B-1FE3287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F4F-F82F-41D2-8109-55F2B1BD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43C-3A55-4BF4-99F3-74A312D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CF25-0DC7-4CDE-84F1-285C17FC4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PROBABILITY_OF_MULTIPLE_EVENT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PROBABILITY_OF_MULTIPLE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PROBABILITY_OF_MULTIPLE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PROBABILITY_OF_MULTIPLE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 of Multiple Ev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2:19:5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3:49:39Z</dcterms:modified>
  <cp:revision>8</cp:revision>
  <dc:subject/>
  <dc:title> PROBABILITY:  Probability of Multiple Events </dc:title>
</cp:coreProperties>
</file>