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46A9-648B-4BC6-8CAB-CF1431562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DF4-DF9F-41BE-AE63-38751E9CC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2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C179-8BD7-402F-A1C5-FB6C06F23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0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AC8D-FB56-46B9-8F86-F2762D122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1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0E48-4D35-4779-B5C8-8769C397A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4b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342E-3962-4413-A2A0-CEFA5CC1A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372-277B-452A-BE06-286EFDE9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B69-E196-4F3D-9FB5-B8E2BDFE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E97-E0E3-4941-9DE9-0EDEED84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636-9B92-49E5-B9B3-8C870F91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8DA-6FAE-4B81-82D3-65A197B9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D38-1249-40E2-A91B-2DB697AC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D97-1196-4E3F-9948-CF6945BC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2CA-58CB-4CA0-935A-BD12BF24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4C8-013E-4A34-9DDC-76823C58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9F8-18DF-47C4-84AE-11F85A5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D89-589C-48C4-9F08-5330FB53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D6C-F6C1-42FA-AC4C-24824C1F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4190-2801-4540-9CAE-6055B25C4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RELATING_GRAPHS_TO_EVENT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ng Graphs to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9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322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70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-2133720" y="0"/>
            <a:ext cx="8991720" cy="511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293040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6:40:5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3T21:07:21Z</dcterms:modified>
  <cp:revision>8</cp:revision>
  <dc:subject/>
  <dc:title> GRAPHS AND STATISTICS:  Relating Graphs to Events </dc:title>
</cp:coreProperties>
</file>