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jpeg" ContentType="image/jpeg"/>
  <Override PartName="/ppt/media/image2.wmf" ContentType="image/x-wmf"/>
  <Override PartName="/ppt/media/image25.wmf" ContentType="image/x-wmf"/>
  <Override PartName="/ppt/media/image4.wmf" ContentType="image/x-wmf"/>
  <Override PartName="/ppt/media/image26.wmf" ContentType="image/x-wmf"/>
  <Override PartName="/ppt/media/image14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.jpeg" ContentType="image/jpeg"/>
  <Override PartName="/ppt/media/image1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00CA4-F168-456C-8A4E-E640D67AC8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05CDE-FD70-417C-A269-F73BA3BC4C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20a  QUADRATICS: Solving Quadratic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24389-AB3D-4ABC-A703-5833E34FB9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14a  QUADRATICS: Solving Quadratic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292CA-B809-4D6F-82DC-B59D7AD452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26a  QUADRATICS: Solving Quadratic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44B93-9A4F-4570-9A7E-A9DB068ED9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29a  QUADRATICS: Solving Quadratic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FD43A-F162-434C-BFDA-3B635DF707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37a  QUADRATICS: Solving Quadratic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FC123-8F99-4D53-85CF-BB13F23FA5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25a  QUADRATICS: Solving Quadratic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95843-84CB-4499-9C01-5815AFFDD3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33a  QUADRATICS: Solving Quadratic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4CE94-87AC-4AAE-A3AE-017F8ED987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27a  QUADRATICS: Solving Quadratic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3E254-DD5D-47DB-999C-715886847B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26a  QUADRATICS: Solving Quadratic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E5588-822C-4E59-A483-019199274C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36a  QUADRATICS: Solving Quadratic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55968-721A-4554-90EC-984EEEBEB2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09a  QUADRATICS: Solving Quadratic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DFE9F-D2CC-4511-A564-5D8BFDE8B2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31a  QUADRATICS: Solving Quadratic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9311C-8616-4C0E-B7B9-0272680D65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28a  QUADRATICS: Solving Quadratic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2F3C8-8CEC-45A6-8E62-0AFD1F045E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34a  QUADRATICS: Solving Quadratic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33E5C-9720-473B-9765-5F619E8D09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30a  QUADRATICS: Solving Quadratic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AD937-4957-4D44-B53B-92284E3A6E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06b  QUADRATICS: Solving Quadratic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02F4E-0B28-4E81-BF68-DE012CA44D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22a  QUADRATICS: Solving Quadratic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E5C53-AAF5-43D1-9EE4-25CC739DCA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15a  QUADRATICS: Solving Quadratic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86CED-AB08-4C88-96D4-94AFD47807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27a  QUADRATICS: Solving Quadratic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44A80-CBD6-4F55-B99A-A8D047DAFC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12a  QUADRATICS: Solving Quadratic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DAED9-45B6-48F4-B485-9933E8BDA7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25a  QUADRATICS: Solving Quadratic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6710B-C24F-40A6-A7B5-35855305F6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18a  QUADRATICS: Solving Quadratic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DC2D0-B820-475A-A933-8913DE0AB2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13a  QUADRATICS: Solving Quadratic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8CC03-EE79-4C43-AB0A-440F2DC021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D12D-C230-451E-AECE-CECDD9F98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92A9-9B40-4ABE-9AB7-505C664B0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A3B3-2984-4AF4-B71A-25E7F4D3D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ADDC-F099-47C7-B5AD-7F3B871DE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4155-4603-459D-BF32-ADC3D7810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6AF3-93C5-4E4A-BED2-CF8A83AAF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0EC1-4AB2-4341-B696-B9D8AC6B8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7D50-A135-409B-BB3F-5C80ADFAB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C026-5466-4D8E-B19F-F14CE6BC5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DA3F-35A5-4D22-AEDD-714A27EB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32D4-8262-45A6-A28D-D86DE479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3533-DB00-4A73-954A-80566191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E1B8B-9824-4FC6-8112-855C943516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QUADRATICS/JMAP_SOLUTIONS_SOLVING_QUADRATICS_BY_FACTORING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hyperlink" Target="http://www.jmap.org/JMAP/JMAPSolutions/QUADRATICS/JMAP_SOLUTIONS_SOLVING_QUADRATICS_BY_FACTORING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hyperlink" Target="http://www.jmap.org/JMAP/JMAPSolutions/QUADRATICS/JMAP_SOLUTIONS_SOLVING_QUADRATICS_BY_FACTORING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hyperlink" Target="http://www.jmap.org/JMAP/JMAPSolutions/QUADRATICS/JMAP_SOLUTIONS_SOLVING_QUADRATICS_BY_FACTORING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hyperlink" Target="http://www.jmap.org/JMAP/JMAPSolutions/QUADRATICS/JMAP_SOLUTIONS_SOLVING_QUADRATICS_BY_FACTORING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hyperlink" Target="http://www.jmap.org/JMAP/JMAPSolutions/QUADRATICS/JMAP_SOLUTIONS_SOLVING_QUADRATICS_BY_FACTORING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hyperlink" Target="http://www.jmap.org/JMAP/JMAPSolutions/QUADRATICS/JMAP_SOLUTIONS_SOLVING_QUADRATICS_BY_FACTORING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hyperlink" Target="http://www.jmap.org/JMAP/JMAPSolutions/QUADRATICS/JMAP_SOLUTIONS_SOLVING_QUADRATICS_BY_FACTORING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hyperlink" Target="http://www.jmap.org/JMAP/JMAPSolutions/QUADRATICS/JMAP_SOLUTIONS_SOLVING_QUADRATICS_BY_FACTORING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hyperlink" Target="http://www.jmap.org/JMAP/JMAPSolutions/QUADRATICS/JMAP_SOLUTIONS_SOLVING_QUADRATICS_BY_FACTORING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hyperlink" Target="http://www.jmap.org/JMAP/JMAPSolutions/QUADRATICS/JMAP_SOLUTIONS_SOLVING_QUADRATICS_BY_FACTORING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hyperlink" Target="http://www.jmap.org/JMAP/JMAPSolutions/QUADRATICS/JMAP_SOLUTIONS_SOLVING_QUADRATICS_BY_FACTORING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hyperlink" Target="http://www.jmap.org/JMAP/JMAPSolutions/QUADRATICS/JMAP_SOLUTIONS_SOLVING_QUADRATICS_BY_FACTORING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hyperlink" Target="http://www.jmap.org/JMAP/JMAPSolutions/QUADRATICS/JMAP_SOLUTIONS_SOLVING_QUADRATICS_BY_FACTORING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image" Target="../media/image24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hyperlink" Target="http://www.jmap.org/JMAP/JMAPSolutions/QUADRATICS/JMAP_SOLUTIONS_SOLVING_QUADRATICS_BY_FACTORING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hyperlink" Target="http://www.jmap.org/JMAP/JMAPSolutions/QUADRATICS/JMAP_SOLUTIONS_SOLVING_QUADRATICS_BY_FACTORING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hyperlink" Target="http://www.jmap.org/JMAP/JMAPSolutions/QUADRATICS/JMAP_SOLUTIONS_SOLVING_QUADRATICS_BY_FACTORING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hyperlink" Target="http://www.jmap.org/JMAP/JMAPSolutions/QUADRATICS/JMAP_SOLUTIONS_SOLVING_QUADRATICS_BY_FACTORING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hyperlink" Target="http://www.jmap.org/JMAP/JMAPSolutions/QUADRATICS/JMAP_SOLUTIONS_SOLVING_QUADRATICS_BY_FACTORING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hyperlink" Target="http://www.jmap.org/JMAP/JMAPSolutions/QUADRATICS/JMAP_SOLUTIONS_SOLVING_QUADRATICS_BY_FACTORING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hyperlink" Target="http://www.jmap.org/JMAP/JMAPSolutions/QUADRATICS/JMAP_SOLUTIONS_SOLVING_QUADRATICS_BY_FACTORING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ADRATIC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lving Quadratics by Facto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2"/>
          <p:cNvGraphicFramePr/>
          <p:nvPr/>
        </p:nvGraphicFramePr>
        <p:xfrm>
          <a:off x="0" y="0"/>
          <a:ext cx="9037800" cy="301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2"/>
          <p:cNvGraphicFramePr/>
          <p:nvPr/>
        </p:nvGraphicFramePr>
        <p:xfrm>
          <a:off x="0" y="0"/>
          <a:ext cx="9037800" cy="301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Object 2"/>
          <p:cNvGraphicFramePr/>
          <p:nvPr/>
        </p:nvGraphicFramePr>
        <p:xfrm>
          <a:off x="0" y="0"/>
          <a:ext cx="903780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Object 2"/>
          <p:cNvGraphicFramePr/>
          <p:nvPr/>
        </p:nvGraphicFramePr>
        <p:xfrm>
          <a:off x="0" y="0"/>
          <a:ext cx="903780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Object 2"/>
          <p:cNvGraphicFramePr/>
          <p:nvPr/>
        </p:nvGraphicFramePr>
        <p:xfrm>
          <a:off x="0" y="0"/>
          <a:ext cx="903780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9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Object 2"/>
          <p:cNvGraphicFramePr/>
          <p:nvPr/>
        </p:nvGraphicFramePr>
        <p:xfrm>
          <a:off x="0" y="0"/>
          <a:ext cx="903780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2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Object 2"/>
          <p:cNvGraphicFramePr/>
          <p:nvPr/>
        </p:nvGraphicFramePr>
        <p:xfrm>
          <a:off x="0" y="0"/>
          <a:ext cx="911052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1052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Object 2"/>
          <p:cNvGraphicFramePr/>
          <p:nvPr/>
        </p:nvGraphicFramePr>
        <p:xfrm>
          <a:off x="0" y="0"/>
          <a:ext cx="894564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4564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8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Object 2"/>
          <p:cNvGraphicFramePr/>
          <p:nvPr/>
        </p:nvGraphicFramePr>
        <p:xfrm>
          <a:off x="0" y="0"/>
          <a:ext cx="8945640" cy="300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45640" cy="30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1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Object 2"/>
          <p:cNvGraphicFramePr/>
          <p:nvPr/>
        </p:nvGraphicFramePr>
        <p:xfrm>
          <a:off x="0" y="0"/>
          <a:ext cx="912816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4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9037800" cy="301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Object 2"/>
          <p:cNvGraphicFramePr/>
          <p:nvPr/>
        </p:nvGraphicFramePr>
        <p:xfrm>
          <a:off x="0" y="0"/>
          <a:ext cx="8945640" cy="23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4564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7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Object 2"/>
          <p:cNvGraphicFramePr/>
          <p:nvPr/>
        </p:nvGraphicFramePr>
        <p:xfrm>
          <a:off x="0" y="0"/>
          <a:ext cx="8945640" cy="714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45640" cy="714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0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Object 2"/>
          <p:cNvGraphicFramePr/>
          <p:nvPr/>
        </p:nvGraphicFramePr>
        <p:xfrm>
          <a:off x="0" y="0"/>
          <a:ext cx="9021600" cy="34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21600" cy="34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3" name="Picture 2" descr=""/>
          <p:cNvPicPr/>
          <p:nvPr/>
        </p:nvPicPr>
        <p:blipFill>
          <a:blip r:embed="rId3"/>
          <a:stretch/>
        </p:blipFill>
        <p:spPr>
          <a:xfrm>
            <a:off x="1828800" y="3581280"/>
            <a:ext cx="5178600" cy="3151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C:\Users\HP_Administrator\Pictures\My Pictures\Thomas Jefferson.jpg"/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0" y="0"/>
          <a:ext cx="9037800" cy="437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3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7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Object 2"/>
          <p:cNvGraphicFramePr/>
          <p:nvPr/>
        </p:nvGraphicFramePr>
        <p:xfrm>
          <a:off x="0" y="0"/>
          <a:ext cx="902160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216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0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0" y="0"/>
          <a:ext cx="9037800" cy="470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70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0" y="0"/>
          <a:ext cx="9037800" cy="303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0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0" y="0"/>
          <a:ext cx="9037800" cy="27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0" y="0"/>
          <a:ext cx="9037800" cy="33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3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2"/>
          <p:cNvGraphicFramePr/>
          <p:nvPr/>
        </p:nvGraphicFramePr>
        <p:xfrm>
          <a:off x="0" y="0"/>
          <a:ext cx="91440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0" y="0"/>
          <a:ext cx="9037800" cy="303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0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0" y="0"/>
          <a:ext cx="9037800" cy="303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0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13:08:55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5T23:54:06Z</dcterms:modified>
  <cp:revision>15</cp:revision>
  <dc:subject/>
  <dc:title> QUADRATICS:  Solving Quadratics by Factoring </dc:title>
</cp:coreProperties>
</file>