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221-7F0C-4FBB-895B-1700B31D6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4BB-FE0E-4CEE-9747-435F2529F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E5D7-5071-4E95-9BDA-B2F18B1CA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8D0-1E8C-4337-8256-1DF724E48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3D9A-55C7-4BCC-8CE6-6E7ADD3D5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2EA-386A-4416-9BAA-DC955EC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3D3-D687-44B1-9176-BA565E6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CFF-A7B8-4BB4-9F82-0F615B9D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B98-4329-4619-9DCB-3FE62E02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AEA-C4C3-450A-A552-B93825F3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DBC-68B9-426C-8F4F-3FE4E6D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56C-9C79-4250-9AC8-A0486DF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DB3-D99F-4B10-979F-5AA113A7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300-FB21-40FE-A10B-1E45DD5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217-114F-4E20-9F87-F7220B4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15F-8F67-40B7-9087-1EFDC86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EEB-2E86-4260-8375-B53025A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A0F-018E-4E07-BE9A-3A948751C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NORMAL_PROBABI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42:0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36:50Z</dcterms:modified>
  <cp:revision>7</cp:revision>
  <dc:subject/>
  <dc:title> PROBABILITY:  Normal Probability </dc:title>
</cp:coreProperties>
</file>