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4A6B-93C5-41B8-942D-5424E6C68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3B9A-C079-49B9-B4B4-39204D01E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1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65E7-1DBC-423F-803C-12B2E4FDA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3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5143-7313-44F5-91EA-BDD88C20B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1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FF87-C1B7-49DF-980B-A92C9FA371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0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A3C0-2E81-4A15-838D-8D012B975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6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F913-F227-4F65-94C5-76C17D52C3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1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7683-586F-40E8-9598-2F469A1F0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1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639D-2CA9-49E0-88E5-F5952F2819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1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3BEC-32FB-4D58-ADCE-6CA8FDA1D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3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9D13-549D-459A-A895-AD12B7E5A5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5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B05F-3373-4A98-B49F-D018A3D11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1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8DD6-450F-4934-9691-6E8A466C8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5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9D4F-700E-42CA-8EDB-0CD480EEBD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2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24B8-E8BF-4FC0-86DD-F923B4BB5D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34F7-186B-4BED-8DF3-F6779FA4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EC6C-CF32-486C-AE5F-4588E5A9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B39-26A7-4AA5-98D3-B7893411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9253-FC1E-4F1E-800B-0FC0CDA3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6EB3-DBE5-43DA-87EC-49314D1A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BB16-0084-45A5-8B86-AEA6C1C4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0CB3-4694-425D-AF2D-881FA5C2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32CE-ABCF-4948-B271-75500C31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4C0D-941B-4E4C-8F87-DBF9A35D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C0D1-D886-4C95-A3A9-27A8DCE1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70D7-8997-4A37-9001-712B4862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28DB-660C-4FB5-AE77-2E663731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D7E5-C334-4C22-A92C-C29071B70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FUNCTIONS/JMAP_SOLUTIONS_DEFINING_FUNCT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UNC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fining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300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51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349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09080" cy="6411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1981080" y="0"/>
            <a:ext cx="5181840" cy="6095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27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21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629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0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023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47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523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613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06:32:2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5:29:12Z</dcterms:modified>
  <cp:revision>13</cp:revision>
  <dc:subject/>
  <dc:title> FUNCTIONS:  Defining Functions </dc:title>
</cp:coreProperties>
</file>