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6D96-ABED-42B4-8E30-5EDE0A5AC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51CA-E7B3-4898-81B5-1E5B729CB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887-C7E7-4FAE-8836-226C87C6C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8FC6-0380-4B10-A50B-07735B2BF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97E-843D-48CC-8962-D64FE43DE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DED-55B2-40DF-AA04-AA822BCDE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408-CF55-4DBB-8245-FCEBCDA07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DC7D-3019-482C-AE56-7AC002627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F141-665D-4860-B0F0-6F9A853DC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5383-7AC5-4BBF-A316-680F5A79D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CE2-89B7-4B57-81E5-5964939BC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800-1CA6-4C50-9D8D-8F02FC662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19F-F36E-4025-8EDE-91625C474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1249-A273-44D7-8465-BB0EAA38F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32A-06E0-4271-AC68-D6A08B947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A1C7-1C5C-4422-899B-044953EFB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097-D243-4623-A295-7E1866349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5B33-4345-41CF-96D3-76CED2363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02AA-57AC-4EB6-B6BC-9239AAA2E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69E6-A5BE-4525-955C-0329D911A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122-7C99-4B1D-9743-EA216A8D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047-C2A2-4CCF-8FD6-C8C4832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482-656E-4495-87D1-74EFD294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F72-CB31-48AE-B1BA-A5790631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CAC-21AB-400C-977D-6B95203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BF2-20F2-4620-820A-739EC8F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DC5-FFEC-4258-A6E4-B42C1128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174-B1D3-4BA3-9D9E-3A16BD5E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4CB-1717-49C6-8F73-300D636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388-3674-4C1F-AC47-6D354F9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38F-3710-4012-9939-F380B16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DA8-D3C0-4309-9A78-1A49B1F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E678-0B04-49BC-9D21-7D46336EC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UNIT_CIRC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Circ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1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3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4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8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8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4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4" descr=""/>
          <p:cNvPicPr/>
          <p:nvPr/>
        </p:nvPicPr>
        <p:blipFill>
          <a:blip r:embed="rId1"/>
          <a:stretch/>
        </p:blipFill>
        <p:spPr>
          <a:xfrm>
            <a:off x="0" y="163440"/>
            <a:ext cx="9109080" cy="650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5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67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0:15:19Z</dcterms:modified>
  <cp:revision>11</cp:revision>
  <dc:subject/>
  <dc:title> ANGLES:  Unit Circle</dc:title>
</cp:coreProperties>
</file>