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57E13-FA20-422C-A0DA-C759E98557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45F96-01A8-48DE-A831-23F244A372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03b  CONICS: Chords, Secants and Tan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16FD9-CD6B-4692-8BE9-97340F5485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03b  CONICS: Chords, Secants and Tan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BABB7-443E-4D6B-A98B-AB4696797B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07b  CONICS: Chords, Secants and Tan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F917F-DB51-45AB-884C-156F7D02A2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29b  CONICS: Chords, Secants and Tan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E973A-2702-4BA8-955E-DD6DB2EC70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09b  CONICS: Chords, Secants and Tan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89E53-A037-4BE0-94AC-28712E9A30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21b  CONICS: Chords, Secants and Tan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2CE04-6CCC-4C02-B54A-4CCAA0E431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32b  CONICS: Chords, Secants and Tan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6D9E2-06CC-4F3E-97ED-2F0D3F7A7E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03b  CONICS: Chords, Secants and Tan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9D16A-5B8D-41B0-8DF6-09A86D43D8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33b  CONICS: Chords, Secants and Tan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18959-D5A0-48D3-A5F3-35F048F448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19b  CONICS: Chords, Secants and Tan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3FB98-FEAE-4133-A127-1B0275595E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18b  CONICS: Chords, Secants and Tan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C4312-4D8C-46DE-BA9A-854DB56489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23b  CONICS: Chords, Secants and Tan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07E95-B968-4C35-BB9C-02A44AE5FE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34b  CONICS: Chords, Secants and Tan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E0935-91D3-4225-8151-81B02B2D50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33b  CONICS: Chords, Secants and Tan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426A3-99DE-4B5B-BF96-C06B4B011A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33b  CONICS: Chords, Secants and Tan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00B35-E0E5-47AF-B8DA-D75FB43103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13b  CONICS: Chords, Secants and Tan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839E3-DFF2-4BCF-BD7D-D4CBA450ED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10b  CONICS: Chords, Secants and Tan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F9B4B-E700-49D4-B616-8041A04ED0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08b  CONICS: Chords, Secants and Tan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2CD72-AEDE-4A86-8EBA-0D044FF802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03b  CONICS: Chords, Secants and Tan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5647F-40E8-4E41-BA77-9C5F6CE5E3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22b  CONICS: Chords, Secants and Tan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09DCD-EEDF-4752-97E6-FF5A4C24F5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23b  CONICS: Chords, Secants and Tan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2DC83-8A5A-4C24-AB0E-FA5123D4A6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25b  CONICS: Chords, Secants and Tan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C62C8-B263-4F4C-9580-A705472C9B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BAD1-5536-4247-AB5B-777BC5E29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7CA8-1750-49B8-A744-BA019D53F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918F-2F3B-45AC-85A6-F71F96880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DFF7-66E3-438B-BB83-4E416C54F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E91A-89C4-4FCD-AF04-A57D763CA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474F-7E0F-4B2A-91C3-F56326141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14D5-3FD3-4CA3-8CF6-73517B4BE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2C7F-6928-43E9-8E4A-ED60119BF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889D-AAFB-40B1-A157-9EF2836FC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6C75-CEE4-43E0-8CD5-CF4F62AE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01D2-27DB-4613-9053-FDBF602C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9BC6-939E-4861-BAD1-156775F9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D49C4-DBC1-401F-8BF8-8EA8AFB8FF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NIC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ords Secants and Tang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7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6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677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0" y="0"/>
          <a:ext cx="909000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Object 4"/>
          <p:cNvGraphicFramePr/>
          <p:nvPr/>
        </p:nvGraphicFramePr>
        <p:xfrm>
          <a:off x="0" y="4343400"/>
          <a:ext cx="9090000" cy="15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343400"/>
                    <a:ext cx="9090000" cy="15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2" name="Picture 5" descr=""/>
          <p:cNvPicPr/>
          <p:nvPr/>
        </p:nvPicPr>
        <p:blipFill>
          <a:blip r:embed="rId5"/>
          <a:stretch/>
        </p:blipFill>
        <p:spPr>
          <a:xfrm>
            <a:off x="3124080" y="1981080"/>
            <a:ext cx="259092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52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Object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09080" cy="535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73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0T15:06:27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6T09:22:47Z</dcterms:modified>
  <cp:revision>16</cp:revision>
  <dc:subject/>
  <dc:title> CONICS:  Chords Secants and Tangents </dc:title>
</cp:coreProperties>
</file>