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F98-8A26-4154-89E4-B70C0A09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E693-F8E5-4C3A-BA05-CBB97E54B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80F-A19A-4E9B-8BC3-7CA2E7440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B06B-B5AF-4A80-8218-108C82261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046-B987-44EE-A9F5-88E3E4E41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5E5-AD72-4F67-9B5B-AE389CE36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AB5-8EF1-40D9-84BB-8E8C633E8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44EF-DD8E-4202-B954-C5DA391C4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14BA-5475-4DA8-AAAD-21CD5A7EE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7AA-49AA-4254-A3F2-E2BD4B809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b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3FE1-99BB-4E2E-A207-A4DAD0403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702-2374-43A5-8929-3D71D73FC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9F7-F74D-4F5D-95CB-FF1BEBFCB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EAFB-F179-4BBF-93AD-8952A744D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7BB-0219-418D-A1C7-8BD54CEDC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423-B9E1-4EAB-B080-FA27DE037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0086-6B9E-4149-AF3A-CAFB31FE5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82F-EA3C-4EBF-90CE-3658FB928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CC7D-7661-4A6A-A50D-2CFFB3F17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1BD-9EED-47F5-AA06-CADB49CE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6CD-26CF-4EA0-9459-CD111554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456-5497-40BC-B373-5230894C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F87-A4B0-4BC4-AC4B-CB12E617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DA4-312A-4969-84BA-8B06D33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D1E-E28A-43F6-85CC-4DC1FF8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829-81F4-428F-A3B0-209A6AD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AFF-A5DF-499D-B176-975D526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77A-FF6E-4669-9A85-458F860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02D-5528-4F31-8848-435DD30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571-EAA2-4B8D-AE6E-8248355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7B6-AF4A-4AFD-B997-67C272C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465E-B962-47A1-BFF0-9AF226F9C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-22320"/>
            <a:ext cx="9013680" cy="680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886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58:4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27:25Z</dcterms:modified>
  <cp:revision>8</cp:revision>
  <dc:subject/>
  <dc:title> SOLIDS AND SIMILARITY:  Similarity</dc:title>
</cp:coreProperties>
</file>