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3455-9F39-4BF3-8419-7F912EDF6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6BD5-1343-4FD5-ADAA-E14F04C65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4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EE13-9B0B-4581-B312-71EA9E820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6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9F7A-0779-4860-A8E2-EEC241DD9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2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5AEB-F5E3-4FEB-93F5-27A75C1BF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3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D6A2-AA4D-427E-BA8A-78FA10F78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8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13CF-94A6-4858-8D6D-FAA7E6722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7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B437-75BE-494D-ADCB-ECD1CBB53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4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203C-8FF5-405E-820E-6AD430907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4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9177-F466-4464-883E-02C94FD5C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68E-1D00-4C80-96E3-59EF6AF9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AE95-38A9-49F4-A35B-8DBD82E0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C92-400E-4A6A-AEF6-00A6D80E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1F2-80E7-4402-8218-E6D46901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EC54-791A-46D4-A50E-5F432018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BC4-8EA2-478B-A311-5B29E9C2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309-1555-46AD-9055-1783437F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9E5-38D3-42AD-B7A9-33815337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CD0-FFFC-4BF8-9706-168B8FE2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0E9-ED8F-480E-B864-E468E73F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066-6FD0-40D1-BBB1-325F50EC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AC4-187D-4ADA-BAAF-15785AD3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FCD6-373C-40B2-90A0-C1F218285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IONALS/JMAP_SOLUTIONS_RATIONAL_FUNC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TIONALS/JMAP_SOLUTIONS_RATION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TIONALS/JMAP_SOLUTIONS_RATION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RATIONALS/JMAP_SOLUTIONS_RATION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TIONALS/JMAP_SOLUTIONS_RATION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RATIONALS/JMAP_SOLUTIONS_RATION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68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8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61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1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60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8945640" cy="31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1"/>
          <p:cNvGraphicFramePr/>
          <p:nvPr/>
        </p:nvGraphicFramePr>
        <p:xfrm>
          <a:off x="0" y="0"/>
          <a:ext cx="9037800" cy="30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0:24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7:45:43Z</dcterms:modified>
  <cp:revision>8</cp:revision>
  <dc:subject/>
  <dc:title> RATIONALS:  Rational Functions </dc:title>
</cp:coreProperties>
</file>