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8ED-4414-4A36-A795-4D35C8A33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4BF2-F2AA-46BF-B604-164E4CFD4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00C-4BCA-4EF7-A4F2-34F443E1F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DEC-4A82-4E25-856D-042FC3162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F29D-F0CC-464E-8D87-838C05885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CADE-1226-4068-AD4D-6FBCC353A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246-4972-4D4E-BBFC-3F710252B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6ADC-55BB-4489-BDF5-046CCDB34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DE3D-F4E1-4E0F-870B-43D62CE9F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0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EBD3-5700-454C-8887-E24EF9644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0AA-1EB8-425C-94DD-E75F40B26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AC0-CD85-4AC6-A4B8-ABCB8BB50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437-60BB-488F-B858-20D252CA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7A6-CE0A-423F-9F8D-7B946486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3D9-E433-4E0B-8B3A-AC0B96D4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E86-5D75-4912-92DB-D4332F75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BD6-BEF8-4F01-A470-92B46E8C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1DF-1D8C-44EA-BAE8-EA79C149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25D-1986-44DA-AEB8-911BB18B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F0B-3DC5-4EDB-AF88-4EEE872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B8F-F192-4D7B-B0AC-8CC83612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A61-AABD-4CC3-8437-36199BA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290-1B0A-49FB-84C0-1AD666B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3E9-0D8F-42E4-A751-B64C91E2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3FEB-79F3-46B0-B78A-745460DF3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SYSTEMS/JMAP_SOLUTIONS_BREAK_EVE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hyperlink" Target="http://www.jmap.org/JMAP/JMAPSolutions/SYSTEMS/JMAP_SOLUTIONS_BREAK_EVE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http://www.jmap.org/JMAP/JMAPSolutions/SYSTEMS/JMAP_SOLUTIONS_BREAK_EVE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hyperlink" Target="http://www.jmap.org/JMAP/JMAPSolutions/SYSTEMS/JMAP_SOLUTIONS_BREAK_EVE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eak 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78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272040" cy="56689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5" descr=""/>
          <p:cNvPicPr/>
          <p:nvPr/>
        </p:nvPicPr>
        <p:blipFill>
          <a:blip r:embed="rId3"/>
          <a:stretch/>
        </p:blipFill>
        <p:spPr>
          <a:xfrm>
            <a:off x="0" y="2994120"/>
            <a:ext cx="9090000" cy="3765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14800" cy="410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3772080" cy="377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2:04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34:37Z</dcterms:modified>
  <cp:revision>9</cp:revision>
  <dc:subject/>
  <dc:title> SYSTEMS:  Break Even </dc:title>
</cp:coreProperties>
</file>