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1F9A-BD18-4048-A679-192DD85DD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3739-196B-4F44-BF66-93DDE256F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2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93C-A820-4FD7-9E78-787E09DFB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2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CD2F-BEB0-4ED4-96D7-8FF268159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6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7888-7714-4E26-86C4-781C07945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5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79F8-36F1-4C61-AB32-CB0156465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1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FAC8-1B47-4C52-B3CD-814C0C3B0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50AA-0578-4362-98E9-9793C53BD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7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B694-6656-4078-8464-3CD9C44A8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D919-3755-4DEC-AD62-830AA9281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3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566D-FDFB-43A2-A85F-6C11A5318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6C38-7FDD-40EB-A778-C58849695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9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AD7A-E92B-4018-9B89-B5091F518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7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BEBD-CA1E-4633-A0A9-2CB165B7D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95B-DF0A-4EEC-980C-9E8F1952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CF1-5D58-4459-B556-35D93D5A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A2A-6F6B-4330-9D95-EFD80528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E60-7CE4-4AE4-89C7-5BD51C51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1EF-03B7-4199-AD96-03A63E10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955-7C34-48E8-A415-93434302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235-4DD9-4D5E-90F7-9A94851E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8E9-58DD-40B1-82C8-08BDEAED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FC8-B387-4CCF-9D53-40B8D75D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E65-E0E6-4D8E-909A-D24FC2A1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046-7A9E-4931-A438-92E49AC2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3C4-1636-4F1D-BD7D-5E60824B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3740-9A69-403A-8162-E34615FE5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RADICALS/JMAP_SOLUTIONS_EXPONENTS_AS_RADIC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RADICALS/JMAP_SOLUTIONS_EXPONENTS_AS_RADIC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nents as Ra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2816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8945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4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0" y="0"/>
          <a:ext cx="900756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0756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4:33:1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7:10:28Z</dcterms:modified>
  <cp:revision>11</cp:revision>
  <dc:subject/>
  <dc:title> RADICALS:  Exponents as Radicals </dc:title>
</cp:coreProperties>
</file>