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A4E-910F-4171-AA4F-431753A45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D54-7255-4A94-8C98-5ECDE29B9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3279-436C-4033-A9E3-9970A5A2A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C686-3DEA-4F23-B2D7-3755D1E09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9A35-F5C2-4A6E-ACE3-8D1DCC51E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543-3C1F-4B42-93CC-CA49854B5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DF0E-2439-4E62-8C4D-723A28BFF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D7A-39A9-41E4-8648-EB79D44A5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07B-4747-44D0-A1E2-628C4E26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060-C69A-4DDC-B7F5-DB10673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475-0EF5-40E7-8427-19BB93EF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3D8-0281-4D51-A393-1A04A937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6EB-7D19-4443-AC53-94D966F1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B29-FC08-46F7-8461-2AB26D2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853-5B96-40BA-AAB4-66E2C97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0A3-44AE-4164-983B-6E807725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D38-A6BA-4CB8-AB3B-FC9D810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869-E849-4968-9CEA-64943C7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5E1-FD0F-4D3C-AB9A-CCA0849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510-0888-49B6-8256-D94C470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677-39E1-46EA-986A-B2AB1551A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ome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0:56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1:13Z</dcterms:modified>
  <cp:revision>6</cp:revision>
  <dc:subject/>
  <dc:title> TRANSFORMATIONS:  Isometries</dc:title>
</cp:coreProperties>
</file>