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1A54-9917-44BA-8CAA-0DFDEAE916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853D-0131-4E15-BBB8-573B47A45C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2a  NUMBERS OPERATIONS AND PROPERTIES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ng Variable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2E4E-D788-4C02-8030-34117A7DDF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8a  NUMBERS OPERATIONS AND PROPERTIES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ng Variable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A499-D73B-4EA5-A2EE-03A9C5F12D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15a  NUMBERS OPERATIONS AND PROPERTIES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ng Variable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BDDE-1897-4DB0-B0CB-D1AA8D1DC5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6a  NUMBERS OPERATIONS AND PROPERTIES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ng Variable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B527-1A84-423D-85A2-73B6BAE54E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6a  NUMBERS OPERATIONS AND PROPERTIES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ng Variable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7172-755A-40D8-B2BB-AD17725B5B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7a  NUMBERS OPERATIONS AND PROPERTIES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ng Variable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D3D9-CCC1-4CD7-980B-B07EE60303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3B1C-B84C-4AC0-8634-B9069239F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27F8-97DA-4C21-B33F-FBED9B25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0902-A9ED-44DB-9847-56EA5D81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5C55-FD90-4E94-B65A-0F8D846A1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DF35-AB3F-4158-B343-1EAC0246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2830-6C03-4FEC-8371-D64C0C08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7CA6-531F-42D6-AB3D-4D16F071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D91C-0F84-46AB-9FC7-1932381F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D3B8-86F6-4C34-B57A-F37E3238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B47F-CD73-48A7-99CD-1DB63F36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2FC1-385A-4638-BD57-5CA637A4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827C-E365-457F-B6EA-2DC0235F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7386-E9EB-4983-9CE2-660FE985F2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NUMBERS_OPERATIONS_AND_PROPERTIES/JMAP_SOLUTIONS_EVALUATING_VARIABLE_EXPRESSION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NUMBERS_OPERATIONS_AND_PROPERTIES/JMAP_SOLUTIONS_EVALUATING_VARIABLE_EXPRESS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NUMBERS_OPERATIONS_AND_PROPERTIES/JMAP_SOLUTIONS_EVALUATING_VARIABLE_EXPRESS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NUMBERS_OPERATIONS_AND_PROPERTIES/JMAP_SOLUTIONS_EVALUATING_VARIABLE_EXPRESS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NUMBERS_OPERATIONS_AND_PROPERTIES/JMAP_SOLUTIONS_EVALUATING_VARIABLE_EXPRESS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MBER OPERATIONS AND PROPERTI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valuating Variable Expr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2666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20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1523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078840" cy="3200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666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55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08:10:07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1T21:56:30Z</dcterms:modified>
  <cp:revision>12</cp:revision>
  <dc:subject/>
  <dc:title> NUMBER OPERATIONS AND PROPERTIES:  Evaluating Variable Expressions</dc:title>
</cp:coreProperties>
</file>