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DD35-D473-4A97-ABFF-2D9734309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BA5-2417-40BC-A308-8BB867F8F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48F5-64E9-4856-B66E-AE37B8127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402-3C2C-4B9A-A58D-185567315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4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4FF1-AE36-4193-93C4-7E014E58C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1DA7-632C-4906-9688-E2D49C653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592E-8585-4215-B16E-8676F009B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1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4415-0BC3-4F27-87D8-A8268D503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6B65-2369-4038-AD58-54465AEF3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8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C1DB-00CA-422F-AC27-232E0453B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628-E805-4513-9CAC-E4A5C3D76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D85-CD4F-4277-A4BB-65F8FF7E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A0A-D64F-41CF-B75A-1D79A2E2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597-5F86-4957-8DDA-BE8CCF27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929-D91F-4B7B-A870-13DE91E3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C3A-51CE-4E23-8F9B-7524448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A9B-152C-48F2-A1E0-99AC790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076-687D-433E-8193-718F77AA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F5B-6764-4874-9AE7-083845B7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1B3-8A50-425C-81C0-5FA31FDF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461-54E2-4553-974D-CA099E8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E29-D5B4-4305-881C-B6B978F3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F1F-2971-4A33-9C4C-D242CF06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E8CB-BB51-4847-B38B-DF4387348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TE/JMAP_SOLUTIONS_SCA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5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9:56:36Z</dcterms:created>
  <dc:creator>Steve</dc:creator>
  <dc:description/>
  <dc:language>en-US</dc:language>
  <cp:lastModifiedBy>Steve</cp:lastModifiedBy>
  <dcterms:modified xsi:type="dcterms:W3CDTF">2007-10-12T05:05:16Z</dcterms:modified>
  <cp:revision>4</cp:revision>
  <dc:subject/>
  <dc:title>Slide 1</dc:title>
</cp:coreProperties>
</file>