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2DDD-46D4-45A8-8977-D359168E2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F26D-42FB-4CC7-B0F2-C33154C8E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3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C59A-572C-4965-AE8A-49BC5AAAB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2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5BA9-DBF9-4DB7-9339-6733701A8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5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AEA4-B89D-411B-9EFE-B84D3CCF4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1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432A-A30C-4F1A-9C4F-996A9E1B4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1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F7AE-E5E2-47B2-8E41-B2B057FA9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6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30FD-92AE-47CC-BCEB-9741339E7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8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CBA6-3867-4D2E-ACD8-EA3C873DB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8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DEEC-DE9E-4912-BE85-54E650F53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2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BB31-8F7C-4D1C-A31B-9A4BA1251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7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637D-01B9-401F-A92D-5D4BBDDD7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4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6DC8-3158-489E-9C7D-F520D8CAB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3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354B-F9E0-4156-9AF6-9A0B04B77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4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B071-9E6D-4554-A1CE-823FED3F3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3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345C-C3E5-4F2B-A5E5-847538BAD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4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9D77-9B19-4E75-B9CF-AD62D8328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440E-78EB-4388-A22F-99CD35DD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128E-63DC-4AA4-A838-12F39BE8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B1E-84DF-4A4F-B905-005BD155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DBF8-30ED-484D-BF51-369B538E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818-7F34-414D-8F72-733640B3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912-5941-45DA-9C6A-4DB3C71E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C0F-B40E-415B-AF41-B07C9B8B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40CB-57EB-4EA6-A446-66F3A3A7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F033-8F97-4931-83B1-EE4E9C38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FCE-E196-4A3E-B874-98E0508A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DDD-C248-4A55-A12C-F55BCFB7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190-1622-44DB-92B7-00308831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BCEB-0821-4A91-9607-62E581EE4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ROBABILITY/JMAP_SOLUTIONS_MULTIPLICATION_COUNTING_PRINCIPLE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PROBABILITY/JMAP_SOLUTIONS_MULTIPLICATION_COUNTING_PRINCIP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PROBABILITY/JMAP_SOLUTIONS_MULTIPLICATION_COUNTING_PRINCIP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PROBABILITY/JMAP_SOLUTIONS_MULTIPLICATION_COUNTING_PRINCIP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PROBABILITY/JMAP_SOLUTIONS_MULTIPLICATION_COUNTING_PRINCIP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ROBABILITY/JMAP_SOLUTIONS_MULTIPLICATION_COUNTING_PRINCIP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ROBABILITY/JMAP_SOLUTIONS_MULTIPLICATION_COUNTING_PRINCIP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PROBABILITY/JMAP_SOLUTIONS_MULTIPLICATION_COUNTING_PRINCIP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PROBABILITY/JMAP_SOLUTIONS_MULTIPLICATION_COUNTING_PRINCIP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PROBABILITY/JMAP_SOLUTIONS_MULTIPLICATION_COUNTING_PRINCIP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PROBABILITY/JMAP_SOLUTIONS_MULTIPLICATION_COUNTING_PRINCIP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PROBABILITY/JMAP_SOLUTIONS_MULTIPLICATION_COUNTING_PRINCIPLE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BABIL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ication Counting Princip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0"/>
          <a:ext cx="903780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0" y="0"/>
          <a:ext cx="8945640" cy="33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0" y="0"/>
          <a:ext cx="90378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0" y="0"/>
          <a:ext cx="912816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2"/>
          <p:cNvGraphicFramePr/>
          <p:nvPr/>
        </p:nvGraphicFramePr>
        <p:xfrm>
          <a:off x="0" y="0"/>
          <a:ext cx="91281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21600" cy="37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41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90000" cy="41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0" y="0"/>
          <a:ext cx="9037800" cy="37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03780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0"/>
          <a:ext cx="90378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912816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1:18:4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4:02:49Z</dcterms:modified>
  <cp:revision>12</cp:revision>
  <dc:subject/>
  <dc:title> PROBABILITY:  Multiplication Counting Principle </dc:title>
</cp:coreProperties>
</file>