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149B-92C1-4D73-8BF3-9C8694B31C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0ED2-525C-4B73-B7CC-A56CE2DA30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6b  ANG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1647-21CF-4DBA-8A26-502DF844B4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2b  ANGLES: Double Angle and Angle Sum and Difference Identi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3C58-5A28-422F-8920-6B86C0C767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9b  ANGLES: Double Angle and Angle Sum and Difference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986E-AC2B-4885-A81D-111A87C286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16b  ANGLES: Double Angle and Angle Sum and Difference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5F6E-D8D3-4081-99EF-A1D7A54450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1b  ANGLES: Double Angle and Angle Sum and Difference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3CBD-4363-4046-B6A3-B95966F13A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2b  ANGLES: Double Angle and Angle Sum and Difference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7CA9-5FAB-48A8-A7A1-A343E8855E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8b  ANGLES: Double Angle and Angle Sum and Difference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9511-2136-4912-B434-7072DD0F11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9b  ANGLES: Double Angle and Angle Sum and Difference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374A-02B1-421A-91F6-704B07A2D8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3b  ANGLES: Double Angle and Angle Sum and Difference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9215-3A99-4243-AF69-3DA466C9CD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9b  ANGLES: Double Angle and Angle Sum and Difference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3607-7FBF-42E6-8F99-5BA7828FA8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4b  ANGLES: Double Angle and Angle Sum and Difference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4F63-A665-46B1-AD13-11022D3FC5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7b  ANGLES: Double Angle and Angle Sum and Difference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0426-0EF7-4D26-96E7-C8EDA6002A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8b  Double Angle and Angle Sum and Difference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F87A-165B-4B22-814F-DC772449D4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BFF3-05EE-4DF9-B70F-B7D4C3328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0D10-21F7-48F5-91BF-5C4D6F96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4A7F-133B-4C02-B5C9-99A282535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FD56-0B20-4E5E-BD6E-CF74CBC38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4BD9-D38A-4BCA-91D4-EA72431A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A144-5F6D-4065-B2A1-B0C1675E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F322-28FD-473F-8383-2CEA51F6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6118-59DE-47AD-968B-55901832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B689-C9A4-4862-93CC-DE6D691C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3E03-A14E-4E15-A26D-707C17EA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3F75-423F-4E9E-AB37-2F54BAE1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4B56-BF65-4375-86AA-787889D6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13DE-958F-4698-9EB8-CE43BDC632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ANGLES/JMAP_SOLUTIONS_DOUBLE_ANGLE_AND_ANGLE_SUM_AND_DIFFERENCE_IDENTITIE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ANGLES/JMAP_SOLUTIONS_DOUBLE_ANGLE_AND_ANGLE_SUM_AND_DIFFERENCE_IDENT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ANGLES/JMAP_SOLUTIONS_DOUBLE_ANGLE_AND_ANGLE_SUM_AND_DIFFERENCE_IDENT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ANGLES/JMAP_SOLUTIONS_DOUBLE_ANGLE_AND_ANGLE_SUM_AND_DIFFERENCE_IDENT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ANGLES/JMAP_SOLUTIONS_DOUBLE_ANGLE_AND_ANGLE_SUM_AND_DIFFERENCE_IDENT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ANGLES/JMAP_SOLUTIONS_DOUBLE_ANGLE_AND_ANGLE_SUM_AND_DIFFERENCE_IDENT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ANGLES/JMAP_SOLUTIONS_DOUBLE_ANGLE_AND_ANGLE_SUM_AND_DIFFERENCE_IDENT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ANGLES/JMAP_SOLUTIONS_DOUBLE_ANGLE_AND_ANGLE_SUM_AND_DIFFERENCE_IDENT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ANGLES/JMAP_SOLUTIONS_DOUBLE_ANGLE_AND_ANGLE_SUM_AND_DIFFERENCE_IDENT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ANGLES/JMAP_SOLUTIONS_DOUBLE_ANGLE_AND_ANGLE_SUM_AND_DIFFERENCE_IDENT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ANGLES/JMAP_SOLUTIONS_DOUBLE_ANGLE_AND_ANGLE_SUM_AND_DIFFERENCE_IDENT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GLES:  Double Angle 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gle Sum and Difference Ident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241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459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091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809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160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165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11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814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7640" cy="2295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847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684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13" descr=""/>
          <p:cNvPicPr/>
          <p:nvPr/>
        </p:nvPicPr>
        <p:blipFill>
          <a:blip r:embed="rId1"/>
          <a:stretch/>
        </p:blipFill>
        <p:spPr>
          <a:xfrm>
            <a:off x="-34920" y="0"/>
            <a:ext cx="9178920" cy="2976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87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08:49:21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26T01:10:58Z</dcterms:modified>
  <cp:revision>11</cp:revision>
  <dc:subject/>
  <dc:title> ANGLES:  Double Angle and Angle Sum and Difference Identities </dc:title>
</cp:coreProperties>
</file>