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9319-E126-4B6B-AE83-3B2D02F1AE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0DE2-429A-4400-8712-DA756CB9B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0a  ANGLES: Co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9BA1-9047-4066-9685-BD2D6C88D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2a  ANGLES: Co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E3B5-9E1F-47D7-972F-159FFDAE2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5a  ANGLES: Co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9CB1-0E14-425B-951D-C7531BFCE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4a  ANGLES: Co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3CE1-3020-4979-B9AF-5C25C72B3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5a  ANGLES: Co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B750-D6BB-471D-AE3B-B34B33B6C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5a  ANGLES: Co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A437-C4A6-4A90-8A4B-DE3D297E2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99A9-1A66-4810-9D35-D1C8D40F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92C-7F41-4717-B036-14C3FED0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D704-C63D-4C1E-9FEE-8C109AFF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5464-BF96-43AB-9B7A-C57672A1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84D1-1B34-4C72-BCA3-E7F48D18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42D9-9B70-466A-B56B-644D7653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E2E6-14F8-45E7-A2C8-8139FE7E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9A5E-0FC8-4F36-B4A8-88953E6C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6A5-0E10-42E4-B8B8-C32FBCC7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99FB-2183-4921-A3B0-53DB7571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0651-EBBB-42E4-9EC1-D23AF965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21FB-2437-4D4B-868C-E1D409B9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9841-8F7E-4A52-B43C-804184D1B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ANGLES/JMAP_SOLUTIONS_CONSTRUC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ANGLES/JMAP_SOLUTIONS_CONSTRUC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ANGLES/JMAP_SOLUTIONS_CONSTRUC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ANGLES/JMAP_SOLUTIONS_CONSTRUC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GL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stru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13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5486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82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7662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19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740800" cy="410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189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8:25:4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6T00:48:35Z</dcterms:modified>
  <cp:revision>10</cp:revision>
  <dc:subject/>
  <dc:title> ANGLES:  Constructions </dc:title>
</cp:coreProperties>
</file>