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013C-03D3-429F-B41E-2B1A19EC9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EE3-0F0B-40A5-B736-AD62AB502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232-4154-4958-89E8-935E304BE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5684-D534-4D94-AFEA-E2FB081B9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90C9-88DC-4E3A-B5FB-FF8C273AC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19D1-BB46-4A1D-B03E-5016558E0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A168-7852-4ACC-8074-6CD1A53AE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8A66-058D-4865-8B70-6AC3213BE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A414-1B27-4E20-BE81-A217146BD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6069-6F38-4881-8759-511C29050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452-43E6-43B5-8687-0C56FC5A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A7D-F272-4EBC-8B2B-5BEFB920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2C5-E0D3-439C-99A8-827AC660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4D1-B75F-4376-BAF6-F3C0F1BE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F5B-D590-4B27-A2AA-8ADC08B2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321-478A-4754-AA5C-2BAEBDC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B40-2401-48B7-8634-8FA4FC8A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4DC-C192-4F73-9131-E0470564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A6E-C210-45E9-BC75-2BF6C17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D8F-39D7-437A-8CC9-C3A139F6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E6D-2545-4D82-8E43-C0B31C63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C11-51F3-4ADD-ABB0-AF3F2CB0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B162-F931-400C-84CA-D22B02AD6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371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111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24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393920" cy="1431720"/>
          </a:xfrm>
          <a:prstGeom prst="rect">
            <a:avLst/>
          </a:prstGeom>
          <a:ln w="0">
            <a:noFill/>
          </a:ln>
        </p:spPr>
      </p:pic>
      <p:pic>
        <p:nvPicPr>
          <p:cNvPr id="63" name="Object 4" descr=""/>
          <p:cNvPicPr/>
          <p:nvPr/>
        </p:nvPicPr>
        <p:blipFill>
          <a:blip r:embed="rId3"/>
          <a:stretch/>
        </p:blipFill>
        <p:spPr>
          <a:xfrm>
            <a:off x="0" y="297180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124080" y="3429000"/>
            <a:ext cx="2590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3:33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0:43Z</dcterms:modified>
  <cp:revision>12</cp:revision>
  <dc:subject/>
  <dc:title> TRANSFORMATIONS:  Dilations</dc:title>
</cp:coreProperties>
</file>