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C4B2-9EAB-4DB5-9CFD-C40D8EFEB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CE75-1181-45EB-A723-0795AFA86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4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B069-1C0C-4D26-9088-7F6C49DC8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6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60E8-E39F-44CB-BD49-3A33AD1C1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8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157F-22C6-42EE-A377-72A1AF563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8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B731-1447-4031-9F3A-EE95D5D53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9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94A6-0DCE-4A95-B58F-41FB9DB42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DBA-9690-423D-90D5-4A4F3611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3CF-BCEA-4FE5-B40B-17514BB6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AA8E-6867-40AE-BA50-863E6B2B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182-81FC-4175-93E8-6C0B8FDC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B2D-E3E2-4B5F-8B66-D6BAC548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CCC-EDA4-4318-BFCD-5F87546A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5980-FB2C-4236-AA2C-440C708B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B55-D708-48F2-90E0-D08D5C57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59B-AAAE-4393-ACFD-BF36CFF2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F34-52BE-4A2B-AF70-FEB18B0B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D4AC-AB46-4597-841A-9C02EA26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BE7-9FF9-4AE3-A47A-76EF8560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54C9-746E-49EA-A138-A0102C1D9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E/JMAP_SOLUTIONS_FRACTION_MADNES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TE/JMAP_SOLUTIONS_FRACTION_MADNES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E/JMAP_SOLUTIONS_FRACTION_MADNES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E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action Ma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95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5257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8:31:1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7:13:59Z</dcterms:modified>
  <cp:revision>11</cp:revision>
  <dc:subject/>
  <dc:title> RATE:  Fraction Madness </dc:title>
</cp:coreProperties>
</file>