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A99-93B3-44F5-985C-8464EF620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728-B9A8-4C0E-B3AD-9F64F0EF7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7B8-92C5-4B06-819F-6AD5A5871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DE5-986F-4A0B-820C-CD9B09F81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DCB-CED1-4CF1-AEAE-2C40648A3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640-F010-413A-AC11-2423948FB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758F-5982-4E74-88A9-D3769F994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5C1A-12D3-49A2-A999-4805C68F3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50D-C6F2-4DF0-9083-4A974D18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727-4216-415A-AD54-04B270F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BDE-3F16-4263-AE16-F97A4946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D68-697E-460A-8053-7B24C35D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869-DBF3-4F5E-8E52-C9C6F659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833-13E7-4D01-97AE-58B07EC8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7BE-7583-4D67-B7A8-5EF58DA5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73B-BF8F-47FE-8BE1-B6AEC0EC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B5F-0B66-4502-8FA3-A3D8BC14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3A0-E409-4740-871A-0C87EAF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985-1845-4B25-A430-B1A81CE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D7F-D8B0-49DE-9176-10BD182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8DD2-E6E4-4CAE-AE7A-62013D82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2:55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04:22Z</dcterms:modified>
  <cp:revision>4</cp:revision>
  <dc:subject/>
  <dc:title> LOGIC:  Inverse </dc:title>
</cp:coreProperties>
</file>