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B2AD-43F0-46F5-A017-6B73BE747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7232-561D-4A65-85B6-078F58109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0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2728-B98E-467D-A21D-728569F70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0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1D0A-EFEC-4A9E-8E2A-A22BB4DF9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5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19A4-9616-405F-ABFA-579676FFD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6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73F1-E8DD-4B64-B0AA-F70B823F7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3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50A5-1D1C-42E8-8B87-51C4AF188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0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15F9-280D-49A7-8858-61030B944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8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5454-BA86-418F-B1CC-5CB267E3B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8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2066-DC67-4701-854C-7E72AC492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5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E03F-3490-4E9F-9837-44DA8F91F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D74-A7EF-41B4-B43E-9A21AFC6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900-C5CE-4CC0-A794-5645B315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62A-2C95-464E-9D87-E62E33C2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7BB-81CC-4FD9-9C78-B2471A57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B19-B928-425D-BF5E-838EA1B1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4A1-737C-4786-A106-EAEC7A2D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660-4FCC-4E64-B022-857F06E1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B4B-5B83-4093-8D4E-03C80CC4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E2E-38A0-4A4D-BD1D-787A1576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3E3-1413-4B44-9136-3BCED3B0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CE5-95CE-4F62-BEC7-1187035B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B15-C5CE-421A-B4E2-3D7B7A07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8510-2F8A-4610-87B7-477D9DCD4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TRIGONOMETRIC_IDENTITI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ANGLES/JMAP_SOLUTIONS_TRIGONOMETRIC_IDENT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ANGLES/JMAP_SOLUTIONS_TRIGONOMETRIC_IDENT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ANGLES/JMAP_SOLUTIONS_TRIGONOMETRIC_IDENT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ANGLES/JMAP_SOLUTIONS_TRIGONOMETRIC_IDENT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ANGLES/JMAP_SOLUTIONS_TRIGONOMETRIC_IDENT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ANGLES/JMAP_SOLUTIONS_TRIGONOMETRIC_IDENTITIE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gonometric Ident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2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13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28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90000" cy="30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788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788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894564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26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4:42:3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8:27:51Z</dcterms:modified>
  <cp:revision>13</cp:revision>
  <dc:subject/>
  <dc:title> ANGLES:  Trigonometric Identities </dc:title>
</cp:coreProperties>
</file>