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wmf" ContentType="image/x-wmf"/>
  <Override PartName="/ppt/media/image24.png" ContentType="image/png"/>
  <Override PartName="/ppt/media/image23.wmf" ContentType="image/x-wmf"/>
  <Override PartName="/ppt/media/image22.png" ContentType="image/png"/>
  <Override PartName="/ppt/media/image21.wmf" ContentType="image/x-wmf"/>
  <Override PartName="/ppt/media/image19.png" ContentType="image/png"/>
  <Override PartName="/ppt/media/image20.wmf" ContentType="image/x-wmf"/>
  <Override PartName="/ppt/media/image18.wmf" ContentType="image/x-wmf"/>
  <Override PartName="/ppt/media/image16.wmf" ContentType="image/x-wmf"/>
  <Override PartName="/ppt/media/image1.jpeg" ContentType="image/jpeg"/>
  <Override PartName="/ppt/media/image17.wmf" ContentType="image/x-wmf"/>
  <Override PartName="/ppt/media/image9.png" ContentType="image/png"/>
  <Override PartName="/ppt/media/image34.png" ContentType="image/png"/>
  <Override PartName="/ppt/media/image13.png" ContentType="image/png"/>
  <Override PartName="/ppt/media/image33.wmf" ContentType="image/x-wmf"/>
  <Override PartName="/ppt/media/image8.wmf" ContentType="image/x-wmf"/>
  <Override PartName="/ppt/media/image38.wmf" ContentType="image/x-wmf"/>
  <Override PartName="/ppt/media/image7.png" ContentType="image/png"/>
  <Override PartName="/ppt/media/image37.png" ContentType="image/png"/>
  <Override PartName="/ppt/media/image12.wmf" ContentType="image/x-wmf"/>
  <Override PartName="/ppt/media/image30.wmf" ContentType="image/x-wmf"/>
  <Override PartName="/ppt/media/image31.wmf" ContentType="image/x-wmf"/>
  <Override PartName="/ppt/media/image11.png" ContentType="image/png"/>
  <Override PartName="/ppt/media/image29.wmf" ContentType="image/x-wmf"/>
  <Override PartName="/ppt/media/image6.wmf" ContentType="image/x-wmf"/>
  <Override PartName="/ppt/media/image36.wmf" ContentType="image/x-wmf"/>
  <Override PartName="/ppt/media/image10.wmf" ContentType="image/x-wmf"/>
  <Override PartName="/ppt/media/image5.wmf" ContentType="image/x-wmf"/>
  <Override PartName="/ppt/media/image35.wmf" ContentType="image/x-wmf"/>
  <Override PartName="/ppt/media/image28.wmf" ContentType="image/x-wmf"/>
  <Override PartName="/ppt/media/image3.jpeg" ContentType="image/jpeg"/>
  <Override PartName="/ppt/media/image15.png" ContentType="image/png"/>
  <Override PartName="/ppt/media/image32.wmf" ContentType="image/x-wmf"/>
  <Override PartName="/ppt/media/image2.wmf" ContentType="image/x-wmf"/>
  <Override PartName="/ppt/media/image25.wmf" ContentType="image/x-wmf"/>
  <Override PartName="/ppt/media/image4.wmf" ContentType="image/x-wmf"/>
  <Override PartName="/ppt/media/image27.wmf" ContentType="image/x-wmf"/>
  <Override PartName="/ppt/media/image1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9A432-8312-407C-9A62-98B4C493E5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FF5F8-9C07-43D6-8758-558033ECB3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119a  SYSTEMS: Solving Nonlinear Sys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8C3DD-6B08-4F0D-8DC3-7B68D61B4E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25a  SYSTEMS: Solving Nonlinear Sys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BFA33-9932-4DCF-B1E3-BD08944914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029a  SYSTEMS: Solving Nonlinear Sys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CB18D-625F-4438-AB1E-D65C98FDC2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39a  SYSTEMS: Solving Nonlinear Sys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856B8-6018-43A5-A2DB-1A6F3278B9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732b  SYSTEMS: Solving Nonlinear Sys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62DBD-4CCD-4E19-8CB8-D018CD438D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27b  SYSTEMS: Solving Nonlinear Sys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FF1A3-61BB-4BEB-89B4-8ABA77A97D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11b  SYSTEMS: Solving Nonlinear Sys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410EC-88FD-45E7-B56C-B03E2DBA38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06b  SYSTEMS: Solving Nonlinear Sys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79741-B680-49B1-9826-748EB916DB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04b  SYSTEMS: Solving Nonlinear Sys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D2D41-4452-478A-89D4-600F41E338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19b  SYSTEMS: Solving Nonlinear Sys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27BED-DFAD-4839-8832-72DB486EA4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07a  SYSTEMS: Solving Nonlinear Sys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5794C-DFF4-44C4-A2FC-7BDB04315D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705b  SYSTEMS: Solving Nonlinear Sys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D2036-817F-42EF-9745-373D37374C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28b  SYSTEMS: Solving Nonlinear Sys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80DA3-4296-4D6B-8A0A-5FA3419AD5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27b  SYSTEMS: Solving Nonlinear Sys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DCF1D-5BD6-4068-B427-EE42B422DE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205b  SYSTEMS: Solving Nonlinear Sys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397EF-8954-4BBA-A237-759FB3469E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329b  SYSTEMS: Solving Nonlinear Sys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7A943-2728-4258-80B7-3813C0E51C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233b  SYSTEMS: Solving Nonlinear Sys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32BFA-3299-4768-975B-FC9A9D4E74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018a  SYSTEMS: Solving Nonlinear Sys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B4B81-BF17-4731-B6C3-AFADF2B35B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135a  SYSTEMS: Solving Nonlinear Sys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E5100-8812-47F3-915F-CFE9471637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38a  SYSTEMS: Solving Nonlinear Sys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A88A1-BF63-4695-8EFA-85A4A9548E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9935a  SYSTEMS: Solving Nonlinear Sys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A552C-20EA-4EBF-9059-2B5ACE4B55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235a  SYSTEMS: Solving Nonlinear Sys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C849A-F592-4943-A1B1-EECB4451E9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228b  SYSTEMS: Solving Nonlinear Sys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3AFDD-6B31-49D0-8FE6-EFCF30E56B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328b  SYSTEMS: Solving Nonlinear Sys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EB202-720C-47EE-A8D6-0786C8441D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24AE-DF4E-4F2D-ADAA-5416C1BBC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C2E4-053C-4D7F-96E7-E512EE69F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4763-EE7D-4CF5-846C-9FD77123D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DBF9-CFD8-4DF9-AD37-BDAA1E386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B843-1BE1-4EDB-B57A-01D3C0809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E9E5-090B-438C-A56E-58A07C172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8938-561D-4947-A681-5E60C0B8B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7B60-69F6-4D41-9BB5-6B57E6EE5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B0BD-7E57-45E4-9825-5787B7349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BE36-D234-40EC-97C7-E9EFF0531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8BB8-C614-4020-9EF0-0F730B4B3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C21A-1966-4FEC-A555-365EF6037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EAB94-A4AD-4950-A1C9-6AD0831E00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map.org/JMAP/JMAPSolutions/SYSTEMS/JMAP_SOLUTIONS_SOLVING_NONLINEAR_SYSTEMS.doc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hyperlink" Target="http://www.jmap.org/JMAP/JMAPSolutions/SYSTEMS/JMAP_SOLUTIONS_SOLVING_NONLINEAR_SYSTEM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hyperlink" Target="http://www.jmap.org/JMAP/JMAPSolutions/SYSTEMS/JMAP_SOLUTIONS_SOLVING_NONLINEAR_SYSTEM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image" Target="../media/image20.wmf"/><Relationship Id="rId4" Type="http://schemas.openxmlformats.org/officeDocument/2006/relationships/hyperlink" Target="http://www.jmap.org/JMAP/JMAPSolutions/SYSTEMS/JMAP_SOLUTIONS_SOLVING_NONLINEAR_SYSTEMS.doc" TargetMode="External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png"/><Relationship Id="rId3" Type="http://schemas.openxmlformats.org/officeDocument/2006/relationships/hyperlink" Target="http://www.jmap.org/JMAP/JMAPSolutions/SYSTEMS/JMAP_SOLUTIONS_SOLVING_NONLINEAR_SYSTEM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image" Target="../media/image24.png"/><Relationship Id="rId4" Type="http://schemas.openxmlformats.org/officeDocument/2006/relationships/hyperlink" Target="http://www.jmap.org/JMAP/JMAPSolutions/SYSTEMS/JMAP_SOLUTIONS_SOLVING_NONLINEAR_SYSTEMS.doc" TargetMode="External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hyperlink" Target="http://www.jmap.org/JMAP/JMAPSolutions/SYSTEMS/JMAP_SOLUTIONS_SOLVING_NONLINEAR_SYSTEM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hyperlink" Target="http://www.jmap.org/JMAP/JMAPSolutions/SYSTEMS/JMAP_SOLUTIONS_SOLVING_NONLINEAR_SYSTEM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hyperlink" Target="http://www.jmap.org/JMAP/JMAPSolutions/SYSTEMS/JMAP_SOLUTIONS_SOLVING_NONLINEAR_SYSTEM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hyperlink" Target="http://www.jmap.org/JMAP/JMAPSolutions/SYSTEMS/JMAP_SOLUTIONS_SOLVING_NONLINEAR_SYSTEM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hyperlink" Target="http://www.jmap.org/JMAP/JMAPSolutions/SYSTEMS/JMAP_SOLUTIONS_SOLVING_NONLINEAR_SYSTEM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http://www.jmap.org/JMAP/JMAPSolutions/SYSTEMS/JMAP_SOLUTIONS_SOLVING_NONLINEAR_SYSTEM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hyperlink" Target="http://www.jmap.org/JMAP/JMAPSolutions/SYSTEMS/JMAP_SOLUTIONS_SOLVING_NONLINEAR_SYSTEM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wmf"/><Relationship Id="rId3" Type="http://schemas.openxmlformats.org/officeDocument/2006/relationships/hyperlink" Target="http://www.jmap.org/JMAP/JMAPSolutions/SYSTEMS/JMAP_SOLUTIONS_SOLVING_NONLINEAR_SYSTEMS.doc" TargetMode="External"/><Relationship Id="rId4" Type="http://schemas.openxmlformats.org/officeDocument/2006/relationships/image" Target="../media/image3.jpeg"/><Relationship Id="rId5" Type="http://schemas.openxmlformats.org/officeDocument/2006/relationships/hyperlink" Target="http://www.jmap.org/JMAP/JMAPSolutions/SYSTEMS/JMAP_SOLUTIONS_SOLVING_NONLINEAR_SYSTEMS.doc" TargetMode="External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hyperlink" Target="http://www.jmap.org/JMAP/JMAPSolutions/SYSTEMS/JMAP_SOLUTIONS_SOLVING_NONLINEAR_SYSTEM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hyperlink" Target="http://www.jmap.org/JMAP/JMAPSolutions/SYSTEMS/JMAP_SOLUTIONS_SOLVING_NONLINEAR_SYSTEM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hyperlink" Target="http://www.jmap.org/JMAP/JMAPSolutions/SYSTEMS/JMAP_SOLUTIONS_SOLVING_NONLINEAR_SYSTEM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hyperlink" Target="http://www.jmap.org/JMAP/JMAPSolutions/SYSTEMS/JMAP_SOLUTIONS_SOLVING_NONLINEAR_SYSTEM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png"/><Relationship Id="rId3" Type="http://schemas.openxmlformats.org/officeDocument/2006/relationships/hyperlink" Target="http://www.jmap.org/JMAP/JMAPSolutions/SYSTEMS/JMAP_SOLUTIONS_SOLVING_NONLINEAR_SYSTEM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png"/><Relationship Id="rId3" Type="http://schemas.openxmlformats.org/officeDocument/2006/relationships/hyperlink" Target="http://www.jmap.org/JMAP/JMAPSolutions/SYSTEMS/JMAP_SOLUTIONS_SOLVING_NONLINEAR_SYSTEM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hyperlink" Target="http://www.jmap.org/JMAP/JMAPSolutions/SYSTEMS/JMAP_SOLUTIONS_SOLVING_NONLINEAR_SYSTEM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YSTEMS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olving Nonlinear Syste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9718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0481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Object 3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16002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"/>
          <p:cNvPicPr/>
          <p:nvPr/>
        </p:nvPicPr>
        <p:blipFill>
          <a:blip r:embed="rId2"/>
          <a:stretch/>
        </p:blipFill>
        <p:spPr>
          <a:xfrm>
            <a:off x="2895480" y="1600200"/>
            <a:ext cx="3657600" cy="3668760"/>
          </a:xfrm>
          <a:prstGeom prst="rect">
            <a:avLst/>
          </a:prstGeom>
          <a:ln w="0">
            <a:noFill/>
          </a:ln>
        </p:spPr>
      </p:pic>
      <p:pic>
        <p:nvPicPr>
          <p:cNvPr id="78" name="Object 5" descr=""/>
          <p:cNvPicPr/>
          <p:nvPr/>
        </p:nvPicPr>
        <p:blipFill>
          <a:blip r:embed="rId3"/>
          <a:stretch/>
        </p:blipFill>
        <p:spPr>
          <a:xfrm>
            <a:off x="0" y="5486400"/>
            <a:ext cx="9090000" cy="5763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C:\Users\HP_Administrator\Pictures\My Pictures\Thomas Jefferson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Object 3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4382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"/>
          <p:cNvPicPr/>
          <p:nvPr/>
        </p:nvPicPr>
        <p:blipFill>
          <a:blip r:embed="rId2"/>
          <a:stretch/>
        </p:blipFill>
        <p:spPr>
          <a:xfrm>
            <a:off x="2819520" y="2514600"/>
            <a:ext cx="3800520" cy="38098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Object 2"/>
          <p:cNvGraphicFramePr/>
          <p:nvPr/>
        </p:nvGraphicFramePr>
        <p:xfrm>
          <a:off x="0" y="0"/>
          <a:ext cx="9090000" cy="289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90000" cy="28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5" name="Picture 4" descr=""/>
          <p:cNvPicPr/>
          <p:nvPr/>
        </p:nvPicPr>
        <p:blipFill>
          <a:blip r:embed="rId3"/>
          <a:stretch/>
        </p:blipFill>
        <p:spPr>
          <a:xfrm>
            <a:off x="2895480" y="2971800"/>
            <a:ext cx="3665520" cy="36576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C:\Users\HP_Administrator\Pictures\My Pictures\Thomas Jefferson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716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6668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8195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8954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8954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5105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Object 2"/>
          <p:cNvGraphicFramePr/>
          <p:nvPr/>
        </p:nvGraphicFramePr>
        <p:xfrm>
          <a:off x="0" y="0"/>
          <a:ext cx="9090000" cy="413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90000" cy="413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9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Object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6668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"/>
          <p:cNvPicPr/>
          <p:nvPr/>
        </p:nvPicPr>
        <p:blipFill>
          <a:blip r:embed="rId2"/>
          <a:stretch/>
        </p:blipFill>
        <p:spPr>
          <a:xfrm>
            <a:off x="2590920" y="2743200"/>
            <a:ext cx="3951000" cy="3932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C:\Users\HP_Administrator\Pictures\My Pictures\Thomas Jefferson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763120" y="6248520"/>
            <a:ext cx="53316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Object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6765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"/>
          <p:cNvPicPr/>
          <p:nvPr/>
        </p:nvPicPr>
        <p:blipFill>
          <a:blip r:embed="rId2"/>
          <a:stretch/>
        </p:blipFill>
        <p:spPr>
          <a:xfrm>
            <a:off x="2514600" y="1905120"/>
            <a:ext cx="4300560" cy="43275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9625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Object 3" descr=""/>
          <p:cNvPicPr/>
          <p:nvPr/>
        </p:nvPicPr>
        <p:blipFill>
          <a:blip r:embed="rId1"/>
          <a:stretch/>
        </p:blipFill>
        <p:spPr>
          <a:xfrm>
            <a:off x="0" y="0"/>
            <a:ext cx="9013680" cy="33526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"/>
          <p:cNvPicPr/>
          <p:nvPr/>
        </p:nvPicPr>
        <p:blipFill>
          <a:blip r:embed="rId2"/>
          <a:stretch/>
        </p:blipFill>
        <p:spPr>
          <a:xfrm>
            <a:off x="2895480" y="3430440"/>
            <a:ext cx="3276720" cy="32832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5053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581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2193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Object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6002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"/>
          <p:cNvPicPr/>
          <p:nvPr/>
        </p:nvPicPr>
        <p:blipFill>
          <a:blip r:embed="rId2"/>
          <a:stretch/>
        </p:blipFill>
        <p:spPr>
          <a:xfrm>
            <a:off x="2819520" y="2133720"/>
            <a:ext cx="3657600" cy="36795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Object 3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6576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"/>
          <p:cNvPicPr/>
          <p:nvPr/>
        </p:nvPicPr>
        <p:blipFill>
          <a:blip r:embed="rId2"/>
          <a:stretch/>
        </p:blipFill>
        <p:spPr>
          <a:xfrm>
            <a:off x="2971800" y="388620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Object 3" descr=""/>
          <p:cNvPicPr/>
          <p:nvPr/>
        </p:nvPicPr>
        <p:blipFill>
          <a:blip r:embed="rId1"/>
          <a:stretch/>
        </p:blipFill>
        <p:spPr>
          <a:xfrm>
            <a:off x="0" y="0"/>
            <a:ext cx="9013680" cy="32767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"/>
          <p:cNvPicPr/>
          <p:nvPr/>
        </p:nvPicPr>
        <p:blipFill>
          <a:blip r:embed="rId2"/>
          <a:stretch/>
        </p:blipFill>
        <p:spPr>
          <a:xfrm>
            <a:off x="2743200" y="3330720"/>
            <a:ext cx="3375000" cy="35272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Object 3" descr=""/>
          <p:cNvPicPr/>
          <p:nvPr/>
        </p:nvPicPr>
        <p:blipFill>
          <a:blip r:embed="rId1"/>
          <a:stretch/>
        </p:blipFill>
        <p:spPr>
          <a:xfrm>
            <a:off x="0" y="0"/>
            <a:ext cx="9013680" cy="342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"/>
          <p:cNvPicPr/>
          <p:nvPr/>
        </p:nvPicPr>
        <p:blipFill>
          <a:blip r:embed="rId2"/>
          <a:stretch/>
        </p:blipFill>
        <p:spPr>
          <a:xfrm>
            <a:off x="2819520" y="3505320"/>
            <a:ext cx="3124080" cy="31240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Object 3" descr=""/>
          <p:cNvPicPr/>
          <p:nvPr/>
        </p:nvPicPr>
        <p:blipFill>
          <a:blip r:embed="rId1"/>
          <a:stretch/>
        </p:blipFill>
        <p:spPr>
          <a:xfrm>
            <a:off x="0" y="0"/>
            <a:ext cx="9013680" cy="35812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"/>
          <p:cNvPicPr/>
          <p:nvPr/>
        </p:nvPicPr>
        <p:blipFill>
          <a:blip r:embed="rId2"/>
          <a:stretch/>
        </p:blipFill>
        <p:spPr>
          <a:xfrm>
            <a:off x="2971800" y="3643200"/>
            <a:ext cx="2895480" cy="29037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9T13:16:20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dc:language>en-US</dc:language>
  <cp:lastModifiedBy>Steve</cp:lastModifiedBy>
  <dcterms:modified xsi:type="dcterms:W3CDTF">2007-10-12T06:10:38Z</dcterms:modified>
  <cp:revision>15</cp:revision>
  <dc:subject/>
  <dc:title> SYSTEMS:  Solving Nonlinear Systems </dc:title>
</cp:coreProperties>
</file>