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E3D5-492C-471F-B8B3-C1780313C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1263-D6EB-4E37-ADDE-502B550BC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2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31F5-D26E-447A-B605-95A7D03FA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0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C822-9955-46EA-A0D4-9F2C11286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5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9228-42A3-4EB1-9F90-7C113436A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2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03D0-1F7F-4DDB-8E1F-5AC20CA77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B57-53DA-4745-8CFF-841935F0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D92-A484-4D68-A385-068B6238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7B0-8863-48F2-AB2C-6E9F4AB6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F50-FA6E-4DB0-959C-26B6F351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369-86D7-4655-954F-FE724E13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33B-6E78-4F12-BA82-4B1760F9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4EA-70B6-40EA-9B5A-05F0B92D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E14-E823-4FA8-A1CA-C8D59AC4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D1C-F60F-45F6-911C-17EC920B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638-AADC-4790-B84D-B2A9D948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9E4-1586-4779-A759-0950F39F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46E-B3A8-4C4C-876A-99AFFF77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B68D-0684-495D-9F1B-60D6DF37A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SIMPLIFYING_RADIC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SIMPLIFYING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plifying Rad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2816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7:54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46:34Z</dcterms:modified>
  <cp:revision>11</cp:revision>
  <dc:subject/>
  <dc:title> RADICALS:  Simplifying Radicals </dc:title>
</cp:coreProperties>
</file>