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1DD9-5646-4169-A78C-2E4F7765D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F62D-3D2D-41AF-9BE5-1D8B5CA53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5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5888-2C78-4A79-A869-76515B61F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4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D02E-6EEA-4E96-A9A8-361BC9EAD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2a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DB98-9B55-4BFB-9FE4-CCA6598D8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1a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18D5-2519-461C-888A-55AFFC295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2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8851-8F36-43AE-BB5D-0ECD5C21D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9a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A0AE-8F15-4587-8CEB-3B36AA56F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9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61B4-3CBE-47A0-853F-E13507FCE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9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B267-4175-4D30-A066-9494CFA30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2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B946-1563-4ED7-80E7-46FA72263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4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D516-46CB-4F1C-9D20-3D6812B77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14E-7DB4-4351-BFDF-FF877B3C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84E-C0AF-479A-8EF7-E2420190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BA0E-C2CE-49E8-B7D4-A496DC7D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26B-3204-4BE4-ACCB-AD364843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8EE-8050-4726-8435-EBE0A6BA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993-662A-40C1-BF7A-49F0D484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B3D-AB2D-467F-AD03-9DDFF816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4DF-96F5-4AC3-B758-F77DAA5C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E86-B351-425E-B0A7-8EB39AC0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105-2993-414D-A69C-9D3D4784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226-EEBD-42FF-9756-BAFA274F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52A-3DE6-454E-B582-266A770B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DEBB-D0D4-47A9-A306-C1B30A78E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SOLVING_RATION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TIONALS/JMAP_SOLUTIONS_SOLVING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Rat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216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65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2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1368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16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1281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8945640" cy="26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0:37:5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34:23Z</dcterms:modified>
  <cp:revision>8</cp:revision>
  <dc:subject/>
  <dc:title> RATIONALS:  Solving Rationals </dc:title>
</cp:coreProperties>
</file>