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FF9B-F95E-4DC3-8D79-EBE6E300A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6193-960A-4DCD-8CA5-86F49D970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1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16DD-CBA6-4D9E-87E3-01258B518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2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2275-CFD2-45B8-941F-9389773D5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1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717F-820F-43BE-BEA3-33A8366ED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047-5A00-430B-B67D-1B444FC4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BB8-6593-490A-8F42-FFA1065E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785-35F7-45D3-9AE8-53099EA4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82B-EE0F-4EE8-AC74-F056CD75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228-A827-45B8-9A86-8DB7B9AB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965-684C-4ACB-A2C3-E2488DCD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983-D03E-4D50-A3C3-824C5C11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F7F-1290-4C17-9B9A-74477A24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D31-76D6-436A-94EA-0178D11F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3FE-F486-4430-A6DE-F25287A8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4CF-B53A-4FD3-BE9E-97FFDFD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D1E-17C7-493E-A47C-2C2256A4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D10D-9DB2-47ED-8B63-9AE049A8E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SAMPLE_SPAC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mple Sp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53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2:30:2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3:55:37Z</dcterms:modified>
  <cp:revision>7</cp:revision>
  <dc:subject/>
  <dc:title> PROBABILITY:  Sample Space </dc:title>
</cp:coreProperties>
</file>