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FBA-40E1-41C5-8F30-7EF30186B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99B-1195-4992-B948-59C460B0F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CC8-C433-411F-A04C-EA1380852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7C0-6C35-404D-9092-AC878124B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132-41A8-42AF-B426-1BC07AE5D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a  NUMBERS OPERATIONS AND PROPERTIES: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B88-EDB7-4FF3-9D94-30CF978FA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32C-78CA-43EA-A389-AED2B632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AC1-C221-4575-8D90-458293C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E53-1021-4A94-A160-5B69457D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A41-040F-45FA-9B55-45D61383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DE3-5893-4CB3-95D8-E4B7162C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B1B-FB6F-4337-814B-4ACFB3CE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82E-1352-4D8F-9939-357CDDD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836-3E87-425B-899E-21F46381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989-FD03-443C-952A-AA35FCD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70B-B566-4360-8001-9AC1920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02C-649C-4FFA-87C0-BA02BF1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23F-ECB3-4ABA-A68A-7C40EC5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1FC-C929-4352-BE35-BA439541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ORDER_OF_OPER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Order of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7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2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4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58:3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3T17:32:31Z</dcterms:modified>
  <cp:revision>7</cp:revision>
  <dc:subject/>
  <dc:title>NUMBER OPERATIONS AND PROPERTIES:    Order of Operations</dc:title>
</cp:coreProperties>
</file>