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E2A-E522-4DEF-8ADA-B17AB2BE5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CF7-4E0F-41F8-90E2-9D7389437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FA96-957D-4B87-AE64-148A79CC5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2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833-0691-4CDF-B1BA-08D4B13B2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746-F097-429C-AE56-B05CB1124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EED-4FD1-4A6C-8FE7-329F23CD5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5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C7C-6EA6-4B87-979A-004887AD4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b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42F1-30D8-4B47-BB7C-ABCD842FA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DF9-B527-41B1-8066-41D8194DA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D57-33FD-49D8-B645-A24D36325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D96B-001E-4766-8DE1-4253234AC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DD5-433B-4F6C-A907-67743BE60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2C78-45C8-4134-B7F9-B8E6DC9F1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445-A7B3-4E1E-ABE7-EF5506141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E1F-582F-4F00-9F18-229119EC4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C8A-0F49-4E5A-9AAA-1E779E63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A31-3533-4D31-9E8A-E62A04DD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85A-F829-4E04-B4EA-F2626CF4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835-2CC7-4923-B547-50A81DED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01F-0A50-4E17-B2D0-12DB6D90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B39-E9E1-4CB3-A1FB-14851FF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754-CF57-4F1C-8B77-CBF7B6F6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8EB-A6A1-49E7-826C-7B63E84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201-4D3C-48FD-B4F7-B53F67A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9C4-E6E8-4343-A774-A2C132A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691-819A-4468-AEF1-01114BF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BC4-B931-488E-8200-B9C8486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EE7-B51A-4296-A185-191C255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D9F-7AB9-4F91-B90C-0F873BC8A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5105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22320"/>
            <a:ext cx="91105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52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49:05Z</dcterms:modified>
  <cp:revision>9</cp:revision>
  <dc:subject/>
  <dc:title> TRANSFORMATIONS:  Symmetry </dc:title>
</cp:coreProperties>
</file>