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109A-6F94-443A-A0F5-C095555868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C053-78AD-4344-BA3E-C615A6A968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8b  TRANSFORMATIONS: Trans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890D-164F-463E-8A8E-D7C60DFE55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9b  TRANSFORMATIONS: Trans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414B-B7DA-4572-B34E-36A3BD58B0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1a  TRANSFORMATIONS: Trans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DB8A-FB96-49A7-8D5B-4289364F1A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2a  TRANSFORMATIONS: Trans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6648-ECB9-4BB0-AE21-21D142BCD0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03a  TRANSFORMATIONS: Trans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6ED3-EE2A-4263-959D-125FCCED0A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9a  TRANSFORMATIONS: Trans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4929-2FEB-461E-BBB2-273FABBB1D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9a  TRANSFORMATIONS: Trans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916C-B2D0-495A-9CD8-BD0EB05C45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9a  TRANSFORMATIONS: Trans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6B97-D154-454A-947B-BB95D5CBA8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9a  TRANSFORMATIONS: Trans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187F-E127-4D5E-91C4-37D95898DE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4a  TRANSFORMATIONS: Trans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94C1-84F7-49FE-B682-10A9D75B81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E497-6F60-4B22-B5C0-D1018C364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133C-AE95-41BB-B9AF-D38C44D4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7BAE-1F65-4F05-8E09-95E7E57D7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9207-6572-4EA6-939A-B25CF53EB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AB83-0F19-47CB-979E-0B634FF0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21F2-0449-4B1B-9E21-E475D1EF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D8A1-D746-48A2-ACAC-4B5A15FD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56D1-1334-4F6E-B1CF-797E7BB6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3E79-D06D-48D0-91C0-C6EECD9D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11A5-8CA1-4534-91C8-5BB1D0B1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7EDF-4118-4315-B740-D82ABDA5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4875-E358-46CB-A8BB-434E646F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04C9-B3B8-4CCF-A27F-159DDEEA85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NSFORMATION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ns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5562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4876920" y="1828800"/>
            <a:ext cx="4062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-2362320" y="0"/>
            <a:ext cx="9090000" cy="6324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4191120" y="304920"/>
            <a:ext cx="4419360" cy="4487760"/>
          </a:xfrm>
          <a:prstGeom prst="rect">
            <a:avLst/>
          </a:prstGeom>
          <a:ln w="0">
            <a:noFill/>
          </a:ln>
        </p:spPr>
      </p:pic>
      <p:pic>
        <p:nvPicPr>
          <p:cNvPr id="53" name="Object 4" descr=""/>
          <p:cNvPicPr/>
          <p:nvPr/>
        </p:nvPicPr>
        <p:blipFill>
          <a:blip r:embed="rId3"/>
          <a:stretch/>
        </p:blipFill>
        <p:spPr>
          <a:xfrm>
            <a:off x="0" y="3429000"/>
            <a:ext cx="906624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2T12:10:20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15T07:29:08Z</dcterms:modified>
  <cp:revision>7</cp:revision>
  <dc:subject/>
  <dc:title> TRANSFORMATIONS:  Translations </dc:title>
</cp:coreProperties>
</file>