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0791-9D14-42F0-B395-59419E1C5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FA17-0FF8-4A63-894F-9A8930D7B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5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8B0D-76E1-4297-BFE5-BB8D1B85C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3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62DD-C345-499E-87FB-E60BD8BE2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4a  TRIANGLES: 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574F-A68C-4273-9909-E4DC095CD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3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8B4C-E873-4AD4-AAEE-56EDA3EE9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7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B3FF-5B57-4C6D-9AEA-A1A68118F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7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8415-0A76-4D07-880F-44AEBBF0D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2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BECA-C42C-4681-B158-1DF5A6B37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2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AC45-FE8B-4DB8-9947-DA6C1A731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3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E887-6450-4964-B1F7-813F3B22E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7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E0B8-DDB5-4567-883C-775E13403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0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18B4-A7D0-4D38-BEFA-93C662BC6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1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9BA8-BA95-4420-A79A-51848D3C7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0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3F2B-D042-4516-A3E3-31C7DE0AF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9C4-8109-4090-847E-456DC10C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018-C640-4A19-BB28-B017F378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2BB-E20C-4201-B015-8A69658C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A332-A9CA-48EC-B6F4-984CFFD5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D5C-3E80-4DAA-B590-603F75FB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D7E7-7BD1-4E18-A5F7-45564003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55B-BF04-4B48-9D92-C2D53638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15A-EA9D-41D5-8FF9-D992B04F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39ED-1214-4291-8DC0-164DFD07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363-5F72-4729-85E1-EF6D6E88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AAC2-994A-42AE-A45F-44B92DB3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55D-E6B2-45E3-850C-1DACD133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F76B-A28C-46AE-8A71-456A308BC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cial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0" y="0"/>
          <a:ext cx="9090000" cy="20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2895480" y="2362320"/>
            <a:ext cx="30481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9:38:3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9-16T17:46:57Z</dcterms:modified>
  <cp:revision>11</cp:revision>
  <dc:subject/>
  <dc:title> TRIANGLES:  Special Triangles </dc:title>
</cp:coreProperties>
</file>