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F157-5CC9-4F74-AEB0-23EB18CC6D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6ED3-FCB6-4A0C-8419-F6B4217A93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7a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5263-047A-41B2-B014-9DE8AE57AB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17a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0B35-05FC-4F28-AD75-A3CB1DE098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2a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CFEC-28CE-4BEA-A3B7-A437DD2093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20a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F57B-DC9D-42D9-B8EE-B07FDB0DE5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06a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AAD4-A967-4EA3-BA5D-679045FB14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3a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9B19-CA4F-46C2-8C2A-A58829DE32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4a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E848-9B55-4EE2-AE03-55B6E9EBBA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6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5AC8-2656-4F18-B4A9-448E37874C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9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308E-0B1E-4CC1-8861-ACFCD1FF54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1a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EC92-D1AE-4EB9-8BF4-7B9EA0CF26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6a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67EF-576F-41DC-8B13-7A764E9AC8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02a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A044-19A2-4727-9B05-0983197FFB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3a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9C02-A894-4CB0-946D-CF689B8FC0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31E9-F748-4113-B2C1-29701DAE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A117-BE39-407B-AB09-574D1A04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6CEF-8C7F-43F0-9A89-83E38AC0F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C5D2-5CAD-4D07-A33F-33F8B7EE3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906C-C281-4FF8-ACAF-ED0FE817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0659-82F8-4A2A-94E2-F7433BE5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7F04-FA51-4685-8263-053924C8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A1FB-50FA-415C-AD9C-415128D9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DE71-AD9B-40D7-A2C6-E2A68BDF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CBD3-D2F9-42CF-AB71-022CCE12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13C1-ACFA-4E46-BCD0-7E380AC8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FC1B-3846-4DD2-A08D-CADBEBCC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8CE0-6311-4CB5-A6E8-C625BA2868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NUMBERS_OPERATIONS_AND_PROPERTIES/JMAP_SOLUTIONS_COMPARING_REAL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NUMBERS_OPERATIONS_AND_PROPERTIES/JMAP_SOLUTIONS_COMPARING_REAL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NUMBERS_OPERATIONS_AND_PROPERTIES/JMAP_SOLUTIONS_COMPARING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NUMBERS_OPERATIONS_AND_PROPERTIES/JMAP_SOLUTIONS_COMPARING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NUMBERS_OPERATIONS_AND_PROPERTIES/JMAP_SOLUTIONS_COMPARING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NUMBERS_OPERATIONS_AND_PROPERTIES/JMAP_SOLUTIONS_COMPARING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NUMBERS_OPERATIONS_AND_PROPERTIES/JMAP_SOLUTIONS_COMPARING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NUMBERS_OPERATIONS_AND_PROPERTIES/JMAP_SOLUTIONS_COMPARING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NUMBERS_OPERATIONS_AND_PROPERTIES/JMAP_SOLUTIONS_COMPARING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NUMBERS_OPERATIONS_AND_PROPERTIES/JMAP_SOLUTIONS_COMPARING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NUMBERS_OPERATIONS_AND_PROPERTIES/JMAP_SOLUTIONS_COMPARING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MBER OPERATIONS AND PROPERTIES:    Comparing Re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0" y="0"/>
          <a:ext cx="901368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92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67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4160" cy="3774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16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438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801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508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462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387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06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06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813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9T23:40:24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1T21:53:24Z</dcterms:modified>
  <cp:revision>12</cp:revision>
  <dc:subject/>
  <dc:title> NUMBER OPERATIONS AND PROPERTIES:    Comparing Reals </dc:title>
</cp:coreProperties>
</file>