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056A-77A0-4883-A6D9-2B0B01C9E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E153-086D-404B-9BEC-DE5A5EDD7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B79B-DBE2-4165-89B6-C4A16F025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A95B-8042-4989-8DBF-9D2D37EE8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2a  EQUATIONS: 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327-05CB-4A13-A729-3844D052F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1CC-C8B1-4BB1-A036-2581FF534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49B7-D346-4E76-829A-2EB819032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9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FBBF-D425-4A0C-917F-6373868B5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7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FA5E-BD43-4B4C-9376-C3E04FD69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93B8-06BA-4922-BD15-4CFC7CC18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0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287B-FB6E-4B7E-B849-DEF61B344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9BC-0F16-4999-B397-D5C6A92A6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4E09-0AA4-46FD-B919-997FCEBF1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0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30BD-E474-4886-A482-98C9E3C3F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9952-C06C-4C5D-A313-2A8EDC079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A09-F66E-401B-A830-546523C0A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C4C4-2F10-4AC4-8CEB-681E3C34F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6033-FA3D-42DB-92F8-F8A17D3D7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E3DB-862C-43D4-A0A2-ABCEC1643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64D0-AE48-4A1B-B212-C91E6C6DA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A94E-785B-459D-83F0-DE63054B2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FF9-79C0-41EB-8852-7F616E33B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9E9-0AE1-406E-9794-D3371A3A9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8B5C-DE66-4E27-B9DD-1A14DF8DE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D0E-D867-4B30-95A5-20317986A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14A7-5830-4AEA-9C41-E329A3386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4F45-3364-4318-9D53-B879704FD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2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574B-438E-4502-8D64-0FEB020B7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9E6-59CB-4912-B357-F0AC5DD5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66F-7E66-4150-96A5-13F0B8BB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A5E-272B-4299-90EA-D7F13AC4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F1A-7038-4B27-966C-FF48957D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75D-18B8-4274-A42D-CB41542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640-950E-42CD-9E8E-FF9AF4F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497-6CCB-4D6B-9228-3333591C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226-DB79-4EFF-A7DA-037902E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043-33E8-4B37-9A33-8C93F959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471-C7A8-447A-8EA4-6069D71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F83-3271-4F39-A0E2-96E7152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57B-1F9A-4966-890A-4A670FD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E2EE-3345-4B53-AB6E-50943D801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EQUATIONS/JMAP_SOLUTIONS_COMBINING_LIKE_TER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EQUATIONS/JMAP_SOLUTIONS_USING_THE_DISTRIBUTIVE_PROPERTY.doc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COMBINING_LIKE_TER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COMBINING_LIKE_TER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ing Like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33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13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41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5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36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308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0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2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2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6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0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3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0:58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52:40Z</dcterms:modified>
  <cp:revision>16</cp:revision>
  <dc:subject/>
  <dc:title> EQUATIONS:  Combining Like Terms EQUATIONS:  Combining Like Terms</dc:title>
</cp:coreProperties>
</file>