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AFFAB-D4B1-4D24-AFFA-564D9DAF13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E6CC1-128A-432E-804A-60FDC6B494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01a  RATE: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11901-6FF7-48B2-B5A8-A71BF6F961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23a  RATE: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1496A-CD09-4743-BCA4-2BB44C6E98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03a  RATE: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65CB2-E716-4BC4-BA63-1C44F592B5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24a  RATE: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8D786-BDF0-4E09-8691-297B774A98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22a  RATE: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BFAB1-5E44-4E04-9FC4-E63F410E1F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FEE7-767C-4B76-B214-F610B37A7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6479-6AEC-4433-BE5E-C5D22EC0F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E805-8646-4C78-992B-C432C3DAF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1917-DA80-4234-80FC-030DEAFBB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D48C-A90E-4679-8F9F-593A72CBF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1740-2134-4BA8-B66D-259146BF9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E49E-7E22-415D-985E-9953D1D18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1E8A-95E2-451E-99AF-5282C3F72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2BFE-5559-4C76-BA9F-61C9F5526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ED73-6F26-4B7F-85E6-8CEDE3E7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3350-259B-4D2E-8660-7F5C2C92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3B7B-E218-482E-B6E6-0FE415F47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05DB4-6289-49A6-8B1D-A43CA080D3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RATE/JMAP_SOLUTIONS_SCALE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hyperlink" Target="http://www.jmap.org/JMAP/JMAPSolutions/RATE/JMAP_SOLUTIONS_SCALE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RATE/JMAP_SOLUTIONS_SCALE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TE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ca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0" y="0"/>
          <a:ext cx="9090000" cy="21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133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429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600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2971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19:58:15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07-16T19:58:21Z</dcterms:modified>
  <cp:revision>8</cp:revision>
  <dc:subject/>
  <dc:title> RATE:  Scale </dc:title>
</cp:coreProperties>
</file>