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BB09-CA66-45F9-9232-950620D36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6E8-C6C2-46CD-BB1C-B8FBBD4CA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62E9-54DF-4431-B19D-D38CFD077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1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F75C-D50D-40EA-8584-D4047008A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9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785E-9182-48DF-9F38-AECC3C1F4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2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DCE-5247-4191-9A27-25DD8BFF7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1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04CC-7396-4FBC-8D92-53CCA5371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D5E-C5A3-455B-9B21-5BFE316EF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6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4327-A5E6-446E-9144-61431DBF9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1b 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AED4-D009-4537-B9C8-C85292C2B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7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C443-C1A0-4BC4-BDF4-F8196456F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2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7B65-1A96-412F-8043-E8674B27A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5AC7-12E6-4098-A724-419244BF1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8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F03B-4AAB-4697-805F-2EED4F764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B65-6F52-419F-A8A7-834446836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0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558-2643-4462-864C-33FA2F249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7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54CE-8A90-4A66-B74E-0C04688BA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474F-4A20-4B25-8143-F3B0A5333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6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A0F3-45B0-47FA-9E54-D38C79F7D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6BC8-E60A-4515-BA68-C6852629A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7BEF-E183-4997-A139-3E631D6F1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247E-5B6D-4D19-89A9-141B6BF50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1081-1B77-4D3B-8525-997A6043D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FF96-ECDF-4497-82FF-B915E029A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B2C-75E1-4F24-B5E2-7B18BB3A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7A3-6707-4621-A8CD-C2AC8F71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6C3-80E1-47F0-BB16-093F97F6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CE7-8BAE-44C3-88AA-9215F9C6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937-BE9E-4669-A997-19920474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8D5-E68D-42F3-9FFD-D78D082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36E-49CD-4C18-9E91-B8C3E3F7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70B-2930-456D-81E5-C002053C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20C-0D98-473A-9C57-18541E2A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A07-5BB1-41A5-B9FB-94D4B2D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B7A-5776-4435-94C6-6881E852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5C4-973F-4E85-AA94-1B0C7702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3FE2-32C6-44C5-8BD7-CE2D14552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TRIGONOMETRIC_GRAPH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TRIGONOMETRIC_GRAPHS.doc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hyperlink" Target="http://www.jmap.org/JMAP/JMAPSolutions/ANGLES/JMAP_SOLUTIONS_TRIGONOMETRIC_GRAPHS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gonometric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4"/>
          <p:cNvGraphicFramePr/>
          <p:nvPr/>
        </p:nvGraphicFramePr>
        <p:xfrm>
          <a:off x="0" y="0"/>
          <a:ext cx="907884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07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5680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732880" cy="385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6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2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57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144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4"/>
          <p:cNvGraphicFramePr/>
          <p:nvPr/>
        </p:nvGraphicFramePr>
        <p:xfrm>
          <a:off x="0" y="3124080"/>
          <a:ext cx="909000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124080"/>
                    <a:ext cx="9090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>
            <a:off x="2819520" y="609480"/>
            <a:ext cx="3352680" cy="241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533520" y="0"/>
            <a:ext cx="7619760" cy="632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178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25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3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2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6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07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02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5627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0:59:3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43:37Z</dcterms:modified>
  <cp:revision>19</cp:revision>
  <dc:subject/>
  <dc:title> ANGLES:  Trigonometric Graphs </dc:title>
</cp:coreProperties>
</file>