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4948-238F-492C-B4F5-1D0B7BB5B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B68F-5128-4869-A441-2D46442B7D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4a  INEQUALITIES: Linear Program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42B1-EB5E-4350-8AB6-3CB8814DD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E2F5-377A-44C1-97B7-0E3EFFCC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BC77-30F1-4A9D-ACF9-9177FB56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F9A5-569A-4A45-9A58-A3EB9DCE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2870-2360-4715-9C66-3198E2E3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F04A-8E5F-4D79-AAFF-830EFD28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03EB-B1F5-4256-ABDC-373A7DAB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7C9-D87B-4A49-BECE-F8D79609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35E2-A89E-4A55-9D86-039E1CF2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A5E1-91CD-4292-AEC1-B28DDE8B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C72C-6560-492F-B912-4DF51090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F7C4-276C-425D-882B-082FA0CE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1DDF-F81A-4CAB-BAB9-8C3CF72F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746D-453B-4586-AD43-C6269395B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EQUALITI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ear Program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216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2971800" y="3352680"/>
            <a:ext cx="3314880" cy="3314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6:43:2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5T21:51:52Z</dcterms:modified>
  <cp:revision>6</cp:revision>
  <dc:subject/>
  <dc:title> INEQUALITIES:  Linear Programming </dc:title>
</cp:coreProperties>
</file>