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3281-8343-4D9B-99BF-67EE0B4F0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1725-3445-4322-84ED-F01982D8F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7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410A-9D87-47E4-A732-AEB54BA06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8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EC3B-EEA8-4DFC-A0DE-2537FF1F8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8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1653-54FE-40EB-B898-65B894F45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5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AECC-4C0B-490E-A36C-602AFA463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8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FBB9-3609-4317-9817-33BBCD8AB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7b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B2D1-265F-4E6A-832C-8E85D1FDF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1b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4648-31C2-42DB-B5C1-8AF6FC161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1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CE8E-F351-4E23-9CA5-10AC99BBC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2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373E-156F-4B85-B2FF-99C576EF3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8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6DE1-915F-41BC-A484-7C796ECE8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5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6297-F14F-4F42-8C75-5B60EAD13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1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383E-9C03-41EA-A4CE-A1CB9A5D1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4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C53B-3F6C-44B6-99E6-230D16706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5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E34D-E758-4C9D-8059-EAA9F16B5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9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7567-7931-4B98-B6C0-3646376FB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943-067D-46B0-BE43-35F9A626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331-BC31-4515-8087-F2C04B82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0D03-A0FD-4CCF-AE86-0FFD4299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26A8-B957-492F-B0DE-E45EE79E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02E-F0B0-4B65-A76D-B4779F34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F85-2BF5-4EC7-811C-5F903085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EF6-49A0-42B4-8B29-688E557F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A26-B2B5-4B15-A468-B69FD2EA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B55F-4C89-48AB-9966-4A2443B4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91E8-928A-4E1B-BF9F-D3E032BF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F10-A8F1-4190-8D88-C70DAC35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1254-AF26-4049-8429-AA3CDA23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6209-89DF-4114-9EC7-69CE84F53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GRAPHS_AND_STATISTICS/JMAP_SOLUTIONS_CENTRAL_TENDENCY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hyperlink" Target="http://www.jmap.org/JMAP/JMAPSolutions/GRAPHS_AND_STATISTICS/JMAP_SOLUTIONS_CENTRAL_TENDENCY.doc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S AND STATIS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ntral Tend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144000" cy="25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144000" cy="58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8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144000" cy="29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144000" cy="209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0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144000" cy="21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0" y="0"/>
          <a:ext cx="9144000" cy="384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0" y="0"/>
          <a:ext cx="9144000" cy="238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144000" cy="258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144000" cy="30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144000" cy="30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144000" cy="243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44000" cy="361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6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900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3"/>
          <p:cNvGraphicFramePr/>
          <p:nvPr/>
        </p:nvGraphicFramePr>
        <p:xfrm>
          <a:off x="0" y="3200400"/>
          <a:ext cx="909000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00400"/>
                    <a:ext cx="90900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5" descr=""/>
          <p:cNvPicPr/>
          <p:nvPr/>
        </p:nvPicPr>
        <p:blipFill>
          <a:blip r:embed="rId5"/>
          <a:stretch/>
        </p:blipFill>
        <p:spPr>
          <a:xfrm>
            <a:off x="2209680" y="838080"/>
            <a:ext cx="4870440" cy="2210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144000" cy="55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5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144000" cy="536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3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2:22:2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1T22:46:32Z</dcterms:modified>
  <cp:revision>17</cp:revision>
  <dc:subject/>
  <dc:title> GRAPHS AND STATISTICS:  Central Tendency </dc:title>
</cp:coreProperties>
</file>