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E23-1B28-4309-A679-FFE9DD093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836-6771-4D49-AABC-07AD22EE1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855-162A-40A4-BD5C-8E802D615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913E-CC16-409E-B8BB-EFFF0DDB2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60C-35A3-41D4-AEE1-06F9994D2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FD7-F50E-4A15-B37E-90F276A83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413-C668-4117-8034-6F7BB9050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AE96-6B10-42EC-AFC4-B05B6B606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055-D6B7-4C39-88E4-99B5B9154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2D0-1138-47E7-A517-EBBC248E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4FB-2A61-45AD-BED6-D41F2F38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F0C-9AA5-4C0A-8497-A3C772C7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2BB-2CCB-461E-9771-3A5D1FC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995-C1B7-439B-9E47-869CF3E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E79-7303-49B6-8311-423F817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5CD-DB92-4A4B-884E-A19A7CA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E11-25C8-48E5-98DE-8E8BA2D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203-A378-49F9-948E-D12F577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950-2D7B-46B9-9A34-A4495FA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A42-942F-4110-80F8-45EF221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35B-BBB3-4983-958D-37C5DB0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47E-8926-4A8D-9A77-CE129DB89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ZERO_AND_NEGATIVE_POW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ZERO_AND_NEGATIVE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ero and Negative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90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281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50:31Z</dcterms:created>
  <dc:creator>Steve 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00:24Z</dcterms:modified>
  <cp:revision>13</cp:revision>
  <dc:subject/>
  <dc:title> POWERS:  Zero and Negative Powers </dc:title>
</cp:coreProperties>
</file>