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112A-6F2B-4C0B-9BB0-527922E6A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4794-55B8-46E6-9169-552D7CE7B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6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B1BD-B8DA-4111-A8BD-43C705F48F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0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6D5F-2534-4C2F-B599-11FAC4BCBB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1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DD17-55F3-4F3C-8128-B9012E337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9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1160-8978-4AC7-B21D-6B8C1F767D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7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2D08-7248-4F7A-A597-07B09D3524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9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2C6F-9D7E-4CFB-AAC9-80AB7692F5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7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A3C7-ADD1-47FE-B515-1A1B42BD61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1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6865-CC0E-4C16-841A-A2160CE2D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2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A6DA-A42A-42AE-A64D-3451AF0307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0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3C9C-E679-4B91-810C-7105B4FAC0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8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16C8-D516-451C-869C-92DD6C6CB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6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5B6E-9C9D-4425-B41B-2C008E3F8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9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0C81-5812-49CC-8275-D2549B2F1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E07E-515D-485A-BB26-6E4559F0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4B98-9B24-4169-9D79-E8418EB4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BC34-C128-4B76-B304-FBB48CE3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7209-85C7-4354-8EB3-0D5EB2ED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EB72-BAA0-4C72-B543-E80330EB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4A1-27A9-4119-9386-08353B89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D3F1-54BF-403B-9BCA-C598660D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C72A-E61E-4E9F-BEB4-7864A1A2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DC26-C4DD-4D13-8E1F-630C4CD3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045-2518-43DB-A796-4959B434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C286-5FCD-43D1-8881-9A90679B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847B-A873-461B-B6BF-FCFCC3E3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EE65-B3B0-48B2-AB7B-19BD870AA5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OWERS/JMAP_SOLUTIONS_PROPERTIES_OF_LOGARITHM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POWERS/JMAP_SOLUTIONS_PROPERTIES_OF_LOGARITH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POWERS/JMAP_SOLUTIONS_PROPERTIES_OF_LOGARITH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POWERS/JMAP_SOLUTIONS_PROPERTIES_OF_LOGARITH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POWERS/JMAP_SOLUTIONS_PROPERTIES_OF_LOGARITH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POWERS/JMAP_SOLUTIONS_PROPERTIES_OF_LOGARITH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POWERS/JMAP_SOLUTIONS_PROPERTIES_OF_LOGARITH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POWERS/JMAP_SOLUTIONS_PROPERTIES_OF_LOGARITH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POWERS/JMAP_SOLUTIONS_PROPERTIES_OF_LOGARITH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POWERS/JMAP_SOLUTIONS_PROPERTIES_OF_LOGARITH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POWERS/JMAP_SOLUTIONS_PROPERTIES_OF_LOGARITHM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erties of Logarith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0378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037800" cy="37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03780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9090000" cy="620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62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037800" cy="47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7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23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12816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37800" cy="21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03780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3780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09:22:1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6:33:17Z</dcterms:modified>
  <cp:revision>9</cp:revision>
  <dc:subject/>
  <dc:title> POWERS:  Properties of Logarithms </dc:title>
</cp:coreProperties>
</file>