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EABB-65A8-4113-9646-1A4EB7A2F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5743-A9EC-452E-9330-33C1040B2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6a  PROBABILITY: Geometric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7196-A8BF-4AC4-8EA2-C415F57EB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4a  PROBABILITY: Geometric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A58C-9968-49CA-B9A3-8B04F6FD5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1a  PROBABILITY: Geometric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6138-B56D-4B09-A942-8C2C4E710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EBF-DDBD-4F02-BFE2-C1D1517C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F71-71F5-4080-8115-0DA6F179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89F7-B8AB-48B7-91F4-A3F563C7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669-049B-4692-B2B0-3E9AD20B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807-54D2-454E-94E6-DBCDE51E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B42-097F-41D8-A96C-4A92844B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1CBC-BF28-4529-B192-5499A344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C41-B510-4F0F-BFDB-23B4D4D4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D494-5981-4ED8-8439-B6288035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9154-C9BD-411C-9D15-874CD790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D1D-82E9-4A02-BD14-FB41CFF9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50D-8F9F-4390-8735-4400E471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AD5C-A602-4294-87B5-00E29B884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ROBABILITY/JMAP_SOLUTIONS_GEOMETRIC_PROBABILITY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ABIL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ometric Probabi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661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6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8778960" cy="67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778960" cy="67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1:10:5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3:53:31Z</dcterms:modified>
  <cp:revision>9</cp:revision>
  <dc:subject/>
  <dc:title> PROBABILITY:  Geometric Probability </dc:title>
</cp:coreProperties>
</file>