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2FA7-9391-4F98-BDE7-EAF665D68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EDF5-CF13-4F06-BA2D-8A480EE06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86B2-E41A-46F2-93EA-9049A67EA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4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7086-BE6F-4DCA-92A9-623D1DE1B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CEC7-5205-458E-9076-7DA72FC91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9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D222-29D9-47DB-94A9-06CB3DDB9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F467-C36D-4CC4-8CE1-C3C18C637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643C-50AD-40DF-ADB7-90A56CCF0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7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C0B2-C991-47EC-B8CD-00ED7B86E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2143-9E95-4995-B7CD-7F6EF28A4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9CB2-8444-4399-8C88-6AB5D9A51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6b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2D38-7BE6-4BB3-977A-296CD5B6A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3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9358-9A1B-49E1-9064-76F77CA6F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5b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0751-9861-4DEA-8CEB-B94BE7405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2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6184-21FD-4A17-8FD9-7A1439E00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1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30A9-156C-4245-96D9-616EEAC57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270C-0A48-49CD-A311-13A17DDF0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1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3DC9-2437-47D3-B0D0-DB37C071D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5E40-0442-4C7C-9B54-81F769BA1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41F9-E392-4D67-AE02-D4ED4A9F1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8421-C6D1-4E77-AFD0-358B09F6B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F8F-1EF8-4BCB-AC52-170D4FD3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26C-A56B-4B27-9AF8-460BE890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CAC-4DF2-4C04-8F17-3DDC4337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900-6534-4C46-8DE7-D599A674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F79-8963-415E-8424-ECE6568D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BCF-3E4C-4100-AFD5-39F4AED1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133-2111-4CF1-9450-03A031EF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063-9FBA-420C-A000-AE6C2D3F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620-BC53-47F4-830E-E0E5FA22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C92-CB00-4F82-A08D-0AE2C8ED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0A7-080E-4001-A97D-8781F9A6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438-A37B-4DA1-9793-2B4E7BE7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FA56-5931-4957-9D62-BBEA1CB61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OPERATIONS_WITH_POWER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OWERS/JMAP_SOLUTIONS_OPERATIONS_WITH_POWER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s With P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35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28160" cy="46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894564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3780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37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02160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037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03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903780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037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378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8945640" cy="40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894564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0:17:3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10:40Z</dcterms:modified>
  <cp:revision>13</cp:revision>
  <dc:subject/>
  <dc:title> POWERS:  Operations With Powers </dc:title>
</cp:coreProperties>
</file>