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6D62-D8E0-4739-983D-FF45BB6C7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D6AB-ABBA-451D-84BA-84140D251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6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2F63-C49B-47D4-8483-D5C68614B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6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3E56-C05C-4A76-8B62-6A58BF29C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8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01E2-0A4E-4074-9C71-296E4254F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5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8BC4-137C-41DF-9ED6-536C4D097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6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8CDB-6873-493C-B27C-E21B8EEB6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5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0EA3-CC12-4FBA-AAAF-3B79B358E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5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BD4F-C4B7-4349-868C-6F4F5A8D5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3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B246-5905-4D91-B42E-1C08813D4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2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D078-4953-4401-851F-6F9E35198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1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1FEF-7948-440E-A17E-F57A0362B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5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0147-1ADB-42CB-BCE4-193A70EEB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3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2832-88DC-4314-94A3-23DA3C53A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1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61B3-0441-4586-9C40-1098D2BED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2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8D95-7AEE-4E3E-9CF1-46F69D590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0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936D-21D1-40F0-92E2-02703DA58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6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F7EA-246F-4A89-A9F2-AF7644E00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7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615B-7B1E-4C0A-A137-65A8B478F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9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9029-1C35-4B90-B909-052D366E2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8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F62B-757D-4A7E-8760-4837CDB7C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8b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8A8C-11E5-4863-AFF3-53ADAC888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2b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C438-38DE-470E-83BD-ECD9EF4B7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3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EF9E-8245-44B4-BCF9-7BAD691B6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0b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E7E5-979C-4705-B8DB-491583515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0b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DA30-75D3-4961-82AE-93596FA07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4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8AD5-E6D2-4440-84C3-0EF3CA2A8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7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7C51-7FD8-45DB-8B4B-679B6CABA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2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156F-5D7B-4F11-AD0C-F3B7D0A7E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2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B607-B292-4C1B-AFAE-FA9E8C568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7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B6FA-4C7B-4569-9226-BBC46CACB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8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CC4E-1718-41C3-B72C-C5914EE08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B7B-31FA-405D-B700-16F2226A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0AB9-34B9-47E8-BE92-FB53B4C6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E87-7BF5-4DAD-91EB-B6C024BB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123-5807-4B0D-A065-7B4D5AC5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4BD-7DD2-49AF-AAA6-E874C618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17C-C0A7-42D0-8500-296C280D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95EB-1C01-454E-B0F3-F583E081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53A-8925-475C-B558-AF5C0459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42C-E158-46AC-94E7-E6E8849F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AD1-F08C-4A27-85C8-64A5684E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AE0-8CFD-4092-9086-991168DB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ED3-44CE-4AC1-A8A1-E1E94A1C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06B2-AAF9-43B9-A9B9-01830A50B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THER POLYGON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Perimeter and Area of Other Polyg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22:06:2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15T01:16:16Z</dcterms:modified>
  <cp:revision>12</cp:revision>
  <dc:subject/>
  <dc:title> OTHER POLYGONS:  Perimeter and Area of Other Polygons</dc:title>
</cp:coreProperties>
</file>