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8C1F-B318-452F-850A-296373077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FAF1-25E3-48EC-A4A8-A65AFA441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9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7587-1093-4411-85DC-B9F4EAE2C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6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A0C5-5628-443E-AF52-91E616AE2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6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AA2C-E690-4388-9075-A079FC859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9EA6-5256-4E14-B8CB-593191A1B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8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24BC-F865-4054-948D-E189936E7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6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CD18-9650-4600-AC0C-C4F7B692F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1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AE0D-4708-4EA8-95E4-A0124DE66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9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E084-F387-4E65-9227-478EE0800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1a  RATE: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97B1-21F1-4F29-A639-BD54095ED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5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FA6D-5E42-494D-A1BF-1DE969B13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2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DEA4-3C77-4935-A23B-01BC66F4A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7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8C17-CE66-471E-AAF9-91B349CC5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8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440A-220A-42B0-B42F-8721A47BC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0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4411-3897-466B-9829-392EF35D1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5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737B-BEE8-42D3-B945-8EFC698DA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3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D563-CE04-4041-9C2D-BE5350C23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483-2CA7-4141-B9F1-6D15E94D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C64-251A-45F5-9535-BFFB75B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4E5-CEFE-42AB-A657-15331320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350-9610-4CC9-A010-8D98F692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A96-7D53-43E2-A3CE-004ACF8A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CE2-1E51-4DAB-85CF-67A86DC7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54D-A2A6-440F-AD12-17972380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8B6-44DF-4FCC-A933-C27E4D6F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A65-DF25-46F4-A655-A72D0E97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510-9EAA-4B3A-90F8-22CCA730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C9F-70CA-4FB7-B625-78C04D05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B62-0F9C-40FA-B76B-08CC8FF3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E339-48E9-4B51-BD0C-BE7D14FD2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SPEED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RATE/JMAP_SOLUTIONS_SPEED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892656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2656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41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4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952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95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0:07:3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14:12Z</dcterms:modified>
  <cp:revision>13</cp:revision>
  <dc:subject/>
  <dc:title> RATE:  Speed </dc:title>
</cp:coreProperties>
</file>