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7761-B0CF-4B68-AE43-4DE123C57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F134-2AB3-4387-BC91-8EAE0D308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8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123F-11C3-4DB1-A197-FA27A4BF7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7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D1BA-51A5-4FEE-A32D-0BCE1AF71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8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0B1A-7F27-4E0E-A2BD-1A61973E7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4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11D1-ECAE-49CE-8CD2-AE7F70FAA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2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4077-E7EA-4424-AF72-E43E9E8A0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5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E652-F68A-4093-9E36-A459EEDB9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0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5228-CA41-4A83-B80C-72DF78417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3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9884-F654-4544-A04E-FE19C306D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9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1F8A-2E06-4FF5-BA12-43E779C86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F92-E455-4133-972E-EEC60E75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92F-FDA2-48EF-AC41-F1BDA331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140-3DD9-4BEA-AB3C-7D76537F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41E-0E9F-4492-9F74-F999E71A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437-5C43-4CAD-ACEA-5BC0935E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07E-B8AC-4CA0-B9B3-5E6B03B5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353-33DC-43F9-9887-E5DA6262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8F6-85A8-4C0E-8CE7-9E88977B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02B-DFA8-4061-8F4F-78833EBB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342-B9AF-4A2E-A05D-3A824509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4B9-EAD4-4A5C-A477-CC8D7B60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C19-F31C-40EF-A7F5-9DC53AA4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7C82-68B7-4199-9D0A-E04C6FB5E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ra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9:10:0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1:05:36Z</dcterms:modified>
  <cp:revision>5</cp:revision>
  <dc:subject/>
  <dc:title> LOGIC:  Contrapositive </dc:title>
</cp:coreProperties>
</file>