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77E0-2E5E-4D16-945C-E9266AB0C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EE39-3EB3-4325-BA9E-573A6A1D7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7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9BBB-1C33-4CA4-9CAE-40F6F5F3A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4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0ECA-6003-4C65-B61A-233160859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6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FB86-5BD6-4D65-A359-C3D251691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1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14E3-3A9A-4654-9490-16E6EB5FF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7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5501-1FF7-449A-B0F0-888D52E3E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0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C32-3722-45A4-8799-679971F94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9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24B5-C7EE-49C8-B264-D043FB729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0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DA8-0ADE-48A6-9F21-685011D75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5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D2B-7B7A-4CA4-9D54-F87C9F31D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9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F0D-035E-4404-9C78-AFDCB3E3F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3D1-8D38-4302-B932-247E5D22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600-C5EB-4450-A723-9F3372B2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D08-A2C3-418D-8720-2FCC2440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87B-EC48-4821-8860-4E4D4F95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43C-5023-4BBD-A6F4-133F93D4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52A-6714-4ED3-B124-FACE03F3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173-EF42-4896-9A7E-A5B8D3E4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6DC-759D-4092-9D93-160F61E6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4FC-959B-4454-B5CE-19D6E130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6A3-857F-4BB8-B1CF-9252389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BE2-005B-438A-8E9E-12C8B417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8E1-C6D4-4893-9709-F8CB479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2E5B-7C5E-4E54-8D4D-CFD35C1F7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STANDARD_DEVIA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hyperlink" Target="http://www.jmap.org/JMAP/JMAPSolutions/GRAPHS_AND_STATISTICS/JMAP_SOLUTIONS_STANDARD_DEVIAT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hyperlink" Target="http://www.jmap.org/JMAP/JMAPSolutions/GRAPHS_AND_STATISTICS/JMAP_SOLUTIONS_STANDARD_DEVIATION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 Dev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86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3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95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6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518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79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14720" cy="237024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" descr=""/>
          <p:cNvPicPr/>
          <p:nvPr/>
        </p:nvPicPr>
        <p:blipFill>
          <a:blip r:embed="rId3"/>
          <a:stretch/>
        </p:blipFill>
        <p:spPr>
          <a:xfrm>
            <a:off x="0" y="4735440"/>
            <a:ext cx="91440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9000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0" y="4441680"/>
          <a:ext cx="909000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41680"/>
                    <a:ext cx="909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2362320" cy="2892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4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7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4:11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51:30Z</dcterms:modified>
  <cp:revision>9</cp:revision>
  <dc:subject/>
  <dc:title> GRAPHS AND STATISTICS:  Standard Deviation </dc:title>
</cp:coreProperties>
</file>