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985B-E05F-4BB1-9A61-BD19590B9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91B-6BFA-4696-A6A1-85AA7FBE1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95C-85B8-4E4E-8502-2B213FF05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2C57-B950-497A-B32A-434FDC141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4BB1-1611-42C7-B22D-57669835C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24E-D030-4BF7-B821-08E949CC8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9EF5-A219-4251-AEA0-C1C28FCB2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63A-AC1D-4B6E-8D7B-0C50CFF62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23C-2542-4E4F-9586-34D29BE06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41C8-D4D6-4C91-8FC5-4F22EDC61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FAC-8A7E-47EA-AF3C-4B5CEE8C7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768-AF4D-4023-8B5F-0F11F4A79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945-FB8E-4C03-BE9F-CBBE22F44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03DA-CD87-4FF8-8387-C096F83D9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FEE1-051B-424F-AEC2-2902D3543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9A03-AE92-44CC-8A53-6AE728010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6155-355E-45AB-91AB-5E87E07BE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FAE-31FA-4CF7-9410-654D6C545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A994-79D1-499C-A719-625F54D17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5C0-302E-4C9E-93F5-9100A8392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B48-A0D1-4AAC-9010-2AA5D5CE3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BA40-1455-40CF-B165-A3894990E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05F-9AAC-4CE8-A449-A6D618A4E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92D-C4D2-4286-ACAC-796252657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128-332B-4770-859E-C28FF397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322-4434-4FA7-B00D-52A485F9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E19-5758-4F59-80B0-AF221A60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332-1549-4ECC-AF3E-2F775C37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05A-0E2F-49EA-8B6C-53A19741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734-6E79-4E6D-AB73-F24ED82C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58C-91A8-4706-AD03-7B18427D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707-F3E7-44D1-8CFF-6FCA437F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9BA-3F92-4218-91D0-C576B9E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012-F3C8-4D85-9DF3-6DB359E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062-7B13-4AF7-9283-DC837E5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7B2-103E-401D-97AD-DD7A5DF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0EB-A1D5-414B-AD60-070030CBD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COMBIN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ROBABILITY/JMAP_SOLUTIONS_COMBIN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900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894564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1281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0378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0" y="0"/>
          <a:ext cx="9037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0" y="0"/>
          <a:ext cx="9128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9000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41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33:22Z</dcterms:modified>
  <cp:revision>15</cp:revision>
  <dc:subject/>
  <dc:title> PROBABILITY:  Combinations </dc:title>
</cp:coreProperties>
</file>