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2729-F7F9-4ECE-85A2-9B232E0A0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7128-BA83-4435-98A4-08E54D75D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7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6813-0171-4163-8DAF-2E90162B6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FE50-D7A0-45DE-9A67-7D9AADAB2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16E-6CB4-47A4-958D-FB67AA396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C5F5-DC2D-4357-B42F-0D554752E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3FD1-ECC1-4354-8315-4B2E7E4C5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B370-28F6-41DB-A2D1-2AB4421D4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C66F-EDCE-4A99-8A93-DA50E14EB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EF19-2E69-4484-BEB9-5B1F86731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EAB-727B-4FE8-875C-88EF18B88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EDB-EDAB-44C5-BE33-A5317E3FD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BE0-545C-40B2-A456-913CA6290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8908-E18C-4C3F-B0C0-649F75D3C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E6C-E070-489E-B30C-853382C9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D26-E266-49FF-96CE-96E315F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F55-C4CA-48D8-A13C-3B5E3870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449-C042-42FF-ABA5-50FFE83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211-D248-474B-93CC-343EA37E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358-3248-49FD-BADC-2663CEE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067-0E45-4151-98C0-D85C876F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413-33EA-40C1-A54E-8361E23A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499-EB0B-4984-8A76-3A67CE0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BC9-7A88-41F4-9387-88E4670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EE7-74F5-436A-8470-1941101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930-30BB-4AB6-A965-BA4CAF6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CEDD-70D3-4B32-A367-13FDD511A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NORMAL_DISTRIBU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mal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2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5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9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1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1:37:5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47:09Z</dcterms:modified>
  <cp:revision>11</cp:revision>
  <dc:subject/>
  <dc:title> GRAPHS AND STATISTICS:  Normal Distributions </dc:title>
</cp:coreProperties>
</file>