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6.wmf" ContentType="image/x-wmf"/>
  <Override PartName="/ppt/media/image29.wmf" ContentType="image/x-wmf"/>
  <Override PartName="/ppt/media/image11.wmf" ContentType="image/x-wmf"/>
  <Override PartName="/ppt/media/image12.png" ContentType="image/png"/>
  <Override PartName="/ppt/media/image17.wmf" ContentType="image/x-wmf"/>
  <Override PartName="/ppt/media/image9.png" ContentType="image/png"/>
  <Override PartName="/ppt/media/image10.wmf" ContentType="image/x-wmf"/>
  <Override PartName="/ppt/media/image8.wmf" ContentType="image/x-wmf"/>
  <Override PartName="/ppt/media/image13.png" ContentType="image/png"/>
  <Override PartName="/ppt/media/image30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4.wmf" ContentType="image/x-wmf"/>
  <Override PartName="/ppt/media/image27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163B-D415-4136-B675-8932BA191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79B-BBCA-419A-B11E-4EFB6B439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9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452F-FA57-4EC4-8DC8-FD8EF4CD8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5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2C9B-8E09-4FEE-8615-39E797E7C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B4A-E7B5-4BE1-8627-042163EBA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1BD-C72B-45EC-A70E-6D1CE7F1B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6AF6-0C29-4588-93FA-64EA6F5B4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798-F561-45AB-8962-360361F7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7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CD2D-0BFA-4D87-97E1-CD4CF32D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3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3785-30D2-4D63-9B1B-C18497ABF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105-5ED0-44DE-A475-052AB3316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CE15-8652-43E9-B1C5-D7B9E3E38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92A-DC27-463A-938E-8B9D3AB03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CF1F-5FCF-4814-A39B-8DD46217D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225-EE50-4DE3-8BC0-5EA2DB536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267-6B73-49F4-8129-53C89081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B09-835D-4F57-AEF8-1C9BC0C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912-D454-4F3A-A624-27334C1D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152-48A3-4FB1-931E-0EDA6DAD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1C1-70F9-4524-A99F-A902B1AE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F2A-4294-4E1D-BFE4-50048F3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1FD-BEC3-4632-8ED9-CDB7AB16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695-4303-47EE-986D-C23858CC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E46-2C9C-4B4F-A90B-450CCA3C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E73-47B4-46F0-8CBE-8F6FAF91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28E-6E75-42E4-A520-0783546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38D-9C21-48BC-9119-05A60BE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0164-4C93-4641-8FA5-C9BC57159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GRAPHICAL_REPRESENTATIONS_OF_DATA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hyperlink" Target="http://www.jmap.org/JMAP/JMAPSolutions/GRAPHS_AND_STATISTICS/JMAP_SOLUTIONS_GRAPHICAL_REPRESENTATIONS_OF_DATA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hyperlink" Target="http://www.jmap.org/JMAP/JMAPSolutions/GRAPHS_AND_STATISTICS/JMAP_SOLUTIONS_GRAPHICAL_REPRESENTATIONS_OF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jmap.org/JMAP/JMAPSolutions/GRAPHS_AND_STATISTICS/JMAP_SOLUTIONS_GRAPHICAL_REPRESENTATIONS_OF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hyperlink" Target="http://www.jmap.org/JMAP/JMAPSolutions/GRAPHS_AND_STATISTICS/JMAP_SOLUTIONS_GRAPHICAL_REPRESENTATIONS_OF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hyperlink" Target="http://www.jmap.org/JMAP/JMAPSolutions/GRAPHS_AND_STATISTICS/JMAP_SOLUTIONS_GRAPHICAL_REPRESENTATIONS_OF_DATA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hyperlink" Target="http://www.jmap.org/JMAP/JMAPSolutions/GRAPHS_AND_STATISTICS/JMAP_SOLUTIONS_GRAPHICAL_REPRESENTATIONS_OF_DATA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hyperlink" Target="http://www.jmap.org/JMAP/JMAPSolutions/GRAPHS_AND_STATISTICS/JMAP_SOLUTIONS_GRAPHICAL_REPRESENTATIONS_OF_DATA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cal Representations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87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76552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912960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65160" y="0"/>
            <a:ext cx="9078840" cy="204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630520" y="2362320"/>
            <a:ext cx="3236760" cy="413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28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9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61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ject 3" descr=""/>
          <p:cNvPicPr/>
          <p:nvPr/>
        </p:nvPicPr>
        <p:blipFill>
          <a:blip r:embed="rId1"/>
          <a:stretch/>
        </p:blipFill>
        <p:spPr>
          <a:xfrm>
            <a:off x="152280" y="0"/>
            <a:ext cx="4148280" cy="538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024440" cy="40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534348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257800" y="838080"/>
            <a:ext cx="346068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2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science qui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udents received the following scor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 95, 95, 90, 85, 85, 85, 80, 80, 8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 75, 75, 75, 70, 70, 65, 65, 60, 5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statistical grap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a hist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stem-and-leaf plo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this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title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abel all axes or parts used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95680" y="838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type of plot requires a gr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809880" cy="3836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 flipV="1" rot="10800000">
            <a:off x="228240" y="41295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grid is necessa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1066680" y="2057400"/>
            <a:ext cx="2590920" cy="141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3657600" cy="1850760"/>
          </a:xfrm>
          <a:prstGeom prst="rect">
            <a:avLst/>
          </a:prstGeom>
          <a:ln w="0">
            <a:noFill/>
          </a:ln>
        </p:spPr>
      </p:pic>
      <p:pic>
        <p:nvPicPr>
          <p:cNvPr id="71" name="Object 8" descr=""/>
          <p:cNvPicPr/>
          <p:nvPr/>
        </p:nvPicPr>
        <p:blipFill>
          <a:blip r:embed="rId5"/>
          <a:stretch/>
        </p:blipFill>
        <p:spPr>
          <a:xfrm>
            <a:off x="0" y="4191120"/>
            <a:ext cx="9144000" cy="29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Object 3" descr=""/>
          <p:cNvPicPr/>
          <p:nvPr/>
        </p:nvPicPr>
        <p:blipFill>
          <a:blip r:embed="rId3"/>
          <a:stretch/>
        </p:blipFill>
        <p:spPr>
          <a:xfrm>
            <a:off x="2133720" y="1066680"/>
            <a:ext cx="9055080" cy="85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3039840" cy="2492280"/>
          </a:xfrm>
          <a:prstGeom prst="rect">
            <a:avLst/>
          </a:prstGeom>
          <a:ln w="0">
            <a:noFill/>
          </a:ln>
        </p:spPr>
      </p:pic>
      <p:pic>
        <p:nvPicPr>
          <p:cNvPr id="77" name="Object 5" descr=""/>
          <p:cNvPicPr/>
          <p:nvPr/>
        </p:nvPicPr>
        <p:blipFill>
          <a:blip r:embed="rId5"/>
          <a:stretch/>
        </p:blipFill>
        <p:spPr>
          <a:xfrm>
            <a:off x="-914400" y="3962520"/>
            <a:ext cx="9132840" cy="86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078840" cy="2471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25908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722160" y="3733920"/>
            <a:ext cx="3351240" cy="132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8:5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44:05Z</dcterms:modified>
  <cp:revision>24</cp:revision>
  <dc:subject/>
  <dc:title> GRAPHS AND STATISTICS:  Graphical Representations of Data</dc:title>
</cp:coreProperties>
</file>