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2BD4-F291-428D-AD1E-8F62EE2E86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1D06-642D-4D3D-9D71-BED0540A32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5a  SOLIDS AND SIMILARITY: Classifying So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FB80-5DA6-426A-963B-C7510CB952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01a  SOLIDS AND SIMILARITY: Classifying So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1623-0CC5-402E-8ADE-B149E24302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7a  SOLIDS AND SIMILARITY: Classifying So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43F3-9A01-49D6-A0E2-AE68203CFB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BAED-B478-4104-9904-5DC2F7FA7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F2B9-73A0-4A2A-9CD7-329E5642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0002-36A3-415B-B8B8-CCEBB0A6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3724-D6EA-4875-8766-C6F11C7B4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008D-0D3C-44CE-9C7B-EB28474A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A5D5-0B43-47F6-9221-7B10899D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3362-7982-4EDB-8EC6-921DB5B8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4945-0881-4F62-8742-D6899835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572B-C446-4BA7-AB96-A7FDA624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A848-1CDE-4BB7-8C88-F8F9C9B7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DD21-CD25-4F65-AD68-9FC99A03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726E-18B4-4CB5-9B42-C0485717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075B-168A-4E61-B9F8-BDB2C4E8D2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LIDS AND SIMILARITY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assifying Sol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10:51:45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07:36:01Z</dcterms:modified>
  <cp:revision>6</cp:revision>
  <dc:subject/>
  <dc:title> SOLIDS AND SIMILARITY:  Classifying Solids </dc:title>
</cp:coreProperties>
</file>