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73C5-F072-4AE8-A235-12B5B0359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2F32-D401-42C6-A716-28E30E532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7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97B8-BED8-443F-B3CD-6A479311D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E8D3-C375-486B-8739-67B2464E9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A1DE-929D-4A9B-8236-2D935E227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5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7AB4-023E-462A-9C84-3D67481BE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0519-7B83-4799-9851-3C0E129CD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CF97-E26B-4C23-A6DC-2ADAE4E58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F35A-7763-4990-BDA0-AEBE7AEDB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9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830A-A1E5-41E0-B75A-BA5F7ECF4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5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48D7-0AB4-4F66-BDEF-F772CABC5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3E37-6F2E-47DA-930F-5C64CA2AF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8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CA48-932B-407D-A11B-8653377A9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3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E10C-2D4E-41CC-A720-F9D438759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9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8F23-16F1-465B-97D0-16C46C888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9833-1065-41BB-9DC1-05E33A436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6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6E31-E626-4850-944F-1D6950C05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C30D-CF74-4C6B-9061-88C3FEC2C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F085-2C90-4D67-924C-DFD78C0DC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1871-59F3-44A9-9B69-446A56A67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4B9E-ECD4-4B7C-B66D-2B741198B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316F-FBC9-4DF4-AB78-EF033964F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374-E15C-41FD-88A8-029EE440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C87-97D9-4DF0-A3F5-1662CBB0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7A7-E9E2-42A6-9752-0696EEF5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917-6FE5-4B47-A78E-EBA3A51B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65E-8386-417C-B696-3CE8E3A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1DE-C500-45DB-BBC2-59BB07F2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9F7-5F5C-4B5A-8568-9412668C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6CF-D3FC-4407-A357-92B8A3A9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82A-4AED-4D12-A8D6-5C149CAD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618-B446-4CFF-A698-4E4006A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1CD-2EA6-4ADC-B41F-898F7BD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969-EB91-435E-85DC-42A0489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95A4-5942-4F6B-8F69-1AE322B98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COMPLEX_NUMB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NUMBERS_OPERATIONS_AND_PROPERTIES/JMAP_SOLUTIONS_COMPLEX_NUMB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hyperlink" Target="http://www.jmap.org/JMAP/JMAPSolutions/NUMBERS_OPERATIONS_AND_PROPERTIES/JMAP_SOLUTIONS_COMPLEX_NUMBER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00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4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17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200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90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6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71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4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-33480"/>
            <a:ext cx="9013680" cy="686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2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89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4830840" cy="4663800"/>
          </a:xfrm>
          <a:prstGeom prst="rect">
            <a:avLst/>
          </a:prstGeom>
          <a:ln w="0">
            <a:noFill/>
          </a:ln>
        </p:spPr>
      </p:pic>
      <p:pic>
        <p:nvPicPr>
          <p:cNvPr id="57" name="Object 3" descr=""/>
          <p:cNvPicPr/>
          <p:nvPr/>
        </p:nvPicPr>
        <p:blipFill>
          <a:blip r:embed="rId3"/>
          <a:stretch/>
        </p:blipFill>
        <p:spPr>
          <a:xfrm>
            <a:off x="-2438280" y="327672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9400" cy="666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9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207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7:06:2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07:27Z</dcterms:modified>
  <cp:revision>22</cp:revision>
  <dc:subject/>
  <dc:title> NUMBER OPERATIONS AND PROPERTIES:  Complex Numbers </dc:title>
</cp:coreProperties>
</file>