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380-DE12-4630-ADD8-DAD63F16B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252-0FEF-477C-9812-C928D89F5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984B-1543-4F6E-AA68-DA0FF73CF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564-48A6-4E49-A81D-7F5BAF7C5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C531-3F68-4BCD-BD7C-BD0B3CEF7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D4CA-B626-43ED-9F3E-3A1DBD557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C4BE-0DF2-42C9-A31F-CDC3B1174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A87-49D7-439C-8A24-3954A054A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459-89A0-4F6D-827A-9E5FBE036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9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006D-164D-4A52-8D83-510A3CECC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4C91-43B1-4BD2-9007-EFA9B066E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ECD3-2F05-4426-8834-129845542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F8E-F3E6-4EC9-8930-BD654A48C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321-3EF9-4E17-B53E-C968B881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139-CB24-4C2E-96BF-46CE53081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D8B-CB77-45F0-A99B-E5ED54DB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58D-41AD-4478-8364-A77F44D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897-E6C1-4625-8D9F-4494893A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206-75C7-4852-B9D0-C4ED89F2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F99-FB04-4B52-84F5-8ED2E1D2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A6B-ED93-4359-9AEC-4A120E5B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24F-54BD-4CA1-8D7D-B8B1FA72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D31-5B6D-4429-A058-B0AAF96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579-368E-42B5-ABE0-8E49B193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BE2-D00D-4F66-AA89-0032450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647-E42A-4077-BA72-4A1E8ED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216-8742-4791-B035-8A67FA7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013-8A00-4B37-9EC5-08C07A158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PERC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c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49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12:59Z</dcterms:modified>
  <cp:revision>14</cp:revision>
  <dc:subject/>
  <dc:title> RATE:  Percents </dc:title>
</cp:coreProperties>
</file>