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E98A-DB1C-4773-9579-45C82F51FB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F60F-132A-421D-B8AF-81792AB5C3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8a  INEQUALITIES:  Interpreting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27E2-F70E-4941-A643-B17824DFA6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1a  INEQUALITIES:  Interpreting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530B-CA1B-4425-99C5-376B0446EC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6a  INEQUALITIES:  Interpreting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464F-30BD-4B8D-A204-177A8962C0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01a  INEQUALITIES:  Interpreting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2B9B-478D-4077-9913-06F05D3D78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14a  INEQUALITIES:  Interpreting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6351-92FA-46C2-B873-7DCDC6EA2B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4a  INEQUALITIES:  Interpreting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2E65-E0F9-4E49-AE1B-D7F2BFD018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28a  INEQUALITIES:  Interpreting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2231-65A5-4026-AC36-DB941AA8D2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BE8F-64F0-4AB8-B25F-60A8A8EC4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B3E2-FE1B-475C-AA9C-78ADFE04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29A5-7EC0-4834-A53F-D5639DF0F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A503-99B7-4672-A9CB-F3E829FB6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8A09-4B40-45CC-95D1-A76496BE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727D-5BFC-4370-893B-DCE410A6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D0F1-5F63-47BD-B364-3E4E991B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96EC-343B-4C56-B79A-9D9149E5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F06B-2AF5-4F88-AAEE-10FDA53D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E601-059A-4D5D-B9F0-EFA411F4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74AF-235B-4B2F-9B88-8436E96C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8B0B-F0ED-4B86-9FB4-4127D1C5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0FC8-E13F-4649-93A2-5E61BF7877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INEQUALITIES/JMAP_SOLUTIONS_INTERPRETING_SOLUTION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INEQUALITIES/JMAP_SOLUTIONS_INTERPRETING_SOLU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INEQUALITIES/JMAP_SOLUTIONS_INTERPRETING_SOLU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INEQUALITIES/JMAP_SOLUTIONS_INTERPRETING_SOLU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INEQUALITIES/JMAP_SOLUTIONS_INTERPRETING_SOLU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EQUALITIE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erpreting Solu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21600" cy="20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113760" cy="16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13760" cy="16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113760" cy="13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13760" cy="13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971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0" y="0"/>
          <a:ext cx="9021600" cy="23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23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0" y="0"/>
          <a:ext cx="907884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7884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0" y="0"/>
          <a:ext cx="907884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7884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4T15:41:54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5T21:45:26Z</dcterms:modified>
  <cp:revision>8</cp:revision>
  <dc:subject/>
  <dc:title> INEQUALITIES:  Interpreting Solutions </dc:title>
</cp:coreProperties>
</file>