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C6928-0548-4124-A7F9-536B6E1E04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6CADB-4D55-4160-A846-7E1CB7D140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16b  EQUATIONS: Absolute Value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4CE70-9924-422C-81EE-18C56F7718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B9D6-A595-4055-B88E-918D83281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E4C1-E2FA-42CC-AB0E-3931296CA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D689-E468-4339-963A-95CDCCEDF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C5E9-700F-45F7-8418-CA49BD68B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FCFD-0E63-4E2E-905E-1D4EDACB0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DA7D-CECE-4866-B85E-A331DE169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D3AB-1FF2-4ADF-B9BE-BB9B66453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8605-088E-4E7C-939B-E05082308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78E4-24FB-4442-A1A3-6B1A1E980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8E60-5657-4B1F-93AB-28031E7F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F4C3-A585-455B-A942-2144B180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1C80-3DD3-42F7-B7E3-D3C42173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CE879-8085-47FB-B3C1-72AED4E080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QUATION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bsolute Value Equ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857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1T20:54:39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12T04:59:40Z</dcterms:modified>
  <cp:revision>8</cp:revision>
  <dc:subject/>
  <dc:title> EQUATIONS:  Absolute Value Equations</dc:title>
</cp:coreProperties>
</file>