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2D81-E1C7-4255-B47D-999A50C44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83E5-8A76-4EEC-8F37-C7163AC2F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2a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ABC8-BC21-42C3-9DBF-559BDE407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4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E3D0-D119-45A4-A383-F0E19B37C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7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40AB-BCB4-4A42-A592-84CBA76CE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7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B0AD-403F-43CC-B3EB-B8279AAEB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4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990A-30B6-48D8-A3D1-46BF865F0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3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2121-C9F6-4C27-999B-5AC21D00C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31F-F21D-4341-9CC1-49A17E6B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C26-2204-4992-8E9E-35AFCC63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5E7-B444-4EE6-9600-EFDE29AD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0A3-96D9-4014-BD99-A44B51F4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3F5-F7F0-46BF-9CF1-598BE380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AD8-54CC-4248-A913-7D1FE20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444-6498-47B7-A254-CD455166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AF4-2B04-436F-847A-D2811579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91E-91C5-4478-B015-A8ACE94D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840-41BB-4F8A-BD87-86D5F62F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D73-C9FE-4EFF-A412-5B897A0E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328-6835-449D-A067-968B9C3D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CAB2-642B-44CE-9F9A-7251FEE07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MULTIPLICATION_AND_DIVISION_OF_RATION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ultiplication and Division of Ration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41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2:11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5T19:30:16Z</dcterms:modified>
  <cp:revision>14</cp:revision>
  <dc:subject/>
  <dc:title> RATIONALS:  Multiplication and Division of Rationals </dc:title>
</cp:coreProperties>
</file>