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80DA-2A3A-492E-AEA8-BF0735700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7147-C126-437F-AF4F-FA7AC49C2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6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BAA5-C302-473C-9008-84B1B068E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9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4039-5220-4696-8C05-D1DA48255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0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1E77-2E90-405C-BEF3-97AA4FF3E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010320a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AC28-4967-4B92-8FCD-D33BFEF1F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2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BBFD-9210-4D06-ADF9-752258F98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1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3AA7-8D37-468C-9CE1-E9CFDC355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3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59B7-D9A3-4B20-BAA5-ACDC00B1D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2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2B0C-5A20-47A7-AF27-F4B7F1310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2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0C71-58FD-4BFD-8A29-8158BB1B6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2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393B-705A-4370-B2E4-963436AF7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4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30E4-78C7-425B-868D-2312EB20E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93C-4045-4C28-B869-3EDAC9BE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374-317B-465A-B10B-6DC1E9CE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1C4-D9B8-4133-B43C-02A54A4C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E28-3169-4EC4-8910-E33F094D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2FD-EBA8-4CE1-89F5-A04E7F18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D5B-E175-48FB-BEC3-8313AA0C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554-465E-41E0-8CF3-CBAE36CF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09C-61BA-4578-BED1-AA8E9482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351-42E4-4CC6-873E-BFE8D1E6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0CD-01B3-417F-AFEE-C39937FD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88C-4393-4BAF-8A24-42FCA92E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FDC-9C40-4FF4-8FD8-641A2587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4AB6-9A30-4A02-B6E1-7236AAF1CB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IG IDEAS 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1A20-9599-4F15-A916-D5BF88D94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ANGLES/JMAP_SOLUTIONS_ANGLES_INVOLVING_PARALLEL_LINE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es Involving Parallel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34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11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527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14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2" descr=""/>
          <p:cNvPicPr/>
          <p:nvPr/>
        </p:nvPicPr>
        <p:blipFill>
          <a:blip r:embed="rId1"/>
          <a:stretch/>
        </p:blipFill>
        <p:spPr>
          <a:xfrm>
            <a:off x="0" y="0"/>
            <a:ext cx="8983800" cy="515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5629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8958240" cy="520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11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488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86760" cy="482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3700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12" descr=""/>
          <p:cNvPicPr/>
          <p:nvPr/>
        </p:nvPicPr>
        <p:blipFill>
          <a:blip r:embed="rId1"/>
          <a:stretch/>
        </p:blipFill>
        <p:spPr>
          <a:xfrm>
            <a:off x="0" y="0"/>
            <a:ext cx="8886960" cy="512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7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4172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8:45:0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0:53:19Z</dcterms:modified>
  <cp:revision>21</cp:revision>
  <dc:subject/>
  <dc:title> ANGLES:  Angles Involving Parallel Lines </dc:title>
</cp:coreProperties>
</file>