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000-2C8B-4C40-94C6-5D9F7039D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142-8985-4D1E-9B14-0D2FD312D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FCC-2863-40CB-9244-4367A860F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a  LOGIC: Converse and Biconditiona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F4B1-411D-481E-8D47-E74BE5C5A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7DF5-2F51-4AA0-AB49-33DE42C87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9AF-9DF9-4747-8CCE-C428B2992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4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D923-87BF-485C-8149-1DE4C0D29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6DF-48D1-432D-B98E-08E7D5594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BA94-94A5-40B2-8259-989D7BC98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A669-1E5C-4E20-804F-C20022CC1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418B-C6DA-44D1-9CAC-126F50747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7048-9835-4A0E-9BB9-D4BF7D455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3C5B-D5C0-41E1-8E08-AFF1C5B49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A2D-3A4B-4914-B786-7D44D4B3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D20-6C59-4A3B-A4AE-0023618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3A6-53DD-481A-B9F6-16AA731C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268-B875-4176-8DAA-34EEC1A6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99B-3234-489A-8878-3C6DCBD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E4F-02F0-46FE-B361-36A11F95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253-F31E-467B-85C3-41EF118B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3E3-C756-4724-9E08-C085FBE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E47-CDD6-415E-9626-82B48FA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41C-27B8-42D6-AB7D-840CDAA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C3A-18CD-4355-9F22-78F7AFCA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EDB-FBD4-4399-A7E7-92CF0C5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82DA-47FC-445A-B364-08B6ABEB0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se and Bicondi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2:15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10:11:26Z</dcterms:modified>
  <cp:revision>7</cp:revision>
  <dc:subject/>
  <dc:title> LOGIC:  Converse and Biconditional </dc:title>
</cp:coreProperties>
</file>