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9ACF-F509-42BB-BFB8-2EEA97F50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5600-6B47-4AF6-8E05-7686956B7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8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7821-9EE1-44C0-9249-159A8FA7E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4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E489-82FC-4674-BA08-FE456BB1F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1B36-0358-4757-ABC2-6292D5D74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7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8A3C-C91A-4FEA-AF7B-C40F34DEB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501B-A20A-4927-9C9D-3C240FBEB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1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5C5C-1680-4F1D-9361-C2CCBEBA9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0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E9A2-604F-422F-94D7-0632EBF80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4414-96DF-4E63-8B67-F885550C2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8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E11F-3E92-4F8A-8FAF-ADAFB85CC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2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3126-80BE-4C47-A3CA-C95F5136B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4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C2F4-82BF-42DB-A86D-2A32DA683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5960-FFB8-40D6-B06D-5178C25EE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9DF6-E421-415C-B205-36B1339F1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3A3-3772-4E60-8EF8-B07DE7EF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B5A-82D6-4365-887F-A713B9EE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1CD-A1C9-4BBA-9214-74350059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645-2E53-4CBA-97FB-2CDFCD9C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963-2652-45F3-A107-D76652E8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82C-2CFE-41ED-8DF8-DB041B2C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2DE-6E77-454A-9D34-D08D9942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0BF-A838-4C15-8224-E986F766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D47-960B-47B6-8D56-0F1297B6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BBC-4FFA-441C-9517-055DB57A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F61-DC0D-4F50-AA78-FAFCA840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B96-89FF-4D86-8DB5-E1B47045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4016-C187-43D2-82B5-F6EF5730C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INVERSE_VARIATIO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jmap.org/JMAP/JMAPSolutions/RATIONALS/JMAP_SOLUTIONS_INVERSE_VARIATION.doc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jmap.org/JMAP/JMAPSolutions/RATIONALS/JMAP_SOLUTIONS_INVERSE_VARIATION.doc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TIONALS/JMAP_SOLUTIONS_INVERSE_VARI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rse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891540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610480" y="6031080"/>
            <a:ext cx="685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0216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91281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021600" cy="64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64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90216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2160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137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610480" y="6031080"/>
            <a:ext cx="685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0" y="0"/>
          <a:ext cx="90216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137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0:58:3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8:02:20Z</dcterms:modified>
  <cp:revision>10</cp:revision>
  <dc:subject/>
  <dc:title> RATIONALS:  Inverse Variation </dc:title>
</cp:coreProperties>
</file>