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BBB5-058E-4E51-8AAB-6E4AC4A7A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016-89F9-440C-8002-A5D2A9AEC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4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7A42-FAF8-45AC-A392-98621C364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5A48-887E-4A9C-9CD8-FC9EC25F7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0440-6691-49BA-95B7-645752905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8358-F83F-4DDE-B694-FDB9A4160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0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B848-C76B-40EE-875C-E68A9A2B4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84C-0405-4908-B10B-F37686990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1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C7D6-5211-4831-8DA4-4A669D54A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0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D84-82FC-409B-A006-10C03F176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6315-3E47-4E39-B914-C7EDBB05E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7EED-9CD7-4C48-A815-749B0F630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34EC-A1F0-4CDA-851F-F0043334B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5E3-32A2-4AD3-AC35-A1544285E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6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142-B6F8-4EF7-BF0E-3A2BB72CA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3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5D81-FB25-43D8-886C-ECA6626B6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BED6-0FEE-4E01-9875-7C156D0CE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417F-3CEB-4CB3-B912-4BCC8AD05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D5FD-93B8-4F75-BDD3-4F3655475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98F2-2297-479F-89DD-7D4BE4D38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8BA-1EEE-40A5-A487-0629D382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FCC-E4D6-4174-8A55-CDF92E9F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251-77C5-4287-BAEB-7C42F69D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368-AE55-4BBF-8738-2806140E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6ED-62C4-4729-A235-844BDFB9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9A9-67D8-4843-B9AA-B5D5EDCF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5E3-CB15-4A4C-B60E-AE13F0A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EF4-4395-473D-825C-93B5D7C1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2A8-D1BB-40D2-890D-F1B2E219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55D-2704-442F-AA68-69EC7C50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C6C-E617-4D93-8367-B566F5A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D2B-5DB0-41EC-8531-028FB39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FBAC-4D8B-42DF-8195-1CBBB4A59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EXPONENTIAL_EQUAT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hyperlink" Target="http://www.jmap.org/JMAP/JMAPSolutions/POWERS/JMAP_SOLUTIONS_EXPONENTIAL_EQUAT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nenti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4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119160"/>
            <a:ext cx="9013680" cy="6705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44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-1905120" y="0"/>
            <a:ext cx="9014040" cy="895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24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-1219320" y="0"/>
            <a:ext cx="9014040" cy="8534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7:58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6T20:42:32Z</dcterms:modified>
  <cp:revision>11</cp:revision>
  <dc:subject/>
  <dc:title> POWERS:  Exponential Equations </dc:title>
</cp:coreProperties>
</file>