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F03-E291-45D0-BD95-D4793486A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C217-71B8-47E4-8ADA-591C4A742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A469-1CF2-4112-A8D1-9D1F3B11F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465-8F95-4204-BB49-E7495DE05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18D-1E7C-4D10-8A52-CCA06AD04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9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EEA1-6369-4522-91F0-32AFA9C43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9D6D-B511-4DC6-B3AC-CBC9DA09D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B25-9A51-49B8-A48B-2F1FB4174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4BC-FB1F-41BC-86E0-F1D931C58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9CB-814B-4D75-AC85-A3E866835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36D9-6312-4AE8-9103-899BC6E72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9ADF-3710-49CC-9A23-389BDFB47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6D5-80B7-47F8-B4ED-C823ED2A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2E8-9E47-465A-ADBB-1A99940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DFE-F805-4A38-95C4-C28FBA4D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F2D-C2BD-4506-BDA7-CAA2D74B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621-C4E6-483E-AB50-B49D4ED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EA2-68FB-43F2-8D92-5F0F9F14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A32-8AC9-4EF9-80A4-81F08BC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ACB-45AC-4C5C-9519-A2D6BEBF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6B1-63C1-4396-A5EC-DEF8181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4F0-F9CC-45D5-9F8B-BAF995D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132-8384-4F0B-AF23-37D01403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D83-F01D-4169-8AD0-FA43018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00CD-826E-4FFA-94DA-6555471D8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w of Cos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33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06:49Z</dcterms:modified>
  <cp:revision>14</cp:revision>
  <dc:subject/>
  <dc:title> TRIANGLES:  Law of Cosines </dc:title>
</cp:coreProperties>
</file>