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1064-92C6-4383-A2BA-1BB8D398F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FE6-D264-453B-B12B-737B59E23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EDBA-8B7D-4B00-A2D9-F2028E269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C1EF-5900-4D23-9389-CCA032EBA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7014-7105-441C-9E09-C60A580C6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D8CF-6D7D-4950-808A-7E1999F25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13C4-A64E-4D7A-A82E-16EE7E4F6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79C3-4689-4C2E-9254-D4AF978E3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E9C-A16D-49CA-91EE-AF323912D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F92C-0CEC-45CB-8948-2DC5724B5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81F2-36E7-4F33-AB8A-B4AD15E70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E290-DABC-4331-869A-64553626E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16E-E785-4759-988C-4AFB68D3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31E-8615-4C47-8473-A933C09F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C57-1534-477C-8E88-C9FBA569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A21-6928-4159-BA02-9F35D957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F11-746A-4EB1-A0B9-BF3366E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2FC-80AF-4DEF-ABF9-7954EC6B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0D6-3DD2-4D3E-9C62-2192293E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59C-57A1-4577-A8E6-2A7E46AE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902-8969-4C23-8367-4AB6095F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B54-41B6-431E-88D0-9D12427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9DB-C9F1-49E6-8B6B-D2A8C23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53A-EC7D-47A9-BAAC-11669A32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CB06-0817-49CE-878C-EE3792E5E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LOGARITHMIC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hyperlink" Target="http://www.jmap.org/JMAP/JMAPSolutions/POWERS/JMAP_SOLUTIONS_LOGARITHMIC_EQUATIONS.doc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jmap.org/JMAP/JMAPSolutions/POWERS/JMAP_SOLUTIONS_LOGARITHMIC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arithmic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37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1281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281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89456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3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0" y="0"/>
          <a:ext cx="90378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281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3780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09000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3780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55:5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0:12Z</dcterms:modified>
  <cp:revision>17</cp:revision>
  <dc:subject/>
  <dc:title> POWERS:  Logarithmic Equations </dc:title>
</cp:coreProperties>
</file>