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E94D-D5EF-4A89-8628-D1D5F9BC3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94F-9B53-42EF-83CE-C70749451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8C3-0842-4357-AE34-0A5A5A5BD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2112-07BB-4A25-935A-EF8EEFD24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CCB-40B4-4ADD-AD44-914894528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b  RADICALS: Solving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1E8-9270-41B0-8A54-9D49D72EE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F12D-66D8-4109-A1ED-A725EA914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925C-9777-446A-B172-C5A5E1C65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F8E9-E90F-4C6F-8634-7B6C9D520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x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5EC2-C857-431E-86F8-6ED181033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E0A9-D25D-43C6-B5DA-71CC74DFB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B1B9-D523-4668-9C43-67EA5A916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805-0066-4644-9305-EB87A015B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B1FA-6100-4C7B-AEFC-ED9541EF0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0D5-9187-4C33-A607-17B7E9A1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0AB-3D12-4B33-8657-3577929E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17F-3C7E-43B1-B4CA-A5676FD2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140-CDC7-44FA-8948-205D5604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2FD-A99E-44CE-8984-3C40E287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2C0-75A7-43F4-9FB6-A2CE2D4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A11-46BB-4A73-8B9D-3201E40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9CC-A240-4045-A98E-F378406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310-0B3A-4904-98EF-3A1866C6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6E9-873A-47FC-B41F-65FE6B6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40E-8A83-4FDF-88C6-FF49E0B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CB8-23D2-4EAF-8D52-EAB3710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1337-3FF0-4A07-858E-52658B386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SOLVING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57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122400"/>
          <a:ext cx="9051840" cy="62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400"/>
                    <a:ext cx="9051840" cy="62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8945640" cy="77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419360" cy="442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-1600200" y="0"/>
          <a:ext cx="90327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0"/>
                    <a:ext cx="90327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5850000" y="609480"/>
            <a:ext cx="303516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1376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2816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28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03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05:10Z</dcterms:modified>
  <cp:revision>17</cp:revision>
  <dc:subject/>
  <dc:title> RADICALS:  Solving Radicals </dc:title>
</cp:coreProperties>
</file>