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9117-9451-4DC0-B12F-82238E9E1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5C93-D984-4405-BAE3-F5A89BF2A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5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93C8-CD3E-4EDD-9A91-301001082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7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552E-231A-430F-8038-7C6D7DB60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3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09F8-03BA-473A-8841-FC71205E7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0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1CAB-DBDF-495B-9ECD-B770FDAF5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4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851F-FBC0-4FF4-99A1-941A69346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7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5FC6-B4FE-49FB-9D98-FD21512E8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4b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B02A-9420-48A1-B1B6-ACDFEC7D5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9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66BA-54D9-486A-9B13-01BA3F30A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5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A3E7-13CD-4678-916F-A5B691306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2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A3CC-85AE-4EB0-BEB8-5F463F2B1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0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AA5C-2F5B-4927-B965-90A552680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8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9544-F5C3-41C5-99F9-B10CB270D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3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BA3C-9ED2-4A00-87C3-2B4784502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1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56DD-764E-48BD-80A7-A42E6632A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2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BAF7-98C1-4D37-9B8C-C11785D2E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594-CCF9-443F-9F9F-1BF23B23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B84-165D-4DFB-A3FF-E8AB286C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C79-D2C5-4D95-A979-3A9E51E5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FDC-E90D-4C43-A914-AC6F377D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A64-49AF-481F-A9A9-E38784CD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9AF-5709-426B-9AAD-C26E9F15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A04-5360-404B-8E42-718247CA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540-934E-4C2E-B829-CE6C18A0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DF6-A105-4DCD-AF7E-66258ED1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DBC-C1E5-43C3-88BB-8A4286CE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7A7-E2C0-4774-9D57-D775A3BE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58D-B369-43AF-80BD-CEF6C3F5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E494-1C79-4CF8-8F24-41577CFBF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ythag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13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013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9:18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8:51:08Z</dcterms:modified>
  <cp:revision>14</cp:revision>
  <dc:subject/>
  <dc:title> TRIANGLES:  Pythagorus </dc:title>
</cp:coreProperties>
</file>