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93DD-F170-457A-9DED-FC28EED3C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608-4717-49A3-8664-E8F9C9B5F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59B-61F3-4D59-AC6A-A833DB3C2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1B6-2350-4CB4-BC68-6C4D62E2F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D52D-D864-4464-BBE9-078848525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F7FD-E594-47CA-B59E-613F7F2BC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b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24E3-903D-4271-A537-5FB385CC6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38D9-9CAB-4ABC-98B6-F8E152EA6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C00D-B011-45B5-AE71-639465D88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A925-AF4B-40AB-9594-8F3CDA6EF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5C1-55C4-4FB7-9F17-B2B20E05D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8BE-385B-4AA0-8169-EC275A9D6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949-8C4A-4621-8031-8F0DF0587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4158-83E3-407F-85FE-B83E9BE39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BA4-91B7-43E0-919F-B1FFC0523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65E-7EA4-4C5E-A43B-196886C7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AF8-A149-474A-BD4D-8B91206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BDE-AB5E-41A3-95F6-0B19C06B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B1A-3FEF-43D6-8CD0-C8D65DF2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1D7-B242-4891-A200-BD1D0A6C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510-2F90-470F-A9D4-7F5C573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F9F-1627-441D-8255-D5F207B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21F-7B26-4B13-9574-836A7FE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C7A-5BAD-4EDC-8799-FEBC6BCC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F3C-6016-4F43-A628-CBBD5FA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D61-C7BF-4F17-968C-70E9C9C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8F0-2A9C-40A1-86F0-ABBBEBB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36D-7D23-47E0-8541-DED31A002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ntifying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144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4648320"/>
          <a:ext cx="9013680" cy="13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901368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2971800" y="2133720"/>
            <a:ext cx="3300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0:34:5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3:08Z</dcterms:modified>
  <cp:revision>9</cp:revision>
  <dc:subject/>
  <dc:title> TRANSFORMATIONS:  Identifying Transformations </dc:title>
</cp:coreProperties>
</file>