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B4DAE-2917-4C5C-B01F-9186360862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609F0-13FD-4C92-AF84-8E9DCCE177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08b  POWERS: Binomial Expa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E9A02-D9CA-4351-9C8F-4217503F2A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12b  POWERS: Binomial Expa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52499-E646-44D6-A405-5A2EBFA649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19b  POWERS: Binomial Expa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A9854-1008-4348-B3B7-17C6FA9107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26b  POWERS: Binomial Expa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021FF-2022-4291-88F8-8471A2099B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17b  POWERS: Binomial Expa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65F49-E392-4A30-8583-B0DB270D4C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00E9-8631-4780-839A-F7298698B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D67B-7621-480A-8269-8B636712A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F26E-185A-42E5-9497-90E276E6F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8B6B-5B1E-4287-AF34-66959500C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A8F9-1165-4219-B27C-5A468159C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10F1-DE95-4E96-95EB-5DF83FC8B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E3C8-6EE4-4924-B88C-7351FCE78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7929-D6A5-4288-BB09-93BAD85D3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0791-BF12-4F09-ABED-BCEC55790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3B54-4282-4438-B91F-D6D429DFE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B44A-9EB6-4FC6-92C9-E1B7B4AD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F0C4-3F81-4003-B936-18DA223A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A6AD4-5336-42B0-8BD2-DB0AA53640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Solutions/POWERS/JMAP_SOLUTIONS_BINOMIAL_EXPANSIONS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hyperlink" Target="http://www.jmap.org/JMAP/JMAPSolutions/POWERS/JMAP_SOLUTIONS_BINOMIAL_EXPANS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hyperlink" Target="http://www.jmap.org/JMAP/JMAPSolutions/POWERS/JMAP_SOLUTIONS_BINOMIAL_EXPANSION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WER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onential Equ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0" y="0"/>
          <a:ext cx="9037800" cy="248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4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0" y="0"/>
          <a:ext cx="9037800" cy="248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4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0" y="0"/>
          <a:ext cx="9037800" cy="234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3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0" y="0"/>
          <a:ext cx="9128160" cy="140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14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0" y="0"/>
          <a:ext cx="8945640" cy="237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45640" cy="23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6T07:47:17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6T06:42:43Z</dcterms:modified>
  <cp:revision>7</cp:revision>
  <dc:subject/>
  <dc:title> POWERS:  Exponential Equations </dc:title>
</cp:coreProperties>
</file>