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A4B-2C58-4F4A-AC27-ADF186ACE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D820-4C71-472B-BC2A-0C6DA59B0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4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6911-5405-4825-8767-0EA920A6F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4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29B8-87FF-4872-B13F-D2B22121D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65A7-6986-48C3-B556-BC6D9C745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3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24A4-90C3-460E-80A1-3525F2D6C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7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3C7-09FF-4618-8DE6-78B6EA5E0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4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8EB6-DF3F-40EB-9F57-6F7ABB5C8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1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60C9-3139-450A-8A1C-DF14CAFB9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14CC-95C6-4681-8D45-E820D2FE9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7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11C4-FCFA-43EC-A552-C694DA70A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0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5CD4-9896-4A44-A41D-D0A621B2B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1243-7AFB-495E-84B2-8E187F501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7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FD45-E34C-49EA-AD20-40BBC1E12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1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538C-48C0-4666-96B1-8E50EC716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5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A3E6-F42B-4616-9219-93C5EFCB4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76E-C6C8-44AE-8C59-6092FC60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624-3B5A-49A4-AFDB-E5BFA744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8B4-7BFA-458C-9B8C-97F3F76E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712-FB16-4101-8ECD-FE56594E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EAE-0099-4C98-A49D-BFF99C2E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609-3CC2-4028-A2C4-9A654840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FC2-2593-4FDE-8360-61677D92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762-F7BA-492E-AB4E-BEE749A4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31F-108C-4151-A1A0-27FA31F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A82-60E6-422A-AEEA-B1C370A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0C7-9607-4E3E-B9AA-2163D58B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768-B6E7-44F4-B8D4-AC3A30D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F1B4-B6AE-4398-AADD-FB0427D0A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imeter and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-34920"/>
            <a:ext cx="8908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85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8:54:3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2:44:49Z</dcterms:modified>
  <cp:revision>12</cp:revision>
  <dc:subject/>
  <dc:title> TRIANGLES:  Perimeter and Area of Triangles </dc:title>
</cp:coreProperties>
</file>