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3.jpeg" ContentType="image/jpeg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895F-B9D4-4E37-A392-C021505F3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8DE4-AB52-4D8F-8671-88EFA1ACC0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6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5CD0-AF92-4509-8D43-D23759D85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1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24ED-5271-4407-889A-B73A04134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4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CE2C-1B07-4FBD-BCFC-39AE7824F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7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B9B1-5548-4C56-A748-AFBB8A0E68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4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E97E-A130-4A5F-BC71-713CEB7623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4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E25B-D25D-464E-9EC7-2433925380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7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BCDA-3D1C-4BA0-BFEE-3381D63256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5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6FC4-0F58-4BFA-A018-D4107C334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3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057D-D69C-4F2E-895C-A6FFF06615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1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9EED-D4CE-47EE-A2B7-3FF47EEB7C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7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B109-8DF7-4DEA-9635-68A25EF06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6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6D31-5EC8-4985-8FFC-576462E4D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0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A611-E86F-45BD-A873-099AEA2BD2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0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1EF1-2D92-4527-B0EF-5433775EF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9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173B-439C-48C4-B1B5-36D8F2E6A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7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5414-516D-49E7-833B-04EE726FA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4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A34E-6D57-4024-83AC-59D6BE580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2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5465-DD0A-48F6-90C1-1C6E46E08D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4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A950-9371-4C17-ADDE-5DDCB587C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2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0854-A208-48FF-A1BD-42C5001D92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0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1E17-A789-48FF-923E-069B71E74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0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8E24-A324-4739-9FBB-DA22B96CCE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4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0674-95B8-4C4B-94DF-CF2F5BF241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8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E167-2CD6-409C-ABD0-A22D5A2B48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5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A5DF-579C-4F2E-B512-ADEDD5267B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4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A451-BC8E-4CA3-8657-B1296AB85A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3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327E-E734-43F4-9EC9-DCC721A8B5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8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DE1E-8415-4AE0-B8AB-3980B668C2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7DA9-03D7-4795-BADE-9CCC1285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D932-262F-4C50-8ED9-36A7C4BE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304A-D258-4783-82A2-8F051512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EDD7-38E1-47A2-89EF-56838A41B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C8E5-2021-4182-8FE3-38581490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AF08-8247-4BD5-86B0-91806312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0824-69A0-44FA-8BD5-03AFADDE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8D38-EA77-473F-91DE-63F23529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FECC-7365-4C63-BDEE-CC1DC50D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0DE6-EB7A-4E39-BC84-5565A547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30EC-560F-4029-BB40-6D87F3D9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2CE5-C127-4565-828D-A264292E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88D2-C769-4D87-B0C4-6263B6B755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NUMBERS_OPERATIONS_AND_PROPERTIES/JMAP_SOLUTIONS_PROPERTIES_OF_REAL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NUMBERS_OPERATIONS_AND_PROPERTIES/JMAP_SOLUTIONS_PROPERTIES_OF_RE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hyperlink" Target="http://www.jmap.org/JMAP/JMAPSolutions/NUMBERS_OPERATIONS_AND_PROPERTIES/JMAP_SOLUTIONS_PROPERTIES_OF_RE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NUMBERS_OPERATIONS_AND_PROPERTIES/JMAP_SOLUTIONS_PROPERTIES_OF_RE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 OPERATIONS AND PROPERTI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erties of Re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16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84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788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788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11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74160" cy="2462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1"/>
          <p:cNvGraphicFramePr/>
          <p:nvPr/>
        </p:nvGraphicFramePr>
        <p:xfrm>
          <a:off x="0" y="0"/>
          <a:ext cx="910908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090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482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25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09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6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801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946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32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08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35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4384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482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681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921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346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476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587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76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67960" cy="3346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482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01368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576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382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3135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12:58:2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1T22:00:44Z</dcterms:modified>
  <cp:revision>19</cp:revision>
  <dc:subject/>
  <dc:title> NUMBER OPERATIONS AND PROPERTIES:  Properties of Reals </dc:title>
</cp:coreProperties>
</file>