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D33D-F1E8-48E8-9213-60C073807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A070-B8FB-402E-9DA0-40D51753E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0b   CONICS: Equations of Ellipse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149E-9788-4939-A556-B8D972D95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7b 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8DD2-A3E6-4314-8AF6-4166AA937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0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3B21-B0A9-48E5-B6EE-C8E7D4110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2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9153-8CA1-4111-817F-DBF91911F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9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C0CF-82DE-47FE-AEB3-1B4211684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1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9D42-3EE3-45AF-86B8-6AB80CEAF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8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D5F6-D108-4EB8-AB25-1CB09FA66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6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E573-FDEA-41E3-8711-4808CAF7C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7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4066-66DA-48FB-B84F-A147FFC08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533-89FE-41F6-98AF-2C244A01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EA8-E53B-418F-839D-B685D947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742-B1BC-4C17-A0C5-54EB570E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DCAB-3C6C-4AB5-9939-7EB49811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DFF-02BC-4FD4-8FC2-0AB36719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EA2-07C0-48B5-BF23-855A5BAB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A37-2A38-40FA-B5F7-37AE1C70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929-EBF2-4DD2-AB1A-00171A8E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739-BF39-4782-AE49-10760821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F62-3AFF-405A-98AF-120397A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D4B-F74D-4EC9-AACC-7AB0A46D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AD5-6CB2-4F87-B214-AE8583D2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5827-566B-43E6-8D9F-79BE1CD15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tions of Ellip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-2133720" y="0"/>
            <a:ext cx="8991720" cy="350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4313160" y="152280"/>
            <a:ext cx="4830840" cy="3436920"/>
          </a:xfrm>
          <a:prstGeom prst="rect">
            <a:avLst/>
          </a:prstGeom>
          <a:ln w="0">
            <a:noFill/>
          </a:ln>
        </p:spPr>
      </p:pic>
      <p:pic>
        <p:nvPicPr>
          <p:cNvPr id="61" name="Object 3" descr=""/>
          <p:cNvPicPr/>
          <p:nvPr/>
        </p:nvPicPr>
        <p:blipFill>
          <a:blip r:embed="rId3"/>
          <a:stretch/>
        </p:blipFill>
        <p:spPr>
          <a:xfrm>
            <a:off x="0" y="3809880"/>
            <a:ext cx="9132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5:51:4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19:05:37Z</dcterms:modified>
  <cp:revision>10</cp:revision>
  <dc:subject/>
  <dc:title> CONICS:  Equations of Ellipses </dc:title>
</cp:coreProperties>
</file>