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38AB-CA79-480D-A00E-43E356354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D13C-DAA2-47EC-9890-CD5B4F8C7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7B9-8D2A-4677-87FB-2CE738585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DD6F-2E76-4B68-A200-5C3487661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D81-A531-471D-90DD-097D2374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748-E888-4E93-8372-C6E7F338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1B4-E5DD-460C-9A3C-65F00297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FA5-140E-4D52-AA92-2D406384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51C-6F3A-4190-99EC-5742B683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A70-6B3A-4162-AEC0-8F79821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2BA-2E4B-49FD-9A57-98C995D5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ECD-AA10-4415-8D5E-98CF795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6D8-F67E-40C4-B6D3-E0741705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B35-A9E8-42F9-93E6-56FEE3EC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615-54F6-4DA3-B832-B75867D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DB3-5426-4D99-B041-B32506C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D195-C174-4A02-B860-0DA89C350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phing 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59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598480" cy="26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50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35:36Z</dcterms:modified>
  <cp:revision>8</cp:revision>
  <dc:subject/>
  <dc:title> POWERS:  Graphing Logarithmic Functions </dc:title>
</cp:coreProperties>
</file>