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6C77-6FA4-4399-811E-30E2A2238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8ADD-072C-4106-9171-B7C1C27A7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6EEF-ACDB-49B5-AEED-FE56F885C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3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2D79-0B6B-4C3A-97A8-0F16BED7D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9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BA12-F60B-4BF8-ABAF-17D24EF3A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D7BE-1FB5-45B4-9EA3-3331C1DBE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EC70-EC6A-4503-B1A7-4DC2CD1A4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8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B41A-7ECA-45A9-ACCE-FB10B39FD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3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9796-4642-4C16-A2C9-8EF19F1CF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4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9E2A-5BB1-403D-A4C1-FB2CC1AED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D1C8-4F19-4CE2-A303-F7DDBCD8D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470E-5036-49C4-8960-D8F867096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1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A7AB-E393-47C8-AC1D-83BF2ED6B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7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918F-53B5-4397-A587-16326DA9D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5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1EC1-5897-42C3-9ABE-4BE6D48AD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5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1CD4-77A9-4812-B950-F93F836CE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2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1B9A-4773-4609-B3EC-2810E5459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B89-1DCA-4381-A0AE-FA3528B6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F57-02FC-4A65-9CFF-19497330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85B-B98D-4FEE-AC12-63FEEFF8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00E-54DC-43D2-A4EE-370637BC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949-24A1-4503-9B8B-C4CB3872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9CA-4282-435A-9E5A-C64204D0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594-3547-45D5-8B27-75787FBC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1630-FFC4-4C4A-8F27-76D608AC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AE7-7591-4070-926A-A7402BED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8E0-2F7F-4B9F-91DD-A43928B8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ACA-AB7B-4169-8D91-001F17D5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F7E-EF2F-4DE4-8147-2E2ECDF8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5F09-B24C-4CD0-94A3-9E7F341F7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THER POLYG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cial Quadrilater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900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1:35:4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10-26T09:13:28Z</dcterms:modified>
  <cp:revision>11</cp:revision>
  <dc:subject/>
  <dc:title> OTHER POLYGONS:  Special Quadrilaterals </dc:title>
</cp:coreProperties>
</file>