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C9EB-12B7-4D90-BBBF-58A94A264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42C4-DA40-4D76-B3D3-B83AC2530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8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6F55-4C9A-486D-BF60-731105DD9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9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B5E4-31C7-4E81-8E75-DE9D28F2B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4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A55B-5095-41A2-B438-87B7358E9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6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58CD-6B86-4917-A385-E812418A7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3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7644-9C32-478D-A56F-7D45E2A6B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7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D36C-A229-4D64-B859-3DED99D3E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8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0500-EE5E-445E-B280-C37BE7AA2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3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E15E-8F86-4098-9C4E-7B9FAD252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376-EDE7-4B42-836F-017B6E3A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3F6-C5FF-4277-AEB6-94ECED6D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0BD-8883-40E6-A004-94A21402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963-823C-4934-9D51-C36734FE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757-51B2-4512-9CC2-F18C93DF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CAA-6407-49BB-B735-D3FA1FAB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DB0-4AE2-4E9C-A142-FF04B1A6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3C1-EB91-4758-A7B8-137DED1B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2AE-B508-4039-BE9C-8D45F89B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610-B7AA-4860-AFC9-F787A47F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125-73E4-41B1-81DF-6F1161AC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5D9-35BB-495A-B8DC-FEE87DCB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038B-EA6B-4AD8-AA01-12B0A8A74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THER POLYGONS:  Interior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rior Angles of Other Polyg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21:52:4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dc:language>en-US</dc:language>
  <cp:lastModifiedBy>Steve</cp:lastModifiedBy>
  <dcterms:modified xsi:type="dcterms:W3CDTF">2007-07-26T03:14:51Z</dcterms:modified>
  <cp:revision>7</cp:revision>
  <dc:subject/>
  <dc:title> OTHER POLYGONS:  Interior and Exterior Angles of Other Polygons </dc:title>
</cp:coreProperties>
</file>