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7EEFF-458B-46C7-B8D1-E8AF10F770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2279C-1B94-4315-AA64-467E27EEC9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33b  TRIANGLES: Law of S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CA434-2050-4233-AE96-08F98CF328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28b  TRIANGLES: Law of S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34516-02FC-4FD0-8985-DD10F4CA3B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31b  TRIANGLES: Law of S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3E967-CC2C-4135-9111-2BD27FAC78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27b  TRIANGLES: Law of S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3CECF-79E1-4124-80E7-93F30978F8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34b  TRIANGLES: Law of S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86568-3514-416F-A4A3-AEB23AAC7F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32b  TRIANGLES: Law of S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CD46B-F127-4862-A072-C311E70E98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34b  TRIANGLES: Law of S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53922-D6B3-44D5-8B15-10FE9C23D4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02b  TRIANGLES: Law of S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31FA3-E538-41B1-9497-D219BA65FC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07b  TRIANGLES: Law of S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BCBB8-C6BD-4A74-8E0B-280A9AF834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22b  TRIANGLES: Law of S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0245B-6410-445D-8FC2-633E388E1C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12b  TRIANGLES: Law of S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720DC-0CA0-456F-8D81-D0ADAE5EFE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21b  TRIANGLES: Law of S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D62F6-9D54-432F-8F26-19271527C7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14b  TRIANGLES: Law of S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A96D6-2C37-4243-909A-FC25249552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27b  TRIANGLES: Law of S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113EF-D957-408F-B6D7-9AF2095BED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31b  TRIANGLES: Law of S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BC058-EBB0-4B5C-8923-9A1015AE42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2CE4-F6A4-4399-82CC-EF8E86E70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F252-E22B-419A-AE35-6741C3867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49F1-325F-4DC7-B35C-A4B7BD18E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916D-7480-46B6-B956-95B9519A7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19D3-127F-49CA-A3CD-075F21DBC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1DA9-DBAB-4FE5-857D-5AEEF736B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160A-3A49-43BA-B1EC-AAEB10837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9DDE-E8ED-4F45-9094-471088DDC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6751-33E7-47DB-B11D-244E5C711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D468-093E-4ABC-AACE-EED3FB9F1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487A-096D-494C-AE04-F7369DBEC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D2E7-5BF9-433D-931E-F7290F4C8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FFD53-F4C8-4C1D-9ABA-11CD9B3D33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RIANGLE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aw of Si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Object 2" descr=""/>
          <p:cNvPicPr/>
          <p:nvPr/>
        </p:nvPicPr>
        <p:blipFill>
          <a:blip r:embed="rId1"/>
          <a:stretch/>
        </p:blipFill>
        <p:spPr>
          <a:xfrm>
            <a:off x="-1676520" y="0"/>
            <a:ext cx="905688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"/>
          <p:cNvPicPr/>
          <p:nvPr/>
        </p:nvPicPr>
        <p:blipFill>
          <a:blip r:embed="rId2"/>
          <a:stretch/>
        </p:blipFill>
        <p:spPr>
          <a:xfrm>
            <a:off x="5334120" y="685800"/>
            <a:ext cx="28591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8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2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7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8926560" cy="44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3T02:56:11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07-26T03:05:58Z</dcterms:modified>
  <cp:revision>14</cp:revision>
  <dc:subject/>
  <dc:title> TRIANGLES:  Law of Sines </dc:title>
</cp:coreProperties>
</file>