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BE0B-7E56-452D-A6F3-81DB10947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C381-3C77-4025-B93E-11B992B3B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A8AD-A39A-406F-9DD8-B90E722B0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5EAB-3ED9-40DE-885F-1E1774AB2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49E8-4DE0-4096-8428-89BDF1A49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2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D196-4183-4A59-BE88-F5711DD9B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3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BAA8-82BA-44D1-B8AE-F365056DB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3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E862-4657-49B2-BA20-5B3A6C834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5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3DAA-A17B-49F9-A39E-8889ED1D0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6b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1732-3DDB-4E95-BD8D-6FEE2D160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84A-D903-423C-9B25-F54D2D1E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0FB-6087-4F20-A857-5641C50A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DD5-CF0D-4645-BD8B-E1EF8AD7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1B9-9FE7-436B-9DD4-0565BCBE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F27-C6A6-4849-9047-30FD865D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5B8-CD20-4DF8-A1B5-893201C7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3C0-3C44-46BA-9F1B-79B1E7C8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AA3-DCB2-4A68-8161-149D6879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705-62BC-49E9-A616-63EF25FE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69F-21D7-4CE6-B115-262737B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7E0-41FF-4115-8C0F-81A88AC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BB2-DBD3-4D9E-9762-609068CB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8CCB-E731-42F1-99A8-54656AFE7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PROPERTIES_OF_INTEG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NUMBERS_OPERATIONS_AND_PROPERTIES/JMAP_SOLUTIONS_PROPERTIES_OF_INTEG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erties of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56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4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13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6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2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389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02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8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9:08:3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03:28Z</dcterms:modified>
  <cp:revision>14</cp:revision>
  <dc:subject/>
  <dc:title> NUMBER OPERATIONS AND PROPERTIES:  Properties of Integers</dc:title>
</cp:coreProperties>
</file>