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2C0C-C155-43C2-BE43-7EF100214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509A-E4E1-40E8-800B-AE3E0590C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3C8B-DD5A-4571-8F15-C881CDCD8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8429-2B02-4942-AD4B-799188242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8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E518-4C2D-4C55-8AFD-C298A0FDD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9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361C-C848-4BBD-862F-75E15D78E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5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6D3F-2237-4746-8B9C-733EEFAB0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4B20-D2B9-43CD-8961-9C6BE8CA8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5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4135-47F9-432C-A290-E34EEE1DD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E5E-ADE2-4DAE-A200-947429A0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7E8-3037-4053-8E41-F216F02E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93B-B23D-4930-A4F1-E1FF4356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078-5CB6-48CC-88A6-C8544015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01D-AFA7-4DFB-ADF8-FE24DF28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0D6-4049-473B-8258-994642AF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FE8-5A4D-482E-96BF-6E4EE23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7B1-5024-4A1A-B5C8-CC13C547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45D-4191-4445-900F-249835FB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476-A785-4A4D-9466-615A592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4CD-B6D7-4C06-B6C9-460E4D6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BDB-DC71-44A5-8EAF-4B208005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31E8-D4A4-468D-A171-978962C24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LINEAR_EQUATIONS/JMAP_SOLUTIONS_GRAPHING_AND_WRITING_LINEAR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LINEAR_EQUATIONS/JMAP_SOLUTIONS_GRAPHING_AND_WRITING_LINEAR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ing and Writing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90000" cy="33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5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2133720" y="2666880"/>
            <a:ext cx="4343400" cy="391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68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34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48:30Z</dcterms:modified>
  <cp:revision>6</cp:revision>
  <dc:subject/>
  <dc:title> LINEAR EQUATIONS:  Graphing and Writing Linear Equations </dc:title>
</cp:coreProperties>
</file>