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B784-9D43-4536-B2E2-CB1ACCE9C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39C3-A58E-424F-A256-4B88ECC18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7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DB94-8259-460C-A687-F2844FB34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7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FAC6-3586-4C05-B6D9-33E4170BF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4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DAEF-D5C9-4977-8F23-F138105B5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0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B28B-9970-4087-9A1A-0E597F578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1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0669-E818-4764-A3C1-B19EDDD63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0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E468-084C-4EE0-BB2D-F95D4B236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3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EB25-6F50-4661-870B-4FD5F585B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0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F888-4A7F-4934-937C-4639959E68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9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C8B5-9C1E-4EF0-A366-B20374C46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2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0233-4B5C-4A2E-AAD8-F719FF8E1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1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D205-03C5-4783-BB00-4B659F7E54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7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30A0-1679-4B31-9224-61844F488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0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2803-0B81-4BA7-8FF5-5AD3745BB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81F-4FD8-4D04-B215-090DF7F0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8E2-73EB-4ED7-B824-7A814841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49CE-6277-445B-BB15-DEA68D0B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1488-D8A3-4999-8F49-DA8B7490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A3C-ACE7-498C-9C38-90D2C8B7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64E-3132-4376-AD77-2A5758EB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DEC0-75B0-400E-BFF4-F755C9EC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9CB-8D1A-4FCF-AE65-592B7ED8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B079-22E5-420A-BA2E-99EB2940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01B-BEB1-4879-AFE2-04832A75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4893-A87C-4C69-ACD2-17C680DB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48E1-59E1-4437-92AA-9019EFF6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2CC4-13E2-4036-A57B-96F648CE4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ANGLES/JMAP_SOLUTIONS_SOLVING_TRIGONOMETRIC_EQUA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ving Trigonometric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4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52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06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9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-1905120" y="0"/>
            <a:ext cx="9079200" cy="500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5029200" y="914400"/>
            <a:ext cx="3809880" cy="3801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4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208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98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6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09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99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8" descr=""/>
          <p:cNvPicPr/>
          <p:nvPr/>
        </p:nvPicPr>
        <p:blipFill>
          <a:blip r:embed="rId1"/>
          <a:stretch/>
        </p:blipFill>
        <p:spPr>
          <a:xfrm>
            <a:off x="0" y="0"/>
            <a:ext cx="8908920" cy="2660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066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14:13:1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19:06:37Z</dcterms:modified>
  <cp:revision>9</cp:revision>
  <dc:subject/>
  <dc:title> ANGLES:  Solving Trigonometric Equations</dc:title>
</cp:coreProperties>
</file>