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6D78-2ED8-4F60-A21A-104A64213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C1C9-CBD4-409B-AA5F-3CE153299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8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C265-B97F-4A52-8732-44B46AAAC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9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EFDE-31CC-425D-9F07-06CC78EA4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3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3FA0-8FDF-4E62-A452-B191DE575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1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A95A-8C87-40C3-9341-946093488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2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4770-7A20-4A34-8207-DEB30AB93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4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5070-631D-4C17-961E-43FE884EA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1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4B16-D61C-4F9A-80CD-134A58AEC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92FA-3D19-4B58-BE90-6A35AC7A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D14-1195-4A0D-883B-8AE4A0F2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C93-E554-4E4F-AB6E-A13BCA6E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AFD1-7A42-42B7-9B83-6A30C121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58B-E5FD-4878-A7E1-3E0928D4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DDF-2023-41FD-864F-59DCABA9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4526-90BF-4B56-B234-AC901806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1923-F765-40DF-969C-57128CB1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3FF1-3464-49C8-AE30-A1028545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9A1-7632-49C6-86BE-A58A7ECF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A80-28B6-4DC7-A882-A19064F2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EE1-FA09-459F-A027-FB46AB99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E129-86D7-4EC4-9AB6-3C21C296B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INEQUALITIES/JMAP_SOLUTIONS_QUADRATIC_INEQUALITIE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INEQUALITIES/JMAP_SOLUTIONS_QUADRATIC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INEQUALITIES/JMAP_SOLUTIONS_QUADRATIC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INEQUALITIES/JMAP_SOLUTIONS_QUADRATIC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INEQUALITIES/JMAP_SOLUTIONS_QUADRATIC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8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EQUALI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dratic Inequ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2160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11376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9000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2160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216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3" descr=""/>
          <p:cNvPicPr/>
          <p:nvPr/>
        </p:nvPicPr>
        <p:blipFill>
          <a:blip r:embed="rId3"/>
          <a:stretch/>
        </p:blipFill>
        <p:spPr>
          <a:xfrm>
            <a:off x="2666880" y="2895480"/>
            <a:ext cx="3664080" cy="365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0" y="0"/>
          <a:ext cx="9021600" cy="23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3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2590920" y="2895480"/>
            <a:ext cx="3504960" cy="349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021600" cy="30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0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2895480" y="3200400"/>
            <a:ext cx="3276720" cy="327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6:47:5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2:04:47Z</dcterms:modified>
  <cp:revision>6</cp:revision>
  <dc:subject/>
  <dc:title> INEQUALITIES:  Quadratic Inequalities </dc:title>
</cp:coreProperties>
</file>