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64BE-219A-4D73-94B9-BDAD72FEB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8DA2-87CA-4430-A6EC-ADE7EA464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4b 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C3E2-3468-49D7-B259-F528B9D79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5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19A4-0B23-436E-923B-3329C94D8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6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3000-EEB9-43DC-B378-CACBED09B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4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C504-12E6-4E5D-BC84-EC452ECDB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5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29CA-D313-4164-982C-25C0D834C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3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B2B5-EF0C-45A8-A2D4-FAB4D11CB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8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EA67-EEE4-4DF3-BDC0-B42D47AC0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1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B42-C816-407F-AF90-93A90430C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2C0-50B4-4656-A0AB-3F834E70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E92-CD19-446F-B52C-87B07DEC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75C-5D13-47C7-9321-B5210541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E1D-8A19-48A8-B629-BEB9BB37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915-F4CC-436A-8900-018C3999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D74-A3D4-49E4-B67E-655A0497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A43-57AA-4020-8CCB-224D5659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253-7D5D-45E8-8C40-787502BC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376-2777-44B0-85A7-9F2B7DCE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CF6-EF07-498C-B98C-5F5E84E7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656-6C2E-4527-94BE-D7354A8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CB0-F5B2-4B13-AE52-6D1D663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6D5B-0ADB-4EAF-B1E2-8DD3F5E6A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Trigonometry to Find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0:15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2:53:44Z</dcterms:modified>
  <cp:revision>9</cp:revision>
  <dc:subject/>
  <dc:title> TRIANGLES:  Using Trigonometry to Find Area </dc:title>
</cp:coreProperties>
</file>