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23B7-829F-4351-AC0D-97556076D1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88A7-AA78-4214-BBAB-9455C5A32F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9b  INEQUALITIES: Trigonometric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D253-A4F0-4537-8743-1BE9571F42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3b  INEQUALITIES: Trigonometric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A668-85CD-4FFF-8FAA-C8A29C7B6F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2b  INEQUALITIES: Trigonometric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1B8B-BF69-460E-A3CA-E4EF44F65D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40C8-6CE7-411B-BBAD-D4BA313C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BE70-0BDB-4259-8345-CB350934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AAC4-7B78-46CB-A0EB-C51656D9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4656-3261-4A7B-972C-D2D08701E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0A3C-C3B7-4BD8-B4FA-C2A6C30D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06EC-5E3D-44B7-8D6F-0C3AFCBE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1F3E-8E2C-4751-B40F-468FCCD0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7976-8A4E-417D-84AB-5B559F6A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06D5-B844-450D-9AC9-DA20A5EC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9508-285C-474B-8721-60BED480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39DA-186B-4F36-90EC-F01E69E8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01EC-3C5C-45DF-BDB1-6CC3F23D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9DFE-45E8-4095-BA49-20DDF0161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INEQUALITIES/JMAP_SOLUTIONS_TRIGONOMETRIC_INEQUALITIE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EQUALITI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igonometric Inequa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-2057400" y="0"/>
            <a:ext cx="9078840" cy="4430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4800600" y="609480"/>
            <a:ext cx="3962520" cy="5295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21600" cy="33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33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4572000" y="2362320"/>
            <a:ext cx="3984480" cy="397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-2206800" y="0"/>
          <a:ext cx="9064800" cy="34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06800" y="0"/>
                    <a:ext cx="9064800" cy="34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3" descr=""/>
          <p:cNvPicPr/>
          <p:nvPr/>
        </p:nvPicPr>
        <p:blipFill>
          <a:blip r:embed="rId3"/>
          <a:stretch/>
        </p:blipFill>
        <p:spPr>
          <a:xfrm>
            <a:off x="4419720" y="838080"/>
            <a:ext cx="3809880" cy="3918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17:21:23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5T22:07:05Z</dcterms:modified>
  <cp:revision>6</cp:revision>
  <dc:subject/>
  <dc:title> INEQUALITIES:  Trigonometric Inequalities </dc:title>
</cp:coreProperties>
</file>