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BBA8-A309-42F3-B38A-A815EBB8A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209F-081B-405C-986E-A74BCDF09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a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A7A9-0771-4251-95DF-06BB33C63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D03-836E-49D2-A9DE-28FF72EA6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EC80-F3C5-4461-B61E-1AABF7224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2E97-3E3E-419D-87FC-B59B93241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7C96-44E6-4FCB-86B9-B6EF4A522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34F-8E57-4857-B4F1-16EDE6F6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685-7A84-4F20-AAEB-C40DAD6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EF5-AD39-44B3-A79B-34D2C1AF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4B7-8D87-420F-A594-34213E94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A6E-2EF9-43CD-A7CB-1C2EE7B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0FD-A4B9-4472-8AD9-06B4D3C4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238-8F04-463C-AC90-0593C30E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BC6-1617-4FB8-B6A0-E18950C1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52F-F719-4002-8A87-8A1C41FD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117-DD75-4AA2-9F9E-216FCB5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379-F7B4-4130-9223-A361E98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259-07FB-4166-A337-F0520B5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9E04-C4FD-40D8-8A47-69BEB7A59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_RESOURCES_BY_TOPIC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PERATIONS AND PROPERTIES:   Absolut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15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0" y="3886200"/>
          <a:ext cx="909000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86200"/>
                    <a:ext cx="9090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30481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22:50:0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1:46:36Z</dcterms:modified>
  <cp:revision>18</cp:revision>
  <dc:subject/>
  <dc:title> NUMBER OPERATIONS AND PROPERTIES:   Absolute Value </dc:title>
</cp:coreProperties>
</file>