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6140-38BF-43C3-8232-CAB091687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382E-9873-4D84-AE62-CEA9514CC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0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DDED-A57D-4D59-B507-765F088DE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7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937A-7C0F-45C1-8928-6963013DE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2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6AE9-DC65-4D71-A4DD-15108BB4F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16E-D3BE-4323-AD9F-989ADEC1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304-52EE-45B5-88A2-F820B58F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9E8-DFCE-4E79-8FD0-031CE08D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0E8-BF09-45FF-AEBD-529ADCFC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29D-6E33-4F0B-A216-9FC8C489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6C6-5F90-48D4-8527-79D28715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877-3787-4488-8407-A901A6EB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D37-0EDE-4A77-B3F0-D494024B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BFE-8A03-4AC0-95B3-F0A8BB3B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0C0-67FC-481D-8347-9E94362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B93-5BDE-40FD-AABC-F7A55043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EFC-5070-43FB-8377-936D029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EF2F-7885-43A6-B8AF-5ECC7D9D3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OPERATIONS_WITH_FUNCT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s with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0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23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22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2:08:1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32:05Z</dcterms:modified>
  <cp:revision>10</cp:revision>
  <dc:subject/>
  <dc:title> FUNCTIONS:  Operations with Functions </dc:title>
</cp:coreProperties>
</file>