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DCFB-3680-4218-BF28-D54ED9232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ADD-8554-4851-BB91-DEDE26987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CDF1-B4F4-4B76-89DD-AB610FB09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4C2-D025-4D0D-83BC-463CD4FA7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A0E-1CFD-4A2F-B854-57647F36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6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A9CB-3A71-4D13-A23E-666E893B7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508-BBC1-4BF1-AC53-09B2094D1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4E1-322A-4097-82F1-12EA296D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625-BFAC-49EE-BC6E-AD6D328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312-F996-4493-BC88-5D32057D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E8C-BDFB-4C1C-A2B1-56FBD824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127-2DF1-4B11-A36E-604756DF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CFD-741A-40AF-9494-39A019A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E2A-722F-4833-95B6-C23894C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DDD-C627-431D-956C-7B3EF19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078-9562-459F-95E9-6538CE9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C1B-C689-4C0B-9479-DD91B37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918-6145-49F6-9E0F-CD75419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2AB-F937-4758-A680-50E28FD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92D-92D7-4617-A4ED-DB3EDDD37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CORRELATION_COEFFICIENT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rela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9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1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1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06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4:22:55Z</dcterms:modified>
  <cp:revision>9</cp:revision>
  <dc:subject/>
  <dc:title> GRAPHS AND STATISTICS:  Correlation Coefficient </dc:title>
</cp:coreProperties>
</file>