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B026-21B5-4EBF-BF1A-F4D2EF46F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375-609A-4ABC-AF22-1965E261F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1996-BAEC-4276-8B51-F47764347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B1A4-E3C0-4B4D-B418-48FC147FD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6BEF-6F96-44C8-AAAE-54DD37714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a  EQUATIONS: 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180E-7897-4E8D-A1FA-BD6C7D374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0E4-2A96-453C-A2D1-677991B90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740D-662A-4A7D-84D4-828B391AB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DC5-8E17-4A30-B0B8-C398EB8A2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813-D05F-43F6-B316-3D1BD447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B49-0285-40B4-8A69-259748C3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923-8B50-406D-9A67-EC02A8EB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D89-6252-47BC-A514-37A2B853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3EE-A8F6-46F6-B08A-9BD65E4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558-2C36-4CF0-A0A9-0386946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89D-BD84-46BF-A900-7ADC47DC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A70-3880-4101-A6F0-DB4F94A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A93-C344-42F5-A9F7-1FC00B27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9FE-29E1-4AA3-977A-C587C18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827-9743-4E6B-B059-0504FD78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E09-735D-4FD5-83B7-AE942C3D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104E-2710-474F-B47F-B991DAE0C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USING_THE_DISTRIBUTIVE_PROPER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the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9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5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2:18:0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4T03:13:57Z</dcterms:modified>
  <cp:revision>15</cp:revision>
  <dc:subject/>
  <dc:title> EQUATIONS:  Using the Distributive Property</dc:title>
</cp:coreProperties>
</file>