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465C-473D-410D-A91F-57AA161C8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4054-5A5C-44DD-A852-CF0C51870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4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74B1-C267-44A8-BFEA-44676FBDB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239F-BB2B-4772-BA4E-3917AAA24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24CA-A8F1-4A15-994B-381CDC422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CBC-2978-4AAF-8656-79505EDE6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7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F7EF-1E96-4633-B11E-1EF355B38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FEBD-2ED6-4CA3-A070-91BFD388C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416F-295D-4FCB-BA6C-35881EF84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0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8339-7AC3-4421-A48D-3D85F9BBF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8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F9A-A5D3-4102-8653-B2DC96EA1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4F8-7713-488D-B21B-F87062D4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7AC-E360-4765-912C-511FD1C4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2EB-2A01-45F9-9F14-49D3E9A8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375-1EC5-4A97-98A0-26D963B4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4AC-0A16-4B8B-A21C-83BCCBC3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09F-A4FB-4526-A99E-8C771318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281-1A07-4FC8-B11B-B0B4C633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629-1C3E-4195-95E0-256C1A8E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D48-AC53-4429-9B2A-BCADC805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96B-1173-4E31-922F-1BCFBEFC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776-1053-4672-B1BA-F213AF87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ED7-40AB-4DB9-A3E6-33BF969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6043-FAD0-4521-B3D7-16203DCC8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IMAGINARY_NUMB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ar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02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1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5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55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40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8:25:0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04:42Z</dcterms:modified>
  <cp:revision>14</cp:revision>
  <dc:subject/>
  <dc:title> NUMBER OPERATIONS AND PROPERTIES:  Imaginary Numbers </dc:title>
</cp:coreProperties>
</file>